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7080" y="812520"/>
            <a:ext cx="711828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87CC5-8150-4354-8820-F0024BB8FE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16CD9-D09B-42F1-B6AE-8BE8412B55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C7A0C-FBE0-4B51-94B3-D43B71A06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7440" y="814320"/>
            <a:ext cx="7128000" cy="40100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A566-EF14-43F3-883D-081BA1A90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0280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BB1C-670C-4C74-A0CE-91C53C3C4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90F0-50BF-45D1-874F-149439D8E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BF16-1F8B-44B4-803F-E57F5431B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D748-BA44-4633-9AAE-C6204289A2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5D94-82C6-4475-BD9A-885CF57BB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C0C8-BE74-421E-BA73-EFF1AFF1B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874F-91E8-4731-9CF7-E55E13AD1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93360"/>
            <a:ext cx="822492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38B7-4F71-4B01-B2FC-9A8EFE272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660F-9DC7-4659-9801-F372F54CD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470D-D697-439A-B08F-952CE47A9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863D-9C99-46F1-8BC3-A77AC5C44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949560"/>
            <a:ext cx="9144000" cy="1194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40000"/>
          </a:bodyPr>
          <a:p>
            <a:pPr marL="137160" indent="0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4686480"/>
            <a:ext cx="21286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4880" y="4686480"/>
            <a:ext cx="212544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85524-B5A1-42F4-83C3-E644742E3C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14240" y="1001880"/>
            <a:ext cx="77742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81d32"/>
                </a:solidFill>
                <a:latin typeface="Arial"/>
              </a:rPr>
              <a:t>Культура предпринимательства. Корпоративная этик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3040" y="2913120"/>
            <a:ext cx="6400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 algn="r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81d32"/>
                </a:solidFill>
                <a:latin typeface="Arial"/>
              </a:rPr>
              <a:t>ГБПОУ МО</a:t>
            </a:r>
            <a:br>
              <a:rPr sz="2600"/>
            </a:br>
            <a:r>
              <a:rPr b="1" lang="ru-RU" sz="2600" spc="-1" strike="noStrike">
                <a:solidFill>
                  <a:srgbClr val="481d32"/>
                </a:solidFill>
                <a:latin typeface="Arial"/>
              </a:rPr>
              <a:t> «Можайский техникум»</a:t>
            </a:r>
            <a:br>
              <a:rPr sz="2600"/>
            </a:br>
            <a:r>
              <a:rPr b="1" i="1" lang="ru-RU" sz="2600" spc="-1" strike="noStrike">
                <a:solidFill>
                  <a:srgbClr val="481d32"/>
                </a:solidFill>
                <a:latin typeface="Arial"/>
              </a:rPr>
              <a:t>преподаватель: Рязанова О.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1120" y="141120"/>
            <a:ext cx="128916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69880" y="1571760"/>
            <a:ext cx="8228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3240" y="203040"/>
            <a:ext cx="7450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69880" y="428760"/>
            <a:ext cx="8231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81d32"/>
                </a:solidFill>
                <a:latin typeface="Arial"/>
              </a:rPr>
              <a:t>Культура предпринима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1760" y="1430280"/>
            <a:ext cx="907884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1120" y="141120"/>
            <a:ext cx="1289160" cy="90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6000" y="1224000"/>
            <a:ext cx="89265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 это определенная, сложившаяся совокупность принципов, приемов, методов осуществления предпринимательской деятельности субъектами в соответствии с действующими  правовыми нормами (законами, нормативными актами), обычаями делового оборота, этическими и нравственными правилами, нормами поведения при осуществлении цивилизованного бизн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32880" y="1595160"/>
            <a:ext cx="829476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66000"/>
          </a:bodyPr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законность, строгое соблюдение правовых нор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непременное выполнение обязательств и обязанностей, вытекающих из правовых актов, договорных отношений и совершаемых сделок, не нанесение  имущественного и морального вреда партнерам, конкурентам, потребителям,  работни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честное ведение своего бизнеса (честное отношение к людям, потребителям, партнерам, государств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соблюдение этических нор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7320" y="403200"/>
            <a:ext cx="7597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269"/>
                </a:solidFill>
                <a:latin typeface="Arial"/>
              </a:rPr>
              <a:t>Всеобщие элементы культуры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1120" y="141120"/>
            <a:ext cx="128916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1280" y="144000"/>
            <a:ext cx="784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Предпринимательская этика и этике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1120" y="141120"/>
            <a:ext cx="1289160" cy="90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1640" y="1000080"/>
            <a:ext cx="826164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этика — одна из сложных проблем формирования культуры цивилизованного предприним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истема моральных и нравственных норм, включая общеобяз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поведения люде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0160" y="936720"/>
            <a:ext cx="81882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принимательская этика проявляется в таких категория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ность данному слов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ринятому на себя обязательств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моральной ответственности за невыполнение установленных правовыми нормами обязаннос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ждому роду человеческой деятельности (научной, педагогической, художественной и т.д.) соответствуют определенные виды профессиональной э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128916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83920" y="863280"/>
            <a:ext cx="822492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бы овладеть навыками корректного поведения, нужно соблюда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редставления и знаком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роведения деловых контак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оведения на переговор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внешнему облику, манерам, деловой одеж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реч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ультуру служебных документов и другие эле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ринимательского этикета, который является составной ч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ринимательской э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65160" y="71280"/>
            <a:ext cx="128916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63640" y="576360"/>
            <a:ext cx="806436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деловой э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е имя лучше богатства”, — часто говорили сами куп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знали, что богатство неизменно приходит вслед за репут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еческое слово в былые времена являлось высшей гарантией, поскольку за ним стояла честь русского купца. От туда и поговорка: «Уговор дороже денег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Сама честь в традиции русского купечества восходила к православному  старообрядческом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оговора заключались, как правило устно, на честном купеческом сл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28880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795240"/>
            <a:ext cx="885672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ом честности и принципиальности в купеческой среде может служить промышленник Четвериков, который разыскивал кредиторов своего отца, для того, чтобы отдать им долг за сделку 30-летней да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тому же, купеческие семьи влиятельных фамилий всегда интересовались происхождением капитала своих партнёров по бизнесу.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ремя событий IX-XX веков, в России полностью исчезло высшее купеческое сословие со своими принципами, обычаями, писаными и неписаными законами, когда одним рукопожатием могли заключаться миллионные сд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любые сделки оформляются документ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1280" y="73080"/>
            <a:ext cx="1288800" cy="90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0T10:57:34Z</dcterms:created>
  <dc:creator/>
  <dc:description/>
  <dc:language>en-US</dc:language>
  <cp:lastModifiedBy/>
  <dcterms:modified xsi:type="dcterms:W3CDTF">2020-04-16T14:24:02Z</dcterms:modified>
  <cp:revision>18</cp:revision>
  <dc:subject/>
  <dc:title>Blue Curve</dc:title>
</cp:coreProperties>
</file>