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7080" y="812520"/>
            <a:ext cx="711828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C31AB-DABA-42A2-A68A-DBF2DC2FDF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3F201-3388-434A-B98E-9B899D7104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D29D4-B492-402E-B588-1A1A7AF8AB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7440" y="814320"/>
            <a:ext cx="7128000" cy="40100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67D7-1C1C-46F5-8FD5-F69A6A070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822312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02800"/>
            <a:ext cx="822312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C5CE-83A5-43C0-95A3-8B1CF1344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00E9-C4EF-4BE6-93CD-4A02CDA93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275904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275904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0280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50280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502800"/>
            <a:ext cx="264744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CB32-057D-4337-9DA1-D3152654A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759040"/>
            <a:ext cx="822312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99F9-AAC5-4BA6-8876-C1AB11CDC4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822312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6E80-C8D1-4C69-8316-E7A133CD1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C10A-C0F7-4CF9-A05D-2AB1DD79A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0985-1D75-4206-B4EE-07A84DCDB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1593360"/>
            <a:ext cx="8224920" cy="39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6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4610-7176-4E7F-8BB5-E26C60E32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6179-0449-4042-BC3A-FB0DFF1DE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350280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9668-011F-4786-921A-FCB241CB1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759040"/>
            <a:ext cx="401256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02800"/>
            <a:ext cx="8223120" cy="678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2715C-6514-487C-B088-93193D5DC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949560"/>
            <a:ext cx="9144000" cy="1194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1593360"/>
            <a:ext cx="8224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759040"/>
            <a:ext cx="822312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40000"/>
          </a:bodyPr>
          <a:p>
            <a:pPr marL="137160" indent="0">
              <a:lnSpc>
                <a:spcPct val="93000"/>
              </a:lnSpc>
              <a:spcBef>
                <a:spcPts val="116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" indent="-137160">
              <a:lnSpc>
                <a:spcPct val="93000"/>
              </a:lnSpc>
              <a:spcBef>
                <a:spcPts val="116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4686480"/>
            <a:ext cx="21286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7320" y="4686480"/>
            <a:ext cx="2898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4880" y="4686480"/>
            <a:ext cx="212544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74C8D-76DB-491D-AEA4-2A4332742C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14240" y="1001880"/>
            <a:ext cx="777420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481d32"/>
                </a:solidFill>
                <a:latin typeface="Arial"/>
              </a:rPr>
              <a:t>Культура предпринимательства. Корпоративная этика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3040" y="2913120"/>
            <a:ext cx="64008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t">
            <a:noAutofit/>
          </a:bodyPr>
          <a:p>
            <a:pPr algn="r">
              <a:lnSpc>
                <a:spcPct val="93000"/>
              </a:lnSpc>
              <a:spcBef>
                <a:spcPts val="11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481d32"/>
                </a:solidFill>
                <a:latin typeface="Arial"/>
              </a:rPr>
              <a:t>ГБПОУ МО</a:t>
            </a:r>
            <a:br>
              <a:rPr sz="2600"/>
            </a:br>
            <a:r>
              <a:rPr b="1" lang="ru-RU" sz="2600" spc="-1" strike="noStrike">
                <a:solidFill>
                  <a:srgbClr val="481d32"/>
                </a:solidFill>
                <a:latin typeface="Arial"/>
              </a:rPr>
              <a:t> «Можайский техникум»</a:t>
            </a:r>
            <a:br>
              <a:rPr sz="2600"/>
            </a:br>
            <a:r>
              <a:rPr b="1" i="1" lang="ru-RU" sz="2600" spc="-1" strike="noStrike">
                <a:solidFill>
                  <a:srgbClr val="481d32"/>
                </a:solidFill>
                <a:latin typeface="Arial"/>
              </a:rPr>
              <a:t>преподаватель: Рязанова О.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1120" y="141120"/>
            <a:ext cx="128916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69880" y="1571760"/>
            <a:ext cx="8228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3240" y="203040"/>
            <a:ext cx="745020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69880" y="428760"/>
            <a:ext cx="8231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481d32"/>
                </a:solidFill>
                <a:latin typeface="Arial"/>
              </a:rPr>
              <a:t>Культура предпринима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1760" y="1430280"/>
            <a:ext cx="907884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1120" y="141120"/>
            <a:ext cx="1289160" cy="908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16000" y="1224000"/>
            <a:ext cx="89265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 это определенная, сложившаяся совокупность принципов, приемов, методов осуществления предпринимательской деятельности субъектами в соответствии с действующими  правовыми нормами (законами, нормативными актами), обычаями делового оборота, этическими и нравственными правилами, нормами поведения при осуществлении цивилизованного бизн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32880" y="1595160"/>
            <a:ext cx="8294760" cy="22921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66000"/>
          </a:bodyPr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законность, строгое соблюдение правовых нор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непременное выполнение обязательств и обязанностей, вытекающих из правовых актов, договорных отношений и совершаемых сделок, не нанесение  имущественного и морального вреда партнерам, конкурентам, потребителям,  работни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честное ведение своего бизнеса (честное отношение к людям, потребителям, партнерам, государств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соблюдение этических нор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7320" y="403200"/>
            <a:ext cx="7597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55269"/>
                </a:solidFill>
                <a:latin typeface="Arial"/>
              </a:rPr>
              <a:t>Всеобщие элементы культуры предпринимательск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1120" y="141120"/>
            <a:ext cx="128916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1280" y="144000"/>
            <a:ext cx="784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Предпринимательская этика и этике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1120" y="141120"/>
            <a:ext cx="1289160" cy="90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1640" y="1000080"/>
            <a:ext cx="826164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ринимательская этика — одна из сложных проблем формирования культуры цивилизованного предпринимате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истема моральных и нравственных норм, включая общеобяз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поведения людей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00160" y="936720"/>
            <a:ext cx="81882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дпринимательская этика проявляется в таких категория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верность данному слов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принятому на себя обязательств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моральной ответственности за невыполнение установленных правовыми нормами обязаннос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ждому роду человеческой деятельности (научной, педагогической, художественной и т.д.) соответствуют определенные виды профессиональной э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128916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83920" y="863280"/>
            <a:ext cx="822492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69000"/>
          </a:bodyPr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тобы овладеть навыками корректного поведения, нужно соблюда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редставления и знаком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роведения деловых контак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а поведения на переговор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ебования к внешнему облику, манерам, деловой одежд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ебования к реч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ультуру служебных документов и другие элемен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принимательского этикета, который является составной част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3000"/>
              </a:lnSpc>
              <a:spcBef>
                <a:spcPts val="1162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принимательской эт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65160" y="71280"/>
            <a:ext cx="128916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63640" y="576360"/>
            <a:ext cx="806436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деловой э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е имя лучше богатства”, — часто говорили сами куп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знали, что богатство неизменно приходит вслед за репут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еческое слово в былые времена являлось высшей гарантией, поскольку за ним стояла честь русского купца. От туда и поговорка: «Уговор дороже денег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Сама честь в традиции русского купечества восходила к православному  старообрядческом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оговора заключались, как правило устно, на честном купеческом сл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28880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6000" y="795240"/>
            <a:ext cx="885672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ом честности и принципиальности в купеческой среде может служить промышленник Четвериков, который разыскивал кредиторов своего отца, для того, чтобы отдать им долг за сделку 30-летней да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тому же, купеческие семьи влиятельных фамилий всегда интересовались происхождением капитала своих партнёров по бизнесу.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ремя событий IX-XX веков, в России полностью исчезло высшее купеческое сословие со своими принципами, обычаями, писаными и неписаными законами, когда одним рукопожатием могли заключаться миллионные сде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йчас любые сделки оформляются документа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71280" y="73080"/>
            <a:ext cx="1288800" cy="90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0T10:57:34Z</dcterms:created>
  <dc:creator/>
  <dc:description/>
  <dc:language>en-US</dc:language>
  <cp:lastModifiedBy/>
  <dcterms:modified xsi:type="dcterms:W3CDTF">2020-04-16T14:24:02Z</dcterms:modified>
  <cp:revision>18</cp:revision>
  <dc:subject/>
  <dc:title>Blue Curve</dc:title>
</cp:coreProperties>
</file>