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37E-7E22-49DE-B6B1-1212A56C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0C2-633F-413F-B8B8-70FD448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216-B9F3-4E2A-8A78-72B549AB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30D-4D3E-406D-8418-D8F9A3E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12C-51FE-46C8-BA63-E0D0C808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89C-9A2B-476C-A672-813B50A8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9CD-D2AE-4CAB-8BEC-525949F7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AD4-E936-4E5E-8F88-5A8EBAFC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F16-3988-4C68-9BFF-BCF6F89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BB5-3645-48C5-8314-DFF778C7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DEB-74D8-4130-A5EC-7380156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836-2971-4356-8BCB-37CDC49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0308-13B1-4B2C-AFBE-B4304F4E9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0004-004-.png"/>
          <p:cNvPicPr/>
          <p:nvPr/>
        </p:nvPicPr>
        <p:blipFill>
          <a:blip r:embed="rId1"/>
          <a:stretch/>
        </p:blipFill>
        <p:spPr>
          <a:xfrm>
            <a:off x="2268360" y="260280"/>
            <a:ext cx="6427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Какое выражение лишнее?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3 – 6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6 – 9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5 – 8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2 – 4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4 – 7 +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+ 3 + 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«Собери число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345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2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1 + 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1 + 1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2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10 + 1 + 1 + 1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 = 9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8989"/>
                </a:solidFill>
                <a:latin typeface="Calibri"/>
              </a:rPr>
              <a:t>13=9 + 3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смотрите. Сравните равенства каждого столби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3 + 4 = 7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5 + 6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7 – 3 = 4 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11 – 5 =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7 – 4 = 3 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11 – 6 =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40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ы проверить сложение, нужно из суммы вычесть одно из слагаемы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ы проверить вычитание, нужно к разности прибавить вычитаемо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50560" y="692280"/>
            <a:ext cx="66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знали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учились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пробовали...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олнце 3"/>
          <p:cNvSpPr/>
          <p:nvPr/>
        </p:nvSpPr>
        <p:spPr>
          <a:xfrm>
            <a:off x="468360" y="333360"/>
            <a:ext cx="3024000" cy="287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132000" y="2781360"/>
            <a:ext cx="3311640" cy="2160360"/>
          </a:xfrm>
          <a:custGeom>
            <a:avLst/>
            <a:gdLst>
              <a:gd name="textAreaLeft" fmla="*/ 456120 w 3311640"/>
              <a:gd name="textAreaRight" fmla="*/ 2619720 w 3311640"/>
              <a:gd name="textAreaTop" fmla="*/ 326160 h 2160360"/>
              <a:gd name="textAreaBottom" fmla="*/ 1734120 h 2160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Капля 5"/>
          <p:cNvSpPr/>
          <p:nvPr/>
        </p:nvSpPr>
        <p:spPr>
          <a:xfrm flipH="1" flipV="1" rot="6490200">
            <a:off x="7044480" y="5240160"/>
            <a:ext cx="1317240" cy="1158480"/>
          </a:xfrm>
          <a:custGeom>
            <a:avLst/>
            <a:gdLst>
              <a:gd name="textAreaLeft" fmla="*/ 192600 w 1317240"/>
              <a:gd name="textAreaRight" fmla="*/ 1124640 w 1317240"/>
              <a:gd name="textAreaTop" fmla="*/ 169560 h 1158480"/>
              <a:gd name="textAreaBottom" fmla="*/ 988920 h 1158480"/>
            </a:gdLst>
            <a:ahLst/>
            <a:rect l="textAreaLeft" t="textAreaTop" r="textAreaRight" b="textAreaBottom"/>
            <a:pathLst>
              <a:path w="1317625" h="1158875">
                <a:moveTo>
                  <a:pt x="0" y="579438"/>
                </a:moveTo>
                <a:lnTo>
                  <a:pt x="0" y="579438"/>
                </a:lnTo>
                <a:arcTo wR="658813" hR="579438" stAng="-10799995" swAng="5400001"/>
                <a:lnTo>
                  <a:pt x="1185575" y="0"/>
                </a:lnTo>
                <a:lnTo>
                  <a:pt x="1712339" y="-347159"/>
                </a:lnTo>
                <a:lnTo>
                  <a:pt x="1317625" y="347789"/>
                </a:lnTo>
                <a:arcTo wR="0" hR="231650" stAng="0" swAng="0"/>
                <a:lnTo>
                  <a:pt x="1221144" y="1074019"/>
                </a:lnTo>
                <a:arcTo wR="-329407" hR="289719" stAng="2479933" swAng="10800000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5:48:56Z</dcterms:created>
  <dc:creator>Русалиночка</dc:creator>
  <dc:description/>
  <dc:language>en-US</dc:language>
  <cp:lastModifiedBy>dns</cp:lastModifiedBy>
  <dcterms:modified xsi:type="dcterms:W3CDTF">2021-01-12T18:34:14Z</dcterms:modified>
  <cp:revision>47</cp:revision>
  <dc:subject/>
  <dc:title>Слайд 1</dc:title>
</cp:coreProperties>
</file>