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3EB-C8A0-43D6-9313-EF4A7E0B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84F-D463-44F5-8189-E4F94DD4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3B3-0D28-4AF0-87B6-7F70CD75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14C-D51F-436A-B20D-1D16C3AC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903-0AA3-4F71-9E2C-1B247BFA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97D-F6DC-4616-85A1-CEE821F2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EA2-2BE1-4972-8F8F-4722BE8B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6F8-FBFC-467F-A9C2-E743A5A7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C88-3E0C-4CAF-A1D7-2993DDBE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2ED-030C-49FB-A66D-8F7DC576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10A-EA73-4F67-8A30-E7F46EA5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BD1-120A-48E2-B0F1-F9BB3E1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F2DD-5998-40C5-9F68-24C6A746F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0004-004-.png"/>
          <p:cNvPicPr/>
          <p:nvPr/>
        </p:nvPicPr>
        <p:blipFill>
          <a:blip r:embed="rId1"/>
          <a:stretch/>
        </p:blipFill>
        <p:spPr>
          <a:xfrm>
            <a:off x="2268360" y="260280"/>
            <a:ext cx="64278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акое выражение лишнее?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3 – 6 +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6 – 9 +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5 – 8 +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2 – 4 +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4 – 7 +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+ 3 + 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Собери число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345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приме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060640"/>
            <a:ext cx="6400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2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1 +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1 + 1+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0 +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0 + 2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0 + 1 + 1 + 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9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=9 + 3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смотрите. Сравните равенства каждого столби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3 + 4 = 7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5 + 6 =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7 – 3 = 4 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11 – 5 =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7 – 4 = 3 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11 – 6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0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бы проверить сложение, нужно из суммы вычесть одно из слагаемы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бы проверить вычитание, нужно к разности прибавить вычитаемо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50560" y="692280"/>
            <a:ext cx="66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знали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учились.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пробовали.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олнце 3"/>
          <p:cNvSpPr/>
          <p:nvPr/>
        </p:nvSpPr>
        <p:spPr>
          <a:xfrm>
            <a:off x="468360" y="333360"/>
            <a:ext cx="3024000" cy="2879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блако 4"/>
          <p:cNvSpPr/>
          <p:nvPr/>
        </p:nvSpPr>
        <p:spPr>
          <a:xfrm>
            <a:off x="3132000" y="2781360"/>
            <a:ext cx="3311640" cy="2160360"/>
          </a:xfrm>
          <a:custGeom>
            <a:avLst/>
            <a:gdLst>
              <a:gd name="textAreaLeft" fmla="*/ 456120 w 3311640"/>
              <a:gd name="textAreaRight" fmla="*/ 2619720 w 3311640"/>
              <a:gd name="textAreaTop" fmla="*/ 326160 h 2160360"/>
              <a:gd name="textAreaBottom" fmla="*/ 1734120 h 2160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Капля 5"/>
          <p:cNvSpPr/>
          <p:nvPr/>
        </p:nvSpPr>
        <p:spPr>
          <a:xfrm flipH="1" flipV="1" rot="6490200">
            <a:off x="7044480" y="5240160"/>
            <a:ext cx="1317240" cy="1158480"/>
          </a:xfrm>
          <a:custGeom>
            <a:avLst/>
            <a:gdLst>
              <a:gd name="textAreaLeft" fmla="*/ 192600 w 1317240"/>
              <a:gd name="textAreaRight" fmla="*/ 1124640 w 1317240"/>
              <a:gd name="textAreaTop" fmla="*/ 169560 h 1158480"/>
              <a:gd name="textAreaBottom" fmla="*/ 988920 h 1158480"/>
            </a:gdLst>
            <a:ahLst/>
            <a:rect l="textAreaLeft" t="textAreaTop" r="textAreaRight" b="textAreaBottom"/>
            <a:pathLst>
              <a:path w="1317625" h="1158875">
                <a:moveTo>
                  <a:pt x="0" y="579438"/>
                </a:moveTo>
                <a:lnTo>
                  <a:pt x="0" y="579438"/>
                </a:lnTo>
                <a:arcTo wR="658813" hR="579438" stAng="-10799995" swAng="5400001"/>
                <a:lnTo>
                  <a:pt x="1185575" y="0"/>
                </a:lnTo>
                <a:lnTo>
                  <a:pt x="1712339" y="-347159"/>
                </a:lnTo>
                <a:lnTo>
                  <a:pt x="1317625" y="347789"/>
                </a:lnTo>
                <a:arcTo wR="0" hR="231650" stAng="0" swAng="0"/>
                <a:lnTo>
                  <a:pt x="1221144" y="1074019"/>
                </a:lnTo>
                <a:arcTo wR="-329407" hR="289719" stAng="2479933" swAng="10800000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5:48:56Z</dcterms:created>
  <dc:creator>Русалиночка</dc:creator>
  <dc:description/>
  <dc:language>en-US</dc:language>
  <cp:lastModifiedBy>dns</cp:lastModifiedBy>
  <dcterms:modified xsi:type="dcterms:W3CDTF">2021-01-12T18:34:14Z</dcterms:modified>
  <cp:revision>47</cp:revision>
  <dc:subject/>
  <dc:title>Слайд 1</dc:title>
</cp:coreProperties>
</file>