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42.jpeg" ContentType="image/jpeg"/>
  <Override PartName="/ppt/media/image2.gif" ContentType="image/gif"/>
  <Override PartName="/ppt/media/image29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CFA-64CA-45C3-A1CB-EF79F761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F67-D3FB-4ACE-AA52-ABD90A3F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967-E330-4D2A-A832-6595A0A0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055-9736-4FE5-8918-F9A3D537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C045-26AB-4A22-AB43-A4A13DA7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A506-6827-473C-BD70-23255B16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0FC1-B555-4FF5-ABBC-FB43206B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EA1B-9F5E-4700-AB8D-CF4174F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588-CFB3-4A66-8473-B563248F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0573-F05E-486A-A166-A5071B23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0A26-5D30-4026-8F07-2C20BDA7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710-6720-4E93-B7CD-CBF3CCE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2840-F6D1-49C5-92FD-2E649DD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425B-1322-42E0-BE96-1386C284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5531-8213-4E95-8F49-DE405290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6F2B-5735-47A4-8CA7-75C88DDE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AC2B-329E-4BB8-84D4-737B6F40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138-B787-4E8B-BDC6-1582528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3BD-4F4D-4F3F-BD1D-85BAA5FE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EAE-69B8-4474-9F0B-36BF3E26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BEE-9EE6-4B5D-ACEB-9D655AE1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42E-7A4E-43E1-AAE4-AD5F8F7F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071-870B-4152-B691-A701619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EF2-6CE4-4CA0-A79B-6F2A250D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444F-15FF-477A-A2A2-8A94DC4D07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5BA4-A268-48CE-BD98-1A0C3EFF47D3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5.xml"/><Relationship Id="rId3" Type="http://schemas.openxmlformats.org/officeDocument/2006/relationships/image" Target="../media/image31.jpeg"/><Relationship Id="rId4" Type="http://schemas.openxmlformats.org/officeDocument/2006/relationships/slide" Target="slide5.xml"/><Relationship Id="rId5" Type="http://schemas.openxmlformats.org/officeDocument/2006/relationships/image" Target="../media/image32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88;&#1077;&#1079;&#1085;&#1072;&#1103;_&#1076;&#1086;&#1089;&#1082;&#1072;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7"/>
          <p:cNvSpPr/>
          <p:nvPr/>
        </p:nvSpPr>
        <p:spPr>
          <a:xfrm>
            <a:off x="2340000" y="1989000"/>
            <a:ext cx="34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68360" y="476280"/>
            <a:ext cx="84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  <a:ea typeface="Arial"/>
              </a:rPr>
              <a:t>КАЗЕННОЕ ОБЩЕОБРАЗОВАТЕЛЬНОЕ УЧРЕЖДЕНИЕ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     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  <a:ea typeface="Arial"/>
              </a:rPr>
              <a:t>ХАНТЫ - МАНСИЙСКОГО АВТОНОМНОГО ОКРУГА – ЮГРЫ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  <a:ea typeface="Arial"/>
              </a:rPr>
              <a:t>«РАДУЖНИНСКАЯ ШКОЛА ДЛЯ ОБУЧАЮЩИХСЯ С ОГРАНИЧЕННЫМИ ВОЗМОЖНОСТЯМИ ЗДОРОВЬЯ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WordArt 10"/>
          <p:cNvSpPr txBox="1"/>
          <p:nvPr/>
        </p:nvSpPr>
        <p:spPr>
          <a:xfrm>
            <a:off x="1258920" y="1773360"/>
            <a:ext cx="619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ломатериалы,  получение и применение.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сортимент пиломатериалов: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ки, бруски, брусья, горбыль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Подзаголовок 6"/>
          <p:cNvSpPr/>
          <p:nvPr/>
        </p:nvSpPr>
        <p:spPr>
          <a:xfrm>
            <a:off x="4140360" y="4581360"/>
            <a:ext cx="46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полнил: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читель трудового обучения,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лушак Андрей Викторович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3276720" y="6165720"/>
            <a:ext cx="36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017-2018 учебный год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48" name="Рисунок 5" descr="12760810854780.jpg"/>
          <p:cNvPicPr/>
          <p:nvPr/>
        </p:nvPicPr>
        <p:blipFill>
          <a:blip r:embed="rId1"/>
          <a:stretch/>
        </p:blipFill>
        <p:spPr>
          <a:xfrm>
            <a:off x="755640" y="4149720"/>
            <a:ext cx="2448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Содержимое 2"/>
          <p:cNvSpPr/>
          <p:nvPr/>
        </p:nvSpPr>
        <p:spPr>
          <a:xfrm>
            <a:off x="500040" y="1539720"/>
            <a:ext cx="2459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брёвен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Прямоугольник 27"/>
          <p:cNvSpPr/>
          <p:nvPr/>
        </p:nvSpPr>
        <p:spPr>
          <a:xfrm>
            <a:off x="5009760" y="511344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древесные</a:t>
            </a:r>
            <a:r>
              <a:rPr b="1" lang="ru-RU" sz="4400" spc="-1" strike="noStrike">
                <a:solidFill>
                  <a:srgbClr val="003300"/>
                </a:solidFill>
                <a:latin typeface="Bookman Old Style"/>
                <a:ea typeface="Arial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Прямоугольник 28"/>
          <p:cNvSpPr/>
          <p:nvPr/>
        </p:nvSpPr>
        <p:spPr>
          <a:xfrm>
            <a:off x="250200" y="5241960"/>
            <a:ext cx="37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материалы</a:t>
            </a:r>
            <a:r>
              <a:rPr b="1" lang="en-US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,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Прямоугольник 29"/>
          <p:cNvSpPr/>
          <p:nvPr/>
        </p:nvSpPr>
        <p:spPr>
          <a:xfrm>
            <a:off x="2948760" y="4148280"/>
            <a:ext cx="37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продольной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Прямоугольник 30"/>
          <p:cNvSpPr/>
          <p:nvPr/>
        </p:nvSpPr>
        <p:spPr>
          <a:xfrm>
            <a:off x="771120" y="3440160"/>
            <a:ext cx="20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-    это</a:t>
            </a:r>
            <a:r>
              <a:rPr b="1" lang="ru-RU" sz="4400" spc="-1" strike="noStrike">
                <a:solidFill>
                  <a:srgbClr val="003300"/>
                </a:solidFill>
                <a:latin typeface="Bookman Old Style"/>
                <a:ea typeface="Arial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Прямоугольник 31"/>
          <p:cNvSpPr/>
          <p:nvPr/>
        </p:nvSpPr>
        <p:spPr>
          <a:xfrm>
            <a:off x="4809600" y="3067200"/>
            <a:ext cx="38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полученные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Прямоугольник 32"/>
          <p:cNvSpPr/>
          <p:nvPr/>
        </p:nvSpPr>
        <p:spPr>
          <a:xfrm>
            <a:off x="2333160" y="2576520"/>
            <a:ext cx="21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путем</a:t>
            </a:r>
            <a:r>
              <a:rPr b="1" lang="ru-RU" sz="4400" spc="-1" strike="noStrike">
                <a:solidFill>
                  <a:srgbClr val="003300"/>
                </a:solidFill>
                <a:latin typeface="Bookman Old Style"/>
                <a:ea typeface="Arial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Прямоугольник 33"/>
          <p:cNvSpPr/>
          <p:nvPr/>
        </p:nvSpPr>
        <p:spPr>
          <a:xfrm>
            <a:off x="3916800" y="1496880"/>
            <a:ext cx="373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распиловк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403280" y="404640"/>
            <a:ext cx="70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ИЛОМАТЕРИАЛЫ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1617840" y="620640"/>
            <a:ext cx="551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ИЛОМАТЕРИАЛЫ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547640" y="1484280"/>
            <a:ext cx="64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-    это древесные материалы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полученные путем продольной распиловки бревен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Администратор\Рабочий стол\2.jpg"/>
          <p:cNvPicPr/>
          <p:nvPr/>
        </p:nvPicPr>
        <p:blipFill>
          <a:blip r:embed="rId1"/>
          <a:stretch/>
        </p:blipFill>
        <p:spPr>
          <a:xfrm>
            <a:off x="1403280" y="1700280"/>
            <a:ext cx="6516720" cy="48499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684360" y="333360"/>
            <a:ext cx="77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именение пиломатериалов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5"/>
          <p:cNvSpPr/>
          <p:nvPr/>
        </p:nvSpPr>
        <p:spPr>
          <a:xfrm>
            <a:off x="103320" y="1341360"/>
            <a:ext cx="88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. Строительство знаний и сооружени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Прямоугольник 1"/>
          <p:cNvSpPr/>
          <p:nvPr/>
        </p:nvSpPr>
        <p:spPr>
          <a:xfrm>
            <a:off x="39528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. Внутренняя отделка помещени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50920" y="283068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. Изготовление наличников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882720" y="34956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4. Производство оконных и дверных блоков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-108000" y="4605480"/>
            <a:ext cx="65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5. Производство мебел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17640" y="529416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6.Автомобильная и авиационная промышленность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rcRect l="0" t="13857" r="0" b="0"/>
          <a:stretch/>
        </p:blipFill>
        <p:spPr>
          <a:xfrm>
            <a:off x="6986520" y="5370480"/>
            <a:ext cx="205128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6843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Вопрос. Из какой части при разделке ствола получают пиломатериалы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2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4365720"/>
            <a:ext cx="8569440" cy="20066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406440" y="765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изводство пиломатериалов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5"/>
          <p:cNvSpPr/>
          <p:nvPr/>
        </p:nvSpPr>
        <p:spPr>
          <a:xfrm>
            <a:off x="684360" y="4046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Этапы производства пиломатериалов: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11280" y="170028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. Сортировка леса,  очистка его от грязи и распиловка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6" name="Picture 3" descr="C:\Documents and Settings\Администратор\Рабочий стол\6.jpg"/>
          <p:cNvPicPr/>
          <p:nvPr/>
        </p:nvPicPr>
        <p:blipFill>
          <a:blip r:embed="rId1"/>
          <a:srcRect l="0" t="29285" r="61118" b="0"/>
          <a:stretch/>
        </p:blipFill>
        <p:spPr>
          <a:xfrm>
            <a:off x="4713120" y="2646360"/>
            <a:ext cx="3024360" cy="34815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5148360" y="6215040"/>
            <a:ext cx="24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Лесопильная рам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8" name="Picture 10" descr="Копия (2) Копия 20111007_225136"/>
          <p:cNvPicPr/>
          <p:nvPr/>
        </p:nvPicPr>
        <p:blipFill>
          <a:blip r:embed="rId2"/>
          <a:stretch/>
        </p:blipFill>
        <p:spPr>
          <a:xfrm>
            <a:off x="900000" y="2852640"/>
            <a:ext cx="230364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:\Documents and Settings\Admin\Рабочий стол\Войтов\idh_board_types_01.jpg"/>
          <p:cNvPicPr/>
          <p:nvPr/>
        </p:nvPicPr>
        <p:blipFill>
          <a:blip r:embed="rId1"/>
          <a:srcRect l="1436" t="0" r="79019" b="78676"/>
          <a:stretch/>
        </p:blipFill>
        <p:spPr>
          <a:xfrm>
            <a:off x="826920" y="1268280"/>
            <a:ext cx="1944720" cy="196380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30" name="Text Box 6"/>
          <p:cNvSpPr/>
          <p:nvPr/>
        </p:nvSpPr>
        <p:spPr>
          <a:xfrm>
            <a:off x="250920" y="270828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900000" y="3284640"/>
            <a:ext cx="21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Пластин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1116000" y="40464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Схемы распиловки пиломатериало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3" name="Picture 2" descr="C:\Documents and Settings\Admin\Рабочий стол\Войтов\idh_board_types_01.jpg"/>
          <p:cNvPicPr/>
          <p:nvPr/>
        </p:nvPicPr>
        <p:blipFill>
          <a:blip r:embed="rId2"/>
          <a:srcRect l="21619" t="0" r="60349" b="77690"/>
          <a:stretch/>
        </p:blipFill>
        <p:spPr>
          <a:xfrm>
            <a:off x="3924360" y="1268280"/>
            <a:ext cx="1824120" cy="194472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34" name="Text Box 12"/>
          <p:cNvSpPr/>
          <p:nvPr/>
        </p:nvSpPr>
        <p:spPr>
          <a:xfrm>
            <a:off x="3348000" y="270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3780000" y="328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Четвертин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6" name="Picture 2" descr="C:\Documents and Settings\Admin\Рабочий стол\Войтов\idh_board_types_01.jpg"/>
          <p:cNvPicPr/>
          <p:nvPr/>
        </p:nvPicPr>
        <p:blipFill>
          <a:blip r:embed="rId3"/>
          <a:srcRect l="40851" t="0" r="41116" b="77690"/>
          <a:stretch/>
        </p:blipFill>
        <p:spPr>
          <a:xfrm>
            <a:off x="7020000" y="1197000"/>
            <a:ext cx="1700280" cy="194472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37" name="Text Box 15"/>
          <p:cNvSpPr/>
          <p:nvPr/>
        </p:nvSpPr>
        <p:spPr>
          <a:xfrm>
            <a:off x="6516720" y="263700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659640" y="321300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Горбыл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9" name="Picture 2" descr="C:\Documents and Settings\Admin\Рабочий стол\Войтов\idh_board_types_01.jpg"/>
          <p:cNvPicPr/>
          <p:nvPr/>
        </p:nvPicPr>
        <p:blipFill>
          <a:blip r:embed="rId4"/>
          <a:srcRect l="60084" t="0" r="21907" b="78942"/>
          <a:stretch/>
        </p:blipFill>
        <p:spPr>
          <a:xfrm>
            <a:off x="2340000" y="3933720"/>
            <a:ext cx="1889280" cy="201636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40" name="Text Box 18"/>
          <p:cNvSpPr/>
          <p:nvPr/>
        </p:nvSpPr>
        <p:spPr>
          <a:xfrm>
            <a:off x="1835280" y="5373720"/>
            <a:ext cx="3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5148360" y="5911920"/>
            <a:ext cx="34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Четырехкантный бру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763640" y="591192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Двухкантны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бру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3" name="Picture 2" descr="C:\Documents and Settings\Admin\Рабочий стол\Войтов\idh_board_types_01.jpg"/>
          <p:cNvPicPr/>
          <p:nvPr/>
        </p:nvPicPr>
        <p:blipFill>
          <a:blip r:embed="rId5"/>
          <a:srcRect l="79676" t="0" r="0" b="77266"/>
          <a:stretch/>
        </p:blipFill>
        <p:spPr>
          <a:xfrm>
            <a:off x="5796000" y="3933720"/>
            <a:ext cx="1793880" cy="194328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44" name="Text Box 22"/>
          <p:cNvSpPr/>
          <p:nvPr/>
        </p:nvSpPr>
        <p:spPr>
          <a:xfrm>
            <a:off x="5219640" y="537372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33"/>
          <p:cNvSpPr/>
          <p:nvPr/>
        </p:nvSpPr>
        <p:spPr>
          <a:xfrm>
            <a:off x="397512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6"/>
          <p:cNvSpPr/>
          <p:nvPr/>
        </p:nvSpPr>
        <p:spPr>
          <a:xfrm>
            <a:off x="1116000" y="33336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Схемы распиловки пиломатериало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7" name="Picture 2" descr="C:\Documents and Settings\Admin\Рабочий стол\Войтов\idh_board_types_01.jpg"/>
          <p:cNvPicPr/>
          <p:nvPr/>
        </p:nvPicPr>
        <p:blipFill>
          <a:blip r:embed="rId1"/>
          <a:srcRect l="0" t="78656" r="79638" b="0"/>
          <a:stretch/>
        </p:blipFill>
        <p:spPr>
          <a:xfrm>
            <a:off x="1042920" y="1052640"/>
            <a:ext cx="1841400" cy="187308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48" name="Text Box 20"/>
          <p:cNvSpPr/>
          <p:nvPr/>
        </p:nvSpPr>
        <p:spPr>
          <a:xfrm>
            <a:off x="470160" y="24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684360" y="3141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Чистый бру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50" name="Picture 2" descr="C:\Documents and Settings\Admin\Рабочий стол\Войтов\idh_board_types_01.jpg"/>
          <p:cNvPicPr/>
          <p:nvPr/>
        </p:nvPicPr>
        <p:blipFill>
          <a:blip r:embed="rId2"/>
          <a:srcRect l="20329" t="78656" r="61024" b="0"/>
          <a:stretch/>
        </p:blipFill>
        <p:spPr>
          <a:xfrm>
            <a:off x="3995640" y="1052640"/>
            <a:ext cx="1870200" cy="187164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51" name="Text Box 23"/>
          <p:cNvSpPr/>
          <p:nvPr/>
        </p:nvSpPr>
        <p:spPr>
          <a:xfrm>
            <a:off x="3421440" y="24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Text Box 24"/>
          <p:cNvSpPr/>
          <p:nvPr/>
        </p:nvSpPr>
        <p:spPr>
          <a:xfrm>
            <a:off x="2319480" y="49608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3348000" y="306864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Трехкантны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бру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54" name="Picture 2" descr="C:\Documents and Settings\Admin\Рабочий стол\Войтов\idh_board_types_01.jpg"/>
          <p:cNvPicPr/>
          <p:nvPr/>
        </p:nvPicPr>
        <p:blipFill>
          <a:blip r:embed="rId3"/>
          <a:srcRect l="40695" t="78656" r="40658" b="0"/>
          <a:stretch/>
        </p:blipFill>
        <p:spPr>
          <a:xfrm>
            <a:off x="6659640" y="1052640"/>
            <a:ext cx="1623960" cy="180180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55" name="Text Box 27"/>
          <p:cNvSpPr/>
          <p:nvPr/>
        </p:nvSpPr>
        <p:spPr>
          <a:xfrm>
            <a:off x="6227640" y="2421000"/>
            <a:ext cx="2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Text Box 28"/>
          <p:cNvSpPr/>
          <p:nvPr/>
        </p:nvSpPr>
        <p:spPr>
          <a:xfrm>
            <a:off x="397512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5940360" y="299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Обрезная дос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58" name="Picture 2" descr="C:\Documents and Settings\Admin\Рабочий стол\Войтов\idh_board_types_01.jpg"/>
          <p:cNvPicPr/>
          <p:nvPr/>
        </p:nvPicPr>
        <p:blipFill>
          <a:blip r:embed="rId4"/>
          <a:srcRect l="61029" t="78656" r="20329" b="0"/>
          <a:stretch/>
        </p:blipFill>
        <p:spPr>
          <a:xfrm>
            <a:off x="2050920" y="4076640"/>
            <a:ext cx="1871640" cy="194472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59" name="Text Box 31"/>
          <p:cNvSpPr/>
          <p:nvPr/>
        </p:nvSpPr>
        <p:spPr>
          <a:xfrm>
            <a:off x="1547640" y="537372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32"/>
          <p:cNvSpPr/>
          <p:nvPr/>
        </p:nvSpPr>
        <p:spPr>
          <a:xfrm>
            <a:off x="1547640" y="591192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Полуобрезн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дос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Войтов\idh_board_types_01.jpg"/>
          <p:cNvPicPr/>
          <p:nvPr/>
        </p:nvPicPr>
        <p:blipFill>
          <a:blip r:embed="rId5"/>
          <a:srcRect l="78816" t="78656" r="0" b="0"/>
          <a:stretch/>
        </p:blipFill>
        <p:spPr>
          <a:xfrm>
            <a:off x="5724360" y="4076640"/>
            <a:ext cx="1943280" cy="189720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62" name="Text Box 34"/>
          <p:cNvSpPr/>
          <p:nvPr/>
        </p:nvSpPr>
        <p:spPr>
          <a:xfrm>
            <a:off x="5003640" y="544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Text Box 35"/>
          <p:cNvSpPr/>
          <p:nvPr/>
        </p:nvSpPr>
        <p:spPr>
          <a:xfrm>
            <a:off x="5148360" y="59119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Необрезная дос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5"/>
          <p:cNvSpPr/>
          <p:nvPr/>
        </p:nvSpPr>
        <p:spPr>
          <a:xfrm>
            <a:off x="1224000" y="9079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.Сушка подготовленного материала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5" name="Рисунок 5" descr="12760810854780.jpg"/>
          <p:cNvPicPr/>
          <p:nvPr/>
        </p:nvPicPr>
        <p:blipFill>
          <a:blip r:embed="rId1"/>
          <a:stretch/>
        </p:blipFill>
        <p:spPr>
          <a:xfrm>
            <a:off x="1116000" y="1628640"/>
            <a:ext cx="6553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5"/>
          <p:cNvSpPr/>
          <p:nvPr/>
        </p:nvSpPr>
        <p:spPr>
          <a:xfrm>
            <a:off x="1258920" y="692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. Доставка  высушенной древесины на производство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7" name="Picture 7" descr="273460_3_1434638431__640"/>
          <p:cNvPicPr/>
          <p:nvPr/>
        </p:nvPicPr>
        <p:blipFill>
          <a:blip r:embed="rId1"/>
          <a:stretch/>
        </p:blipFill>
        <p:spPr>
          <a:xfrm>
            <a:off x="1187280" y="1844640"/>
            <a:ext cx="68421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Содержимое 3" descr="1134_norm_img3.jpg"/>
          <p:cNvPicPr/>
          <p:nvPr/>
        </p:nvPicPr>
        <p:blipFill>
          <a:blip r:embed="rId1"/>
          <a:stretch/>
        </p:blipFill>
        <p:spPr>
          <a:xfrm>
            <a:off x="755640" y="620640"/>
            <a:ext cx="1941480" cy="29512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"/>
          <p:cNvSpPr/>
          <p:nvPr/>
        </p:nvSpPr>
        <p:spPr>
          <a:xfrm>
            <a:off x="324000" y="299736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1" name="Рисунок 7" descr="z-f73j2.jpg"/>
          <p:cNvPicPr/>
          <p:nvPr/>
        </p:nvPicPr>
        <p:blipFill>
          <a:blip r:embed="rId2"/>
          <a:stretch/>
        </p:blipFill>
        <p:spPr>
          <a:xfrm>
            <a:off x="2771640" y="21906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3" descr="66674657_QuakiesSEP2005.JPG"/>
          <p:cNvPicPr/>
          <p:nvPr/>
        </p:nvPicPr>
        <p:blipFill>
          <a:blip r:embed="rId3"/>
          <a:stretch/>
        </p:blipFill>
        <p:spPr>
          <a:xfrm>
            <a:off x="5003640" y="620640"/>
            <a:ext cx="2173320" cy="2799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4572000" y="29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4" name="Рисунок 6" descr="photo07.jpg"/>
          <p:cNvPicPr/>
          <p:nvPr/>
        </p:nvPicPr>
        <p:blipFill>
          <a:blip r:embed="rId4"/>
          <a:stretch/>
        </p:blipFill>
        <p:spPr>
          <a:xfrm>
            <a:off x="7308720" y="2492280"/>
            <a:ext cx="1449360" cy="7905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1816195607.jpg"/>
          <p:cNvPicPr/>
          <p:nvPr/>
        </p:nvPicPr>
        <p:blipFill>
          <a:blip r:embed="rId5"/>
          <a:stretch/>
        </p:blipFill>
        <p:spPr>
          <a:xfrm>
            <a:off x="755640" y="3716280"/>
            <a:ext cx="1996920" cy="25606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9"/>
          <p:cNvSpPr/>
          <p:nvPr/>
        </p:nvSpPr>
        <p:spPr>
          <a:xfrm>
            <a:off x="179280" y="5805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7" name="Рисунок 4" descr="0-amerikanskij-belyij-i-krasnyij-dub-8-vlazhnosti.jpg"/>
          <p:cNvPicPr/>
          <p:nvPr/>
        </p:nvPicPr>
        <p:blipFill>
          <a:blip r:embed="rId6"/>
          <a:stretch/>
        </p:blipFill>
        <p:spPr>
          <a:xfrm>
            <a:off x="2916360" y="522936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dub.jpg"/>
          <p:cNvPicPr/>
          <p:nvPr/>
        </p:nvPicPr>
        <p:blipFill>
          <a:blip r:embed="rId7"/>
          <a:stretch/>
        </p:blipFill>
        <p:spPr>
          <a:xfrm>
            <a:off x="5364000" y="3645000"/>
            <a:ext cx="1749600" cy="26622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2"/>
          <p:cNvSpPr/>
          <p:nvPr/>
        </p:nvSpPr>
        <p:spPr>
          <a:xfrm>
            <a:off x="4859280" y="57340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0" name="Рисунок 5" descr="vagonka_iz_kedra.jpg"/>
          <p:cNvPicPr/>
          <p:nvPr/>
        </p:nvPicPr>
        <p:blipFill>
          <a:blip r:embed="rId8"/>
          <a:stretch/>
        </p:blipFill>
        <p:spPr>
          <a:xfrm>
            <a:off x="7380360" y="5373720"/>
            <a:ext cx="11365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Классификация пиломатериал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2050920" y="2349360"/>
            <a:ext cx="4753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ПИЛОМАТЕРИАЛЫ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Rectangle 19">
            <a:hlinkClick r:id="rId2" action="ppaction://hlinksldjump"/>
          </p:cNvPr>
          <p:cNvSpPr/>
          <p:nvPr/>
        </p:nvSpPr>
        <p:spPr>
          <a:xfrm>
            <a:off x="250920" y="4438800"/>
            <a:ext cx="1944720" cy="93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Брус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Rectangle 20">
            <a:hlinkClick r:id="rId4" action="ppaction://hlinksldjump"/>
          </p:cNvPr>
          <p:cNvSpPr/>
          <p:nvPr/>
        </p:nvSpPr>
        <p:spPr>
          <a:xfrm>
            <a:off x="2340000" y="4437000"/>
            <a:ext cx="2089080" cy="93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  <a:ea typeface="Arial"/>
              </a:rPr>
              <a:t>Доски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4572000" y="4437000"/>
            <a:ext cx="2160720" cy="93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Бруски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6877080" y="4437000"/>
            <a:ext cx="2089080" cy="936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Горбыль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474" name="AutoShape 23"/>
          <p:cNvCxnSpPr>
            <a:endCxn id="470" idx="0"/>
          </p:cNvCxnSpPr>
          <p:nvPr/>
        </p:nvCxnSpPr>
        <p:spPr>
          <a:xfrm flipH="1">
            <a:off x="1223640" y="3646080"/>
            <a:ext cx="1224720" cy="793080"/>
          </a:xfrm>
          <a:prstGeom prst="straightConnector1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</p:cxnSp>
      <p:cxnSp>
        <p:nvCxnSpPr>
          <p:cNvPr id="475" name="AutoShape 24"/>
          <p:cNvCxnSpPr>
            <a:endCxn id="473" idx="0"/>
          </p:cNvCxnSpPr>
          <p:nvPr/>
        </p:nvCxnSpPr>
        <p:spPr>
          <a:xfrm>
            <a:off x="6372360" y="3645000"/>
            <a:ext cx="1550160" cy="792720"/>
          </a:xfrm>
          <a:prstGeom prst="straightConnector1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</p:cxnSp>
      <p:cxnSp>
        <p:nvCxnSpPr>
          <p:cNvPr id="476" name="AutoShape 25"/>
          <p:cNvCxnSpPr/>
          <p:nvPr/>
        </p:nvCxnSpPr>
        <p:spPr>
          <a:xfrm flipH="1">
            <a:off x="3274560" y="3646080"/>
            <a:ext cx="1153440" cy="793080"/>
          </a:xfrm>
          <a:prstGeom prst="straightConnector1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</p:cxnSp>
      <p:cxnSp>
        <p:nvCxnSpPr>
          <p:cNvPr id="477" name="AutoShape 26"/>
          <p:cNvCxnSpPr/>
          <p:nvPr/>
        </p:nvCxnSpPr>
        <p:spPr>
          <a:xfrm>
            <a:off x="4571640" y="3645000"/>
            <a:ext cx="1369080" cy="792720"/>
          </a:xfrm>
          <a:prstGeom prst="straightConnector1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C:\Documents and Settings\Admin\Рабочий стол\Войтов\брус1.jpg"/>
          <p:cNvPicPr/>
          <p:nvPr/>
        </p:nvPicPr>
        <p:blipFill>
          <a:blip r:embed="rId1"/>
          <a:stretch/>
        </p:blipFill>
        <p:spPr>
          <a:xfrm>
            <a:off x="1603440" y="2133720"/>
            <a:ext cx="5473800" cy="3589200"/>
          </a:xfrm>
          <a:prstGeom prst="rect">
            <a:avLst/>
          </a:prstGeom>
          <a:ln w="57240">
            <a:solidFill>
              <a:srgbClr val="f9f974"/>
            </a:solidFill>
            <a:miter/>
          </a:ln>
        </p:spPr>
      </p:pic>
      <p:sp>
        <p:nvSpPr>
          <p:cNvPr id="479" name="Text Box 7"/>
          <p:cNvSpPr/>
          <p:nvPr/>
        </p:nvSpPr>
        <p:spPr>
          <a:xfrm>
            <a:off x="1619280" y="47628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Брус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468360" y="69228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В зависимости от опиленности сторон брус бывает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Franklin Gothic Book"/>
                <a:ea typeface="Arial"/>
              </a:rPr>
              <a:t>Двухкантный брус</a:t>
            </a: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 (лафет) 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— брус с двумя противоположными обработанными пластями (рис. а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Franklin Gothic Book"/>
                <a:ea typeface="Arial"/>
              </a:rPr>
              <a:t>Трёхкантный брус</a:t>
            </a: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 (ванчес) 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— брус, имеющий три продольные обработанные поверхности (рис. б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Franklin Gothic Book"/>
                <a:ea typeface="Arial"/>
              </a:rPr>
              <a:t>Четырёхкантный брус (брус) 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— брус, имеющий четыре продольные обработанные поверхности (рис. в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81" name="Рисунок 3" descr=""/>
          <p:cNvPicPr/>
          <p:nvPr/>
        </p:nvPicPr>
        <p:blipFill>
          <a:blip r:embed="rId1"/>
          <a:stretch/>
        </p:blipFill>
        <p:spPr>
          <a:xfrm>
            <a:off x="1258920" y="4070520"/>
            <a:ext cx="6337440" cy="2638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" descr="C:\Documents and Settings\Admin\Рабочий стол\Войтов\бруски.jpg"/>
          <p:cNvPicPr/>
          <p:nvPr/>
        </p:nvPicPr>
        <p:blipFill>
          <a:blip r:embed="rId1"/>
          <a:stretch/>
        </p:blipFill>
        <p:spPr>
          <a:xfrm>
            <a:off x="1763640" y="1989000"/>
            <a:ext cx="5214960" cy="3911760"/>
          </a:xfrm>
          <a:prstGeom prst="rect">
            <a:avLst/>
          </a:prstGeom>
          <a:ln w="57240">
            <a:solidFill>
              <a:srgbClr val="f9f974"/>
            </a:solidFill>
            <a:miter/>
          </a:ln>
        </p:spPr>
      </p:pic>
      <p:sp>
        <p:nvSpPr>
          <p:cNvPr id="483" name="Text Box 7"/>
          <p:cNvSpPr/>
          <p:nvPr/>
        </p:nvSpPr>
        <p:spPr>
          <a:xfrm>
            <a:off x="1674720" y="69228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Бруск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C:\Documents and Settings\Admin\Рабочий стол\Войтов\доски.jpg"/>
          <p:cNvPicPr/>
          <p:nvPr/>
        </p:nvPicPr>
        <p:blipFill>
          <a:blip r:embed="rId1"/>
          <a:stretch/>
        </p:blipFill>
        <p:spPr>
          <a:xfrm>
            <a:off x="5940360" y="981000"/>
            <a:ext cx="2395440" cy="1797120"/>
          </a:xfrm>
          <a:prstGeom prst="rect">
            <a:avLst/>
          </a:prstGeom>
          <a:ln w="57240">
            <a:solidFill>
              <a:srgbClr val="f9f974"/>
            </a:solidFill>
            <a:miter/>
          </a:ln>
        </p:spPr>
      </p:pic>
      <p:sp>
        <p:nvSpPr>
          <p:cNvPr id="485" name="Text Box 7"/>
          <p:cNvSpPr/>
          <p:nvPr/>
        </p:nvSpPr>
        <p:spPr>
          <a:xfrm>
            <a:off x="1225440" y="98100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Доск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TextBox 1"/>
          <p:cNvSpPr/>
          <p:nvPr/>
        </p:nvSpPr>
        <p:spPr>
          <a:xfrm>
            <a:off x="1332000" y="2365200"/>
            <a:ext cx="74152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Доска — 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пиломатериал 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толщиной до 100 мм и шириной более двойной толщины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Используются в строительстве, в мебельной промышленности, в производстве тары и др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755640" y="620640"/>
            <a:ext cx="82929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В зависимости от пропиленности кромок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Franklin Gothic Book"/>
                <a:ea typeface="Arial"/>
                <a:hlinkClick r:id="rId1"/>
              </a:rPr>
              <a:t>Обрезная доска</a:t>
            </a: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— доска с кромками, опиленными перпендикулярно пластям и с обзолом, не более допустимого по соответствующей нормативно-технической документации (рис. а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Необрезная доска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— доска с неопиленными или частично опиленными кромками, с обзолом более допустимого в обрезной доске(рис. б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Односторонне-обрезная доска 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— доска с одной кромкой, опиленной перпендикулярно пластям, и с обзолом на этой кромке не более допустимого в обрезном пиломатериале(рис. в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88" name="Рисунок 3" descr=""/>
          <p:cNvPicPr/>
          <p:nvPr/>
        </p:nvPicPr>
        <p:blipFill>
          <a:blip r:embed="rId2"/>
          <a:stretch/>
        </p:blipFill>
        <p:spPr>
          <a:xfrm>
            <a:off x="4356000" y="4869000"/>
            <a:ext cx="324648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C:\Documents and Settings\Admin\Рабочий стол\Войтов\обапол.jpg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746600"/>
          </a:xfrm>
          <a:prstGeom prst="rect">
            <a:avLst/>
          </a:prstGeom>
          <a:ln w="57240">
            <a:solidFill>
              <a:srgbClr val="f9f974"/>
            </a:solidFill>
            <a:miter/>
          </a:ln>
        </p:spPr>
      </p:pic>
      <p:sp>
        <p:nvSpPr>
          <p:cNvPr id="490" name="Text Box 6"/>
          <p:cNvSpPr/>
          <p:nvPr/>
        </p:nvSpPr>
        <p:spPr>
          <a:xfrm>
            <a:off x="1692360" y="620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Горбыль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Box 1"/>
          <p:cNvSpPr/>
          <p:nvPr/>
        </p:nvSpPr>
        <p:spPr>
          <a:xfrm>
            <a:off x="720720" y="7444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Горбыль -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503280" y="143208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боковая часть бревна. Получается в виде отхода при распиливании бревна на доски. У горбыля опилена только одна сторона, с другой — сохраняется овальная поверхность бревна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360360" y="4192560"/>
            <a:ext cx="44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Применяется для устройства обрешетки под кровлю, для сооружения временных и подсобных построек для изготовления штакетника и т. п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94" name="Рисунок 4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84720" cy="236700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5" descr=""/>
          <p:cNvPicPr/>
          <p:nvPr/>
        </p:nvPicPr>
        <p:blipFill>
          <a:blip r:embed="rId2"/>
          <a:stretch/>
        </p:blipFill>
        <p:spPr>
          <a:xfrm>
            <a:off x="4897440" y="1365120"/>
            <a:ext cx="3854520" cy="243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763640" y="5335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  <a:ea typeface="Arial"/>
              </a:rPr>
              <a:t>Элементы пиломатериалов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97" name="Рисунок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5084640" cy="25923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3" descr=""/>
          <p:cNvPicPr/>
          <p:nvPr/>
        </p:nvPicPr>
        <p:blipFill>
          <a:blip r:embed="rId2"/>
          <a:stretch/>
        </p:blipFill>
        <p:spPr>
          <a:xfrm>
            <a:off x="4500720" y="3757680"/>
            <a:ext cx="437328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1"/>
          <p:cNvSpPr/>
          <p:nvPr/>
        </p:nvSpPr>
        <p:spPr>
          <a:xfrm>
            <a:off x="826920" y="1773360"/>
            <a:ext cx="59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http://imgsnap.com/image/uu2 -  лес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826920" y="227664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http://news.mnogonado.net/store/image/1/1/4/1_1412063030.jpg - кряж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1095480" y="4240080"/>
            <a:ext cx="44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Rectangle 15"/>
          <p:cNvSpPr/>
          <p:nvPr/>
        </p:nvSpPr>
        <p:spPr>
          <a:xfrm>
            <a:off x="755640" y="306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http://www.gr-house.ru/data/articles/materials/materialderevo.jpg - бревн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735120" y="3789360"/>
            <a:ext cx="84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http://www.volynnews.com/files/news/2011/12-01/28581-1u.jpg - чурак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1887480" y="6397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и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250920" y="2997360"/>
            <a:ext cx="259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Очищенный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от сучков и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веток ствол сваленного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дерева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2" name="Picture 2" descr="C:\Documents and Settings\Admin\Рабочий стол\Войтов\хлысты.jpg"/>
          <p:cNvPicPr/>
          <p:nvPr/>
        </p:nvPicPr>
        <p:blipFill>
          <a:blip r:embed="rId1"/>
          <a:stretch/>
        </p:blipFill>
        <p:spPr>
          <a:xfrm>
            <a:off x="2987640" y="2781360"/>
            <a:ext cx="5796000" cy="353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1523880" y="836640"/>
          <a:ext cx="6096240" cy="9367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26"/>
          <p:cNvSpPr/>
          <p:nvPr/>
        </p:nvSpPr>
        <p:spPr>
          <a:xfrm>
            <a:off x="755640" y="105264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materialderevo"/>
          <p:cNvPicPr/>
          <p:nvPr/>
        </p:nvPicPr>
        <p:blipFill>
          <a:blip r:embed="rId1"/>
          <a:stretch/>
        </p:blipFill>
        <p:spPr>
          <a:xfrm>
            <a:off x="3924360" y="2781360"/>
            <a:ext cx="4708440" cy="334476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8"/>
          <p:cNvSpPr/>
          <p:nvPr/>
        </p:nvSpPr>
        <p:spPr>
          <a:xfrm>
            <a:off x="179280" y="3141720"/>
            <a:ext cx="345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Эти лесоматериалы используются в круглом виде или в качестве сырья для выработки пиломатериалов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919160" y="1203480"/>
          <a:ext cx="5577120" cy="87768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  <a:gridCol w="92880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26"/>
          <p:cNvSpPr/>
          <p:nvPr/>
        </p:nvSpPr>
        <p:spPr>
          <a:xfrm>
            <a:off x="1187280" y="105264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395280" y="328464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Толстый, короткий отрезок ствола дерева, преимущественно лиственных пород.</a:t>
            </a:r>
            <a:r>
              <a:rPr b="0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0" name="Picture 7" descr="1_1412063030"/>
          <p:cNvPicPr/>
          <p:nvPr/>
        </p:nvPicPr>
        <p:blipFill>
          <a:blip r:embed="rId1"/>
          <a:stretch/>
        </p:blipFill>
        <p:spPr>
          <a:xfrm>
            <a:off x="4140360" y="3213000"/>
            <a:ext cx="4422600" cy="30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"/>
          <p:cNvGraphicFramePr/>
          <p:nvPr/>
        </p:nvGraphicFramePr>
        <p:xfrm>
          <a:off x="1547640" y="1052640"/>
          <a:ext cx="6096240" cy="9522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Text Box 21"/>
          <p:cNvSpPr/>
          <p:nvPr/>
        </p:nvSpPr>
        <p:spPr>
          <a:xfrm>
            <a:off x="808200" y="136044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879480" y="3232080"/>
            <a:ext cx="19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539640" y="2924280"/>
            <a:ext cx="43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Отрезки …… длина которых соответствует размерам, необходимым для обработки на деревообрабатывающих станках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5" name="Picture 8" descr="28581-1u"/>
          <p:cNvPicPr/>
          <p:nvPr/>
        </p:nvPicPr>
        <p:blipFill>
          <a:blip r:embed="rId1"/>
          <a:stretch/>
        </p:blipFill>
        <p:spPr>
          <a:xfrm>
            <a:off x="5292720" y="2924280"/>
            <a:ext cx="3611520" cy="27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1547640" y="1125360"/>
          <a:ext cx="6096240" cy="9525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01592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Text Box 27"/>
          <p:cNvSpPr/>
          <p:nvPr/>
        </p:nvSpPr>
        <p:spPr>
          <a:xfrm>
            <a:off x="663480" y="13604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3"/>
          <p:cNvPicPr/>
          <p:nvPr/>
        </p:nvPicPr>
        <p:blipFill>
          <a:blip r:embed="rId1"/>
          <a:srcRect l="-1026" t="736" r="-400" b="17386"/>
          <a:stretch/>
        </p:blipFill>
        <p:spPr>
          <a:xfrm>
            <a:off x="2124000" y="1413000"/>
            <a:ext cx="6264360" cy="50511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226836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иды лесоматериал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376200" y="2008080"/>
            <a:ext cx="189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Бревн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Хлысты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Чурак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Кряж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WordArt 4"/>
          <p:cNvSpPr txBox="1"/>
          <p:nvPr/>
        </p:nvSpPr>
        <p:spPr>
          <a:xfrm>
            <a:off x="1403280" y="119700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ломатериал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835280" y="2492280"/>
            <a:ext cx="54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  <a:ea typeface="Arial"/>
              </a:rPr>
              <a:t>Ассортимент, получение и применение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3" name="Рисунок 4" descr=""/>
          <p:cNvPicPr/>
          <p:nvPr/>
        </p:nvPicPr>
        <p:blipFill>
          <a:blip r:embed="rId3"/>
          <a:stretch/>
        </p:blipFill>
        <p:spPr>
          <a:xfrm>
            <a:off x="5292720" y="3446640"/>
            <a:ext cx="3851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1959120" y="639720"/>
            <a:ext cx="49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611280" y="43657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386" name="AutoShape 3"/>
          <p:cNvGrpSpPr/>
          <p:nvPr/>
        </p:nvGrpSpPr>
        <p:grpSpPr>
          <a:xfrm>
            <a:off x="2771640" y="549360"/>
            <a:ext cx="5981760" cy="614160"/>
            <a:chOff x="2771640" y="549360"/>
            <a:chExt cx="5981760" cy="614160"/>
          </a:xfrm>
        </p:grpSpPr>
        <p:pic>
          <p:nvPicPr>
            <p:cNvPr id="387" name="AutoShape 3" descr=""/>
            <p:cNvPicPr/>
            <p:nvPr/>
          </p:nvPicPr>
          <p:blipFill>
            <a:blip r:embed="rId1"/>
            <a:stretch/>
          </p:blipFill>
          <p:spPr>
            <a:xfrm>
              <a:off x="2771640" y="549360"/>
              <a:ext cx="5981760" cy="61416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388" name="Text Box 7"/>
            <p:cNvSpPr/>
            <p:nvPr/>
          </p:nvSpPr>
          <p:spPr>
            <a:xfrm rot="10800000">
              <a:off x="2793600" y="571320"/>
              <a:ext cx="5940360" cy="5760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ffff99"/>
                </a:gs>
              </a:gsLst>
              <a:lin ang="162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Изучим: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89" name="AutoShape 3"/>
          <p:cNvGrpSpPr/>
          <p:nvPr/>
        </p:nvGrpSpPr>
        <p:grpSpPr>
          <a:xfrm>
            <a:off x="0" y="3005280"/>
            <a:ext cx="2846520" cy="901440"/>
            <a:chOff x="0" y="3005280"/>
            <a:chExt cx="2846520" cy="901440"/>
          </a:xfrm>
        </p:grpSpPr>
        <p:pic>
          <p:nvPicPr>
            <p:cNvPr id="390" name="AutoShape 3" descr=""/>
            <p:cNvPicPr/>
            <p:nvPr/>
          </p:nvPicPr>
          <p:blipFill>
            <a:blip r:embed="rId2"/>
            <a:stretch/>
          </p:blipFill>
          <p:spPr>
            <a:xfrm>
              <a:off x="0" y="3005280"/>
              <a:ext cx="28465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 rot="10800000">
              <a:off x="23400" y="3024360"/>
              <a:ext cx="248292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Цели и 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задачи урока: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92" name="AutoShape 3"/>
          <p:cNvGrpSpPr/>
          <p:nvPr/>
        </p:nvGrpSpPr>
        <p:grpSpPr>
          <a:xfrm>
            <a:off x="2916360" y="2421000"/>
            <a:ext cx="5903640" cy="620640"/>
            <a:chOff x="2916360" y="2421000"/>
            <a:chExt cx="5903640" cy="620640"/>
          </a:xfrm>
        </p:grpSpPr>
        <p:pic>
          <p:nvPicPr>
            <p:cNvPr id="393" name="AutoShape 3" descr=""/>
            <p:cNvPicPr/>
            <p:nvPr/>
          </p:nvPicPr>
          <p:blipFill>
            <a:blip r:embed="rId3"/>
            <a:stretch/>
          </p:blipFill>
          <p:spPr>
            <a:xfrm>
              <a:off x="2916360" y="2421000"/>
              <a:ext cx="5903640" cy="62064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394" name="Text Box 13"/>
            <p:cNvSpPr/>
            <p:nvPr/>
          </p:nvSpPr>
          <p:spPr>
            <a:xfrm rot="10800000">
              <a:off x="2937960" y="2445480"/>
              <a:ext cx="5862600" cy="5763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ffff99"/>
                </a:gs>
              </a:gsLst>
              <a:lin ang="162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Узнаем: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95" name="AutoShape 3"/>
          <p:cNvGrpSpPr/>
          <p:nvPr/>
        </p:nvGrpSpPr>
        <p:grpSpPr>
          <a:xfrm>
            <a:off x="2987640" y="4437000"/>
            <a:ext cx="5981760" cy="615960"/>
            <a:chOff x="2987640" y="4437000"/>
            <a:chExt cx="5981760" cy="615960"/>
          </a:xfrm>
        </p:grpSpPr>
        <p:pic>
          <p:nvPicPr>
            <p:cNvPr id="396" name="AutoShape 3" descr=""/>
            <p:cNvPicPr/>
            <p:nvPr/>
          </p:nvPicPr>
          <p:blipFill>
            <a:blip r:embed="rId4"/>
            <a:stretch/>
          </p:blipFill>
          <p:spPr>
            <a:xfrm>
              <a:off x="2987640" y="4437000"/>
              <a:ext cx="5981760" cy="61596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397" name="Text Box 16"/>
            <p:cNvSpPr/>
            <p:nvPr/>
          </p:nvSpPr>
          <p:spPr>
            <a:xfrm rot="10800000">
              <a:off x="3009600" y="4458600"/>
              <a:ext cx="5940360" cy="5763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ffff99"/>
                </a:gs>
              </a:gsLst>
              <a:lin ang="162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Рассмотрим :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98" name="Text Box 17"/>
          <p:cNvSpPr/>
          <p:nvPr/>
        </p:nvSpPr>
        <p:spPr>
          <a:xfrm>
            <a:off x="3635280" y="5300640"/>
            <a:ext cx="53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значение и область применения пиломатериалов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3419640" y="126828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основные виды пиломатериалов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3564000" y="3284640"/>
            <a:ext cx="44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технологию получения пиломатериалов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2T14:43:49Z</dcterms:created>
  <dc:creator>Глушак </dc:creator>
  <dc:description/>
  <dc:language>en-US</dc:language>
  <cp:lastModifiedBy>Глушак ТК</cp:lastModifiedBy>
  <dcterms:modified xsi:type="dcterms:W3CDTF">2021-04-23T18:01:00Z</dcterms:modified>
  <cp:revision>30</cp:revision>
  <dc:subject/>
  <dc:title>Слайд 1</dc:title>
</cp:coreProperties>
</file>