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3FD-555A-45A4-9B0E-6EE4F291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A5B-2A48-4DC4-AFCA-754022E6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BEA-867D-418E-8E65-20F51AC2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CBF-1DE8-4FC5-B61D-F7DA8181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6EB-2D51-48F0-82A0-4EAAE19D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87E-7CC3-42DC-BEF6-A50D63EE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B1E-EAE3-4C33-904B-50807A3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649-0509-4028-9037-5A65F99F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512-2C44-4514-A5B4-7E346A92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BC0-F134-4A5E-A736-71EF36F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861-BE54-46B3-A0EE-3DAC5C67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1FC-A86B-48A3-B82A-577A8042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D1DD-E01C-4127-B8BD-07DD8AC83D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строение развивающей среды в дошкольном учрежд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метно-пространственной среды предполагает соответствие всех ее элементов требованиям по обеспечению надежности и безопасности их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3.5. Организация самостоятельно определяет средства обучения, в том числе технические, соответствующие материалы (в том числе расходные), игровое, спортивное, оздоровительное оборудование, инвентарь, необходимые для реализации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среда оказывает на ребенка определенное 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с первых минут его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, чтобы она стала развивающей, т.е. обеспечивала 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й самостоятельности ребенка в деятельности. Она создает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условия творческого, познавательного, эстет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авильной организации предметно-развивающей среды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ует уверенность в себе, стимулирует 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сти, твор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предметно – развивающей среды в дошкольном учреждении важнейшим условием является учет возрастных особенностей и потребностей детей, которые имеют свои отличительные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его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зни является свободное и большое пространство, где они могут быть в активном движении – лазании, кат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вертом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зни ребенку необходим развернутый центр сюжетно-ролевых игр с яркими особенностями атрибутов, дети стремятся быть похожими на взрослых, быть такими же важными и больш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реднем- старш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школьном возрасте проявляется потребность в игре со сверстниками, создавать свой мир игры. Кроме того в предметно-развивающей среде должно учитываться формирование психологических новообразований в разные годы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важным условием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функ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о-развивающе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возрастных группах должно быть уютное место для игры и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содержание предметно-развивающей среды дол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ически обогащаться с ориентацией на поддержание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к предметно-развивающей среде. Так же в каждой группе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создан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ециальные зоны для самостоятельного а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направленного действия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 всех видах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щие разнообразные материалы для развивающих игр и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групповых помещений должно отвечать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требностям детей, иметь отличительные призна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предметно-пространственной среды в детском саду необходима сложная, многоплановая и высокотворческая деятельность всех педагогов ДОУ. Вед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ие игрушек не является основным условием развития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ная эстетическая среда вызывает у детей чувство рад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 положительное отношение к детскому саду, жел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щать его, обогащает новыми впечатлениями и знаниями, побуждает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й творческой деятельности, способствует интеллектуа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ю детей дошкольного возраста.(В.В.Давыдов, Л.В.Зан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Н.Леонтьев, Д.Б.Эльконин и д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реды в развити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леживается на примере ее ос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организующей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едложить ребенку всевозм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 для его активного участия в разных видах деятельности.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ом смысле содержание и вид развивающей среды слу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чком для выбора дошкольником того вида 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, который будет отвечать его предпочтени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ямили формировать интере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формировании предметно-развивающей среды необходим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бавляться от загромождения пространства малофункциональными и несочетаемыми друг с другом предмет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ть для ребенка три предметных пространства, отвечающих масштабам действий его рук (масштаб "глаз – рука"), роста и предметного мира взрослых (Г.Н. Любимова, С.Л. Новосело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сходить из эргономических требований к жизнедеятельности: антропометрических, физиологических и психологических особенностей обитателя эт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воспитате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ункцией наполнение и построение развивающей среды должны быть ориентированы на создание ситуаций, когда дети стоят перед нравственным выбором: уступить или взять себе, поделиться или действовать самому, предложить помощь или пройти мимо проблем сверстника. Среда является центром, где зарождается основа для сотрудничества, положительных взаимоотношений, организованного поведения, бережного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ункция предполагает, что содержание среды каждой деятельности должно соответствовать "зоне актуального развития" самого слабого и находиться в "зоне ближайшего развития" самого сильного в группе реб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2328840"/>
            <a:ext cx="828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16380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В отечественной педагогике и психологии имеется богатый опыт воспитания и обучения дошкольников на основе создания предметно-развивающей среды, который соответствует возрастным особенностям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Особую роль предметно-развивающей среды в становлении личности ребенка подчеркивают в своих исследованиях Р.Б. Стеркина, Н.А. Ветлугина, Г.Н. Пантелеев, Н.А. Ревуцкая, В.С. Мухина, В.А. Горян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Ю.С.Мануйлов, С.Л.Новоселова, В.А.Петровский 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последних лет со всей очевидностью показали особую значимость для маленького ребенка социальных условий жизни, складывающихся из общения, обучающих игр, развивающего влияния окружающей среды - всего того, что принято считать культурой воспитания. При этом современный интерьер и дизайн внутренних помещений: оборудование, мебель, игрушки, пособия для малышей, - рассматриваются как необходимые составляющие предметно-пространствен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ющая среда – система материальных объектов деятельности ребенка, функционально моделирующая содержание развития его духовного и физического обл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3.Требования к развивающей предметно-пространственн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1. Развивающая предметно-пространственная среда обеспечивает максимальную реализацию образовательного потенциала пространства Организации, Группы, а также территории, прилегающей к Организации или находящейся на небольшом удалении, приспособленной для реализации Программы (далее - участок),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ета особенностей и коррекции недостатков их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2. Развивающая предметно-пространственная среда должна обеспечивать возможность общения и совместной деятельности детей (в том числе детей разного возраста) и взрослых, двигательной активности детей, а также возможности для уед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3. Развивающая предметно-пространственная среда должна обеспечи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ю различны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организации инклюзивного образования - необходимые для него усло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национально-культурных, климатических условий, в которых осуществляется образовательная деятельность; учет возрастных особенносте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4. Развивающая предметно-пространственная среда должна быть содержательно-насыщенной, трансформируемой, полифункциональной, вариативной, доступной и безопа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ыщ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ы должна соответствовать возрастным возможностям детей и содержанию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ое пространство должно быть оснащено средствами обучения и воспитания (в том числе техническими), соответствующими материалами, в том числе расходным игровым, спортивным, оздоровительным оборудованием, инвентарем (в соответствии со спецификой Программ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образовательного пространства и разнообразие материа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я и инвентаря (в здании и на участке) должны обеспечи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ую, познавательную, исследовательскую и творческую активность всех воспитанников, экспериментирование с доступными детям материалами (в том числе с песком и вод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ельную активность, в том числе развитие крупной и мелкой моторики, участие в подвижных играх и соревнова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е благополучие детей во взаимодействии с предметно-пространственным окруж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самовыраж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младенческого и раннего возраста образовательное пространство должно предоставлять необходимые и достаточные возможности для движения, предметной и игровой деятельности с разными матери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формируе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странства предполагает возможность изменений предметно-пространственной среды в зависимости от образовательной ситуации, в том числе от меняющихся интересов и возмож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функцион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териалов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разнообразного использования различных составляющих предметной среды, например, детской мебели, матов, мягких модулей, ширм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в Организации или Группе полифункциональных (не обладающих жестко закрепленным способом употребления) предметов, в том числе природных материалов, пригодных для использования в разных видах детской активности (в том числе в качестве предметов-заместителей в детской иг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ы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в Организации или Группе различных пространств (для игры, конструирования, уединения и пр.), а также разнообразных материалов, игр, игрушек и оборудования, обеспечивающих свободный выбор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ическую сменяемость игрового материала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ы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 для воспитанников, в том числе детей с ограниченными возможностями здоровья и детей-инвалидов, всех помещений, где осуществляется образователь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й доступ детей, в том числе детей с ограниченными возможностями здоровья, к играм, игрушкам, материалам, пособиям, обеспечивающим все основные виды детской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ость и сохранность материалов и обору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novo User</cp:lastModifiedBy>
  <dcterms:modified xsi:type="dcterms:W3CDTF">2015-11-02T09:54:26Z</dcterms:modified>
  <cp:revision>904</cp:revision>
  <dc:subject/>
  <dc:title>Diapositiva 1</dc:title>
</cp:coreProperties>
</file>