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8AFC-A5D4-43FA-A2D9-DF2839FEC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CE31-93B8-44BB-927E-75B394143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BEF7-2B03-4C68-9469-B6312F31B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FC17-AD4B-4B1D-814F-9BC3C2BF2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1267-9849-4331-A5E1-9ACA767AA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F5A2-02B6-4874-A1F0-87F481956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BD0E-8999-4817-8F5F-F5BE12BFC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E4D1-55D6-4403-BC10-C267DC994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4C62-795B-4AEF-98E9-B5C602E8E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D2A5-A5DA-4002-97C4-696DDC722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AE09-093C-46C0-8D99-8683D3701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E6CE-1011-4AB5-9D1C-1A0F85969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13B4A-092E-4DE1-BFBB-F8E13538303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Построение развивающей среды в дошкольном учрежден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ФГОС Д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)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езопаснос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едметно-пространственной среды предполагает соответствие всех ее элементов требованиям по обеспечению надежности и безопасности их использ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3.5. Организация самостоятельно определяет средства обучения, в том числе технические, соответствующие материалы (в том числе расходные), игровое, спортивное, оздоровительное оборудование, инвентарь, необходимые для реализации Програм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метная среда оказывает на ребенка определенное воздейст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же с первых минут его жиз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жно, чтобы она стала развивающей, т.е. обеспечивала форм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тивной самостоятельности ребенка в деятельности. Она создает д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бенка условия творческого, познавательного, эстетического разви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правильной организации предметно-развивающей среды ребе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увствует уверенность в себе, стимулирует проя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стоятельности, творчест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организации предметно – развивающей среды в дошкольном учреждении важнейшим условием является учет возрастных особенностей и потребностей детей, которые имеют свои отличительные призна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детей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етьего го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жизни является свободное и большое пространство, где они могут быть в активном движении – лазании, катан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етвертом год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жизни ребенку необходим развернутый центр сюжетно-ролевых игр с яркими особенностями атрибутов, дети стремятся быть похожими на взрослых, быть такими же важными и больши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среднем- старше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ошкольном возрасте проявляется потребность в игре со сверстниками, создавать свой мир игры. Кроме того в предметно-развивающей среде должно учитываться формирование психологических новообразований в разные годы жиз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менее важным условием являетс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ногофункциона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метно-развивающей сре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 всех возрастных группах должно быть уютное место для игры и отды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этом содержание предметно-развивающей среды долж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иодически обогащаться с ориентацией на поддержание интере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бенка к предметно-развивающей среде. Так же в каждой группе долж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ть созданы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пециальные зоны для самостоятельного актив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целенаправленного действия ребен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о всех видах деятельност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ащие разнообразные материалы для развивающих игр и заня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ей групповых помещений должно отвечать возрастным особенност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потребностям детей, иметь отличительные призна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организации предметно-пространственной среды в детском саду необходима сложная, многоплановая и высокотворческая деятельность всех педагогов ДОУ. Ведь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разнообразие игрушек не является основным условием развития ребен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нная эстетическая среда вызывает у детей чувство радост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моционально положительное отношение к детскому саду, жел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ещать его, обогащает новыми впечатлениями и знаниями, побуждает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тивной творческой деятельности, способствует интеллектуально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ю детей дошкольного возраста.(В.В.Давыдов, Л.В.Занко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Н.Леонтьев, Д.Б.Эльконин и др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ль среды в развитии де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слеживается на примере ее основ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ункций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ганизующ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спитатель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вивающ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ь организующей функ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предложить ребенку всевозмож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ериал для его активного участия в разных видах деятельности.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енном смысле содержание и вид развивающей среды служ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лчком для выбора дошкольником того вида самостоятель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ятельности, который будет отвечать его предпочтения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требностямили формировать интерес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формировании предметно-развивающей среды необходимо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избавляться от загромождения пространства малофункциональными и несочетаемыми друг с другом предметам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оздать для ребенка три предметных пространства, отвечающих масштабам действий его рук (масштаб "глаз – рука"), роста и предметного мира взрослых (Г.Н. Любимова, С.Л. Новоселова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исходить из эргономических требований к жизнедеятельности: антропометрических, физиологических и психологических особенностей обитателя этой сре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оответстви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воспитательн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функцией наполнение и построение развивающей среды должны быть ориентированы на создание ситуаций, когда дети стоят перед нравственным выбором: уступить или взять себе, поделиться или действовать самому, предложить помощь или пройти мимо проблем сверстника. Среда является центром, где зарождается основа для сотрудничества, положительных взаимоотношений, организованного поведения, бережного отнош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вивающ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функция предполагает, что содержание среды каждой деятельности должно соответствовать "зоне актуального развития" самого слабого и находиться в "зоне ближайшего развития" самого сильного в группе ребенка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4"/>
          <p:cNvSpPr/>
          <p:nvPr/>
        </p:nvSpPr>
        <p:spPr>
          <a:xfrm>
            <a:off x="539640" y="2328840"/>
            <a:ext cx="8280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0" y="163800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В отечественной педагогике и психологии имеется богатый опыт воспитания и обучения дошкольников на основе создания предметно-развивающей среды, который соответствует возрастным особенностям дет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Особую роль предметно-развивающей среды в становлении личности ребенка подчеркивают в своих исследованиях Р.Б. Стеркина, Н.А. Ветлугина, Г.Н. Пантелеев, Н.А. Ревуцкая, В.С. Мухина, В.А. Горяни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Ю.С.Мануйлов, С.Л.Новоселова, В.А.Петровский  и д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следования последних лет со всей очевидностью показали особую значимость для маленького ребенка социальных условий жизни, складывающихся из общения, обучающих игр, развивающего влияния окружающей среды - всего того, что принято считать культурой воспитания. При этом современный интерьер и дизайн внутренних помещений: оборудование, мебель, игрушки, пособия для малышей, - рассматриваются как необходимые составляющие предметно-пространственной сре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вивающая среда – система материальных объектов деятельности ребенка, функционально моделирующая содержание развития его духовного и физического обли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ФГОС Д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3.Требования к развивающей предметно-пространственной сре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3.1. Развивающая предметно-пространственная среда обеспечивает максимальную реализацию образовательного потенциала пространства Организации, Группы, а также территории, прилегающей к Организации или находящейся на небольшом удалении, приспособленной для реализации Программы (далее - участок), материалов, оборудования и инвентаря для развития детей дошкольного возраста в соответствии с особенностями каждого возрастного этапа, охраны и укрепления их здоровья, учета особенностей и коррекции недостатков их разви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ФГОС Д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3.2. Развивающая предметно-пространственная среда должна обеспечивать возможность общения и совместной деятельности детей (в том числе детей разного возраста) и взрослых, двигательной активности детей, а также возможности для уедин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3.3. Развивающая предметно-пространственная среда должна обеспечива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ализацию различных образовательных програм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лучае организации инклюзивного образования - необходимые для него услов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т национально-культурных, климатических условий, в которых осуществляется образовательная деятельность; учет возрастных особенностей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ФГОС Д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3.4. Развивающая предметно-пространственная среда должна быть содержательно-насыщенной, трансформируемой, полифункциональной, вариативной, доступной и безопас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сыщенн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реды должна соответствовать возрастным возможностям детей и содержанию Програм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тельное пространство должно быть оснащено средствами обучения и воспитания (в том числе техническими), соответствующими материалами, в том числе расходным игровым, спортивным, оздоровительным оборудованием, инвентарем (в соответствии со спецификой Программы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ФГОС Д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ация образовательного пространства и разнообразие материало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орудования и инвентаря (в здании и на участке) должны обеспечива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гровую, познавательную, исследовательскую и творческую активность всех воспитанников, экспериментирование с доступными детям материалами (в том числе с песком и водой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игательную активность, в том числе развитие крупной и мелкой моторики, участие в подвижных играх и соревнования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моциональное благополучие детей во взаимодействии с предметно-пространственным окружение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можность самовыражения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детей младенческого и раннего возраста образовательное пространство должно предоставлять необходимые и достаточные возможности для движения, предметной и игровой деятельности с разными материал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ФГОС ДО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нсформируем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остранства предполагает возможность изменений предметно-пространственной среды в зависимости от образовательной ситуации, в том числе от меняющихся интересов и возможностей де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ифункциональн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атериалов предполага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можность разнообразного использования различных составляющих предметной среды, например, детской мебели, матов, мягких модулей, ширм и т.д.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личие в Организации или Группе полифункциональных (не обладающих жестко закрепленным способом употребления) предметов, в том числе природных материалов, пригодных для использования в разных видах детской активности (в том числе в качестве предметов-заместителей в детской игре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ФГОС Д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ариативн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реды предполага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личие в Организации или Группе различных пространств (для игры, конструирования, уединения и пр.), а также разнообразных материалов, игр, игрушек и оборудования, обеспечивающих свободный выбор де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иодическую сменяемость игрового материала, появление новых предметов, стимулирующих игровую, двигательную, познавательную и исследовательскую активность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)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ступн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реды предполага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ступность для воспитанников, в том числе детей с ограниченными возможностями здоровья и детей-инвалидов, всех помещений, где осуществляется образовательная деятельно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ободный доступ детей, в том числе детей с ограниченными возможностями здоровья, к играм, игрушкам, материалам, пособиям, обеспечивающим все основные виды детской актив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равность и сохранность материалов и оборуд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Lenovo User</cp:lastModifiedBy>
  <dcterms:modified xsi:type="dcterms:W3CDTF">2015-11-02T09:54:26Z</dcterms:modified>
  <cp:revision>904</cp:revision>
  <dc:subject/>
  <dc:title>Diapositiva 1</dc:title>
</cp:coreProperties>
</file>