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gif" ContentType="image/gif"/>
  <Override PartName="/ppt/media/image4.wmf" ContentType="image/x-wmf"/>
  <Override PartName="/ppt/media/click.wav" ContentType="audio/x-wav"/>
  <Override PartName="/ppt/media/applause.wav" ContentType="audio/x-wav"/>
  <Override PartName="/ppt/media/image8.wmf" ContentType="image/x-wmf"/>
  <Override PartName="/ppt/media/image7.wmf" ContentType="image/x-wmf"/>
  <Override PartName="/ppt/media/wind.wav" ContentType="audio/x-wav"/>
  <Override PartName="/ppt/media/chimes.wav" ContentType="audio/x-wav"/>
  <Override PartName="/ppt/media/image6.wmf" ContentType="image/x-wmf"/>
  <Override PartName="/ppt/media/image1.png" ContentType="image/png"/>
  <Override PartName="/ppt/media/Dock1.wav" ContentType="audio/x-wav"/>
  <Override PartName="/ppt/media/fanfare_nu2.wav" ContentType="audio/x-wav"/>
  <Override PartName="/ppt/media/image2.png" ContentType="image/png"/>
  <Override PartName="/ppt/media/Barracks.wav" ContentType="audio/x-wav"/>
  <Override PartName="/ppt/media/coin.wav" ContentType="audio/x-wav"/>
  <Override PartName="/ppt/media/image3.wmf" ContentType="image/x-wmf"/>
  <Override PartName="/ppt/media/Lion_di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DA1-F707-4AEF-98C5-81283D6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B15-30F4-49F4-9FCE-454547C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94F-EE0D-4566-A35A-943777B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56C-CCAA-4BE4-A278-F1516894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5826-D128-4154-B41C-EFA1BE2F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FE3-A700-4917-A308-199A7EEF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168-5CB4-4F63-95B2-C0FEFAD7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0CF2-9B14-4938-B1DF-377E30BA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D302-3A46-4150-A2B8-5503CC9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A9A-9A37-414B-ACE4-69C24376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67AB-74D5-478C-8CC6-E64C1F9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4E0-C825-4E49-8DAF-9D12AB37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DCA-D50F-4569-A17A-2DB3AFC8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D628-A4E4-4756-99CA-70CA7F4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FAA-8F46-41A4-9334-8DA8D1D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C98-89BC-4DB1-B66A-5C09953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4461-7949-4A82-9CCF-963E7F7B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B14-B266-4E84-9332-97F622E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2DB-678B-4E16-BCC4-11201D3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A42-30E0-4C5C-AB2E-2C693F05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6DC-BCEA-4731-A709-EB765294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B18-B9AB-4FC0-B220-F1C66D7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9B7-97DE-4C5D-9188-529426EA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575-6EB9-4947-A920-C2DE1EA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FDC-45E9-4B10-B156-06EF3F00048F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50EF-7625-4E69-8B8E-650048EC1D3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fanfare_nu2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arrack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ock1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Lion_die.wav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16000" y="1197000"/>
            <a:ext cx="5940360" cy="1571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ложение и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вычитание в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пределах 20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1662120" cy="2022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835280" y="5661000"/>
            <a:ext cx="583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етлана Нааль</a:t>
            </a:r>
            <a:endParaRPr b="0" lang="en-US" sz="18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781360"/>
            <a:ext cx="6337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Математика </a:t>
            </a:r>
            <a:r>
              <a:rPr b="0" lang="et-EE" sz="4000" spc="-1" strike="noStrike">
                <a:solidFill>
                  <a:srgbClr val="0000ff"/>
                </a:solidFill>
                <a:latin typeface="Monotype Corsiva"/>
              </a:rPr>
              <a:t>2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класс </a:t>
            </a:r>
            <a:r>
              <a:rPr b="0" lang="en-US" sz="4000" spc="-1" strike="noStrike">
                <a:solidFill>
                  <a:srgbClr val="0000ff"/>
                </a:solidFill>
                <a:latin typeface="Monotype Corsiva"/>
              </a:rPr>
              <a:t>I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ступ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Руководитель Игорь Ял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Валгаская школа-интер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3" name="fanfare_nu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cc"/>
                </a:solidFill>
                <a:latin typeface="Comic Sans MS"/>
              </a:rPr>
              <a:t>Оценивание</a:t>
            </a:r>
            <a:endParaRPr b="0" lang="en-US" sz="8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448000" cy="2268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3240360" cy="2203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3203640" y="1773360"/>
            <a:ext cx="1297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659640" y="3789360"/>
            <a:ext cx="158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3240">
                <a:solidFill>
                  <a:srgbClr val="cc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  <p:sndAc>
      <p:stSnd>
        <p:snd r:embed="rId4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42920" y="1557360"/>
            <a:ext cx="7705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  <p:sndAc>
      <p:stSnd>
        <p:snd r:embed="rId1" name="applause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Цели урока: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28180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роверить и закрепить навыки счёта в пределах 20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Развивать логическое мышление, память, внимание, математическую речь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оспитывать чувство ответственности, коллективизма, взаимовыручки. 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оказать детям использование компьютерных возможностей на уроке.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omic Sans MS"/>
              </a:rPr>
              <a:t>Устный счёт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669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Число 10 увеличить на 2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0+2=1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Число 18 уменьшить на 3  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8-3=15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Сложи два числа 15 и 4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5+4=19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-281160">
              <a:lnSpc>
                <a:spcPct val="80000"/>
              </a:lnSpc>
              <a:spcBef>
                <a:spcPts val="901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Вычти из 17   6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800080"/>
                </a:solidFill>
                <a:latin typeface="Comic Sans MS"/>
              </a:rPr>
              <a:t>17-6=11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1" name="Barrack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Найди соседей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 соседей числа 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, 7, 8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 соседей числа 14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3,14,15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Продолжи числовой ряд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Вставь пропущенные числа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0,11,…,…,14,…,…,1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0,11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3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4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6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7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0,19,…,…, 16,15,…,1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0,19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7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6,15,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14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,13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  <p:sndAc>
      <p:stSnd>
        <p:snd r:embed="rId1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Проверь примеры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+8=1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 19-7=1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+6=15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 14-6=7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+5=11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.  13-5=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+8=1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.  16-4=11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4581360"/>
            <a:ext cx="8207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Неправильные примеры: 1., 3., 6., 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68360" y="1844640"/>
            <a:ext cx="432000" cy="504720"/>
            <a:chOff x="2268360" y="1844640"/>
            <a:chExt cx="432000" cy="504720"/>
          </a:xfrm>
        </p:grpSpPr>
        <p:sp>
          <p:nvSpPr>
            <p:cNvPr id="167" name=""/>
            <p:cNvSpPr/>
            <p:nvPr/>
          </p:nvSpPr>
          <p:spPr>
            <a:xfrm>
              <a:off x="2268360" y="184464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68360" y="184464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95280" y="2997360"/>
            <a:ext cx="432000" cy="504720"/>
            <a:chOff x="2195280" y="2997360"/>
            <a:chExt cx="432000" cy="504720"/>
          </a:xfrm>
        </p:grpSpPr>
        <p:sp>
          <p:nvSpPr>
            <p:cNvPr id="170" name=""/>
            <p:cNvSpPr/>
            <p:nvPr/>
          </p:nvSpPr>
          <p:spPr>
            <a:xfrm>
              <a:off x="2195640" y="299736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195280" y="299736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6720" y="2492280"/>
            <a:ext cx="432000" cy="504720"/>
            <a:chOff x="6876720" y="2492280"/>
            <a:chExt cx="432000" cy="504720"/>
          </a:xfrm>
        </p:grpSpPr>
        <p:sp>
          <p:nvSpPr>
            <p:cNvPr id="173" name=""/>
            <p:cNvSpPr/>
            <p:nvPr/>
          </p:nvSpPr>
          <p:spPr>
            <a:xfrm>
              <a:off x="6877080" y="249228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876720" y="2492280"/>
              <a:ext cx="43164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948360" y="3716280"/>
            <a:ext cx="432000" cy="504720"/>
            <a:chOff x="6948360" y="3716280"/>
            <a:chExt cx="432000" cy="504720"/>
          </a:xfrm>
        </p:grpSpPr>
        <p:sp>
          <p:nvSpPr>
            <p:cNvPr id="176" name=""/>
            <p:cNvSpPr/>
            <p:nvPr/>
          </p:nvSpPr>
          <p:spPr>
            <a:xfrm>
              <a:off x="6948360" y="371628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48360" y="3716280"/>
              <a:ext cx="432000" cy="50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Игра на внимание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684600" cy="486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2" name="Dock1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557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Comic Sans MS"/>
              </a:rPr>
              <a:t>Найди золотую рыбку у которой сумма чисел равна 18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52908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40360" y="2614680"/>
            <a:ext cx="4392360" cy="364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3" name="Lion_die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82720" y="3733920"/>
            <a:ext cx="3378240" cy="1752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835280" y="4221000"/>
            <a:ext cx="780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+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378240" cy="175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356000" y="2637000"/>
            <a:ext cx="3378240" cy="1752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33782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619280" y="177336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+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64000" y="515772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64000" y="3141720"/>
            <a:ext cx="78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+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924360" y="620640"/>
            <a:ext cx="3378240" cy="1752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932360" y="1125360"/>
            <a:ext cx="8510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5:23:01Z</dcterms:created>
  <dc:creator>Olga</dc:creator>
  <dc:description/>
  <dc:language>en-US</dc:language>
  <cp:lastModifiedBy>Student 30</cp:lastModifiedBy>
  <dcterms:modified xsi:type="dcterms:W3CDTF">2004-10-30T11:34:44Z</dcterms:modified>
  <cp:revision>29</cp:revision>
  <dc:subject/>
  <dc:title>Сложение и вычитание в пределах 20</dc:title>
</cp:coreProperties>
</file>