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.gif" ContentType="image/gif"/>
  <Override PartName="/ppt/media/image4.wmf" ContentType="image/x-wmf"/>
  <Override PartName="/ppt/media/click.wav" ContentType="audio/x-wav"/>
  <Override PartName="/ppt/media/applause.wav" ContentType="audio/x-wav"/>
  <Override PartName="/ppt/media/image8.wmf" ContentType="image/x-wmf"/>
  <Override PartName="/ppt/media/image7.wmf" ContentType="image/x-wmf"/>
  <Override PartName="/ppt/media/wind.wav" ContentType="audio/x-wav"/>
  <Override PartName="/ppt/media/chimes.wav" ContentType="audio/x-wav"/>
  <Override PartName="/ppt/media/image6.wmf" ContentType="image/x-wmf"/>
  <Override PartName="/ppt/media/image1.png" ContentType="image/png"/>
  <Override PartName="/ppt/media/Dock1.wav" ContentType="audio/x-wav"/>
  <Override PartName="/ppt/media/fanfare_nu2.wav" ContentType="audio/x-wav"/>
  <Override PartName="/ppt/media/image2.png" ContentType="image/png"/>
  <Override PartName="/ppt/media/Barracks.wav" ContentType="audio/x-wav"/>
  <Override PartName="/ppt/media/coin.wav" ContentType="audio/x-wav"/>
  <Override PartName="/ppt/media/image3.wmf" ContentType="image/x-wmf"/>
  <Override PartName="/ppt/media/Lion_di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659A-7368-4D9B-A550-120BB5C3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9E72-A335-4267-8A27-914086E0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9370-E238-4A95-8390-AF5A38AB4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5A99-3E0F-40A2-A0DE-2CD97A99C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AF13-0619-4051-B473-F7EF7077C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4BED-2027-48C4-9CD4-2A1E4CD6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B193-2825-47A5-B742-0398ED48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A9E3-1AD5-42F2-8F19-A6796E40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53BD-0BA6-477C-BEF8-66E945DB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6218-7F1E-4C97-9E58-8658677B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D103-DB0B-4032-A71C-8002C9AA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CFCE-E017-4372-83A5-6ADDB123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76FE-A213-46BE-A3BD-C18B87BB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1EA6-D181-4E55-9048-6DFA9396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ACAA-DDC8-4B04-B00E-DF106E7C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1848-7C71-4CC0-B343-9691ADFB3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8EE9-4A3C-4925-A979-B9A146DA6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A091-CAED-4250-A044-5A276895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009C-A642-4241-97C9-638A27A5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2973-298A-4BDF-8B25-197EB084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8943-985B-4584-B697-127A469F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66E4-E3C2-4E8F-91E7-DD6A7F3A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4C23-BF8F-4B33-B06E-6CC54D71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AE01-9A73-4EF4-A06A-2066853F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73E0-013C-4179-9909-F3AEB8003BBA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C785-304C-44CE-B145-774C5C480B88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fanfare_nu2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arracks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Dock1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audio" Target="../media/Lion_die.wav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916000" y="1197000"/>
            <a:ext cx="5940360" cy="1571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Сложение и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вычитание в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пределах 20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4221000"/>
            <a:ext cx="1662120" cy="20224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1835280" y="5661000"/>
            <a:ext cx="583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ветлана Нааль</a:t>
            </a:r>
            <a:endParaRPr b="0" lang="en-US" sz="1800" spc="1" strike="noStrike">
              <a:ln w="3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8000" y="2781360"/>
            <a:ext cx="633744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Monotype Corsiva"/>
              </a:rPr>
              <a:t>Математика </a:t>
            </a:r>
            <a:r>
              <a:rPr b="0" lang="et-EE" sz="4000" spc="-1" strike="noStrike">
                <a:solidFill>
                  <a:srgbClr val="0000ff"/>
                </a:solidFill>
                <a:latin typeface="Monotype Corsiva"/>
              </a:rPr>
              <a:t>2</a:t>
            </a:r>
            <a:r>
              <a:rPr b="0" lang="ru-RU" sz="4000" spc="-1" strike="noStrike">
                <a:solidFill>
                  <a:srgbClr val="0000ff"/>
                </a:solidFill>
                <a:latin typeface="Monotype Corsiva"/>
              </a:rPr>
              <a:t> класс </a:t>
            </a:r>
            <a:r>
              <a:rPr b="0" lang="en-US" sz="4000" spc="-1" strike="noStrike">
                <a:solidFill>
                  <a:srgbClr val="0000ff"/>
                </a:solidFill>
                <a:latin typeface="Monotype Corsiva"/>
              </a:rPr>
              <a:t>I</a:t>
            </a:r>
            <a:r>
              <a:rPr b="0" lang="ru-RU" sz="4000" spc="-1" strike="noStrike">
                <a:solidFill>
                  <a:srgbClr val="0000ff"/>
                </a:solidFill>
                <a:latin typeface="Monotype Corsiva"/>
              </a:rPr>
              <a:t> ступен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Monotype Corsiva"/>
              </a:rPr>
              <a:t>Руководитель Игорь Ялла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Monotype Corsiva"/>
              </a:rPr>
              <a:t>Валгаская школа-интерн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  <p:sndAc>
      <p:stSnd>
        <p:snd r:embed="rId3" name="fanfare_nu2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000" y="-171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00cc"/>
                </a:solidFill>
                <a:latin typeface="Comic Sans MS"/>
              </a:rPr>
              <a:t>Оценивание</a:t>
            </a:r>
            <a:endParaRPr b="0" lang="en-US" sz="8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2448000" cy="22687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3132000" y="4292640"/>
            <a:ext cx="3240360" cy="2203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3203640" y="1773360"/>
            <a:ext cx="129708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659640" y="3789360"/>
            <a:ext cx="158436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cc66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1800" spc="1" strike="noStrike">
              <a:ln w="3240">
                <a:solidFill>
                  <a:srgbClr val="cc66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  <p:sndAc>
      <p:stSnd>
        <p:snd r:embed="rId4" name="chimes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042920" y="1557360"/>
            <a:ext cx="770580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0" lang="en-US" sz="1800" spc="1" strike="noStrike">
              <a:ln w="324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  <p:sndAc>
      <p:stSnd>
        <p:snd r:embed="rId1" name="applause.wav"/>
      </p:stSnd>
    </p:sndAc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omic Sans MS"/>
              </a:rPr>
              <a:t>Цели урока: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28180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Проверить и закрепить навыки счёта в пределах 20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Развивать логическое мышление, память, внимание, математическую речь.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Воспитывать чувство ответственности, коллективизма, взаимовыручки. 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Показать детям использование компьютерных возможностей на уроке.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omic Sans MS"/>
              </a:rPr>
              <a:t>Устный счёт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92360" y="1844640"/>
            <a:ext cx="6696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Comic Sans MS"/>
              </a:rPr>
              <a:t>Число 10 увеличить на 2  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800080"/>
                </a:solidFill>
                <a:latin typeface="Comic Sans MS"/>
              </a:rPr>
              <a:t>10+2=12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Comic Sans MS"/>
              </a:rPr>
              <a:t>Число 18 уменьшить на 3  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800080"/>
                </a:solidFill>
                <a:latin typeface="Comic Sans MS"/>
              </a:rPr>
              <a:t>18-3=15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Comic Sans MS"/>
              </a:rPr>
              <a:t>Сложи два числа 15 и 4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800080"/>
                </a:solidFill>
                <a:latin typeface="Comic Sans MS"/>
              </a:rPr>
              <a:t>15+4=19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Comic Sans MS"/>
              </a:rPr>
              <a:t>Вычти из 17   6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800080"/>
                </a:solidFill>
                <a:latin typeface="Comic Sans MS"/>
              </a:rPr>
              <a:t>17-6=11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comb dir="horz"/>
    <p:sndAc>
      <p:stSnd>
        <p:snd r:embed="rId1" name="Barrack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Найди соседей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айди соседей числа 7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, 7, 8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-31212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айди соседей числа 14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3,14,15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comb dir="horz"/>
    <p:sndAc>
      <p:stSnd>
        <p:snd r:embed="rId2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Продолжи числовой ряд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Вставь пропущенные числа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10,11,…,…,14,…,…,17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0,11,</a:t>
            </a:r>
            <a:r>
              <a:rPr b="0" lang="en-US" sz="4000" spc="-1" strike="noStrike">
                <a:solidFill>
                  <a:srgbClr val="ff3399"/>
                </a:solidFill>
                <a:latin typeface="Comic Sans MS"/>
              </a:rPr>
              <a:t>1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0" lang="en-US" sz="4000" spc="-1" strike="noStrike">
                <a:solidFill>
                  <a:srgbClr val="ff3399"/>
                </a:solidFill>
                <a:latin typeface="Comic Sans MS"/>
              </a:rPr>
              <a:t>13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,14,</a:t>
            </a:r>
            <a:r>
              <a:rPr b="0" lang="en-US" sz="4000" spc="-1" strike="noStrike">
                <a:solidFill>
                  <a:srgbClr val="ff3399"/>
                </a:solidFill>
                <a:latin typeface="Comic Sans MS"/>
              </a:rPr>
              <a:t>15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0" lang="en-US" sz="4000" spc="-1" strike="noStrike">
                <a:solidFill>
                  <a:srgbClr val="ff3399"/>
                </a:solidFill>
                <a:latin typeface="Comic Sans MS"/>
              </a:rPr>
              <a:t>16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,17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20,19,…,…, 16,15,…,13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0,19,</a:t>
            </a:r>
            <a:r>
              <a:rPr b="0" lang="en-US" sz="4000" spc="-1" strike="noStrike">
                <a:solidFill>
                  <a:srgbClr val="ff3399"/>
                </a:solidFill>
                <a:latin typeface="Comic Sans MS"/>
              </a:rPr>
              <a:t>18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0" lang="en-US" sz="4000" spc="-1" strike="noStrike">
                <a:solidFill>
                  <a:srgbClr val="ff3399"/>
                </a:solidFill>
                <a:latin typeface="Comic Sans MS"/>
              </a:rPr>
              <a:t>17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,16,15,</a:t>
            </a:r>
            <a:r>
              <a:rPr b="0" lang="en-US" sz="4000" spc="-1" strike="noStrike">
                <a:solidFill>
                  <a:srgbClr val="ff3399"/>
                </a:solidFill>
                <a:latin typeface="Comic Sans MS"/>
              </a:rPr>
              <a:t>14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,13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comb dir="horz"/>
    <p:sndAc>
      <p:stSnd>
        <p:snd r:embed="rId1" name="coin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Проверь примеры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7+8=16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.  19-7=12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9+6=15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6.  14-6=7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+5=11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7.  13-5=8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8+8=16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8.  16-4=11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4581360"/>
            <a:ext cx="8207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Неправильные примеры: 1., 3., 6., 8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268360" y="1844640"/>
            <a:ext cx="432000" cy="504720"/>
            <a:chOff x="2268360" y="1844640"/>
            <a:chExt cx="432000" cy="504720"/>
          </a:xfrm>
        </p:grpSpPr>
        <p:sp>
          <p:nvSpPr>
            <p:cNvPr id="167" name=""/>
            <p:cNvSpPr/>
            <p:nvPr/>
          </p:nvSpPr>
          <p:spPr>
            <a:xfrm>
              <a:off x="2268360" y="1844640"/>
              <a:ext cx="432000" cy="5047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68360" y="1844640"/>
              <a:ext cx="432000" cy="5047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195280" y="2997360"/>
            <a:ext cx="432000" cy="504720"/>
            <a:chOff x="2195280" y="2997360"/>
            <a:chExt cx="432000" cy="504720"/>
          </a:xfrm>
        </p:grpSpPr>
        <p:sp>
          <p:nvSpPr>
            <p:cNvPr id="170" name=""/>
            <p:cNvSpPr/>
            <p:nvPr/>
          </p:nvSpPr>
          <p:spPr>
            <a:xfrm>
              <a:off x="2195640" y="2997360"/>
              <a:ext cx="431640" cy="5047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195280" y="2997360"/>
              <a:ext cx="431640" cy="5047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876720" y="2492280"/>
            <a:ext cx="432000" cy="504720"/>
            <a:chOff x="6876720" y="2492280"/>
            <a:chExt cx="432000" cy="504720"/>
          </a:xfrm>
        </p:grpSpPr>
        <p:sp>
          <p:nvSpPr>
            <p:cNvPr id="173" name=""/>
            <p:cNvSpPr/>
            <p:nvPr/>
          </p:nvSpPr>
          <p:spPr>
            <a:xfrm>
              <a:off x="6877080" y="2492280"/>
              <a:ext cx="431640" cy="5047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6876720" y="2492280"/>
              <a:ext cx="431640" cy="5047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948360" y="3716280"/>
            <a:ext cx="432000" cy="504720"/>
            <a:chOff x="6948360" y="3716280"/>
            <a:chExt cx="432000" cy="504720"/>
          </a:xfrm>
        </p:grpSpPr>
        <p:sp>
          <p:nvSpPr>
            <p:cNvPr id="176" name=""/>
            <p:cNvSpPr/>
            <p:nvPr/>
          </p:nvSpPr>
          <p:spPr>
            <a:xfrm>
              <a:off x="6948360" y="3716280"/>
              <a:ext cx="432000" cy="5047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948360" y="3716280"/>
              <a:ext cx="432000" cy="5047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5000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77342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Игра на внимание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700360" y="1989000"/>
            <a:ext cx="3684600" cy="486900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2" name="Dock1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11280" y="475920"/>
            <a:ext cx="75578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Comic Sans MS"/>
              </a:rPr>
              <a:t>Найди золотую рыбку у которой сумма чисел равна 18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3529080" cy="26208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140360" y="2614680"/>
            <a:ext cx="4392360" cy="364644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3" name="Lion_die.wav"/>
      </p:stSnd>
    </p:sndAc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882720" y="3733920"/>
            <a:ext cx="3378240" cy="17524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1835280" y="4221000"/>
            <a:ext cx="780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+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3378240" cy="17528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4356000" y="2637000"/>
            <a:ext cx="3378240" cy="17524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4284720" y="4581360"/>
            <a:ext cx="3378240" cy="17528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1619280" y="1773360"/>
            <a:ext cx="781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+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64000" y="5157720"/>
            <a:ext cx="781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+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364000" y="3141720"/>
            <a:ext cx="781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6+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3924360" y="620640"/>
            <a:ext cx="3378240" cy="17528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4932360" y="1125360"/>
            <a:ext cx="8510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0-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7T15:23:01Z</dcterms:created>
  <dc:creator>Olga</dc:creator>
  <dc:description/>
  <dc:language>en-US</dc:language>
  <cp:lastModifiedBy>Student 30</cp:lastModifiedBy>
  <dcterms:modified xsi:type="dcterms:W3CDTF">2004-10-30T11:34:44Z</dcterms:modified>
  <cp:revision>29</cp:revision>
  <dc:subject/>
  <dc:title>Сложение и вычитание в пределах 20</dc:title>
</cp:coreProperties>
</file>