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61A7-64C5-4E03-8B25-AA4EF68B5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743E-0001-4C92-99DD-B29EFD69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FEAE-8A73-4156-967B-0EDA6D878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9AC3-3E81-4452-A855-9EC760F80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206C-56E8-460E-B45F-960D4650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3123-D279-4FC7-8284-4C29FDA8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F8B5-B592-4B06-A1E6-82A6FD3D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6CEC-36B1-4C0B-8B94-03809326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672F-E7D6-4A5E-85EC-763CD7AC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9CF1-D655-4D33-A9FA-6F02DF96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7E36-9D7F-40D6-AF1A-8C67EDD4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8CBC-B4A8-4C5C-B0E4-1EAA17FB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4424-0705-4CD1-B0B9-C5F8F619E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-390600"/>
            <a:ext cx="9753840" cy="7248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89280" y="49356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609480"/>
            <a:ext cx="6782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Устный счёт- гимнастика ум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33720" y="33526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Устный счёт в начальных класс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4343400"/>
            <a:ext cx="670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зентацию создала учитель начальных классов Н.А. Абращёва МБОУ «Советская СОШ » Алтайский кра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676520" y="9907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множение и деление на 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6002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Можно умножать и делить только чётные числа.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21337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ило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бы число умножить на 500, надо это число разделить на 2 и умножить на 1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2971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28 х 500 = 428 : 2 х 1000 =214 х1000 = 21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34290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ило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бы число разделить на 500,надо это число разделить на 1000 и умножить на 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41911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18000 : 500 = 1218000 :1000 х 2 =1218 х2 =24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4648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4952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18 х 50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334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6000 : 50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-290520" y="-228600"/>
            <a:ext cx="9725040" cy="73152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14400" y="30492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спользуемые 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13716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Журнал «Математика» №2 2001год.стр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286000"/>
            <a:ext cx="693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20574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www.proshkolu.ru/club/classru/file2/4296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20574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1533600" y="-1128600"/>
            <a:ext cx="12211200" cy="9115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-1380960" y="-976320"/>
            <a:ext cx="12210840" cy="9115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152280"/>
            <a:ext cx="8915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своение описанных приёмов устного счёта позволит учащимся начальной школы быстро выполнять арифметические действия ,что будет способствовать развитию памяти школьников и повышению уровня математической культуры мышле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038480"/>
            <a:ext cx="83818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прощённые приёмы устного вычисления дают возможность быстро производить расчёты в ум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609480" y="-419040"/>
            <a:ext cx="9753480" cy="7277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219320" y="11430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множение на 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82880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ило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Чтобы двузначное число, сумма цифр которого не превышает 10, умножить на 11, надо цифры этого числа раздвинуть и поставить между ними сумму этих циф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 rot="10800000">
            <a:off x="304560" y="342900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3 х 11 = 4 (4 + 3) 3 = 4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39625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 х 11 = 3 (3 + 5) 5=3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46483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ши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51814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2 х 11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676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5791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2 х 11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1533600" y="-1128600"/>
            <a:ext cx="12211200" cy="9115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905120" y="6094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множение на 111, 1111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22096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ило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Чтобы число умножить на 111,надо мысленно цифры этого числа раздвинуть на два шага, сложить цифры и записать между раздвинутыми циф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3429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 х 111 = 2 (2 + 4)(2 + 4) 4 =26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144792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сумма цифр меньше 10, то легко умножать на 111, 1111 и т. 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114800"/>
            <a:ext cx="8610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ило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число умножить на 1111,надо между цифрами сделать три шаг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952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2 х 1111 = 6 (6 + 2)(6 + 2)(6 + 2) 2 =688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55627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019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3 х 1111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1600200" y="-1066680"/>
            <a:ext cx="12211200" cy="9144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762120"/>
            <a:ext cx="883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948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множение и деление на 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1828800"/>
            <a:ext cx="8001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ило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тобы число умножить на 25,надо это число разделить на 4 и умножить на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число должно делиться на 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34290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4 х 25 = 124 : 4 х 100 = 3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388620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ило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Чтобы число разделить на 25, надо это число разделить на 100 и умножить на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472428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100 : 25 = 12100 : 100 х 4 = 4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533412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ши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57913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х 25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61722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0 : 25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457200" y="-228600"/>
            <a:ext cx="9906120" cy="72676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80880" y="99072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множение и деление на 7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22860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ило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Чтобы число умножить на 75,надо это число разделить на 4 и умножить на 3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32767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 х 75 = (32 : 4) х 300 = 2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373392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ило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Чтобы число разделить на 75 ,надо это число разделить на 300 и умножить на 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46483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00 : 75 = 2400 : 300 х 4 = 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525780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563868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8 х 75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60958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600 : 75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6765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число должно делиться на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0675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523880" y="12952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множение на число, оканчивающееся на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2506680"/>
            <a:ext cx="891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ило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бы чётное двузначное число умножить на число оканчивающееся на 5,следует применить правило: если один из сомножителей увеличить в несколько раз, а другой- уменьшить во столько же раз ,произведение не измен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44197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4 х 5 = (44:2) х 5 х 2 = 22 х 10 = 2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48769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 х 15 = (28 : 2) х 15 х 2 =14 х30 = 4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5257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5638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 х 25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60958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 х 65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304920" y="-223920"/>
            <a:ext cx="9753840" cy="7305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57200" y="1523880"/>
            <a:ext cx="7391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15238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множение и деление на 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9080" y="2046240"/>
            <a:ext cx="8626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0574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Умножать и делить можно только те числа, сумма цифр которых делится на 3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8954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ило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Чтобы устно умножить число на 37, надо это число разделить на 3 и умножить на 1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1148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ило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Чтобы число устно разделить на 37, надо это число разделить на 111 и умножить на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733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 х 37 = (24: 3 ) х 111 = 8 х 111 =8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9528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9 : 37 = 999 : 111 х 3 = 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5410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58672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 х 37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6400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8 : 37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-609480" y="-390600"/>
            <a:ext cx="9753480" cy="72486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447920" y="3808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множение и деление на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9907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Можно умножать и делить только чётные чис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3716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ило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чтобы число умножить на 50, надо это число разделить на 2 и умножить на 1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2286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32 х 50 = (432 : 2) х 100 = 216 х 100 = 216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8195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ило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чтобы число разделить на 50, надо это число разделить на 100 и умножить на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7339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600 : 50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600 : 100 х 2 = 4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4118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800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48 х 5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52578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2400 : 5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2-26T06:40:40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