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382-0743-4998-80F0-11077905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2AC-A54E-4D63-8781-9C95FADF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D0E-CC68-454C-8F4E-2816D6EF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AD1-B706-4BF9-9579-E8F0BAE4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9F0-3421-4C8A-85B5-2FAD54FC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164-20C2-45BF-8C27-27451EFE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8C8-485D-4BB5-B6E3-B0CB2ECA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0B2-5F37-4B0F-9914-639007F2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68F-AC3C-425E-9064-03AF3EAF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085-D634-4594-A063-BE7EDF1D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BCB-DB88-4DB4-90DD-38B4D5DB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C59-E9B8-44F7-BFE5-6A634DA7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E1FC-9748-4E74-9CF1-161B6EBA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390600"/>
            <a:ext cx="9753840" cy="724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89280" y="49356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6094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Устный счёт- гимнастика у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3526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Устный счёт в начальных клас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34340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ю создала учитель начальных классов Н.А. Абращёва МБОУ «Советская СОШ » Алтайский к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990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и деление на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600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ожно умножать и делить только чётные числа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133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число умножить на 500, надо это число разделить на 2 и умножить на 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971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8 х 500 = 428 : 2 х 1000 =214 х1000 = 21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429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число разделить на 500,надо это число разделить на 1000 и умножить н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191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8000 : 500 = 1218000 :1000 х 2 =1218 х2 =24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4952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8 х 5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334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6000 : 5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90520" y="-22860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уемые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371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Журнал «Математика» №2 2001год.стр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286000"/>
            <a:ext cx="693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057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proshkolu.ru/club/classru/file2/4296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0574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533600" y="-1128600"/>
            <a:ext cx="12211200" cy="911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380960" y="-976320"/>
            <a:ext cx="12210840" cy="9115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2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воение описанных приёмов устного счёта позволит учащимся начальной школы быстро выполнять арифметические действия ,что будет способствовать развитию памяти школьников и повышению уровня математической культуры мыш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038480"/>
            <a:ext cx="8381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прощённые приёмы устного вычисления дают возможность быстро производить расчёты в у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609480" y="-419040"/>
            <a:ext cx="9753480" cy="7277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1143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множение на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двузначное число, сумма цифр которого не превышает 10, умножить на 11, надо цифры этого числа раздвинуть и поставить между ними сумму этих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800000">
            <a:off x="304560" y="3429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 х 11 = 4 (4 + 3) 3 = 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9625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х 11 = 3 (3 + 5) 5=3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648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181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 х 1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791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 х 1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533600" y="-1128600"/>
            <a:ext cx="12211200" cy="91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на 111, 1111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умножить на 111,надо мысленно цифры этого числа раздвинуть на два шага, сложить цифры и записать между раздвинутыми циф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429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х 111 = 2 (2 + 4)(2 + 4) 4 =26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сумма цифр меньше 10, то легко умножать на 111, 1111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114800"/>
            <a:ext cx="8610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число умножить на 1111,надо между цифрами сделать три ша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952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 х 1111 = 6 (6 + 2)(6 + 2)(6 + 2) 2 =688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562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 х 111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600200" y="-1066680"/>
            <a:ext cx="12211200" cy="914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762120"/>
            <a:ext cx="883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4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множение и деление на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82880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бы число умножить на 25,надо это число разделить на 4 и умножить на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исло должно делиться на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429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4 х 25 = 124 : 4 х 100 =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886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разделить на 25, надо это число разделить на 100 и умножить н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724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00 : 25 = 12100 : 100 х 4 = 4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41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91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 2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 : 2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906120" cy="726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9907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множение и деление на 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286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умножить на 75,надо это число разделить на 4 и умножить на 3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х 75 = (32 : 4) х 300 = 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733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разделить на 75 ,надо это число разделить на 300 и умножить на 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648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0 : 75 = 2400 : 300 х 4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257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6386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х 7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095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00 : 7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76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число должно делиться на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067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3880" y="1295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на число, оканчивающееся н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5066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чётное двузначное число умножить на число оканчивающееся на 5,следует применить правило: если один из сомножителей увеличить в несколько раз, а другой- уменьшить во столько же раз ,произведение не изме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4419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 х 5 = (44:2) х 5 х 2 = 22 х 10 = 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х 15 = (28 : 2) х 15 х 2 =14 х30 = 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х 2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95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х 6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152388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523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и деление на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080" y="2046240"/>
            <a:ext cx="8626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057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множать и делить можно только те числа, сумма цифр которых делится на 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954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устно умножить число на 37, надо это число разделить на 3 и умножить на 1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устно разделить на 37, надо это число разделить на 111 и умножит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х 37 = (24: 3 ) х 111 = 8 х 111 =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952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9 : 37 = 999 : 111 х 3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867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х 3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8 : 3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09480" y="-39060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380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и деление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ожно умножать и делить только чётные 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371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умножить на 50, надо это число разделить на 2 и умножить на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2286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 х 50 = (432 : 2) х 100 = 216 х 100 = 216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819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разделить на 50, надо это число разделить на 100 и умножить н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733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600 : 50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600 : 100 х 2 = 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8 х 5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400 : 5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6T06:40:4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