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B0B7-56B4-48E4-97A1-4436EB82D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4E2E-18E8-424F-80B3-CD1E1E6B1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BCC-B991-43D8-922C-D713DD56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32A6-CE54-4588-9F41-306BC52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DB5-2337-4613-A39E-9A0B6934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F37-AE83-4D33-9D20-E47829EA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915-CE00-4937-85F6-78F8C376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A00-4774-456B-AB60-540FA239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3A7-7D67-4558-A535-1084DD25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479-9ED4-41F6-8E60-C9AC9C52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F7D-F4BE-44C4-828E-8A9FDF1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855-5FB7-4251-8C5D-D7BD1CC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259-53A3-4422-929F-5462BEC1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59F-03B5-4D56-8904-F8FC097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2802-4833-437A-B205-37D1CB5AD4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D:/&#1048;&#1056;&#1048;&#1053;&#1040;/ustnyi_sch&#1077;t2kl/&#1052;&#1072;&#1075;&#1080;&#1095;&#1077;&#1089;&#1082;&#1080;&#1077;%20&#1082;&#1074;&#1072;&#1076;&#1088;&#1072;&#1090;&#1099;.pptx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5" descr="85b90c3e99e9.jpg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28960" y="64260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Calibri"/>
              </a:rPr>
              <a:t>Урок в «Лесной школе»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 Устный счё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643200" y="2071800"/>
            <a:ext cx="44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Математика 2 класс, ч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984807"/>
                </a:solidFill>
                <a:latin typeface="a_AlgeriusCaps"/>
              </a:rPr>
              <a:t>I</a:t>
            </a:r>
            <a:r>
              <a:rPr b="0" lang="ru-RU" sz="2800" spc="-1" strike="noStrike">
                <a:solidFill>
                  <a:srgbClr val="984807"/>
                </a:solidFill>
                <a:latin typeface="a_AlgeriusCap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84807"/>
                </a:solidFill>
                <a:uFillTx/>
                <a:latin typeface="Calibri"/>
              </a:rPr>
              <a:t>Урок №1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6" descr="266373_screenshot_big_06.jpg"/>
          <p:cNvPicPr/>
          <p:nvPr/>
        </p:nvPicPr>
        <p:blipFill>
          <a:blip r:embed="rId1"/>
          <a:srcRect l="3905" t="3127" r="3905" b="3127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571760" y="1071720"/>
            <a:ext cx="58579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286000" y="3786120"/>
            <a:ext cx="4643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a400"/>
                </a:solidFill>
                <a:latin typeface="Calibri"/>
              </a:rPr>
              <a:t>Назови «соседей» чис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1071720" y="1214280"/>
            <a:ext cx="157140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59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928960" y="1214280"/>
            <a:ext cx="171432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1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4929120" y="1214280"/>
            <a:ext cx="157176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7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6715080" y="1214280"/>
            <a:ext cx="1571760" cy="5814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, 30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1928880" y="192888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a400"/>
                </a:solidFill>
                <a:latin typeface="Calibri"/>
              </a:rPr>
              <a:t>Найди лишнее число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блако 14"/>
          <p:cNvSpPr/>
          <p:nvPr/>
        </p:nvSpPr>
        <p:spPr>
          <a:xfrm>
            <a:off x="107172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лако 15"/>
          <p:cNvSpPr/>
          <p:nvPr/>
        </p:nvSpPr>
        <p:spPr>
          <a:xfrm>
            <a:off x="250020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блако 16"/>
          <p:cNvSpPr/>
          <p:nvPr/>
        </p:nvSpPr>
        <p:spPr>
          <a:xfrm>
            <a:off x="400068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блако 17"/>
          <p:cNvSpPr/>
          <p:nvPr/>
        </p:nvSpPr>
        <p:spPr>
          <a:xfrm>
            <a:off x="564372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лако 18"/>
          <p:cNvSpPr/>
          <p:nvPr/>
        </p:nvSpPr>
        <p:spPr>
          <a:xfrm>
            <a:off x="7143840" y="2714760"/>
            <a:ext cx="1000080" cy="6429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1285920" y="264312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2500200" y="3643200"/>
            <a:ext cx="407196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но однозначн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 остальные двузна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2643120" y="2714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4143240" y="271476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2500200" y="3643200"/>
            <a:ext cx="4071960" cy="1373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У других чисел цифры в записи разные, у 22 - одина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5786280" y="27147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2643120" y="4000680"/>
            <a:ext cx="385776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умма его цифр 8, а у остальных чисел –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7286760" y="271476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8"/>
          <p:cNvSpPr/>
          <p:nvPr/>
        </p:nvSpPr>
        <p:spPr>
          <a:xfrm>
            <a:off x="2786040" y="3714840"/>
            <a:ext cx="342900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но кругл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 остальные –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evt="onNext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Next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Next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Next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904160_screenshot_big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071720" y="500040"/>
            <a:ext cx="7286400" cy="366012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071800" y="4143240"/>
            <a:ext cx="5143320" cy="64260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071800" y="4786200"/>
            <a:ext cx="4857480" cy="642600"/>
          </a:xfrm>
          <a:prstGeom prst="rect">
            <a:avLst/>
          </a:prstGeom>
          <a:solidFill>
            <a:srgbClr val="ecec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400"/>
                </a:solidFill>
                <a:latin typeface="Calibri"/>
              </a:rPr>
              <a:t>Вставь в квадраты </a:t>
            </a:r>
            <a:br>
              <a:rPr sz="4000"/>
            </a:br>
            <a:r>
              <a:rPr b="1" lang="ru-RU" sz="4000" spc="-1" strike="noStrike">
                <a:solidFill>
                  <a:srgbClr val="00a400"/>
                </a:solidFill>
                <a:latin typeface="Calibri"/>
              </a:rPr>
              <a:t>пропущенные циф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1428840" y="171468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428840" y="2143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1071720" y="192888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1"/>
          <p:cNvSpPr/>
          <p:nvPr/>
        </p:nvSpPr>
        <p:spPr>
          <a:xfrm>
            <a:off x="1714680" y="2214720"/>
            <a:ext cx="428400" cy="428400"/>
          </a:xfrm>
          <a:prstGeom prst="rect">
            <a:avLst/>
          </a:prstGeom>
          <a:solidFill>
            <a:srgbClr val="f2f2f2"/>
          </a:solidFill>
          <a:ln w="648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3"/>
          <p:cNvSpPr/>
          <p:nvPr/>
        </p:nvSpPr>
        <p:spPr>
          <a:xfrm>
            <a:off x="1357200" y="264312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1357200" y="2714760"/>
            <a:ext cx="428760" cy="428400"/>
          </a:xfrm>
          <a:prstGeom prst="rect">
            <a:avLst/>
          </a:prstGeom>
          <a:solidFill>
            <a:srgbClr val="f2f2f2"/>
          </a:solidFill>
          <a:ln w="6480">
            <a:solidFill>
              <a:srgbClr val="ddd9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785960" y="2643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1785960" y="2143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1357200" y="264312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4071960" y="1701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9"/>
          <p:cNvSpPr/>
          <p:nvPr/>
        </p:nvSpPr>
        <p:spPr>
          <a:xfrm>
            <a:off x="3643200" y="1714680"/>
            <a:ext cx="428760" cy="428400"/>
          </a:xfrm>
          <a:prstGeom prst="rect">
            <a:avLst/>
          </a:prstGeom>
          <a:solidFill>
            <a:srgbClr val="f2f2f2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3643200" y="1701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3643200" y="2130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3"/>
          <p:cNvSpPr/>
          <p:nvPr/>
        </p:nvSpPr>
        <p:spPr>
          <a:xfrm>
            <a:off x="3571920" y="2641680"/>
            <a:ext cx="857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3286080" y="1928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6"/>
          <p:cNvSpPr/>
          <p:nvPr/>
        </p:nvSpPr>
        <p:spPr>
          <a:xfrm>
            <a:off x="4000680" y="2714760"/>
            <a:ext cx="4284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4071960" y="2643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3643200" y="26305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5715000" y="1714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5643720" y="2286000"/>
            <a:ext cx="42840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1"/>
          <p:cNvSpPr/>
          <p:nvPr/>
        </p:nvSpPr>
        <p:spPr>
          <a:xfrm>
            <a:off x="6143760" y="2286000"/>
            <a:ext cx="42840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5286240" y="19162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4"/>
          <p:cNvSpPr/>
          <p:nvPr/>
        </p:nvSpPr>
        <p:spPr>
          <a:xfrm>
            <a:off x="5643720" y="2643120"/>
            <a:ext cx="92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715000" y="2143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143760" y="2143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8"/>
          <p:cNvSpPr/>
          <p:nvPr/>
        </p:nvSpPr>
        <p:spPr>
          <a:xfrm>
            <a:off x="5715000" y="26431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9"/>
          <p:cNvSpPr/>
          <p:nvPr/>
        </p:nvSpPr>
        <p:spPr>
          <a:xfrm>
            <a:off x="3071880" y="3786120"/>
            <a:ext cx="4284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0"/>
          <p:cNvSpPr/>
          <p:nvPr/>
        </p:nvSpPr>
        <p:spPr>
          <a:xfrm>
            <a:off x="342900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3071880" y="37148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2"/>
          <p:cNvSpPr/>
          <p:nvPr/>
        </p:nvSpPr>
        <p:spPr>
          <a:xfrm>
            <a:off x="3071880" y="4143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3"/>
          <p:cNvSpPr/>
          <p:nvPr/>
        </p:nvSpPr>
        <p:spPr>
          <a:xfrm>
            <a:off x="3500280" y="4286160"/>
            <a:ext cx="428760" cy="35712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4"/>
          <p:cNvSpPr/>
          <p:nvPr/>
        </p:nvSpPr>
        <p:spPr>
          <a:xfrm>
            <a:off x="3429000" y="41432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46"/>
          <p:cNvSpPr/>
          <p:nvPr/>
        </p:nvSpPr>
        <p:spPr>
          <a:xfrm>
            <a:off x="3071880" y="4643280"/>
            <a:ext cx="928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7"/>
          <p:cNvSpPr/>
          <p:nvPr/>
        </p:nvSpPr>
        <p:spPr>
          <a:xfrm>
            <a:off x="3071880" y="4643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8"/>
          <p:cNvSpPr/>
          <p:nvPr/>
        </p:nvSpPr>
        <p:spPr>
          <a:xfrm>
            <a:off x="5072040" y="3786120"/>
            <a:ext cx="42876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9"/>
          <p:cNvSpPr/>
          <p:nvPr/>
        </p:nvSpPr>
        <p:spPr>
          <a:xfrm>
            <a:off x="5572080" y="3786120"/>
            <a:ext cx="42876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0"/>
          <p:cNvSpPr/>
          <p:nvPr/>
        </p:nvSpPr>
        <p:spPr>
          <a:xfrm>
            <a:off x="2714760" y="3929040"/>
            <a:ext cx="2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1"/>
          <p:cNvSpPr/>
          <p:nvPr/>
        </p:nvSpPr>
        <p:spPr>
          <a:xfrm>
            <a:off x="5143680" y="41432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3"/>
          <p:cNvSpPr/>
          <p:nvPr/>
        </p:nvSpPr>
        <p:spPr>
          <a:xfrm>
            <a:off x="4929120" y="4641840"/>
            <a:ext cx="1071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6"/>
          <p:cNvSpPr/>
          <p:nvPr/>
        </p:nvSpPr>
        <p:spPr>
          <a:xfrm>
            <a:off x="5143680" y="46432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7"/>
          <p:cNvSpPr/>
          <p:nvPr/>
        </p:nvSpPr>
        <p:spPr>
          <a:xfrm>
            <a:off x="5143680" y="371484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8"/>
          <p:cNvSpPr/>
          <p:nvPr/>
        </p:nvSpPr>
        <p:spPr>
          <a:xfrm>
            <a:off x="557208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9"/>
          <p:cNvSpPr/>
          <p:nvPr/>
        </p:nvSpPr>
        <p:spPr>
          <a:xfrm>
            <a:off x="4714920" y="39290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904160_screenshot_big_01.jpg"/>
          <p:cNvPicPr/>
          <p:nvPr/>
        </p:nvPicPr>
        <p:blipFill>
          <a:blip r:embed="rId1"/>
          <a:stretch/>
        </p:blipFill>
        <p:spPr>
          <a:xfrm>
            <a:off x="-1116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071720" y="714240"/>
            <a:ext cx="7143480" cy="2562840"/>
          </a:xfrm>
          <a:prstGeom prst="rect">
            <a:avLst/>
          </a:prstGeom>
          <a:solidFill>
            <a:srgbClr val="f6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357280" y="4143240"/>
            <a:ext cx="4357800" cy="1465560"/>
          </a:xfrm>
          <a:prstGeom prst="rect">
            <a:avLst/>
          </a:prstGeom>
          <a:solidFill>
            <a:srgbClr val="f6f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071720" y="357120"/>
            <a:ext cx="72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Прочти условие задачи и объяс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8a2e00"/>
                </a:solidFill>
                <a:latin typeface="Calibri"/>
              </a:rPr>
              <a:t>что узнаешь, выполнив дей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000080" y="1428840"/>
            <a:ext cx="7429680" cy="1068840"/>
          </a:xfrm>
          <a:prstGeom prst="rect">
            <a:avLst/>
          </a:prstGeom>
          <a:noFill/>
          <a:ln w="93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452a"/>
                </a:solidFill>
                <a:latin typeface="Calibri"/>
              </a:rPr>
              <a:t>В осеннем букете 25 кленовых листьев, 13 – дубовых и 10 – берёз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9"/>
          <p:cNvSpPr/>
          <p:nvPr/>
        </p:nvSpPr>
        <p:spPr>
          <a:xfrm>
            <a:off x="642960" y="2857680"/>
            <a:ext cx="2071800" cy="571320"/>
          </a:xfrm>
          <a:prstGeom prst="pie">
            <a:avLst/>
          </a:prstGeom>
          <a:solidFill>
            <a:srgbClr val="fac090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Капля 10"/>
          <p:cNvSpPr/>
          <p:nvPr/>
        </p:nvSpPr>
        <p:spPr>
          <a:xfrm>
            <a:off x="2571840" y="3500280"/>
            <a:ext cx="2071440" cy="571680"/>
          </a:xfrm>
          <a:prstGeom prst="pie">
            <a:avLst/>
          </a:prstGeom>
          <a:solidFill>
            <a:srgbClr val="d7e4bd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Капля 11"/>
          <p:cNvSpPr/>
          <p:nvPr/>
        </p:nvSpPr>
        <p:spPr>
          <a:xfrm>
            <a:off x="4071960" y="2714760"/>
            <a:ext cx="2571840" cy="571320"/>
          </a:xfrm>
          <a:prstGeom prst="pie">
            <a:avLst/>
          </a:prstGeom>
          <a:solidFill>
            <a:srgbClr val="ffff00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Капля 12"/>
          <p:cNvSpPr/>
          <p:nvPr/>
        </p:nvSpPr>
        <p:spPr>
          <a:xfrm>
            <a:off x="6286680" y="3214800"/>
            <a:ext cx="2071440" cy="571320"/>
          </a:xfrm>
          <a:prstGeom prst="pie">
            <a:avLst/>
          </a:prstGeom>
          <a:solidFill>
            <a:srgbClr val="b7dee8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928800" y="278604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+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2571840" y="4500720"/>
            <a:ext cx="400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Дубовых и кленовых листь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214720" y="277344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714760" y="34290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3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071800" y="457200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Дубовых и берёзовых листьев в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4071960" y="341640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4143240" y="26431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+ 10  +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2286000" y="47862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Всего листьев в бук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6286680" y="2630520"/>
            <a:ext cx="10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6286680" y="3214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-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3"/>
          <p:cNvSpPr/>
          <p:nvPr/>
        </p:nvSpPr>
        <p:spPr>
          <a:xfrm>
            <a:off x="1928880" y="4357800"/>
            <a:ext cx="55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a2e00"/>
                </a:solidFill>
                <a:latin typeface="Calibri"/>
              </a:rPr>
              <a:t>На столько кленовых листьев больше, чем берёз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7500960" y="32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Содержимое 3" descr="4642220_SKAZOCNIY_SON_kopi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631440"/>
            <a:ext cx="425772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Заполн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магический квад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Управляющая кнопка: далее 4">
            <a:hlinkClick r:id="rId2"/>
          </p:cNvPr>
          <p:cNvSpPr/>
          <p:nvPr/>
        </p:nvSpPr>
        <p:spPr>
          <a:xfrm>
            <a:off x="1643040" y="3857760"/>
            <a:ext cx="1785960" cy="1500120"/>
          </a:xfrm>
          <a:custGeom>
            <a:avLst/>
            <a:gdLst>
              <a:gd name="textAreaLeft" fmla="*/ 97200 w 1785960"/>
              <a:gd name="textAreaRight" fmla="*/ 1688760 w 178596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5715" h="21600">
                <a:moveTo>
                  <a:pt x="0" y="0"/>
                </a:moveTo>
                <a:lnTo>
                  <a:pt x="25715" y="0"/>
                </a:lnTo>
                <a:lnTo>
                  <a:pt x="25715" y="21600"/>
                </a:lnTo>
                <a:lnTo>
                  <a:pt x="0" y="21600"/>
                </a:lnTo>
                <a:close/>
              </a:path>
              <a:path fill="lightenLess" w="25715" h="21600">
                <a:moveTo>
                  <a:pt x="0" y="0"/>
                </a:moveTo>
                <a:lnTo>
                  <a:pt x="25715" y="0"/>
                </a:lnTo>
                <a:lnTo>
                  <a:pt x="24315" y="1400"/>
                </a:lnTo>
                <a:lnTo>
                  <a:pt x="1400" y="1400"/>
                </a:lnTo>
                <a:close/>
              </a:path>
              <a:path fill="darken" w="25715" h="21600">
                <a:moveTo>
                  <a:pt x="25715" y="0"/>
                </a:moveTo>
                <a:lnTo>
                  <a:pt x="25715" y="21600"/>
                </a:lnTo>
                <a:lnTo>
                  <a:pt x="24315" y="20200"/>
                </a:lnTo>
                <a:lnTo>
                  <a:pt x="24315" y="1400"/>
                </a:lnTo>
                <a:close/>
              </a:path>
              <a:path fill="darkenLess" w="25715" h="21600">
                <a:moveTo>
                  <a:pt x="25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5" y="20200"/>
                </a:lnTo>
                <a:close/>
              </a:path>
              <a:path fill="lighten" w="25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15" h="21600">
                <a:moveTo>
                  <a:pt x="5851" y="3794"/>
                </a:moveTo>
                <a:lnTo>
                  <a:pt x="19864" y="10800"/>
                </a:lnTo>
                <a:lnTo>
                  <a:pt x="585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Содержимое 3" descr="85b90c3e99e9.jpg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2800" y="2743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Молодцы, ребята!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Всё получилос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3071880" y="2619360"/>
            <a:ext cx="5715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Автор работы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Коровина Ири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714920" y="35593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ki.rdf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7:15:21Z</dcterms:created>
  <dc:creator>Admin</dc:creator>
  <dc:description/>
  <dc:language>en-US</dc:language>
  <cp:lastModifiedBy>Светлана</cp:lastModifiedBy>
  <dcterms:modified xsi:type="dcterms:W3CDTF">2013-02-22T07:39:45Z</dcterms:modified>
  <cp:revision>29</cp:revision>
  <dc:subject/>
  <dc:title>Урок в «Лесной школе»  Устный счёт</dc:title>
</cp:coreProperties>
</file>