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136-BC23-471B-ACC2-CCF27A8C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455-CE33-4279-B2FF-60ABF09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E46-D6B6-4380-89E4-BC26D582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0FF-E14B-45A2-8310-6F290E5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CCD-E9C7-4B20-A90A-C575B852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3BC-8D30-4B99-AEF4-E7043A7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1C7D-B4DF-4118-82C2-ABDF7A7A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91D-A2EF-41A7-9FA3-AC8F02D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CB3-A8A0-4A3F-98C9-B87631FE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5E2-911D-44E3-B5E2-41E803B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3F2-DF78-425A-AE16-A360FB31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3D4-957E-425A-B65F-046A90E3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B0D0-1B8B-45C1-9D8B-5286EC463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80010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СПЕКТ НОД С ЭЛЕМЕНТАМИ ИКТ ИНТЕГРИРОВАННОЕ ЗАНЯТИЮ ПО ОЗНАКОМЛЕНИЮ С ОКРУЖАЮЩИМ И РАЗВИТИЮ РЕЧИ ДЛЯ СТАРШЕ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4071960"/>
            <a:ext cx="66373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К СОБАКИ  ПОМОГАЮТ  ЛЮДЯ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71280"/>
            <a:ext cx="818676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згляните, ребята, на этого бога –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Он с виду собаку напомнит немного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юрий\Desktop\ДЕТСКИЕ ПРЕЗЕНТАЦИИ\СОБАКИ\анубис 2.jpg"/>
          <p:cNvPicPr/>
          <p:nvPr/>
        </p:nvPicPr>
        <p:blipFill>
          <a:blip r:embed="rId1"/>
          <a:stretch/>
        </p:blipFill>
        <p:spPr>
          <a:xfrm>
            <a:off x="1928880" y="1143000"/>
            <a:ext cx="498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258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адо овечье собаке послушно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бака справлялась с работой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астушьей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юрий\Desktop\ДЕТСКИЕ ПРЕЗЕНТАЦИИ\СОБАКИ\пастух.jpg"/>
          <p:cNvPicPr/>
          <p:nvPr/>
        </p:nvPicPr>
        <p:blipFill>
          <a:blip r:embed="rId1"/>
          <a:stretch/>
        </p:blipFill>
        <p:spPr>
          <a:xfrm>
            <a:off x="1714680" y="1357200"/>
            <a:ext cx="641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70920"/>
            <a:ext cx="82580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У нас уважают собаку недаром 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а на фронте была санитаром,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юрий\Desktop\ДЕТСКИЕ ПРЕЗЕНТАЦИИ\СОБАКИ\на войне.jpg"/>
          <p:cNvPicPr/>
          <p:nvPr/>
        </p:nvPicPr>
        <p:blipFill>
          <a:blip r:embed="rId1"/>
          <a:stretch/>
        </p:blipFill>
        <p:spPr>
          <a:xfrm>
            <a:off x="1285920" y="1500120"/>
            <a:ext cx="685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280"/>
            <a:ext cx="8258040" cy="13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вязистом, сапёром. Порою собаки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а танки фашистов бросались в атаки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юрий\Desktop\ДЕТСКИЕ ПРЕЗЕНТАЦИИ\СОБАКИ\на границе.jpg"/>
          <p:cNvPicPr/>
          <p:nvPr/>
        </p:nvPicPr>
        <p:blipFill>
          <a:blip r:embed="rId1"/>
          <a:stretch/>
        </p:blipFill>
        <p:spPr>
          <a:xfrm>
            <a:off x="2428920" y="1357200"/>
            <a:ext cx="474804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наше время собаки помогают бороться с террористами – ищут взрывчат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юрий\Desktop\ДЕТСКИЕ ПРЕЗЕНТАЦИИ\СОБАКИ\ищет взрывчатку.jpg"/>
          <p:cNvPicPr/>
          <p:nvPr/>
        </p:nvPicPr>
        <p:blipFill>
          <a:blip r:embed="rId1"/>
          <a:stretch/>
        </p:blipFill>
        <p:spPr>
          <a:xfrm>
            <a:off x="2500200" y="1071720"/>
            <a:ext cx="4357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70920"/>
            <a:ext cx="81151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перёд! Сомнений больше нет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строен пёс решительно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ерва взяла собака след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 следом – нарушителя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юрий\Desktop\ДЕТСКИЕ ПРЕЗЕНТАЦИИ\СОБАКИ\защита.jpg"/>
          <p:cNvPicPr/>
          <p:nvPr/>
        </p:nvPicPr>
        <p:blipFill>
          <a:blip r:embed="rId1"/>
          <a:stretch/>
        </p:blipFill>
        <p:spPr>
          <a:xfrm>
            <a:off x="1928880" y="2071800"/>
            <a:ext cx="61434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643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любой стране ловить преступников помогают специально обученные служебные соба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юрий\Desktop\ДЕТСКИЕ ПРЕЗЕНТАЦИИ\СОБАКИ\полиция.jpg"/>
          <p:cNvPicPr/>
          <p:nvPr/>
        </p:nvPicPr>
        <p:blipFill>
          <a:blip r:embed="rId1"/>
          <a:stretch/>
        </p:blipFill>
        <p:spPr>
          <a:xfrm>
            <a:off x="2143080" y="1714680"/>
            <a:ext cx="516564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лужебных собак специально дрессируют кинолог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юрий\Desktop\ДЕТСКИЕ ПРЕЗЕНТАЦИИ\СОБАКИ\милиция.jpg"/>
          <p:cNvPicPr/>
          <p:nvPr/>
        </p:nvPicPr>
        <p:blipFill>
          <a:blip r:embed="rId1"/>
          <a:stretch/>
        </p:blipFill>
        <p:spPr>
          <a:xfrm>
            <a:off x="1214280" y="1143000"/>
            <a:ext cx="742968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и помогают слепым людя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юрий\Desktop\ДЕТСКИЕ ПРЕЗЕНТАЦИИ\СОБАКИ\поводырь.jpg"/>
          <p:cNvPicPr/>
          <p:nvPr/>
        </p:nvPicPr>
        <p:blipFill>
          <a:blip r:embed="rId1"/>
          <a:stretch/>
        </p:blipFill>
        <p:spPr>
          <a:xfrm>
            <a:off x="1428840" y="857160"/>
            <a:ext cx="7358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и помогают спасать людей на пожаре и при землетряс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юрий\Desktop\ДЕТСКИЕ ПРЕЗЕНТАЦИИ\СОБАКИ\на пожаре.jpg"/>
          <p:cNvPicPr/>
          <p:nvPr/>
        </p:nvPicPr>
        <p:blipFill>
          <a:blip r:embed="rId1"/>
          <a:stretch/>
        </p:blipFill>
        <p:spPr>
          <a:xfrm>
            <a:off x="1357200" y="1143000"/>
            <a:ext cx="71438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ЕЗЕНТАЦИЯ  ПО  ТЕМ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«КАК СОБАКИ  ПОМОГАЮТ  ЛЮДЯ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26920" y="388620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юрий\Desktop\ДЕТСКИЕ ПРЕЗЕНТАЦИИ\СОБАКИ\верный.jpg"/>
          <p:cNvPicPr/>
          <p:nvPr/>
        </p:nvPicPr>
        <p:blipFill>
          <a:blip r:embed="rId1"/>
          <a:stretch/>
        </p:blipFill>
        <p:spPr>
          <a:xfrm>
            <a:off x="2428920" y="2060640"/>
            <a:ext cx="44337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25804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горах беда случится с вами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асение не за горами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ешит в пургу, в метель, в мороз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а помощь людям добрый пё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юрий\Desktop\ДЕТСКИЕ ПРЕЗЕНТАЦИИ\СОБАКИ\спасатель.jpg"/>
          <p:cNvPicPr/>
          <p:nvPr/>
        </p:nvPicPr>
        <p:blipFill>
          <a:blip r:embed="rId1"/>
          <a:stretch/>
        </p:blipFill>
        <p:spPr>
          <a:xfrm>
            <a:off x="2357280" y="2071800"/>
            <a:ext cx="47944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 некоторых народов Севера – эскимосов, чукчей – собака – единственное домашнее животно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юрий\Desktop\ДЕТСКИЕ ПРЕЗЕНТАЦИИ\СОБАКИ\упряжка.jpg"/>
          <p:cNvPicPr/>
          <p:nvPr/>
        </p:nvPicPr>
        <p:blipFill>
          <a:blip r:embed="rId1"/>
          <a:stretch/>
        </p:blipFill>
        <p:spPr>
          <a:xfrm>
            <a:off x="1428840" y="1500120"/>
            <a:ext cx="642456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Несутся собаки тропой ледяной.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Терпенье и сила в упряжке одно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юрий\Desktop\ДЕТСКИЕ ПРЕЗЕНТАЦИИ\СОБАКИ\упряжка 2.jpg"/>
          <p:cNvPicPr/>
          <p:nvPr/>
        </p:nvPicPr>
        <p:blipFill>
          <a:blip r:embed="rId1"/>
          <a:stretch/>
        </p:blipFill>
        <p:spPr>
          <a:xfrm>
            <a:off x="1071720" y="1643040"/>
            <a:ext cx="7215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л аплодирует, хохочет: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Что за прыжки! Что за повадки! 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юрий\Desktop\ДЕТСКИЕ ПРЕЗЕНТАЦИИ\СОБАКИ\цирк.jpg"/>
          <p:cNvPicPr/>
          <p:nvPr/>
        </p:nvPicPr>
        <p:blipFill>
          <a:blip r:embed="rId1"/>
          <a:stretch/>
        </p:blipFill>
        <p:spPr>
          <a:xfrm>
            <a:off x="2928960" y="1357200"/>
            <a:ext cx="37306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329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награду – сахара кусочек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о труд артиста – ох несладки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юрий\Desktop\ДЕТСКИЕ ПРЕЗЕНТАЦИИ\СОБАКИ\в цирке.jpg"/>
          <p:cNvPicPr/>
          <p:nvPr/>
        </p:nvPicPr>
        <p:blipFill>
          <a:blip r:embed="rId1"/>
          <a:stretch/>
        </p:blipFill>
        <p:spPr>
          <a:xfrm>
            <a:off x="1643040" y="1143000"/>
            <a:ext cx="59659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баки способны не только на трюки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ерно служили и служат науке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юрий\Desktop\ДЕТСКИЕ ПРЕЗЕНТАЦИИ\СОБАКИ\памятник.jpg"/>
          <p:cNvPicPr/>
          <p:nvPr/>
        </p:nvPicPr>
        <p:blipFill>
          <a:blip r:embed="rId1"/>
          <a:stretch/>
        </p:blipFill>
        <p:spPr>
          <a:xfrm>
            <a:off x="1571760" y="1457280"/>
            <a:ext cx="557208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9725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Кто в космос летал раньше всех?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Угадай-ка!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авильно!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ша российская лайка!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юрий\Desktop\ДЕТСКИЕ ПРЕЗЕНТАЦИИ\СОБАКИ\лайка в космосе.jpg"/>
          <p:cNvPicPr/>
          <p:nvPr/>
        </p:nvPicPr>
        <p:blipFill>
          <a:blip r:embed="rId1"/>
          <a:stretch/>
        </p:blipFill>
        <p:spPr>
          <a:xfrm>
            <a:off x="1785960" y="1285920"/>
            <a:ext cx="58262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обаки-космонавты Белка и Стр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юрий\Desktop\ДЕТСКИЕ ПРЕЗЕНТАЦИИ\СОБАКИ\космонавты.jpg"/>
          <p:cNvPicPr/>
          <p:nvPr/>
        </p:nvPicPr>
        <p:blipFill>
          <a:blip r:embed="rId1"/>
          <a:stretch/>
        </p:blipFill>
        <p:spPr>
          <a:xfrm>
            <a:off x="1785960" y="1143000"/>
            <a:ext cx="6143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3296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 это пёс по кличке Шарик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Хорошим людям дружбу дарит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Его порода неизвестна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Но всё равно он служит чест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юрий\Desktop\ДЕТСКИЕ ПРЕЗЕНТАЦИИ\СОБАКИ\шарик.jpg"/>
          <p:cNvPicPr/>
          <p:nvPr/>
        </p:nvPicPr>
        <p:blipFill>
          <a:blip r:embed="rId1"/>
          <a:stretch/>
        </p:blipFill>
        <p:spPr>
          <a:xfrm>
            <a:off x="2357280" y="2000160"/>
            <a:ext cx="478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186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обаки – самые верные друз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юрий\Desktop\ДЕТСКИЕ ПРЕЗЕНТАЦИИ\СОБАКИ\охота.jpg"/>
          <p:cNvPicPr/>
          <p:nvPr/>
        </p:nvPicPr>
        <p:blipFill>
          <a:blip r:embed="rId1"/>
          <a:stretch/>
        </p:blipFill>
        <p:spPr>
          <a:xfrm>
            <a:off x="1571760" y="1214280"/>
            <a:ext cx="635796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2580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каз про собаку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 то, как верн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юдям собак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 все времена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5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юрий\Desktop\ДЕТСКИЕ ПРЕЗЕНТАЦИИ\СОБАКИ\собаки.jpg"/>
          <p:cNvPicPr/>
          <p:nvPr/>
        </p:nvPicPr>
        <p:blipFill>
          <a:blip r:embed="rId1"/>
          <a:stretch/>
        </p:blipFill>
        <p:spPr>
          <a:xfrm>
            <a:off x="1500120" y="2060640"/>
            <a:ext cx="63849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ёс по-собачьи предан людя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о все века, и потому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авайте относиться будем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-человечески к нему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юрий\Desktop\ДЕТСКИЕ ПРЕЗЕНТАЦИИ\СОБАКИ\аякс.jpg"/>
          <p:cNvPicPr/>
          <p:nvPr/>
        </p:nvPicPr>
        <p:blipFill>
          <a:blip r:embed="rId1"/>
          <a:stretch/>
        </p:blipFill>
        <p:spPr>
          <a:xfrm>
            <a:off x="1571760" y="1643040"/>
            <a:ext cx="61452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Пожарные собаки.wmv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85726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1680" y="260280"/>
            <a:ext cx="765792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резентация к интегрированному занятию по ознакомлению с окружающим и развитию речи для старшего воз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готовлена старшим воспитателем Безрученко К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Использованы стихи Е.Ефимовс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 то, как был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ловеком приручена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 том, сколько дел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обаке поручено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юрий\Desktop\ДЕТСКИЕ ПРЕЗЕНТАЦИИ\СОБАКИ\собачка.jpg"/>
          <p:cNvPicPr/>
          <p:nvPr/>
        </p:nvPicPr>
        <p:blipFill>
          <a:blip r:embed="rId1"/>
          <a:stretch/>
        </p:blipFill>
        <p:spPr>
          <a:xfrm>
            <a:off x="1571760" y="2060640"/>
            <a:ext cx="63849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Это случилось во мраке веков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едки собаки ушли от волко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юрий\Desktop\ДЕТСКИЕ ПРЕЗЕНТАЦИИ\СОБАКИ\в древности.jpg"/>
          <p:cNvPicPr/>
          <p:nvPr/>
        </p:nvPicPr>
        <p:blipFill>
          <a:blip r:embed="rId1"/>
          <a:stretch/>
        </p:blipFill>
        <p:spPr>
          <a:xfrm>
            <a:off x="1428840" y="1214280"/>
            <a:ext cx="6207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86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 волки вдогонку сверкнули клыками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ни не пошли и остались волками.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юрий\Desktop\ДЕТСКИЕ ПРЕЗЕНТАЦИИ\СОБАКИ\волк.jpg"/>
          <p:cNvPicPr/>
          <p:nvPr/>
        </p:nvPicPr>
        <p:blipFill>
          <a:blip r:embed="rId1"/>
          <a:stretch/>
        </p:blipFill>
        <p:spPr>
          <a:xfrm>
            <a:off x="1428840" y="1143000"/>
            <a:ext cx="6819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от первую дали собаке работу: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Жильё охранять и ходить на охоту.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юрий\Desktop\ДЕТСКИЕ ПРЕЗЕНТАЦИИ\СОБАКИ\охота 2.jpg"/>
          <p:cNvPicPr/>
          <p:nvPr/>
        </p:nvPicPr>
        <p:blipFill>
          <a:blip r:embed="rId1"/>
          <a:stretch/>
        </p:blipFill>
        <p:spPr>
          <a:xfrm>
            <a:off x="2286000" y="1428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обака о дне не скулила вчерашнем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И стала хорошим животным домашним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юрий\Desktop\ДЕТСКИЕ ПРЕЗЕНТАЦИИ\СОБАКИ\древность.jpg"/>
          <p:cNvPicPr/>
          <p:nvPr/>
        </p:nvPicPr>
        <p:blipFill>
          <a:blip r:embed="rId1"/>
          <a:stretch/>
        </p:blipFill>
        <p:spPr>
          <a:xfrm>
            <a:off x="2428920" y="1500120"/>
            <a:ext cx="4286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сюду собак берегли и ценили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 Древнем Египте – боготворили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юрий\Desktop\ДЕТСКИЕ ПРЕЗЕНТАЦИИ\СОБАКИ\египет.jpg"/>
          <p:cNvPicPr/>
          <p:nvPr/>
        </p:nvPicPr>
        <p:blipFill>
          <a:blip r:embed="rId1"/>
          <a:stretch/>
        </p:blipFill>
        <p:spPr>
          <a:xfrm>
            <a:off x="714240" y="1285920"/>
            <a:ext cx="7836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08:10Z</dcterms:created>
  <dc:creator>юрий</dc:creator>
  <dc:description/>
  <dc:language>en-US</dc:language>
  <cp:lastModifiedBy>Lenovo User</cp:lastModifiedBy>
  <dcterms:modified xsi:type="dcterms:W3CDTF">2016-04-25T13:03:08Z</dcterms:modified>
  <cp:revision>37</cp:revision>
  <dc:subject/>
  <dc:title>ПРЕЗЕНТАЦИЯ  ПО  ТЕМЕ  «КАК СОБАКИ  ПОМОГАЮТ ЛЮДЯМ»</dc:title>
</cp:coreProperties>
</file>