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946-3E92-4A65-A529-95EE01CC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C6B-420B-4665-B038-91CB80C0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59D-D984-4AB0-9EA8-648729C0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663-8B89-45CD-A5FC-02445086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0B8-1847-4A31-B14F-F75FC26A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22B-B7F1-45FA-8B8C-48D7247D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F13-3262-46A0-AF10-0E29F8BE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59D-E8B8-4E12-90A0-3C6E276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D9F-4C82-414D-984A-904F4099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9FB-C52F-4EBF-93E3-DE3F168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E7B-4826-4DC9-B071-A7199A19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66D-7109-4A0E-B134-456E4B5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D103-4078-48E9-959F-7BE9CA3C9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785880"/>
            <a:ext cx="80010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НСПЕКТ НОД С ЭЛЕМЕНТАМИ ИКТ ИНТЕГРИРОВАННОЕ ЗАНЯТИЮ ПО ОЗНАКОМЛЕНИЮ С ОКРУЖАЮЩИМ И РАЗВИТИЮ РЕЧИ ДЛЯ СТАРШЕГО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4071960"/>
            <a:ext cx="66373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 СОБАКИ  ПОМОГАЮТ  ЛЮДЯ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9680" y="71280"/>
            <a:ext cx="818676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згляните, ребята, на этого бога –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н с виду собаку напомнит немного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юрий\Desktop\ДЕТСКИЕ ПРЕЗЕНТАЦИИ\СОБАКИ\анубис 2.jpg"/>
          <p:cNvPicPr/>
          <p:nvPr/>
        </p:nvPicPr>
        <p:blipFill>
          <a:blip r:embed="rId1"/>
          <a:stretch/>
        </p:blipFill>
        <p:spPr>
          <a:xfrm>
            <a:off x="1928880" y="1143000"/>
            <a:ext cx="498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82580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адо овечье собаке послушно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обака справлялась с работой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астушьей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юрий\Desktop\ДЕТСКИЕ ПРЕЗЕНТАЦИИ\СОБАКИ\пастух.jpg"/>
          <p:cNvPicPr/>
          <p:nvPr/>
        </p:nvPicPr>
        <p:blipFill>
          <a:blip r:embed="rId1"/>
          <a:stretch/>
        </p:blipFill>
        <p:spPr>
          <a:xfrm>
            <a:off x="1714680" y="1357200"/>
            <a:ext cx="641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70920"/>
            <a:ext cx="82580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У нас уважают собаку недаром 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бака на фронте была санитаром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юрий\Desktop\ДЕТСКИЕ ПРЕЗЕНТАЦИИ\СОБАКИ\на войне.jpg"/>
          <p:cNvPicPr/>
          <p:nvPr/>
        </p:nvPicPr>
        <p:blipFill>
          <a:blip r:embed="rId1"/>
          <a:stretch/>
        </p:blipFill>
        <p:spPr>
          <a:xfrm>
            <a:off x="1285920" y="1500120"/>
            <a:ext cx="6858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71280"/>
            <a:ext cx="82580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вязистом, сапёром. Порою собаки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На танки фашистов бросались в атаки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юрий\Desktop\ДЕТСКИЕ ПРЕЗЕНТАЦИИ\СОБАКИ\на границе.jpg"/>
          <p:cNvPicPr/>
          <p:nvPr/>
        </p:nvPicPr>
        <p:blipFill>
          <a:blip r:embed="rId1"/>
          <a:stretch/>
        </p:blipFill>
        <p:spPr>
          <a:xfrm>
            <a:off x="2428920" y="1357200"/>
            <a:ext cx="474804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наше время собаки помогают бороться с террористами – ищут взрывчат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юрий\Desktop\ДЕТСКИЕ ПРЕЗЕНТАЦИИ\СОБАКИ\ищет взрывчатку.jpg"/>
          <p:cNvPicPr/>
          <p:nvPr/>
        </p:nvPicPr>
        <p:blipFill>
          <a:blip r:embed="rId1"/>
          <a:stretch/>
        </p:blipFill>
        <p:spPr>
          <a:xfrm>
            <a:off x="2500200" y="1071720"/>
            <a:ext cx="43578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70920"/>
            <a:ext cx="811512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перёд! Сомнений больше нет!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строен пёс решительно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перва взяла собака след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 следом – нарушителя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юрий\Desktop\ДЕТСКИЕ ПРЕЗЕНТАЦИИ\СОБАКИ\защита.jpg"/>
          <p:cNvPicPr/>
          <p:nvPr/>
        </p:nvPicPr>
        <p:blipFill>
          <a:blip r:embed="rId1"/>
          <a:stretch/>
        </p:blipFill>
        <p:spPr>
          <a:xfrm>
            <a:off x="1928880" y="2071800"/>
            <a:ext cx="61434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6439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любой стране ловить преступников помогают специально обученные служебные соба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юрий\Desktop\ДЕТСКИЕ ПРЕЗЕНТАЦИИ\СОБАКИ\полиция.jpg"/>
          <p:cNvPicPr/>
          <p:nvPr/>
        </p:nvPicPr>
        <p:blipFill>
          <a:blip r:embed="rId1"/>
          <a:stretch/>
        </p:blipFill>
        <p:spPr>
          <a:xfrm>
            <a:off x="2143080" y="1714680"/>
            <a:ext cx="5165640" cy="48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лужебных собак специально дрессируют кинолог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юрий\Desktop\ДЕТСКИЕ ПРЕЗЕНТАЦИИ\СОБАКИ\милиция.jpg"/>
          <p:cNvPicPr/>
          <p:nvPr/>
        </p:nvPicPr>
        <p:blipFill>
          <a:blip r:embed="rId1"/>
          <a:stretch/>
        </p:blipFill>
        <p:spPr>
          <a:xfrm>
            <a:off x="1214280" y="1143000"/>
            <a:ext cx="742968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баки помогают слепым людя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юрий\Desktop\ДЕТСКИЕ ПРЕЗЕНТАЦИИ\СОБАКИ\поводырь.jpg"/>
          <p:cNvPicPr/>
          <p:nvPr/>
        </p:nvPicPr>
        <p:blipFill>
          <a:blip r:embed="rId1"/>
          <a:stretch/>
        </p:blipFill>
        <p:spPr>
          <a:xfrm>
            <a:off x="1428840" y="857160"/>
            <a:ext cx="73580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баки помогают спасать людей на пожаре и при землетрясения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юрий\Desktop\ДЕТСКИЕ ПРЕЗЕНТАЦИИ\СОБАКИ\на пожаре.jpg"/>
          <p:cNvPicPr/>
          <p:nvPr/>
        </p:nvPicPr>
        <p:blipFill>
          <a:blip r:embed="rId1"/>
          <a:stretch/>
        </p:blipFill>
        <p:spPr>
          <a:xfrm>
            <a:off x="1357200" y="1143000"/>
            <a:ext cx="71438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ЕЗЕНТАЦИЯ  ПО  ТЕМ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«КАК СОБАКИ  ПОМОГАЮТ  ЛЮДЯ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26920" y="3886200"/>
            <a:ext cx="3816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юрий\Desktop\ДЕТСКИЕ ПРЕЗЕНТАЦИИ\СОБАКИ\верный.jpg"/>
          <p:cNvPicPr/>
          <p:nvPr/>
        </p:nvPicPr>
        <p:blipFill>
          <a:blip r:embed="rId1"/>
          <a:stretch/>
        </p:blipFill>
        <p:spPr>
          <a:xfrm>
            <a:off x="2428920" y="2060640"/>
            <a:ext cx="44337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горах беда случится с вами –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пасение не за горами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пешит в пургу, в метель, в мороз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 помощь людям добрый пё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юрий\Desktop\ДЕТСКИЕ ПРЕЗЕНТАЦИИ\СОБАКИ\спасатель.jpg"/>
          <p:cNvPicPr/>
          <p:nvPr/>
        </p:nvPicPr>
        <p:blipFill>
          <a:blip r:embed="rId1"/>
          <a:stretch/>
        </p:blipFill>
        <p:spPr>
          <a:xfrm>
            <a:off x="2357280" y="2071800"/>
            <a:ext cx="47944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86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 некоторых народов Севера – эскимосов, чукчей – собака – единственное домашнее животно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юрий\Desktop\ДЕТСКИЕ ПРЕЗЕНТАЦИИ\СОБАКИ\упряжка.jpg"/>
          <p:cNvPicPr/>
          <p:nvPr/>
        </p:nvPicPr>
        <p:blipFill>
          <a:blip r:embed="rId1"/>
          <a:stretch/>
        </p:blipFill>
        <p:spPr>
          <a:xfrm>
            <a:off x="1428840" y="1500120"/>
            <a:ext cx="64245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Несутся собаки тропой ледяной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ерпенье и сила в упряжке одн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юрий\Desktop\ДЕТСКИЕ ПРЕЗЕНТАЦИИ\СОБАКИ\упряжка 2.jpg"/>
          <p:cNvPicPr/>
          <p:nvPr/>
        </p:nvPicPr>
        <p:blipFill>
          <a:blip r:embed="rId1"/>
          <a:stretch/>
        </p:blipFill>
        <p:spPr>
          <a:xfrm>
            <a:off x="1071720" y="1643040"/>
            <a:ext cx="7215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ал аплодирует, хохочет: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 Что за прыжки! Что за повадки! 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юрий\Desktop\ДЕТСКИЕ ПРЕЗЕНТАЦИИ\СОБАКИ\цирк.jpg"/>
          <p:cNvPicPr/>
          <p:nvPr/>
        </p:nvPicPr>
        <p:blipFill>
          <a:blip r:embed="rId1"/>
          <a:stretch/>
        </p:blipFill>
        <p:spPr>
          <a:xfrm>
            <a:off x="2928960" y="1357200"/>
            <a:ext cx="37306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награду – сахара кусочек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о труд артиста – ох несладкий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юрий\Desktop\ДЕТСКИЕ ПРЕЗЕНТАЦИИ\СОБАКИ\в цирке.jpg"/>
          <p:cNvPicPr/>
          <p:nvPr/>
        </p:nvPicPr>
        <p:blipFill>
          <a:blip r:embed="rId1"/>
          <a:stretch/>
        </p:blipFill>
        <p:spPr>
          <a:xfrm>
            <a:off x="1643040" y="1143000"/>
            <a:ext cx="59659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баки способны не только на трюки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верно служили и служат науке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юрий\Desktop\ДЕТСКИЕ ПРЕЗЕНТАЦИИ\СОБАКИ\памятник.jpg"/>
          <p:cNvPicPr/>
          <p:nvPr/>
        </p:nvPicPr>
        <p:blipFill>
          <a:blip r:embed="rId1"/>
          <a:stretch/>
        </p:blipFill>
        <p:spPr>
          <a:xfrm>
            <a:off x="1571760" y="1457280"/>
            <a:ext cx="55720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9725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Кто в космос летал раньше всех?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гадай-ка!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равильно!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ша российская лайка!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юрий\Desktop\ДЕТСКИЕ ПРЕЗЕНТАЦИИ\СОБАКИ\лайка в космосе.jpg"/>
          <p:cNvPicPr/>
          <p:nvPr/>
        </p:nvPicPr>
        <p:blipFill>
          <a:blip r:embed="rId1"/>
          <a:stretch/>
        </p:blipFill>
        <p:spPr>
          <a:xfrm>
            <a:off x="1785960" y="1285920"/>
            <a:ext cx="58262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баки-космонавты Белка и Стре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юрий\Desktop\ДЕТСКИЕ ПРЕЗЕНТАЦИИ\СОБАКИ\космонавты.jpg"/>
          <p:cNvPicPr/>
          <p:nvPr/>
        </p:nvPicPr>
        <p:blipFill>
          <a:blip r:embed="rId1"/>
          <a:stretch/>
        </p:blipFill>
        <p:spPr>
          <a:xfrm>
            <a:off x="1785960" y="1143000"/>
            <a:ext cx="6143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3296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 это пёс по кличке Шарик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Хорошим людям дружбу дарит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Его порода неизвестна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о всё равно он служит чест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юрий\Desktop\ДЕТСКИЕ ПРЕЗЕНТАЦИИ\СОБАКИ\шарик.jpg"/>
          <p:cNvPicPr/>
          <p:nvPr/>
        </p:nvPicPr>
        <p:blipFill>
          <a:blip r:embed="rId1"/>
          <a:stretch/>
        </p:blipFill>
        <p:spPr>
          <a:xfrm>
            <a:off x="2357280" y="2000160"/>
            <a:ext cx="4786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186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обаки – самые верные друзь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юрий\Desktop\ДЕТСКИЕ ПРЕЗЕНТАЦИИ\СОБАКИ\охота.jpg"/>
          <p:cNvPicPr/>
          <p:nvPr/>
        </p:nvPicPr>
        <p:blipFill>
          <a:blip r:embed="rId1"/>
          <a:stretch/>
        </p:blipFill>
        <p:spPr>
          <a:xfrm>
            <a:off x="1571760" y="1214280"/>
            <a:ext cx="63579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2580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сказ про собаку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 то, как верн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юдям собак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о все времена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5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юрий\Desktop\ДЕТСКИЕ ПРЕЗЕНТАЦИИ\СОБАКИ\собаки.jpg"/>
          <p:cNvPicPr/>
          <p:nvPr/>
        </p:nvPicPr>
        <p:blipFill>
          <a:blip r:embed="rId1"/>
          <a:stretch/>
        </p:blipFill>
        <p:spPr>
          <a:xfrm>
            <a:off x="1500120" y="2060640"/>
            <a:ext cx="63849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ёс по-собачьи предан людям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о все века, и потому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авайте относиться будем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-человечески к нему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юрий\Desktop\ДЕТСКИЕ ПРЕЗЕНТАЦИИ\СОБАКИ\аякс.jpg"/>
          <p:cNvPicPr/>
          <p:nvPr/>
        </p:nvPicPr>
        <p:blipFill>
          <a:blip r:embed="rId1"/>
          <a:stretch/>
        </p:blipFill>
        <p:spPr>
          <a:xfrm>
            <a:off x="1571760" y="1643040"/>
            <a:ext cx="61452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Пожарные собаки.wmv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1680" y="260280"/>
            <a:ext cx="765792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резентация к интегрированному занятию по ознакомлению с окружающим и развитию речи для старшего во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готовлена старшим воспитателем Безрученко К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спользованы стихи Е.Ефимовск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 то, как была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Человеком приручена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 том, сколько дел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обаке поручено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юрий\Desktop\ДЕТСКИЕ ПРЕЗЕНТАЦИИ\СОБАКИ\собачка.jpg"/>
          <p:cNvPicPr/>
          <p:nvPr/>
        </p:nvPicPr>
        <p:blipFill>
          <a:blip r:embed="rId1"/>
          <a:stretch/>
        </p:blipFill>
        <p:spPr>
          <a:xfrm>
            <a:off x="1571760" y="2060640"/>
            <a:ext cx="638496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Это случилось во мраке веков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едки собаки ушли от волко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юрий\Desktop\ДЕТСКИЕ ПРЕЗЕНТАЦИИ\СОБАКИ\в древности.jpg"/>
          <p:cNvPicPr/>
          <p:nvPr/>
        </p:nvPicPr>
        <p:blipFill>
          <a:blip r:embed="rId1"/>
          <a:stretch/>
        </p:blipFill>
        <p:spPr>
          <a:xfrm>
            <a:off x="1428840" y="1214280"/>
            <a:ext cx="6207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86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 волки вдогонку сверкнули клыками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ни не пошли и остались волками.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юрий\Desktop\ДЕТСКИЕ ПРЕЗЕНТАЦИИ\СОБАКИ\волк.jpg"/>
          <p:cNvPicPr/>
          <p:nvPr/>
        </p:nvPicPr>
        <p:blipFill>
          <a:blip r:embed="rId1"/>
          <a:stretch/>
        </p:blipFill>
        <p:spPr>
          <a:xfrm>
            <a:off x="1428840" y="1143000"/>
            <a:ext cx="6819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т первую дали собаке работу: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Жильё охранять и ходить на охоту.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юрий\Desktop\ДЕТСКИЕ ПРЕЗЕНТАЦИИ\СОБАКИ\охота 2.jpg"/>
          <p:cNvPicPr/>
          <p:nvPr/>
        </p:nvPicPr>
        <p:blipFill>
          <a:blip r:embed="rId1"/>
          <a:stretch/>
        </p:blipFill>
        <p:spPr>
          <a:xfrm>
            <a:off x="2286000" y="142884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бака о дне не скулила вчерашнем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 стала хорошим животным домашним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юрий\Desktop\ДЕТСКИЕ ПРЕЗЕНТАЦИИ\СОБАКИ\древность.jpg"/>
          <p:cNvPicPr/>
          <p:nvPr/>
        </p:nvPicPr>
        <p:blipFill>
          <a:blip r:embed="rId1"/>
          <a:stretch/>
        </p:blipFill>
        <p:spPr>
          <a:xfrm>
            <a:off x="2428920" y="1500120"/>
            <a:ext cx="4286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всюду собак берегли и ценили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в Древнем Египте – боготворили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юрий\Desktop\ДЕТСКИЕ ПРЕЗЕНТАЦИИ\СОБАКИ\египет.jpg"/>
          <p:cNvPicPr/>
          <p:nvPr/>
        </p:nvPicPr>
        <p:blipFill>
          <a:blip r:embed="rId1"/>
          <a:stretch/>
        </p:blipFill>
        <p:spPr>
          <a:xfrm>
            <a:off x="714240" y="1285920"/>
            <a:ext cx="7836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2:08:10Z</dcterms:created>
  <dc:creator>юрий</dc:creator>
  <dc:description/>
  <dc:language>en-US</dc:language>
  <cp:lastModifiedBy>Lenovo User</cp:lastModifiedBy>
  <dcterms:modified xsi:type="dcterms:W3CDTF">2016-04-25T13:03:08Z</dcterms:modified>
  <cp:revision>37</cp:revision>
  <dc:subject/>
  <dc:title>ПРЕЗЕНТАЦИЯ  ПО  ТЕМЕ  «КАК СОБАКИ  ПОМОГАЮТ ЛЮДЯМ»</dc:title>
</cp:coreProperties>
</file>