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5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B69-18FB-4CE9-80EC-C28DB0B4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AE2-35E8-4889-85A1-62DF1165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A91-EBC0-4F12-826C-1B3A90DF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F0A-0A31-4F8D-8D3C-962D34D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499-1BB8-4C55-95BB-082A4E53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019-DF48-40C5-8901-559F44A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7B4-9596-4EA5-8F34-EA046BCC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58C-19C4-4EBD-857A-811907F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2AE-4ABF-4563-BECD-2C02E7F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23E-430F-40C1-A812-A3E4052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16E-5AA9-4A61-B6BA-1AA5B4A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59C-43E2-46B1-A62B-AAFD4D0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2B8-7FB5-4C99-A580-52392BBA6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419640" y="3213000"/>
            <a:ext cx="53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гния  Барто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BS00554_"/>
          <p:cNvPicPr/>
          <p:nvPr/>
        </p:nvPicPr>
        <p:blipFill>
          <a:blip r:embed="rId1"/>
          <a:stretch/>
        </p:blipFill>
        <p:spPr>
          <a:xfrm>
            <a:off x="900000" y="3789360"/>
            <a:ext cx="2808360" cy="24512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826920" y="1125360"/>
            <a:ext cx="7921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ир, в котором живут дети"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5" descr="C:\Users\Люда\Desktop\29.png"/>
          <p:cNvPicPr/>
          <p:nvPr/>
        </p:nvPicPr>
        <p:blipFill>
          <a:blip r:embed="rId2"/>
          <a:stretch/>
        </p:blipFill>
        <p:spPr>
          <a:xfrm>
            <a:off x="5292720" y="4103640"/>
            <a:ext cx="313200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6"/>
          <p:cNvSpPr txBox="1"/>
          <p:nvPr/>
        </p:nvSpPr>
        <p:spPr>
          <a:xfrm>
            <a:off x="1403280" y="765000"/>
            <a:ext cx="655344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ём итоги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1916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то являются героями стихотворений А. Бар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39640" y="2898720"/>
            <a:ext cx="7993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 вспомним, про кого мы сегодня вспомнили стихотвор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автор этих замечательных произвед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дом\Desktop\барто.jpg"/>
          <p:cNvPicPr/>
          <p:nvPr/>
        </p:nvPicPr>
        <p:blipFill>
          <a:blip r:embed="rId1"/>
          <a:stretch/>
        </p:blipFill>
        <p:spPr>
          <a:xfrm>
            <a:off x="0" y="30240"/>
            <a:ext cx="91044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284720" y="620640"/>
            <a:ext cx="4319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ния Барто начала писать стихи, учась в балетном училище. В стихотворениях главные герои – дети. Стихотворения поэтессы весёлые и в то же время поучительные. Агния Барто предлагала юному читателю взглянуть на себя со стороны и постараться исправить в себе плохие черты. Она много путешествовала, из своих поездок привозила стихи детей разных стран и переводила на рус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179280" y="907920"/>
          <a:ext cx="40086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0086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708360" y="206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дом\Desktop\балерина.jpg"/>
          <p:cNvPicPr/>
          <p:nvPr/>
        </p:nvPicPr>
        <p:blipFill>
          <a:blip r:embed="rId1"/>
          <a:stretch/>
        </p:blipFill>
        <p:spPr>
          <a:xfrm>
            <a:off x="179280" y="115920"/>
            <a:ext cx="3672000" cy="315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Люда\Desktop\big.jpg"/>
          <p:cNvPicPr/>
          <p:nvPr/>
        </p:nvPicPr>
        <p:blipFill>
          <a:blip r:embed="rId2"/>
          <a:stretch/>
        </p:blipFill>
        <p:spPr>
          <a:xfrm>
            <a:off x="3798720" y="2357280"/>
            <a:ext cx="53452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95280" y="170028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C:\Users\дом\Desktop\досуг  А.Барто\работа.jpg"/>
          <p:cNvPicPr/>
          <p:nvPr/>
        </p:nvPicPr>
        <p:blipFill>
          <a:blip r:embed="rId1"/>
          <a:stretch/>
        </p:blipFill>
        <p:spPr>
          <a:xfrm>
            <a:off x="1187280" y="95400"/>
            <a:ext cx="67183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2843280" y="3279600"/>
            <a:ext cx="3673440" cy="33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УШКИ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50920" y="289080"/>
            <a:ext cx="2448000" cy="30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6554880" y="3357720"/>
            <a:ext cx="23428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6491160" y="289080"/>
            <a:ext cx="2381400" cy="29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395280" y="3533760"/>
            <a:ext cx="2448000" cy="322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7"/>
          <a:stretch/>
        </p:blipFill>
        <p:spPr>
          <a:xfrm>
            <a:off x="3067200" y="255600"/>
            <a:ext cx="30175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4"/>
          <p:cNvSpPr/>
          <p:nvPr/>
        </p:nvSpPr>
        <p:spPr>
          <a:xfrm>
            <a:off x="619200" y="549360"/>
            <a:ext cx="7697880" cy="12952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ден улы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:\Users\дом\Desktop\орп.jpg"/>
          <p:cNvPicPr/>
          <p:nvPr/>
        </p:nvPicPr>
        <p:blipFill>
          <a:blip r:embed="rId1"/>
          <a:stretch/>
        </p:blipFill>
        <p:spPr>
          <a:xfrm>
            <a:off x="1979640" y="223668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Users\дом\Desktop\досуг  А.Барто\орден улыбки.jpg"/>
          <p:cNvPicPr/>
          <p:nvPr/>
        </p:nvPicPr>
        <p:blipFill>
          <a:blip r:embed="rId2"/>
          <a:stretch/>
        </p:blipFill>
        <p:spPr>
          <a:xfrm>
            <a:off x="6875640" y="366840"/>
            <a:ext cx="1814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дом\Desktop\стихи.jpg"/>
          <p:cNvPicPr/>
          <p:nvPr/>
        </p:nvPicPr>
        <p:blipFill>
          <a:blip r:embed="rId1"/>
          <a:stretch/>
        </p:blipFill>
        <p:spPr>
          <a:xfrm>
            <a:off x="250920" y="189000"/>
            <a:ext cx="1896840" cy="386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дом\Desktop\раск.jpg"/>
          <p:cNvPicPr/>
          <p:nvPr/>
        </p:nvPicPr>
        <p:blipFill>
          <a:blip r:embed="rId2"/>
          <a:stretch/>
        </p:blipFill>
        <p:spPr>
          <a:xfrm>
            <a:off x="3176640" y="282600"/>
            <a:ext cx="2259000" cy="347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дом\Desktop\книж.jpg"/>
          <p:cNvPicPr/>
          <p:nvPr/>
        </p:nvPicPr>
        <p:blipFill>
          <a:blip r:embed="rId3"/>
          <a:stretch/>
        </p:blipFill>
        <p:spPr>
          <a:xfrm>
            <a:off x="5940360" y="189000"/>
            <a:ext cx="275904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дом\Desktop\веревочка.jpg"/>
          <p:cNvPicPr/>
          <p:nvPr/>
        </p:nvPicPr>
        <p:blipFill>
          <a:blip r:embed="rId4"/>
          <a:stretch/>
        </p:blipFill>
        <p:spPr>
          <a:xfrm>
            <a:off x="765000" y="3753000"/>
            <a:ext cx="2086200" cy="307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дом\Desktop\картинка бар.jpg"/>
          <p:cNvPicPr/>
          <p:nvPr/>
        </p:nvPicPr>
        <p:blipFill>
          <a:blip r:embed="rId5"/>
          <a:stretch/>
        </p:blipFill>
        <p:spPr>
          <a:xfrm>
            <a:off x="5749920" y="3486240"/>
            <a:ext cx="3240000" cy="31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2666880" y="2281320"/>
            <a:ext cx="1836720" cy="23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629160" y="3940200"/>
            <a:ext cx="1806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дом\Desktop\планета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396072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ономы назвали именем поэтессы маленькую звезду, расположенную между орбитами Марса и Юпитера – на звёздных картах можно найти астероид, названный в честь Агнии Львовны Бар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звезда крутится"/>
          <p:cNvPicPr/>
          <p:nvPr/>
        </p:nvPicPr>
        <p:blipFill>
          <a:blip r:embed="rId2"/>
          <a:stretch/>
        </p:blipFill>
        <p:spPr>
          <a:xfrm>
            <a:off x="7189920" y="260280"/>
            <a:ext cx="490320" cy="4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8:30:18Z</dcterms:created>
  <dc:creator>щербакова</dc:creator>
  <dc:description/>
  <dc:language>en-US</dc:language>
  <cp:lastModifiedBy>Армине</cp:lastModifiedBy>
  <dcterms:modified xsi:type="dcterms:W3CDTF">2020-12-11T07:26:00Z</dcterms:modified>
  <cp:revision>62</cp:revision>
  <dc:subject/>
  <dc:title>Слайд 1</dc:title>
</cp:coreProperties>
</file>