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5.gif" ContentType="image/gif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24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wmf" ContentType="image/x-wmf"/>
  <Override PartName="/ppt/media/image17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009C-4FBC-4330-A714-0D02112A3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7035-9174-41DE-89DE-124CAE11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94C2-8823-442D-84D2-7A1EFF47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4D05-3FE0-444F-A30A-79739386D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687D-D1F9-4C25-BC21-15CB206F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4BFD-42FD-4A9F-86E8-2957FD7A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8350-AFC9-4A3E-BBCA-BBF4E254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2EE4-1AB9-453E-BD69-0BCF0D8C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2865-F2BE-4FB2-A6D4-7E6F6D73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3399-41DF-47E4-9E16-B03B0C15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3F78-D96C-4683-AA22-34AE0A13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0A38-3184-4E18-9067-4B1B4442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5CFC-0179-464E-BA20-6E0219EA4B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419640" y="3213000"/>
            <a:ext cx="5327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Агния  Барто</a:t>
            </a:r>
            <a:endParaRPr b="0" lang="en-US" sz="24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42" name="Picture 5" descr="BS00554_"/>
          <p:cNvPicPr/>
          <p:nvPr/>
        </p:nvPicPr>
        <p:blipFill>
          <a:blip r:embed="rId1"/>
          <a:stretch/>
        </p:blipFill>
        <p:spPr>
          <a:xfrm>
            <a:off x="900000" y="3789360"/>
            <a:ext cx="2808360" cy="245124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826920" y="1125360"/>
            <a:ext cx="792180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Мир, в котором живут дети".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Picture 5" descr="C:\Users\Люда\Desktop\29.png"/>
          <p:cNvPicPr/>
          <p:nvPr/>
        </p:nvPicPr>
        <p:blipFill>
          <a:blip r:embed="rId2"/>
          <a:stretch/>
        </p:blipFill>
        <p:spPr>
          <a:xfrm>
            <a:off x="5292720" y="4103640"/>
            <a:ext cx="3132000" cy="24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6"/>
          <p:cNvSpPr txBox="1"/>
          <p:nvPr/>
        </p:nvSpPr>
        <p:spPr>
          <a:xfrm>
            <a:off x="1403280" y="765000"/>
            <a:ext cx="6553440" cy="105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дведём итоги?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9640" y="1916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Кто являются героями стихотворений А. Бар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539640" y="2898720"/>
            <a:ext cx="799308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вайте вспомним, про кого мы сегодня вспомнили стихотвор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то автор этих замечательных произведен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C:\Users\дом\Desktop\барто.jpg"/>
          <p:cNvPicPr/>
          <p:nvPr/>
        </p:nvPicPr>
        <p:blipFill>
          <a:blip r:embed="rId1"/>
          <a:stretch/>
        </p:blipFill>
        <p:spPr>
          <a:xfrm>
            <a:off x="0" y="30240"/>
            <a:ext cx="910440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4284720" y="620640"/>
            <a:ext cx="4319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гния Барто начала писать стихи, учась в балетном училище. В стихотворениях главные герои – дети. Стихотворения поэтессы весёлые и в то же время поучительные. Агния Барто предлагала юному читателю взглянуть на себя со стороны и постараться исправить в себе плохие черты. Она много путешествовала, из своих поездок привозила стихи детей разных стран и переводила на русский язы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6"/>
          <p:cNvGraphicFramePr/>
          <p:nvPr/>
        </p:nvGraphicFramePr>
        <p:xfrm>
          <a:off x="179280" y="907920"/>
          <a:ext cx="4008600" cy="518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07920"/>
                    <a:ext cx="4008600" cy="51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3708360" y="206064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C:\Users\дом\Desktop\балерина.jpg"/>
          <p:cNvPicPr/>
          <p:nvPr/>
        </p:nvPicPr>
        <p:blipFill>
          <a:blip r:embed="rId1"/>
          <a:stretch/>
        </p:blipFill>
        <p:spPr>
          <a:xfrm>
            <a:off x="179280" y="115920"/>
            <a:ext cx="3672000" cy="3155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Users\Люда\Desktop\big.jpg"/>
          <p:cNvPicPr/>
          <p:nvPr/>
        </p:nvPicPr>
        <p:blipFill>
          <a:blip r:embed="rId2"/>
          <a:stretch/>
        </p:blipFill>
        <p:spPr>
          <a:xfrm>
            <a:off x="3798720" y="2357280"/>
            <a:ext cx="534528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395280" y="1700280"/>
            <a:ext cx="2879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5" descr="C:\Users\дом\Desktop\досуг  А.Барто\работа.jpg"/>
          <p:cNvPicPr/>
          <p:nvPr/>
        </p:nvPicPr>
        <p:blipFill>
          <a:blip r:embed="rId1"/>
          <a:stretch/>
        </p:blipFill>
        <p:spPr>
          <a:xfrm>
            <a:off x="1187280" y="95400"/>
            <a:ext cx="6718320" cy="67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5"/>
          <p:cNvSpPr txBox="1"/>
          <p:nvPr/>
        </p:nvSpPr>
        <p:spPr>
          <a:xfrm>
            <a:off x="2843280" y="3279600"/>
            <a:ext cx="3673440" cy="331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ГРУШКИ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3"/>
          <a:stretch/>
        </p:blipFill>
        <p:spPr>
          <a:xfrm>
            <a:off x="250920" y="289080"/>
            <a:ext cx="2448000" cy="3019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4"/>
          <a:stretch/>
        </p:blipFill>
        <p:spPr>
          <a:xfrm>
            <a:off x="6554880" y="3357720"/>
            <a:ext cx="2342880" cy="324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"/>
          <p:cNvPicPr/>
          <p:nvPr/>
        </p:nvPicPr>
        <p:blipFill>
          <a:blip r:embed="rId5"/>
          <a:stretch/>
        </p:blipFill>
        <p:spPr>
          <a:xfrm>
            <a:off x="6491160" y="289080"/>
            <a:ext cx="2381400" cy="2923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"/>
          <p:cNvPicPr/>
          <p:nvPr/>
        </p:nvPicPr>
        <p:blipFill>
          <a:blip r:embed="rId6"/>
          <a:stretch/>
        </p:blipFill>
        <p:spPr>
          <a:xfrm>
            <a:off x="395280" y="3533760"/>
            <a:ext cx="2448000" cy="3224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7"/>
          <a:stretch/>
        </p:blipFill>
        <p:spPr>
          <a:xfrm>
            <a:off x="3067200" y="255600"/>
            <a:ext cx="301752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Oval 4"/>
          <p:cNvSpPr/>
          <p:nvPr/>
        </p:nvSpPr>
        <p:spPr>
          <a:xfrm>
            <a:off x="619200" y="549360"/>
            <a:ext cx="7697880" cy="1295280"/>
          </a:xfrm>
          <a:prstGeom prst="ellipse">
            <a:avLst/>
          </a:prstGeom>
          <a:solidFill>
            <a:srgbClr val="ffffcc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рден улыб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C:\Users\дом\Desktop\орп.jpg"/>
          <p:cNvPicPr/>
          <p:nvPr/>
        </p:nvPicPr>
        <p:blipFill>
          <a:blip r:embed="rId1"/>
          <a:stretch/>
        </p:blipFill>
        <p:spPr>
          <a:xfrm>
            <a:off x="1979640" y="2236680"/>
            <a:ext cx="4386240" cy="4386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C:\Users\дом\Desktop\досуг  А.Барто\орден улыбки.jpg"/>
          <p:cNvPicPr/>
          <p:nvPr/>
        </p:nvPicPr>
        <p:blipFill>
          <a:blip r:embed="rId2"/>
          <a:stretch/>
        </p:blipFill>
        <p:spPr>
          <a:xfrm>
            <a:off x="6875640" y="366840"/>
            <a:ext cx="1814400" cy="18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C:\Users\дом\Desktop\стихи.jpg"/>
          <p:cNvPicPr/>
          <p:nvPr/>
        </p:nvPicPr>
        <p:blipFill>
          <a:blip r:embed="rId1"/>
          <a:stretch/>
        </p:blipFill>
        <p:spPr>
          <a:xfrm>
            <a:off x="250920" y="189000"/>
            <a:ext cx="1896840" cy="3867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C:\Users\дом\Desktop\раск.jpg"/>
          <p:cNvPicPr/>
          <p:nvPr/>
        </p:nvPicPr>
        <p:blipFill>
          <a:blip r:embed="rId2"/>
          <a:stretch/>
        </p:blipFill>
        <p:spPr>
          <a:xfrm>
            <a:off x="3176640" y="282600"/>
            <a:ext cx="2259000" cy="3470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C:\Users\дом\Desktop\книж.jpg"/>
          <p:cNvPicPr/>
          <p:nvPr/>
        </p:nvPicPr>
        <p:blipFill>
          <a:blip r:embed="rId3"/>
          <a:stretch/>
        </p:blipFill>
        <p:spPr>
          <a:xfrm>
            <a:off x="5940360" y="189000"/>
            <a:ext cx="2759040" cy="3657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C:\Users\дом\Desktop\веревочка.jpg"/>
          <p:cNvPicPr/>
          <p:nvPr/>
        </p:nvPicPr>
        <p:blipFill>
          <a:blip r:embed="rId4"/>
          <a:stretch/>
        </p:blipFill>
        <p:spPr>
          <a:xfrm>
            <a:off x="765000" y="3753000"/>
            <a:ext cx="2086200" cy="3073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C:\Users\дом\Desktop\картинка бар.jpg"/>
          <p:cNvPicPr/>
          <p:nvPr/>
        </p:nvPicPr>
        <p:blipFill>
          <a:blip r:embed="rId5"/>
          <a:stretch/>
        </p:blipFill>
        <p:spPr>
          <a:xfrm>
            <a:off x="5749920" y="3486240"/>
            <a:ext cx="3240000" cy="3166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"/>
          <p:cNvPicPr/>
          <p:nvPr/>
        </p:nvPicPr>
        <p:blipFill>
          <a:blip r:embed="rId6"/>
          <a:stretch/>
        </p:blipFill>
        <p:spPr>
          <a:xfrm>
            <a:off x="2666880" y="2281320"/>
            <a:ext cx="1836720" cy="2338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7"/>
          <a:stretch/>
        </p:blipFill>
        <p:spPr>
          <a:xfrm>
            <a:off x="3629160" y="3940200"/>
            <a:ext cx="180648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C:\Users\дом\Desktop\планета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3960720" cy="638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строномы назвали именем поэтессы маленькую звезду, расположенную между орбитами Марса и Юпитера – на звёздных картах можно найти астероид, названный в честь Агнии Львовны Бар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звезда крутится"/>
          <p:cNvPicPr/>
          <p:nvPr/>
        </p:nvPicPr>
        <p:blipFill>
          <a:blip r:embed="rId2"/>
          <a:stretch/>
        </p:blipFill>
        <p:spPr>
          <a:xfrm>
            <a:off x="7189920" y="260280"/>
            <a:ext cx="490320" cy="490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08:30:18Z</dcterms:created>
  <dc:creator>щербакова</dc:creator>
  <dc:description/>
  <dc:language>en-US</dc:language>
  <cp:lastModifiedBy>Армине</cp:lastModifiedBy>
  <dcterms:modified xsi:type="dcterms:W3CDTF">2020-12-11T07:26:00Z</dcterms:modified>
  <cp:revision>62</cp:revision>
  <dc:subject/>
  <dc:title>Слайд 1</dc:title>
</cp:coreProperties>
</file>