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0360" cy="124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7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185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189" name="Text Box 2"/>
          <p:cNvSpPr/>
          <p:nvPr/>
        </p:nvSpPr>
        <p:spPr>
          <a:xfrm>
            <a:off x="685800" y="4343400"/>
            <a:ext cx="5481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191" name="Text Box 2"/>
          <p:cNvSpPr/>
          <p:nvPr/>
        </p:nvSpPr>
        <p:spPr>
          <a:xfrm>
            <a:off x="685800" y="4343400"/>
            <a:ext cx="5481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6BB7D-1996-49C6-90C5-6E978A64E0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16FE5-4595-462F-99DA-4193041D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2B58D-1693-47D8-B1CF-2578F141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FDDBC-22EB-4FED-8AA8-BF506490F6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C410B-2443-4C45-95C6-C16D56F370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63739-730E-4225-845C-D8D20D6B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5E621-51E5-4BCA-BAB4-C4EF2A23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8003E-9E0C-4393-9712-29AC9D6C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7FB07-D6A0-4C0D-9219-ECA9A2436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06557-301B-4930-98E5-00191684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B5495-5DA4-4835-A3D5-B8F1FEF6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A4CFC-CA94-43C9-9A76-CC6017E6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2E8DD-F378-458C-8251-6F7017BA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3D39C-24BE-4D5F-A18F-2355E951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79FAB-439B-4D75-8C62-E10642AC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5F257-220F-4F15-AED3-2EB228D5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6628E-C6A8-40EA-AC7C-8D57E36BE3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FC34-E6B7-4A24-9552-BDD7180843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5789-58B1-4E4A-9FB0-75D8F826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DB5F-5F02-40CD-B91E-AA83DA16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17EC-823B-4DED-96ED-08123A3A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617D-C748-4C42-90E3-EDF51CF0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90AB5-29E3-4882-90B4-108772DC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73F2-6280-41CD-84B5-416FD19A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69C2-9653-4DCD-9F67-67B34BD1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6169-4D4F-4C9F-BDCE-8E207776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914B-388B-42AD-8CFE-20199F50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2F57-592F-4DB3-AC4B-19D2D356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949B-D567-4780-9234-6790BEDF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D952-CE51-469C-92AC-87C9278807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42D0C-1D0D-4F6E-B720-A7ED5D3D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18377-526A-4782-A016-49614E38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7AA10-8BAE-4DC8-AB93-3441EE138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63F4E-0AA9-4740-9907-D5670FD3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AAF3A-211C-4980-B739-6B69D4E4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AD0AD-5075-4FB9-B35B-9E08AB0C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021F1-DB95-47E7-9DCE-F1EE27D3059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76188-7465-4711-BF58-454876D73ED6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98B76-2348-406E-82E7-5FF2E940BDBE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1027080" y="988920"/>
            <a:ext cx="62643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800" spc="-1" strike="noStrike">
                <a:solidFill>
                  <a:srgbClr val="ffcc00"/>
                </a:solidFill>
                <a:latin typeface="Times New Roman"/>
              </a:rPr>
              <a:t>БЕЗОПАСНОСТЬ</a:t>
            </a:r>
            <a:br>
              <a:rPr sz="6000"/>
            </a:br>
            <a:r>
              <a:rPr b="1" i="1" lang="ru-RU" sz="6000" spc="-1" strike="noStrike">
                <a:solidFill>
                  <a:srgbClr val="009933"/>
                </a:solidFill>
                <a:latin typeface="Times New Roman"/>
              </a:rPr>
              <a:t>НА ДОРОГЕ </a:t>
            </a:r>
            <a:br>
              <a:rPr sz="6600"/>
            </a:b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дготовил: воспитатель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анина Оксана Сергеевна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6303960" y="3311640"/>
            <a:ext cx="1976400" cy="3024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492120" y="503280"/>
            <a:ext cx="81486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униципальное автономное дошкольное образовательное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чреждение</a:t>
            </a:r>
            <a:br>
              <a:rPr sz="1900"/>
            </a:br>
            <a:r>
              <a:rPr b="1" lang="ru-RU" sz="19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«Детский сад № 8» города Энгельса Саратовской области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1"/>
          <p:cNvSpPr/>
          <p:nvPr/>
        </p:nvSpPr>
        <p:spPr>
          <a:xfrm>
            <a:off x="468360" y="1268280"/>
            <a:ext cx="856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жно чтобы родители были примером для детей в соблюдении правил дорожного движения!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Прямоугольник 2"/>
          <p:cNvSpPr/>
          <p:nvPr/>
        </p:nvSpPr>
        <p:spPr>
          <a:xfrm>
            <a:off x="449280" y="2276640"/>
            <a:ext cx="8370720" cy="42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вятите отдельную прогулку правилам перехода через дорогу. Проверьте, правильно ли ваш ребенок их понимает, умеет ли использовать эти знания в реальных дорожных ситуациях. Для этого потренируйтесь вместе переходить по пешеходному переходу через проезжую часть с односторонним и двусторонним движением, через регулируемый и нерегулируемый перекрестки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отпуска неважно, останется ли ваш ребенок в городе или уедет, необходимо использовать любую возможность напомнить ему о правилах дорожного движения. Не оставляйте детей без присмотра на улице, не разрешайте им играть вблизи проезжей части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учайте детей с раннего возраста соблюдать правила дорожного движения. И не забывайте, что личный пример - самая доходчивая форма обучения.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1"/>
          <p:cNvSpPr/>
          <p:nvPr/>
        </p:nvSpPr>
        <p:spPr>
          <a:xfrm>
            <a:off x="2713680" y="32446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литературы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Прямоугольник 2"/>
          <p:cNvSpPr/>
          <p:nvPr/>
        </p:nvSpPr>
        <p:spPr>
          <a:xfrm>
            <a:off x="2720880" y="3244680"/>
            <a:ext cx="51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исок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1258920" y="1413000"/>
            <a:ext cx="74883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63000"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Список использованной литературы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Н.Н. Авдеева, О.Л. Князева, Р.Б. Стеркина.Основы безопасности детей дошкольного возраста.».: Просвещение, 2007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.Л.Б. Поддубная « Правила дорожного движения подготовительная группа», -  Волгоград, « Корифей», 2009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Извекова Н.А., Медведева А.Ф. Занятия по правилам дорожного движения.- М.: ООО «ТЦ Сфера», 2009 – 64 с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2.Саулина Т.Ф. Три сигнала светофора.- М.: «Просвещение», 1989 – 64 с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" descr=""/>
          <p:cNvPicPr/>
          <p:nvPr/>
        </p:nvPicPr>
        <p:blipFill>
          <a:blip r:embed="rId2"/>
          <a:stretch/>
        </p:blipFill>
        <p:spPr>
          <a:xfrm>
            <a:off x="934920" y="2808360"/>
            <a:ext cx="2592360" cy="3429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"/>
          <p:cNvSpPr/>
          <p:nvPr/>
        </p:nvSpPr>
        <p:spPr>
          <a:xfrm>
            <a:off x="792000" y="576360"/>
            <a:ext cx="74883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ДОРОГИЕ РЕБЯТА! ПОМНИТЕ!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ВЫ ДОЛЖНЫ ЗНАТЬ И СОБЛЮДАТ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ПРАВИЛА ПОВЕДЕНИЯ НА ДОРОГЕ!!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4319640" y="3144960"/>
            <a:ext cx="374328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3743280" y="2998800"/>
            <a:ext cx="40640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3527280" y="2664000"/>
            <a:ext cx="48247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ОСТОРОЖНО НА ДОРОГЕ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БЕРЕГИТЕ РУКИ, НОГ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ПОМНИ ПРАВИЛА ВЕЗДЕ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А ИНАЧЕ БЫТЬ БЕДЕ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ДО СВИДАНИЯ, РЕБЯТА!!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647640" y="1655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144360" y="3456000"/>
            <a:ext cx="2519640" cy="34020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4"/>
          <p:cNvSpPr/>
          <p:nvPr/>
        </p:nvSpPr>
        <p:spPr>
          <a:xfrm>
            <a:off x="1944720" y="287280"/>
            <a:ext cx="6983280" cy="3527640"/>
          </a:xfrm>
          <a:prstGeom prst="cloudCallout">
            <a:avLst>
              <a:gd name="adj1" fmla="val -37092"/>
              <a:gd name="adj2" fmla="val 8036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орогие ребята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иглашаю вас совершить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влекательное путешествие в страну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авил дорожного движени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 дорожных знаков!!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перед!!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4"/>
          <a:stretch/>
        </p:blipFill>
        <p:spPr>
          <a:xfrm>
            <a:off x="5688000" y="3527280"/>
            <a:ext cx="3240000" cy="33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2"/>
          <a:stretch/>
        </p:blipFill>
        <p:spPr>
          <a:xfrm>
            <a:off x="863640" y="2860560"/>
            <a:ext cx="4103640" cy="32990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2"/>
          <p:cNvSpPr/>
          <p:nvPr/>
        </p:nvSpPr>
        <p:spPr>
          <a:xfrm>
            <a:off x="792000" y="415800"/>
            <a:ext cx="76327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826"/>
                </a:solidFill>
                <a:latin typeface="Times New Roman"/>
                <a:ea typeface="Segoe UI"/>
              </a:rPr>
              <a:t>Ну вот мы и перед дорогой! Сколько здесь машин!!! Как же правильно перейти дорогу, чтобы не нарушать правила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33"/>
                </a:solidFill>
                <a:latin typeface="Times New Roman"/>
                <a:ea typeface="Segoe UI"/>
              </a:rPr>
              <a:t>Всегда ищи знак «пешеходный переход»!!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Segoe UI"/>
              </a:rPr>
              <a:t>На помощь нам придет «зебра». Ее белые полосы на дороге ты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Segoe UI"/>
              </a:rPr>
              <a:t>часто видишь в местах перехода пешеходов. Это наземный пешеходный переход. Рядом с ним ты всегда увидишь либо светофор, либо знак «пешеходный переход»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3"/>
          <a:stretch/>
        </p:blipFill>
        <p:spPr>
          <a:xfrm>
            <a:off x="4967280" y="3024360"/>
            <a:ext cx="3240000" cy="29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289080" y="488880"/>
            <a:ext cx="835164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9933"/>
                </a:solidFill>
                <a:latin typeface="Times New Roman"/>
                <a:ea typeface="Segoe UI"/>
              </a:rPr>
              <a:t>А если  рядом с пешеходным переходом вы увидели светофор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Segoe UI"/>
              </a:rPr>
              <a:t>всегда помните  правила!!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863640" y="1295280"/>
            <a:ext cx="741672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1152360" y="1079640"/>
            <a:ext cx="5975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009933"/>
                </a:solidFill>
                <a:latin typeface="Times New Roman"/>
              </a:rPr>
              <a:t> </a:t>
            </a:r>
            <a:br>
              <a:rPr sz="6600"/>
            </a:br>
            <a:r>
              <a:rPr b="1" i="1" lang="ru-RU" sz="6600" spc="-1" strike="noStrike">
                <a:solidFill>
                  <a:srgbClr val="0000cc"/>
                </a:solidFill>
                <a:latin typeface="Calibri"/>
              </a:rPr>
              <a:t>             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863640" y="557280"/>
            <a:ext cx="741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Начиная переход, посмотрите налево,потом направо. Убедитесь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что машин нет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2376360" y="2131920"/>
            <a:ext cx="5688000" cy="39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792000" y="431640"/>
            <a:ext cx="75679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9933"/>
                </a:solidFill>
                <a:latin typeface="Times New Roman"/>
                <a:ea typeface="Segoe UI"/>
              </a:rPr>
              <a:t>Бывает так, что в месте, где нужно перейти дорогу, зебры нет. Что делать? Тогда следует искать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9933"/>
                </a:solidFill>
                <a:latin typeface="Times New Roman"/>
                <a:ea typeface="Segoe UI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Segoe UI"/>
              </a:rPr>
              <a:t>надземные или подземные пешеходные переходы.</a:t>
            </a:r>
            <a:r>
              <a:rPr b="1" lang="ru-RU" sz="2200" spc="-1" strike="noStrike">
                <a:solidFill>
                  <a:srgbClr val="009933"/>
                </a:solidFill>
                <a:latin typeface="Times New Roman"/>
                <a:ea typeface="Segoe U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934920" y="3240000"/>
            <a:ext cx="3600720" cy="3002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1440000" y="1474920"/>
            <a:ext cx="2087280" cy="1909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4"/>
          <a:stretch/>
        </p:blipFill>
        <p:spPr>
          <a:xfrm>
            <a:off x="4540320" y="1566720"/>
            <a:ext cx="3666960" cy="469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" descr=""/>
          <p:cNvPicPr/>
          <p:nvPr/>
        </p:nvPicPr>
        <p:blipFill>
          <a:blip r:embed="rId2"/>
          <a:stretch/>
        </p:blipFill>
        <p:spPr>
          <a:xfrm>
            <a:off x="3600360" y="3600360"/>
            <a:ext cx="5327640" cy="3168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3"/>
          <a:stretch/>
        </p:blipFill>
        <p:spPr>
          <a:xfrm>
            <a:off x="0" y="3814920"/>
            <a:ext cx="2160720" cy="304308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3"/>
          <p:cNvSpPr/>
          <p:nvPr/>
        </p:nvSpPr>
        <p:spPr>
          <a:xfrm>
            <a:off x="1368360" y="-71280"/>
            <a:ext cx="6983640" cy="3527280"/>
          </a:xfrm>
          <a:prstGeom prst="cloudCallout">
            <a:avLst>
              <a:gd name="adj1" fmla="val -37092"/>
              <a:gd name="adj2" fmla="val 80361"/>
            </a:avLst>
          </a:prstGeom>
          <a:solidFill>
            <a:srgbClr val="ffd320"/>
          </a:solidFill>
          <a:ln w="82800">
            <a:solidFill>
              <a:srgbClr val="579d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720" rIns="126720" tIns="81720" bIns="81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Ходить можно только по тротуарам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обочинам, пешеходным дорожкам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Если их нет, то можно идти по краю проезжей части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но только лицом к движущимся машинам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"/>
          <p:cNvPicPr/>
          <p:nvPr/>
        </p:nvPicPr>
        <p:blipFill>
          <a:blip r:embed="rId2"/>
          <a:stretch/>
        </p:blipFill>
        <p:spPr>
          <a:xfrm>
            <a:off x="2735280" y="371484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144360" y="4103640"/>
            <a:ext cx="1800360" cy="251928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3"/>
          <p:cNvSpPr/>
          <p:nvPr/>
        </p:nvSpPr>
        <p:spPr>
          <a:xfrm>
            <a:off x="863640" y="144360"/>
            <a:ext cx="6983280" cy="3527640"/>
          </a:xfrm>
          <a:prstGeom prst="cloudCallout">
            <a:avLst>
              <a:gd name="adj1" fmla="val -37092"/>
              <a:gd name="adj2" fmla="val 80361"/>
            </a:avLst>
          </a:prstGeom>
          <a:solidFill>
            <a:srgbClr val="ff420e"/>
          </a:solidFill>
          <a:ln w="82800">
            <a:solidFill>
              <a:srgbClr val="ffd3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720" rIns="126720" tIns="81720" bIns="8172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  </a:t>
            </a:r>
            <a:r>
              <a:rPr b="1" lang="ru-RU" sz="20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Находясь на остановке, переходи дорогу только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тогда, когда общественный транспорт отойдет от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0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остановки. Если транспорт не отходит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обязательно нужно отойти о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остановки на безопасное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расстояние так, чтобы видеть едущие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справа и слева машины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" descr=""/>
          <p:cNvPicPr/>
          <p:nvPr/>
        </p:nvPicPr>
        <p:blipFill>
          <a:blip r:embed="rId2"/>
          <a:stretch/>
        </p:blipFill>
        <p:spPr>
          <a:xfrm>
            <a:off x="0" y="4535640"/>
            <a:ext cx="1584360" cy="2309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3"/>
          <a:stretch/>
        </p:blipFill>
        <p:spPr>
          <a:xfrm>
            <a:off x="1655640" y="4354560"/>
            <a:ext cx="3940200" cy="2381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4"/>
          <a:stretch/>
        </p:blipFill>
        <p:spPr>
          <a:xfrm>
            <a:off x="5226120" y="2519280"/>
            <a:ext cx="3917880" cy="259560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4"/>
          <p:cNvSpPr/>
          <p:nvPr/>
        </p:nvSpPr>
        <p:spPr>
          <a:xfrm>
            <a:off x="431640" y="73080"/>
            <a:ext cx="6983640" cy="3527280"/>
          </a:xfrm>
          <a:prstGeom prst="cloudCallout">
            <a:avLst>
              <a:gd name="adj1" fmla="val -37092"/>
              <a:gd name="adj2" fmla="val 80361"/>
            </a:avLst>
          </a:prstGeom>
          <a:solidFill>
            <a:srgbClr val="009900"/>
          </a:solidFill>
          <a:ln w="828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720" rIns="126720" tIns="81720" bIns="8172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   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льзя играть на проезжей части, так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ак можно не заметить приближающую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ашину. Играть можно тольк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 специально отведенных местах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—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о дворах, парках, скверах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ыходя из подъезда, уже будь внимателен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 осторожен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5"/>
          <a:stretch/>
        </p:blipFill>
        <p:spPr>
          <a:xfrm>
            <a:off x="6551640" y="4967280"/>
            <a:ext cx="2160720" cy="189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1</cp:lastModifiedBy>
  <dcterms:modified xsi:type="dcterms:W3CDTF">2021-02-22T18:41:24Z</dcterms:modified>
  <cp:revision>7</cp:revision>
  <dc:subject/>
  <dc:title>Слайд 1</dc:title>
</cp:coreProperties>
</file>