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7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5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9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91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5716-258B-41A4-A7DB-0A2FE94E37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B51C-0D0D-4F86-BAEB-D7B2B444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6DB1-057D-4BAA-B778-9BC6ABFA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BA19-80CE-449E-8250-AA7F5435F8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ECB77-8A59-4206-8434-06FC8D01A7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9B24E-56E2-4095-9BB4-4F0223EF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E54F0-5BAC-4C0D-AA57-C992B23E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DF084-EFD4-41FD-992B-9C61BA0F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EE9DB-304F-4D7A-B60B-6C932DEA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5E827-617A-431E-A9EC-EED0714F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2686A-5662-4630-9333-0C2EC10F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B003-3516-4F5A-A030-52AC1D0A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A7EB1-0711-4DD1-B530-65B77A26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F2C31-FD5E-4218-86EF-47FB25FE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2C9E2-9DB6-41B0-BBF8-9947F87C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53A9B-D25D-4D52-BD08-C2AB54AD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28675-D69D-46A6-A0CD-54B0E39B21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81F7-8A73-4B4E-AEAC-A57B78B6B2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41D3-A58B-4C9C-BFBA-D28A86AF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C882-CAD9-4289-9E0D-DC15B64E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A647-0335-4EAF-AF92-AD3054E4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4E33-1B58-48CA-AC51-1AC1946C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5F80A-90FC-4162-B35D-9382A6FA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1E9C-C6E6-4474-834B-BED555AB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7444-1239-49D7-9AE7-73DC8DF4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C599-B2D2-4894-A076-3D6BC9AE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3DE9-7815-4081-98F0-568E31B5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066D-C6DF-4AD8-B745-BD865AD8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BB09-3B3F-441D-8530-16A55875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3EDC-DD6F-4F50-8299-6D676D5AF4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FF61-0987-4622-B1D8-12292769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5F8D-DEFC-4CA7-8EE4-761C0FDE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C3C13-B329-4DC1-94D8-0B05806A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9D6F4-BAB8-4F8C-8F89-4BE8FED9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932D-87AA-4895-B44A-205851F6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9DA5F-9F9C-49A6-A12C-BFE8FE7B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E8BC5-673E-4337-BA38-EB9311AFD64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D80F5-B026-4DBF-BD56-B33E0100333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8ADE3-1DA9-40BF-8974-C3C5F06D7B3E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027080" y="988920"/>
            <a:ext cx="6264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800" spc="-1" strike="noStrike">
                <a:solidFill>
                  <a:srgbClr val="ffcc00"/>
                </a:solidFill>
                <a:latin typeface="Times New Roman"/>
              </a:rPr>
              <a:t>БЕЗОПАСНОСТЬ</a:t>
            </a:r>
            <a:br>
              <a:rPr sz="6000"/>
            </a:b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НА ДОРОГЕ </a:t>
            </a:r>
            <a:br>
              <a:rPr sz="6600"/>
            </a:b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дготовил: воспитатель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анина Оксана Сергеевна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6303960" y="3311640"/>
            <a:ext cx="1976400" cy="3024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492120" y="503280"/>
            <a:ext cx="81486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реждение</a:t>
            </a:r>
            <a:br>
              <a:rPr sz="1900"/>
            </a:br>
            <a:r>
              <a:rPr b="1" lang="ru-RU" sz="1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«Детский сад № 8» города Энгельса Саратовской области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468360" y="1268280"/>
            <a:ext cx="85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 чтобы родители были примером для детей в соблюдении правил дорожного движения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449280" y="2276640"/>
            <a:ext cx="837072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ятите отдельную прогулку правилам перехода через дорогу. Проверьте, правильно ли ваш ребенок их понимает, умеет ли использовать эти знания в реальных дорожных ситуациях. Для этого потренируйтесь вместе переходить по пешеходному переходу через проезжую часть с односторонним и двусторонним движением, через регулируемый и нерегулируемый перекрестк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отпуска неважно, останется ли ваш ребенок в городе или уедет, необходимо использовать любую возможность напомнить ему о правилах дорожного движения. Не оставляйте детей без присмотра на улице, не разрешайте им играть вблизи проезжей част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учайте детей с раннего возраста соблюдать правила дорожного движения. И не забывайте, что личный пример - самая доходчивая форма обучения.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"/>
          <p:cNvSpPr/>
          <p:nvPr/>
        </p:nvSpPr>
        <p:spPr>
          <a:xfrm>
            <a:off x="2713680" y="32446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итератур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2720880" y="324468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исо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1258920" y="1413000"/>
            <a:ext cx="748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3000"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писок использованной литературы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Н.Н. Авдеева, О.Л. Князева, Р.Б. Стеркина.Основы безопасности детей дошкольного возраста.».: Просвещение, 2007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.Л.Б. Поддубная « Правила дорожного движения подготовительная группа», -  Волгоград, « Корифей», 2009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Извекова Н.А., Медведева А.Ф. Занятия по правилам дорожного движения.- М.: ООО «ТЦ Сфера», 2009 – 64 с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.Саулина Т.Ф. Три сигнала светофора.- М.: «Просвещение», 1989 – 64 с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934920" y="28083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"/>
          <p:cNvSpPr/>
          <p:nvPr/>
        </p:nvSpPr>
        <p:spPr>
          <a:xfrm>
            <a:off x="792000" y="576360"/>
            <a:ext cx="748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ОРОГИЕ РЕБЯТА! ПОМНИТЕ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ВЫ ДОЛЖНЫ ЗНАТЬ И СОБЛЮД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ПРАВИЛА ПОВЕДЕНИЯ НА ДОРОГЕ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319640" y="3144960"/>
            <a:ext cx="3743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743280" y="2998800"/>
            <a:ext cx="4064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527280" y="2664000"/>
            <a:ext cx="482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ОСТОРОЖНО НА ДОРОГ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БЕРЕГИТЕ РУКИ, НОГ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ПОМНИ ПРАВИЛА ВЕЗДЕ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А ИНАЧЕ БЫТЬ БЕД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ДО СВИДАНИЯ, РЕБЯТА!!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47640" y="1655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144360" y="3456000"/>
            <a:ext cx="2519640" cy="34020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1944720" y="28728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рогие ребята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глашаю вас совершить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влекательное путешествие в страну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авил дорожного движен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дорожных знаков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перед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4"/>
          <a:stretch/>
        </p:blipFill>
        <p:spPr>
          <a:xfrm>
            <a:off x="5688000" y="3527280"/>
            <a:ext cx="32400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863640" y="2860560"/>
            <a:ext cx="4103640" cy="3299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792000" y="415800"/>
            <a:ext cx="7632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826"/>
                </a:solidFill>
                <a:latin typeface="Times New Roman"/>
                <a:ea typeface="Segoe UI"/>
              </a:rPr>
              <a:t>Ну вот мы и перед дорогой! Сколько здесь машин!!! Как же правильно перейти дорогу, чтобы не нарушать правила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33"/>
                </a:solidFill>
                <a:latin typeface="Times New Roman"/>
                <a:ea typeface="Segoe UI"/>
              </a:rPr>
              <a:t>Всегда ищи знак «пешеходный переход»!!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На помощь нам придет «зебра». Ее белые полосы на дороге т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часто видишь в местах перехода пешеходов. Это наземный пешеходный переход. Рядом с ним ты всегда увидишь либо светофор, либо знак «пешеходный переход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4967280" y="3024360"/>
            <a:ext cx="3240000" cy="29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289080" y="488880"/>
            <a:ext cx="8351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33"/>
                </a:solidFill>
                <a:latin typeface="Times New Roman"/>
                <a:ea typeface="Segoe UI"/>
              </a:rPr>
              <a:t>А если  рядом с пешеходным переходом вы увидели светофор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Segoe UI"/>
              </a:rPr>
              <a:t>всегда помните  правила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863640" y="1295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152360" y="1079640"/>
            <a:ext cx="597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 </a:t>
            </a:r>
            <a:br>
              <a:rPr sz="6600"/>
            </a:br>
            <a:r>
              <a:rPr b="1" i="1" lang="ru-RU" sz="6600" spc="-1" strike="noStrike">
                <a:solidFill>
                  <a:srgbClr val="0000cc"/>
                </a:solidFill>
                <a:latin typeface="Calibri"/>
              </a:rPr>
              <a:t>            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863640" y="557280"/>
            <a:ext cx="74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ачиная переход, посмотрите налево,потом направо. Убедитес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что машин нет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2376360" y="2131920"/>
            <a:ext cx="56880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792000" y="431640"/>
            <a:ext cx="75679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Бывает так, что в месте, где нужно перейти дорогу, зебры нет. Что делать? Тогда следует искать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Segoe UI"/>
              </a:rPr>
              <a:t>надземные или подземные пешеходные переходы.</a:t>
            </a: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934920" y="3240000"/>
            <a:ext cx="3600720" cy="3002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1440000" y="1474920"/>
            <a:ext cx="2087280" cy="1909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4540320" y="1566720"/>
            <a:ext cx="3666960" cy="46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2"/>
          <a:stretch/>
        </p:blipFill>
        <p:spPr>
          <a:xfrm>
            <a:off x="3600360" y="3600360"/>
            <a:ext cx="5327640" cy="3168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0" y="3814920"/>
            <a:ext cx="2160720" cy="304308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3"/>
          <p:cNvSpPr/>
          <p:nvPr/>
        </p:nvSpPr>
        <p:spPr>
          <a:xfrm>
            <a:off x="1368360" y="-712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d320"/>
          </a:solidFill>
          <a:ln w="8280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Ходить можно только по тротуарам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обочинам, пешеходным дорожка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Если их нет, то можно идти по краю проезжей части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о только лицом к движущимся машина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2735280" y="3714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144360" y="4103640"/>
            <a:ext cx="180036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3"/>
          <p:cNvSpPr/>
          <p:nvPr/>
        </p:nvSpPr>
        <p:spPr>
          <a:xfrm>
            <a:off x="863640" y="14436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420e"/>
          </a:solidFill>
          <a:ln w="82800">
            <a:solidFill>
              <a:srgbClr val="ffd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аходясь на остановке, переходи дорогу только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тогда, когда общественный транспорт отойдет от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остановки. Если транспорт не отходит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обязательно нужно отойти о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остановки на безопасно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расстояние так, чтобы видеть едущи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справа и слева маши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2"/>
          <a:stretch/>
        </p:blipFill>
        <p:spPr>
          <a:xfrm>
            <a:off x="0" y="4535640"/>
            <a:ext cx="1584360" cy="2309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1655640" y="4354560"/>
            <a:ext cx="3940200" cy="2381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4"/>
          <a:stretch/>
        </p:blipFill>
        <p:spPr>
          <a:xfrm>
            <a:off x="5226120" y="2519280"/>
            <a:ext cx="3917880" cy="25956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"/>
          <p:cNvSpPr/>
          <p:nvPr/>
        </p:nvSpPr>
        <p:spPr>
          <a:xfrm>
            <a:off x="431640" y="730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009900"/>
          </a:solidFill>
          <a:ln w="82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льзя играть на проезжей части, та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к можно не заметить приближающую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шину. Играть можно тольк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специально отведенных местах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—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 дворах, парках, сквера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ходя из подъезда, уже будь внимателе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остороже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6551640" y="4967280"/>
            <a:ext cx="2160720" cy="18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1</cp:lastModifiedBy>
  <dcterms:modified xsi:type="dcterms:W3CDTF">2021-02-22T18:41:24Z</dcterms:modified>
  <cp:revision>7</cp:revision>
  <dc:subject/>
  <dc:title>Слайд 1</dc:title>
</cp:coreProperties>
</file>