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gif" ContentType="image/gif"/>
  <Override PartName="/ppt/media/image34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502-39A5-40D1-94B0-F95C7A1C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EC7-76AF-4846-BC38-E5F44271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221-03F6-4287-BF78-1C8379AC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578-6095-4E83-82D2-08A2B44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846F-A66B-4999-BBC2-909F9E2A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2156-9177-4A7E-8AF4-B0C451E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651F-3042-43E3-81BA-A71AA040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2595-7B44-42CB-9B62-4C7DB4D3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CDE9-2ABA-455B-838E-DD4357F1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547-57C9-48C5-9C04-CFCA2605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F66-EAAF-41F1-AD13-F59D343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A8F-C7FF-4A80-A11F-273CCB9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92AF-B286-40A0-9539-2AE0365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CC89-C7B5-46D8-A99E-7736C09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791-B5EC-4945-B48B-3C46D5B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7D03-52BE-491B-80EA-F562D79E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CF8-135F-4638-9247-2683CE03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F6E-AFD1-4B61-8B59-56C7592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43D-CB4B-4478-9E56-0687AA68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B2A-145A-44C1-9C25-D6D0947D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A1C-5C75-43B5-821C-8452D96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BD9-E745-4DFC-961A-A931EDD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D95C-84D0-436F-84A1-1C7CB17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162-D1D1-47D0-9C92-52AEE75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761F-F1EC-445D-ADA0-545B1B785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262-86EE-44A5-B033-ED7294121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ГАНС ХРИСТИАН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АНДЕРСЕН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(1805-1875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76360" y="4508640"/>
            <a:ext cx="560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Из действительности вырастают чудеснейшие сказ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Г.Х.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27223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«Я приношу пользу миру, а в этом ведь весь смысл, вся радость жизни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857320" cy="4219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677960" cy="4786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411280" y="1773360"/>
            <a:ext cx="3102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«Как горец вырубает ступеньки в гранитной скале, так я медленно и тяжело завоевывал свое место в литературе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55166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«Вы обладаете драгоценной способностью находить жемчуг в любой сточной канаве» (поэт Ингема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300720" y="1916280"/>
            <a:ext cx="2516400" cy="3354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51339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ЕЛИКИЙ СКАЗОЧ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530440" cy="3375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666960" cy="4889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524720" y="5300640"/>
            <a:ext cx="1355760" cy="1451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079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0" y="5235480"/>
            <a:ext cx="1284120" cy="1622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284720" y="1197000"/>
            <a:ext cx="1238040" cy="1162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7308720" y="620640"/>
            <a:ext cx="1676520" cy="1781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3564000" y="4441680"/>
            <a:ext cx="2303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РОЖДЕНИЕ. ГОРОД ОДЕНС (ДАНИЯ)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3860280"/>
            <a:ext cx="576108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мья бедного сапож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казы старух из богадель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фиши и первые сказ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5715000" cy="2219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156360" y="3141720"/>
            <a:ext cx="28116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СТРОВ ФЮН – ОДЕНС (игрушечный город из почернелого дуба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11280" y="1989000"/>
            <a:ext cx="44751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ум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умящие со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300480" cy="4397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716360" y="3860640"/>
            <a:ext cx="3632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КАЗКА РЯ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708000" y="1125360"/>
            <a:ext cx="4978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ая мельница – подземный ход в Кит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чики по дере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юльпаны на подокон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775560" y="4005360"/>
            <a:ext cx="2119320" cy="2657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246480" cy="4334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041720" y="4149720"/>
            <a:ext cx="20638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3280" y="620640"/>
            <a:ext cx="36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КОТ КАРЛ – благодарный слушател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32000" y="2492280"/>
            <a:ext cx="37544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4392720" cy="4197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174780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1688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4 лет – КОПЕНГАГЕН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столица Дании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стать акт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ес к сценари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2598840" cy="168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687560" cy="3122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2908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7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ЗРОС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лет – увлечение поэз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анствия – 29 путешествий ( Европа, Азия, Афр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тречи с Дюма, Бальзаком, Диккенсом, Вагнером, Гейне, Лис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40160" cy="3721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381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491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ИТАЛИЯ. 1835 год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ман «Импровизатор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й сборник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714560" cy="3533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 rot="21043800">
            <a:off x="468360" y="3429000"/>
            <a:ext cx="2184480" cy="2913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948360" y="26028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СОЗДАНИЕ СКАЗ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rot="639000">
            <a:off x="7122960" y="1224000"/>
            <a:ext cx="1676520" cy="2265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2436840" cy="3144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227640" y="3716280"/>
            <a:ext cx="2094120" cy="2871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1970280" cy="2957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 rot="21082800">
            <a:off x="1692360" y="1341000"/>
            <a:ext cx="1717560" cy="2336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2771640" y="3573360"/>
            <a:ext cx="20955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2:19:36Z</dcterms:created>
  <dc:creator>O.B.</dc:creator>
  <dc:description/>
  <dc:language>en-US</dc:language>
  <cp:lastModifiedBy>Admin</cp:lastModifiedBy>
  <dcterms:modified xsi:type="dcterms:W3CDTF">2020-02-01T12:47:19Z</dcterms:modified>
  <cp:revision>4</cp:revision>
  <dc:subject/>
  <dc:title>ГАНС ХРИСТИАН АНДЕРСЕН (1805-1875)</dc:title>
</cp:coreProperties>
</file>