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34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35.gif" ContentType="image/gif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9CC-5F58-472D-80D6-75FE05AD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1F5-3E38-4941-90E5-5BA94D3B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6A9-0267-45D1-B10D-29A9DCD3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D65-8023-4862-9F37-4B61CB10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7DC6-598F-444E-A0B2-1086D77E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2C6D-12CC-454D-95D4-29DB6031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A209-31D4-4C99-9FBF-09084873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2D00-A052-41DC-9C6A-41BE795A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E200-8D8D-4D84-B0D3-35BCB632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2347-3BB9-487D-A29C-5B249838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F56E-8BB7-4796-BE11-10F83BCD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C90-881E-4956-820B-9FA6E43E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059E-F58C-4B85-B56B-0155FFEF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91D1-954A-40AC-955E-D6D5131F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7C69-E300-48DF-9C81-175B21E0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D163-51D1-4949-B59F-7BA40F1B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C39A-E634-4D72-8B33-2DCA084B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815-2B66-4BE6-8054-5360F39B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B8B-4DF7-4E14-99BB-2A3291F7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B4D-BDEB-4DA5-B42F-730A61A1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A03-9DB2-4B43-85AD-097BB7DF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39F-EF12-41F6-AF49-B7FBE362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F92-1B11-4FBB-8CE3-65A6CD4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12F-494C-4099-AF5F-E7998DD2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331F-1254-4AAC-B254-504BBF9BD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49ED-8088-4443-A769-5A8B9FCED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ГАНС ХРИСТИАН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АНДЕРСЕН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(1805-1875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76360" y="4508640"/>
            <a:ext cx="5608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Из действительности вырастают чудеснейшие сказ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Г.Х.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27223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«Я приношу пользу миру, а в этом ведь весь смысл, вся радость жизни»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857320" cy="4219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677960" cy="4786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411280" y="1773360"/>
            <a:ext cx="3102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«Как горец вырубает ступеньки в гранитной скале, так я медленно и тяжело завоевывал свое место в литературе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55166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«Вы обладаете драгоценной способностью находить жемчуг в любой сточной канаве» (поэт Ингема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2516400" cy="3354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13396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ЕЛИКИЙ СКАЗОЧ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2530440" cy="3375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666960" cy="4889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524720" y="5300640"/>
            <a:ext cx="1355760" cy="1451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1079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0" y="5235480"/>
            <a:ext cx="1284120" cy="1622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284720" y="1197000"/>
            <a:ext cx="1238040" cy="1162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7308720" y="620640"/>
            <a:ext cx="1676520" cy="1781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3564000" y="4441680"/>
            <a:ext cx="23032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РОЖДЕНИЕ. ГОРОД ОДЕНС (ДАНИЯ)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3860280"/>
            <a:ext cx="576108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мья бедного сапож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ы старух из богадель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иши и первые сказ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715000" cy="2219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156360" y="3141720"/>
            <a:ext cx="28116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СТРОВ ФЮН – ОДЕНС (игрушечный город из почернелого дуба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11280" y="1989000"/>
            <a:ext cx="44751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м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умящие сос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300480" cy="4397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716360" y="3860640"/>
            <a:ext cx="3632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СКАЗКА РЯ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708000" y="1125360"/>
            <a:ext cx="4978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ая мельница – подземный ход в Кита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чики по дере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юльпаны на подокон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775560" y="4005360"/>
            <a:ext cx="2119320" cy="2657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246480" cy="4334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041720" y="4149720"/>
            <a:ext cx="2063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3280" y="620640"/>
            <a:ext cx="3683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КОТ КАРЛ – благодарный слушател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32000" y="2492280"/>
            <a:ext cx="37544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4392720" cy="4197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1747800" cy="2016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41688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4 лет – КОПЕНГАГЕН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(столица Дании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ание стать акт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рес к сценарис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2598840" cy="168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4687560" cy="3122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796000" y="3716280"/>
            <a:ext cx="29084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77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ЗРОС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лет – увлечение поэз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нствия – 29 путешествий ( Европа, Азия, Афр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тречи с Дюма, Бальзаком, Диккенсом, Вагнером, Гейне, Ли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40160" cy="3721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491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ТАЛИЯ. 1835 год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ман «Импровизатор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ый сборник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140360" y="3068640"/>
            <a:ext cx="4714560" cy="3533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 rot="21043800">
            <a:off x="468360" y="3429000"/>
            <a:ext cx="2184480" cy="2913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948360" y="260280"/>
            <a:ext cx="19051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СОЗДАНИЕ СКАЗ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 rot="639000">
            <a:off x="7122960" y="1224000"/>
            <a:ext cx="1676520" cy="2265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2436840" cy="3144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094120" cy="2871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970280" cy="2957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 rot="21082800">
            <a:off x="1692360" y="1341000"/>
            <a:ext cx="1717560" cy="23367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2771640" y="3573360"/>
            <a:ext cx="20955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2:19:36Z</dcterms:created>
  <dc:creator>O.B.</dc:creator>
  <dc:description/>
  <dc:language>en-US</dc:language>
  <cp:lastModifiedBy>Admin</cp:lastModifiedBy>
  <dcterms:modified xsi:type="dcterms:W3CDTF">2020-02-01T12:47:19Z</dcterms:modified>
  <cp:revision>4</cp:revision>
  <dc:subject/>
  <dc:title>ГАНС ХРИСТИАН АНДЕРСЕН (1805-1875)</dc:title>
</cp:coreProperties>
</file>