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E17A-D13C-4A9F-8353-197A5BD27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5731-DE19-46E4-A465-0BF781551BF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8DD-54D3-4DBF-8119-B1BCE480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1BC-577F-49D2-80E0-049EC5AB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C2E-38F7-4497-BE71-8C0B235B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7EE-1C65-49F0-96B3-F26577C2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498-38CF-4F9C-ADF4-674993C7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100-E7E6-42C4-B140-4C69973C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89C-0682-4BCE-B3E6-188C1EE4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7CC-7A50-4C81-B78C-E4B60FA5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BF9-0610-44CD-BE54-EE87B22B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DF3-C1B7-4DFF-9316-8F88EE08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2F4-9931-4B16-8470-CAE1934D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47A-8447-4DAA-B559-C81376E6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DEDF-E4CD-4643-94F4-77BFDA4E18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0" y="-27000"/>
            <a:ext cx="9144000" cy="129528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од Окружной форум «Непрерывность образования как ресурс развития территор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по обучению детей с ограниченными возможностями здоровья  по  предмету «Математика»  в соответствии с требованиями ФГОС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В. Риско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БОУ «СШ №2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ижневартов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451640" y="-204840"/>
            <a:ext cx="1785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1091880"/>
            <a:ext cx="81756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тельные особенности обучения детей с ЗП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восприят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внима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памя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мышл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эмоционально-волевой сфе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1676160"/>
            <a:ext cx="8175600" cy="36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: из заключений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Умеренно выраженные нарушения психических функций. Снижение вербальной и невербальной стороны мыслительной деятельности. Нарушение поведения.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едостаточность развития психических функций. Установление причинно-следственных связей затрудне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5880" y="1399680"/>
            <a:ext cx="8175600" cy="42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: Специфика обучения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подх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 подход к каждому ребен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дотвращение утомляем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изация познавательной деятельнос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явление педагогического так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ррекция всех видов деятельности </a:t>
            </a: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5880" y="1245960"/>
            <a:ext cx="8175600" cy="45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: Специфика обучения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едагогические особенност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а обуч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жим обуч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сти коррекционной работы (из заключения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психолого-педагогического сопровождения.</a:t>
            </a: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8175600" cy="39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рабочая программа по математик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окумент, являющийся компонентом адаптированной основной образовательной программы школы, который определяет цель, порядок, содержание, результаты и условия изучения и преподавания  предмета 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бочей програм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8175600" cy="575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.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задач, ориентированных на достижение школьником с ЗПР планируемых результатов обучения (личностных, метапредметных, предметных)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видов деятельности для конкретного обучающегос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3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учебной информации 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бочей програм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 rot="5400000">
            <a:off x="4418640" y="-3653640"/>
            <a:ext cx="3067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175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бочей программы: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яснительная запис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щая характеристика учебного предм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исание места учебного предмета в учебном пла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ичностные, метапредметные и предметные результаты освоения учебного предм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держание учебного предмета, курс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ематическое планирование с определением основных видов учебной деятельности, направленных на развитие конкретного учени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писание учебно-методического и материально – технического обеспечения образовательного процесс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ланируемые результаты изучения учебного предмета.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бочей програм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 rot="5400000">
            <a:off x="4418640" y="-3653640"/>
            <a:ext cx="3067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33120"/>
            <a:ext cx="8175600" cy="71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учителю: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ключайте действия посторонних раздражител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мните о замедлении процесса переработки информа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общаемые сведения повторяйте многократ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Всегда используйте наглядные средства обуч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ередуйте периоды  деятельности и отдыха</a:t>
            </a:r>
            <a:br>
              <a:rPr sz="24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по математике (2018 г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личительные 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чей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оздание специальных условий для развития школьников с ЗПР (Пояснительная записк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ррекция основных психических функций: восприятие, память, мышление (Тематическое планирование с определением основных видов деятельност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ррекция предметных знаний (Описание УМК. Планируемые результаты изучения учебного предмет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ложение. Лист коррек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204840"/>
            <a:ext cx="9144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1800" spc="-1" strike="noStrike">
                <a:solidFill>
                  <a:srgbClr val="004800"/>
                </a:solidFill>
                <a:latin typeface="Arial"/>
                <a:ea typeface="Arial"/>
              </a:rPr>
              <a:t>Из опыта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1452600" y="24444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rol 9" hidden="1"/>
          <p:cNvSpPr/>
          <p:nvPr/>
        </p:nvSpPr>
        <p:spPr>
          <a:xfrm>
            <a:off x="2206800" y="538200"/>
            <a:ext cx="6094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 flipV="1" rot="10800000">
            <a:off x="539640" y="4427640"/>
            <a:ext cx="83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9" descr=""/>
          <p:cNvPicPr/>
          <p:nvPr/>
        </p:nvPicPr>
        <p:blipFill>
          <a:blip r:embed="rId1"/>
          <a:stretch/>
        </p:blipFill>
        <p:spPr>
          <a:xfrm>
            <a:off x="1139760" y="360360"/>
            <a:ext cx="7004160" cy="341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HP PC\Desktop\К совещанию по ГИА\картинки егэ\Как-помочь-ребенку.jpg"/>
          <p:cNvPicPr/>
          <p:nvPr/>
        </p:nvPicPr>
        <p:blipFill>
          <a:blip r:embed="rId2"/>
          <a:stretch/>
        </p:blipFill>
        <p:spPr>
          <a:xfrm>
            <a:off x="7164360" y="4875120"/>
            <a:ext cx="176544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7176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2100"/>
                </a:solidFill>
                <a:latin typeface="Cambria"/>
              </a:rPr>
              <a:t>Основные докумен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З от 29 декабря 2012 г. № 273-ФЗ "Об образовании в Российской Федерации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татья 79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новление Главного государственного врача Российской Федерации от 29 декабря 2010 г.N 189г. Москва  «Санитарно-эпидемиологические требования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556000" y="6281640"/>
            <a:ext cx="6400800" cy="1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898989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147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71680" y="1285920"/>
            <a:ext cx="82152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 2016 года реали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НОО обучающихся с ограниченными возможностями здоровья (ФГОС ОВЗ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образования обучающихся с умственной отсталостью (интеллектуальными нарушен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30.08. 2013 г. № 1015 г.  "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рядка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и среднего общего образования" (в ред. от 17 июля 2015 г.).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857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214200" y="421488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214720" y="6165360"/>
            <a:ext cx="64008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571680" y="1285920"/>
            <a:ext cx="8215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 программы и метод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учебники, учебные пособия и дидактически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технические средства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коррекционные занятия (групповые и индивиду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ступная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други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8"/>
          <p:cNvSpPr/>
          <p:nvPr/>
        </p:nvSpPr>
        <p:spPr>
          <a:xfrm>
            <a:off x="214200" y="421488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817560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введения ФГОС НОО ОВЗ и ФГОС О у/о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-2017 уч.г. - 1 класс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уч.г. - 1 и 2 класс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2019 уч.г. - 1,2 и 3 класс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-2020уч.г. - 1,2,3 и 4 классы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http://rewsosh.ucoz.ru/_si/0/16225856.jpg"/>
          <p:cNvPicPr/>
          <p:nvPr/>
        </p:nvPicPr>
        <p:blipFill>
          <a:blip r:embed="rId1"/>
          <a:stretch/>
        </p:blipFill>
        <p:spPr>
          <a:xfrm>
            <a:off x="1562040" y="5191200"/>
            <a:ext cx="7581960" cy="1666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8175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школы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римерные АООП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работать на их основе АОП О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еспечить кадровый состав  соответствующим повышением квалификац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сетевое взаимодействие при невозможности полной реализации программы коррекционных курсов в О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материально-технические условия </a:t>
            </a:r>
            <a:br>
              <a:rPr sz="3200"/>
            </a:br>
            <a:br>
              <a:rPr sz="32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857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rewsosh.ucoz.ru/_si/0/16225856.jpg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5880" y="641520"/>
            <a:ext cx="8175600" cy="61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: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сутствие должного опы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и адаптированной основной образовательной программы ОО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опыта работы по разработке  рабочих программ учебных  предметов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личная трактовка требований к разработке програм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ности организации сетевого взаимодейств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хватка квалифицированных специалист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1369800"/>
            <a:ext cx="8175600" cy="42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 рамках инклюзивного образов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явительный характер обучения детей по адаптированным программам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880" y="1091880"/>
            <a:ext cx="8175600" cy="48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 рамках инклюзивного образов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специальные услов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а обуч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жим обуч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сихолого-педагогическое сопровожд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36:11Z</dcterms:created>
  <dc:creator>VetrovaAV</dc:creator>
  <dc:description/>
  <dc:language>en-US</dc:language>
  <cp:lastModifiedBy>Admin</cp:lastModifiedBy>
  <dcterms:modified xsi:type="dcterms:W3CDTF">2021-04-11T07:02:46Z</dcterms:modified>
  <cp:revision>270</cp:revision>
  <dc:subject/>
  <dc:title>Слайд 1</dc:title>
</cp:coreProperties>
</file>