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4ABF-9B53-4344-9D74-DBF78B08B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B6D2-7C2C-4E79-A501-6C224785DFD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69A-4C42-4DC4-B6C5-6E2BAD18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E30-D77A-4FF2-8E29-2866900E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DFC-3EFB-4984-AD3B-AB8CB2F2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BD4-76E1-4381-8AD6-A5CB9789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67D-0206-46BF-A91C-44A58198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718-B69A-4683-AA2E-BC48A39E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9F3-25D3-41C1-AD1C-62134ACF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72F-DE4E-4C72-8DAF-718D772C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402-E815-49CC-AC73-5243EBB2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CD2-7C5B-43EC-BAB3-6DB6831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1B4-1CCA-4913-8285-97CF5630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AA5-6157-456D-9751-A3C70567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C74F-804B-402C-B5D4-A4DD22C58A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0" y="-27000"/>
            <a:ext cx="9144000" cy="129528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 Окружной форум «Непрерывность образования как ресурс развития территор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по обучению детей с ограниченными возможностями здоровья  по  предмету «Математика»  в соответствии с требованиями ФГОС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В. Риско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БОУ «СШ №2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ижневартов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451640" y="-204840"/>
            <a:ext cx="1785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1091880"/>
            <a:ext cx="81756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тельные особенности обучения детей с ЗП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осприят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внима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памя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мышл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эмоционально-волевой сфе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676160"/>
            <a:ext cx="8175600" cy="36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из заключений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Умеренно выраженные нарушения психических функций. Снижение вербальной и невербальной стороны мыслительной деятельности. Нарушение поведения.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едостаточность развития психических функций. Установление причинно-следственных связей затрудне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5880" y="1399680"/>
            <a:ext cx="8175600" cy="421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Специфика обучения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подх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 подход к каждому ребенк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дотвращение утомляем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тивизация познавательной деятельнос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явление педагогического так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ррекция всех видов деятельности 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880" y="1245960"/>
            <a:ext cx="8175600" cy="45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: Специфика обучения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едагогические особенност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а обуч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жим обуч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коррекционной работы (из заключения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обенности психолого-педагогического сопровождения.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8175600" cy="39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ированная рабочая программа по математи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окумент, являющийся компонентом адаптированной основной образовательной программы школы, который определяет цель, порядок, содержание, результаты и условия изучения и преподавания  предмета .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4240" y="928440"/>
            <a:ext cx="8175600" cy="57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1.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задач, ориентированных на достижение школьником с ЗПР планируемых результатов обучения (личностных, метапредметных, предметных)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видов деятельности для конкретного обучающегос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3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учебной информации 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 rot="5400000">
            <a:off x="4418640" y="-3653640"/>
            <a:ext cx="3067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175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бочей программы: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яснительная запис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щая характеристика учебного предм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исание места учебного предмета в учебном пла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ичностные, метапредметные и предметные результаты освоения учебного предме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держание учебного предмета, курс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ематическое планирование с определением основных видов учебной деятельности, направленных на развитие конкретного учени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писание учебно-методического и материально – технического обеспечения образовательного процесс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ланируемые результаты изучения учебного предмета.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бочей програм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 rot="5400000">
            <a:off x="4418640" y="-3653640"/>
            <a:ext cx="3067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33120"/>
            <a:ext cx="8175600" cy="71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учителю: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ключайте действия посторонних раздражител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мните о замедлении процесса переработки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общаемые сведения повторяйте многократ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Всегда используйте наглядные средства обуче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ередуйте периоды  деятельности и отдыха</a:t>
            </a:r>
            <a:br>
              <a:rPr sz="2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ая программа по математике (2018 го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личительные 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бочей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здание специальных условий для развития школьников с ЗПР (Пояснительная записк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ррекция основных психических функций: восприятие, память, мышление (Тематическое планирование с определением основных видов деятельност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ррекция предметных знаний (Описание УМК. Планируемые результаты изучения учебного предмет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иложение. Лист коррек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204840"/>
            <a:ext cx="9144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1800" spc="-1" strike="noStrike">
                <a:solidFill>
                  <a:srgbClr val="004800"/>
                </a:solidFill>
                <a:latin typeface="Arial"/>
                <a:ea typeface="Arial"/>
              </a:rPr>
              <a:t>Из опыта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1452600" y="24444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rol 9" hidden="1"/>
          <p:cNvSpPr/>
          <p:nvPr/>
        </p:nvSpPr>
        <p:spPr>
          <a:xfrm>
            <a:off x="2206800" y="538200"/>
            <a:ext cx="6094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 flipV="1" rot="10800000">
            <a:off x="539640" y="4427640"/>
            <a:ext cx="83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9" descr=""/>
          <p:cNvPicPr/>
          <p:nvPr/>
        </p:nvPicPr>
        <p:blipFill>
          <a:blip r:embed="rId1"/>
          <a:stretch/>
        </p:blipFill>
        <p:spPr>
          <a:xfrm>
            <a:off x="1139760" y="360360"/>
            <a:ext cx="7004160" cy="3413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HP PC\Desktop\К совещанию по ГИА\картинки егэ\Как-помочь-ребенку.jpg"/>
          <p:cNvPicPr/>
          <p:nvPr/>
        </p:nvPicPr>
        <p:blipFill>
          <a:blip r:embed="rId2"/>
          <a:stretch/>
        </p:blipFill>
        <p:spPr>
          <a:xfrm>
            <a:off x="7164360" y="4875120"/>
            <a:ext cx="176544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7176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2100"/>
                </a:solidFill>
                <a:latin typeface="Cambria"/>
              </a:rPr>
              <a:t>Основные докумен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З от 29 декабря 2012 г. № 273-ФЗ "Об образовании в Российской Федерации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татья 79)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новление Главного государственного врача Российской Федерации от 29 декабря 2010 г.N 189г. Москва  «Санитарно-эпидемиологические требования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556000" y="6281640"/>
            <a:ext cx="6400800" cy="1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898989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147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71680" y="1285920"/>
            <a:ext cx="821520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2016 года реали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НОО обучающихся с ограниченными возможностями здоровья (ФГОС ОВЗ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образования обучающихся с умственной отсталостью (интеллектуальными нарушен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30.08. 2013 г. № 1015 г.  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рядка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и среднего общего образования" (в ред. от 17 июля 2015 г.).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857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8"/>
          <p:cNvSpPr/>
          <p:nvPr/>
        </p:nvSpPr>
        <p:spPr>
          <a:xfrm>
            <a:off x="214200" y="42148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5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214720" y="6165360"/>
            <a:ext cx="64008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571680" y="1285920"/>
            <a:ext cx="82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ые программы и метод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учебники, учебные пособия и дидактически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технические средства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коррекционные занятия (групповые и индивиду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ступн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други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8"/>
          <p:cNvSpPr/>
          <p:nvPr/>
        </p:nvSpPr>
        <p:spPr>
          <a:xfrm>
            <a:off x="214200" y="4214880"/>
            <a:ext cx="84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817560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введения ФГОС НОО ОВЗ и ФГОС О у/о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-2017 уч.г. - 1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уч.г. - 1 и 2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2019 уч.г. - 1,2 и 3 класс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-2020уч.г. - 1,2,3 и 4 классы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http://rewsosh.ucoz.ru/_si/0/16225856.jpg"/>
          <p:cNvPicPr/>
          <p:nvPr/>
        </p:nvPicPr>
        <p:blipFill>
          <a:blip r:embed="rId1"/>
          <a:stretch/>
        </p:blipFill>
        <p:spPr>
          <a:xfrm>
            <a:off x="1562040" y="5191200"/>
            <a:ext cx="7581960" cy="1666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8175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школы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имерные АООП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работать на их основе АОП О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еспечить кадровый состав  соответствующим повышением квалификац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сетевое взаимодействие при невозможности полной реализации программы коррекционных курсов в О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материально-технические условия </a:t>
            </a:r>
            <a:br>
              <a:rPr sz="3200"/>
            </a:br>
            <a:br>
              <a:rPr sz="32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857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http://rewsosh.ucoz.ru/_si/0/16225856.jpg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5880" y="641520"/>
            <a:ext cx="8175600" cy="61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: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сутствие должного опыт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и адаптированной основной образовательной программы ОО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опыта работы по разработке  рабочих программ учебных  предметов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личная трактовка требований к разработке програм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ности организации сетевого взаимодейств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хватка квалифицированных специалист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1369800"/>
            <a:ext cx="8175600" cy="42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 рамках инклюзивного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явительный характер обучения детей по адаптированным программам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5"/>
          <p:cNvSpPr/>
          <p:nvPr/>
        </p:nvSpPr>
        <p:spPr>
          <a:xfrm>
            <a:off x="0" y="-27000"/>
            <a:ext cx="9144000" cy="1125720"/>
          </a:xfrm>
          <a:prstGeom prst="rect">
            <a:avLst/>
          </a:prstGeom>
          <a:gradFill rotWithShape="0">
            <a:gsLst>
              <a:gs pos="0">
                <a:srgbClr val="339933">
                  <a:alpha val="6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 rot="5400000">
            <a:off x="4500360" y="-3735360"/>
            <a:ext cx="142920" cy="9144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49c349"/>
              </a:gs>
              <a:gs pos="100000">
                <a:srgbClr val="006600"/>
              </a:gs>
            </a:gsLst>
            <a:lin ang="16200000"/>
          </a:gradFill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0" y="2030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48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1091880"/>
            <a:ext cx="817560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в рамках инклюзивного образов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специальные услов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а обуч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жим обуч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сихолого-педагогическое сопровожд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https://portal.iv-edu.ru/dep/mouoshuya/shuya_mbdou23/temp/%D0%9A%D0%B0%D1%80%D1%82%D0%B8%D0%BD%D0%BA%D0%B8/%D0%A4%D0%93%D0%9E%D0%A1.jpg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85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3:36:11Z</dcterms:created>
  <dc:creator>VetrovaAV</dc:creator>
  <dc:description/>
  <dc:language>en-US</dc:language>
  <cp:lastModifiedBy>Admin</cp:lastModifiedBy>
  <dcterms:modified xsi:type="dcterms:W3CDTF">2021-04-11T07:02:46Z</dcterms:modified>
  <cp:revision>270</cp:revision>
  <dc:subject/>
  <dc:title>Слайд 1</dc:title>
</cp:coreProperties>
</file>