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9.wmf" ContentType="image/x-wmf"/>
  <Override PartName="/ppt/media/image14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wmf" ContentType="image/x-wmf"/>
  <Override PartName="/ppt/media/image15.jpeg" ContentType="image/jpeg"/>
  <Override PartName="/ppt/media/image16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024A-8835-403C-99B6-2F26B017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2FA-CEC9-4860-960D-FE32F92D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733-C879-410B-A35A-7B03F63C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D3E-47B6-4B77-8C60-6967D4E7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FEDD-CEC4-45A7-BD4C-B270F189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422A-341E-4F5D-84CF-522CDF0C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517D-BE79-42B0-AA95-DFD634CC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A0E9-5E24-4C54-8AFD-4603E1DF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D212-4A5D-4591-82D0-EA848C7C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B239-CB1F-403D-AC1A-F88CE648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C065-83AB-4C58-A366-D20A8B07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D0E-D4FB-472B-91AD-603FFF09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FEBE-0437-4802-A7CB-788AEEB0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EE01-F4D9-4166-9900-FE422AB1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880A-F9A3-4576-BF5F-319958F6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AD95-9DFB-4DA2-8725-F1D45661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A757-F99D-45A1-8D59-CFD8F3DA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C5B85-B0E1-42BF-A0BD-DA8E40ED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6BB12-230F-429C-BA96-23886A2E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3849B-3F39-4E60-8612-91953BDB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6DE66-8FB6-4144-9D41-3054CC2E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F70A2-477C-4745-AAD1-1CC3D849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FD9-3227-46C1-BAD9-9A113DB1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C2881-CDDF-49D1-97B2-250AC6ED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B618C-0460-41CF-B2BA-EEC9CE0A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177B5-FB42-4012-9884-8F63AAF2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937F7-4CD3-4885-8B41-E4FBA7B6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60802-5E0B-4E22-8576-A27CC73B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C9E22-C4A8-46AC-8EC3-0D60C4DF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7A0D1-502F-4E72-88D1-3D6D8DF7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BF8A6-1F66-4F22-9EE4-8CA2C6D1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2120E-3289-4E78-8527-EC4B2877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55535-DF79-4371-8B4A-8BF12692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862-6068-4572-ACF0-647B32AD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A64DD-E812-4616-9D41-73F1AF04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FFC84-3438-4282-93D3-F65FC2A2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52960-7244-40E1-92A2-0F23071A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AE514-417E-4E28-863C-43D3D16C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03E54-D03B-40FC-9ED1-D4D5DA68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8E1F5-D913-4252-A9D5-C18F8A10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C2D19-7B07-41EA-BCEA-C5359162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EADF2-EECC-46CE-B2FA-B3BE4D10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03E25-8126-441B-9D87-B9EF0F9A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F6462-E961-492D-B8A9-B862D1E6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E91-FB57-467E-A034-E3E2F8FE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36662-D7C0-4953-B8C7-FC18AA68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64DC8-F916-464F-B4C7-8CF25505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D4AFB-D388-4030-8F21-C36B1EF2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DFE66-BC9D-4CAC-8E38-2C1B5D98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28188-EB93-464E-96A3-1C522D7B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77530-2509-4977-B99B-55B78671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F9097-174D-49FE-8531-AB4EB2A6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2108C-F632-4A1E-A11F-52A376B8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CB0DE-3EA2-43B9-A362-A7D7258A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A155E-C227-43E0-947B-424D8A1A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1346-E352-4B26-98AA-ACF8C4BA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BAD6E-2935-4F9D-9E14-1C484159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5A343-88BF-4197-BE1A-7535628E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8B037-B62E-4320-A2FD-46A6C17F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7537A-0070-4763-A78B-5350561D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A48FA-0409-48F9-BE5F-668AC03B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02B3C-4260-45CA-B7D2-341CFFBF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92249-AB75-41F8-BF3A-E0563523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F652E-466D-49C4-BDE8-6C028062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AF0DD-6A67-4716-BD72-6C5DA76C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0DF05-DC08-41C2-9727-2D3CB634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CFD-9CD1-4965-8AE3-6AC1FFDE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A9E63-9C9B-4C9A-8003-2F1B6EAB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EF45A-3C31-417E-8384-A29FC036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EEC86-E717-4711-B5B4-ECBBECF4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3C9E5-6769-4C9E-8A82-3CACF159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23009-CB57-41A5-A447-10B11B55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5424F-6397-4FE2-9094-B7DD6037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57595-57D3-435B-93D1-71C99EC3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9AA40-41F0-46CD-9CC4-9B4EF36C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0A388-C029-4331-BDC0-F7BD5B06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7E798-65B4-4D20-ABDF-55D35A12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7DD-E0E2-4BDE-8198-39AB9D0C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8DE0D-2A5E-472E-A3AF-87DCFCE6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F076D-2632-4D49-94A1-CC088554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57E81-6624-435D-AD79-F83AEB2F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549C6-DB12-4517-9955-1CC141EC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5EDB9-3342-42C0-AEC1-A8BC1D25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AB9-7C14-40EF-BDAA-9537DA9B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DD89-9A8C-4BD9-8DAD-CF1B5BDB62DD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5DFC-F16D-4EB7-85BC-03D1F6B2D0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01BE-1F94-4FA2-B697-E7B497357F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FCF9-86F3-43BF-876B-A3FBE45A0441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FF27-8825-486A-AF6D-4979235D95D3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C42C-0897-468A-8296-84BEC48BB456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E1C2-5850-49C4-894F-E216A3249183}" type="slidenum">
              <a:rPr b="0" lang="ru-RU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yandex.ru/yandsearch?text=&#1044;&#1072;&#1083;&#1100;%20&#1090;&#1086;&#1083;&#1082;&#1086;&#1074;&#1099;&#1081;%20&#1057;&#1083;&#1086;&#1074;&#1072;&#1088;&#1100;%20%20&#1092;&#1086;&#1090;&#1086;&amp;img_url=http%3A%2F%2Fboyandin.name%2Ffiles%2Fslovar-dalya.jpg&amp;pos=0&amp;rpt=simage&amp;lr=47&amp;noreask=1&amp;source=wiz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Классный час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«Поговорим о дружбе»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ружба – это не только великий дар, но и великий труд. Можно друга найти, но очень легко потеря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т друга – ищи, а найдешь – берег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руга иметь – себя не жале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285840" y="407880"/>
            <a:ext cx="8407440" cy="8668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Есть ли у тебя друг? Если да, то почему ты считаешь его своим другом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акие черты характера друга ты больше всего ценишь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то не смог бы простить другу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егда ли ты говоришь другу правду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акое различие между дружбой и приятельскими отношениям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298440" y="152280"/>
            <a:ext cx="839484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30492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рузей не выбирают – их встречаю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х берегут – им жизни отдаю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 с ними время интересней пролет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 с ними – радость, счастье и уют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гда грущу – они мне помогаю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еду далеко – приходят письма мн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ни страдают за меня, переживают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 нет друзей вернее на Земле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икогда не меняйте друз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х нельзя разменять как монет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 поймёте это поздней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лиже друга на свете нету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Содержимое 4" descr="AG00218__0.tmp"/>
          <p:cNvPicPr/>
          <p:nvPr/>
        </p:nvPicPr>
        <p:blipFill>
          <a:blip r:embed="rId2"/>
          <a:stretch/>
        </p:blipFill>
        <p:spPr>
          <a:xfrm>
            <a:off x="5867280" y="4454640"/>
            <a:ext cx="3025800" cy="163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Line 23"/>
          <p:cNvSpPr/>
          <p:nvPr/>
        </p:nvSpPr>
        <p:spPr>
          <a:xfrm flipH="1" flipV="1">
            <a:off x="2590920" y="2819520"/>
            <a:ext cx="259056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4"/>
          <p:cNvSpPr/>
          <p:nvPr/>
        </p:nvSpPr>
        <p:spPr>
          <a:xfrm flipH="1" flipV="1">
            <a:off x="2514240" y="2971800"/>
            <a:ext cx="2438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10"/>
          <p:cNvSpPr txBox="1"/>
          <p:nvPr/>
        </p:nvSpPr>
        <p:spPr>
          <a:xfrm>
            <a:off x="2438280" y="380880"/>
            <a:ext cx="6477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1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6600"/>
                </a:solidFill>
                <a:latin typeface="Arial"/>
              </a:rPr>
              <a:t>НАСТОЯЩИЙ ДРУГ -</a:t>
            </a:r>
            <a:endParaRPr b="1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cc6600"/>
              </a:solidFill>
              <a:latin typeface="Arial"/>
              <a:ea typeface="Arial"/>
            </a:endParaRPr>
          </a:p>
        </p:txBody>
      </p:sp>
      <p:sp>
        <p:nvSpPr>
          <p:cNvPr id="341" name="WordArt 11"/>
          <p:cNvSpPr txBox="1"/>
          <p:nvPr/>
        </p:nvSpPr>
        <p:spPr>
          <a:xfrm>
            <a:off x="4114800" y="160020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скром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42" name="WordArt 12"/>
          <p:cNvSpPr txBox="1"/>
          <p:nvPr/>
        </p:nvSpPr>
        <p:spPr>
          <a:xfrm>
            <a:off x="2971800" y="3352680"/>
            <a:ext cx="5029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доброжелатель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43" name="WordArt 13"/>
          <p:cNvSpPr txBox="1"/>
          <p:nvPr/>
        </p:nvSpPr>
        <p:spPr>
          <a:xfrm>
            <a:off x="5334120" y="4191120"/>
            <a:ext cx="3433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общитель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44" name="WordArt 14"/>
          <p:cNvSpPr txBox="1"/>
          <p:nvPr/>
        </p:nvSpPr>
        <p:spPr>
          <a:xfrm>
            <a:off x="5181480" y="5029200"/>
            <a:ext cx="3353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отзывчи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45" name="WordArt 15"/>
          <p:cNvSpPr txBox="1"/>
          <p:nvPr/>
        </p:nvSpPr>
        <p:spPr>
          <a:xfrm>
            <a:off x="5334120" y="2514600"/>
            <a:ext cx="3433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завистли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46" name="WordArt 16"/>
          <p:cNvSpPr txBox="1"/>
          <p:nvPr/>
        </p:nvSpPr>
        <p:spPr>
          <a:xfrm>
            <a:off x="304920" y="4267080"/>
            <a:ext cx="3433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равнодуш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47" name="WordArt 17"/>
          <p:cNvSpPr txBox="1"/>
          <p:nvPr/>
        </p:nvSpPr>
        <p:spPr>
          <a:xfrm>
            <a:off x="685800" y="5029200"/>
            <a:ext cx="327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хвастли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48" name="WordArt 18"/>
          <p:cNvSpPr txBox="1"/>
          <p:nvPr/>
        </p:nvSpPr>
        <p:spPr>
          <a:xfrm>
            <a:off x="2895480" y="25146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зл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49" name="WordArt 19"/>
          <p:cNvSpPr txBox="1"/>
          <p:nvPr/>
        </p:nvSpPr>
        <p:spPr>
          <a:xfrm>
            <a:off x="1828800" y="5943600"/>
            <a:ext cx="198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добр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50" name="WordArt 20"/>
          <p:cNvSpPr txBox="1"/>
          <p:nvPr/>
        </p:nvSpPr>
        <p:spPr>
          <a:xfrm>
            <a:off x="5715000" y="5943600"/>
            <a:ext cx="220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80000"/>
                </a:solidFill>
                <a:latin typeface="Arial"/>
              </a:rPr>
              <a:t>жад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80000"/>
              </a:solidFill>
              <a:latin typeface="Arial"/>
              <a:ea typeface="Arial"/>
            </a:endParaRPr>
          </a:p>
        </p:txBody>
      </p:sp>
      <p:sp>
        <p:nvSpPr>
          <p:cNvPr id="351" name="Line 21"/>
          <p:cNvSpPr/>
          <p:nvPr/>
        </p:nvSpPr>
        <p:spPr>
          <a:xfrm flipH="1">
            <a:off x="274284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 flipH="1" flipV="1">
            <a:off x="2361960" y="30481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 flipV="1">
            <a:off x="1752480" y="3809880"/>
            <a:ext cx="3049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9" descr="MCj02959150000[1]"/>
          <p:cNvPicPr/>
          <p:nvPr/>
        </p:nvPicPr>
        <p:blipFill>
          <a:blip r:embed="rId1"/>
          <a:stretch/>
        </p:blipFill>
        <p:spPr>
          <a:xfrm>
            <a:off x="0" y="685800"/>
            <a:ext cx="251460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Дружба да братство дороже любого     богатства»; 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     «Один за всех, и все за одного»; 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     «Нет службы без дружбы»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     «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Дружба службе помогает»; 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     «Чем крепче дружба, тем легче (лучше) служба»; 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     «Солдат солдату друг и брат»; </a:t>
            </a: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   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1023840" y="255600"/>
            <a:ext cx="7967880" cy="14270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Товарищеские отношения - это отношения, складывающиеся между людьми в процессе их совместной деятельности. Они возникают между ,  людьми, которые  хорошо знают друг друга и в нужное время оказывают взаимную и бескорыстную помощь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Товарищеское отношение сплачивает  учебный коллектив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Поддерживайте товарищеские отношения со своими одноклассниками. Будьте хорошим, честным, прямым и добрым товарищем, именно товарищем. Это запоминается на всю жизнь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Содержимое 4" descr="AG00218__0.tmp"/>
          <p:cNvPicPr/>
          <p:nvPr/>
        </p:nvPicPr>
        <p:blipFill>
          <a:blip r:embed="rId2"/>
          <a:stretch/>
        </p:blipFill>
        <p:spPr>
          <a:xfrm>
            <a:off x="7164360" y="4941720"/>
            <a:ext cx="1979640" cy="151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WordArt 3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Bookman Old Style"/>
              </a:rPr>
              <a:t>Пословицы о дружб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Bookman Old Style"/>
              <a:ea typeface="Bookman Old Style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-228600" y="1142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Старый друг луч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3657600" y="1142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овых дв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389160" y="167652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Дерево живет корнями, а человек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6629400" y="16758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руз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386280" y="2209680"/>
            <a:ext cx="40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Не имей сто рублей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4424040" y="2209680"/>
            <a:ext cx="32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имей сто друз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460800" y="2743200"/>
            <a:ext cx="42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ружба не гриб, в л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4726800" y="274320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раст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2"/>
          <p:cNvSpPr/>
          <p:nvPr/>
        </p:nvSpPr>
        <p:spPr>
          <a:xfrm>
            <a:off x="462240" y="3276720"/>
            <a:ext cx="42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тье лучше новое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3"/>
          <p:cNvSpPr/>
          <p:nvPr/>
        </p:nvSpPr>
        <p:spPr>
          <a:xfrm>
            <a:off x="4651200" y="327672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руг стар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385560" y="3809880"/>
            <a:ext cx="58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Человек без друзей, что дер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5"/>
          <p:cNvSpPr/>
          <p:nvPr/>
        </p:nvSpPr>
        <p:spPr>
          <a:xfrm>
            <a:off x="6326280" y="3809880"/>
            <a:ext cx="22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без кор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6"/>
          <p:cNvSpPr/>
          <p:nvPr/>
        </p:nvSpPr>
        <p:spPr>
          <a:xfrm>
            <a:off x="461520" y="4343400"/>
            <a:ext cx="44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Друга ищи, а найдешь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7"/>
          <p:cNvSpPr/>
          <p:nvPr/>
        </p:nvSpPr>
        <p:spPr>
          <a:xfrm>
            <a:off x="4572000" y="434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бере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80880" y="4878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ружба крепка не лестью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5560920" y="487692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авдой и че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477360" y="548640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Дружба как стекло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3984120" y="5486400"/>
            <a:ext cx="48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азобьёшь – не сложи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62600" y="601992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кажи мне кто твой друг,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5120640" y="6019920"/>
            <a:ext cx="32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и я скажу кто 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5720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Если хочешь иметь хорошего,  друга, старайся сам стать лучше. Будь добрым 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-31896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раведливым, смелым, честны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-31896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тремись больше узнать, больше  уметь, чтобы другим было интересно с тобой дружи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Дружба испытываетс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в беде и опасности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Содержимое 4" descr="dvd060_0.tmp"/>
          <p:cNvPicPr/>
          <p:nvPr/>
        </p:nvPicPr>
        <p:blipFill>
          <a:blip r:embed="rId2"/>
          <a:stretch/>
        </p:blipFill>
        <p:spPr>
          <a:xfrm>
            <a:off x="4140360" y="2349360"/>
            <a:ext cx="388764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255680" y="542880"/>
            <a:ext cx="7662960" cy="1157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5238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крыть личностную и социальну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мость дружбы и товарищест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сших человеческих чувст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казать различия между дружбой 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еством.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311040" y="328680"/>
            <a:ext cx="8467920" cy="10191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это преданность человека человеку.  В   дружбе человеческой вечно горит огонек, который можно назвать духовной готовностью прийти на помощь другому человеку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это общность интересов, убеждений, устремлений, взаимная симпатия, готовность оказать помощь другу, разделить с ним неудачу, поступиться ради него собственным  благополучием и временем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7920" cy="12621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 оставляй друга в беде. Быть верным в дружбе-значит  делить с другом не только радости, но и горе. Если ты видишь, что у друга беда, иди к нему н помощь. Отвернуться от друга в тяжелую для него минуту- значит, нравственно готовить себя к предательству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4" descr="MCj04323850000[1]"/>
          <p:cNvPicPr/>
          <p:nvPr/>
        </p:nvPicPr>
        <p:blipFill>
          <a:blip r:embed="rId2"/>
          <a:stretch/>
        </p:blipFill>
        <p:spPr>
          <a:xfrm>
            <a:off x="6372360" y="4724280"/>
            <a:ext cx="223200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5720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Если хочешь иметь хорошего,  друга, старайся сам стать лучше. Будь добрым 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-31896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раведливым, смелым, честны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-31896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тремись больше узнать, больше  уметь, чтобы другим было интересно с тобой дружи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5720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Если хочешь иметь хорошего,  друга, старайся сам стать лучше. Будь добрым 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-31896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раведливым, смелым, честны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-31896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тремись больше узнать, больше  уметь, чтобы другим было интересно с тобой дружи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15000"/>
              </a:lnSpc>
              <a:spcAft>
                <a:spcPts val="1001"/>
              </a:spcAft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Поддерживайте товарищеские отношения со своими одноклассниками. Будьте хорошим, честным, прямым и добрым товарищем, именно товарищем. Это запоминается на всю жизнь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уступать друг друг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быть вежливым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быть внимательным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быть честным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могать друг друг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 жадничать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 злиться и не ссоритьс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 обижать друга понапрасну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уметь просить прощени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23840" y="195120"/>
            <a:ext cx="7669440" cy="1425600"/>
          </a:xfrm>
          <a:prstGeom prst="rect">
            <a:avLst/>
          </a:prstGeom>
          <a:ln w="0">
            <a:noFill/>
          </a:ln>
        </p:spPr>
      </p:pic>
      <p:pic>
        <p:nvPicPr>
          <p:cNvPr id="402" name="Объект 2" descr=""/>
          <p:cNvPicPr/>
          <p:nvPr/>
        </p:nvPicPr>
        <p:blipFill>
          <a:blip r:embed="rId2"/>
          <a:stretch/>
        </p:blipFill>
        <p:spPr>
          <a:xfrm>
            <a:off x="665280" y="1596960"/>
            <a:ext cx="802800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33520" y="1219320"/>
            <a:ext cx="8191440" cy="49831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rbel"/>
              </a:rPr>
              <a:t>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Самый прекрасный подарок после мудрости, которым могла бы одарить нас природа, - это дружб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4"/>
          <p:cNvSpPr/>
          <p:nvPr/>
        </p:nvSpPr>
        <p:spPr>
          <a:xfrm>
            <a:off x="1765440" y="115920"/>
            <a:ext cx="549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Eras Bold ITC"/>
              </a:rPr>
              <a:t>ОТЛИЧАЙ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981080" y="114300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b5cc"/>
                </a:solidFill>
                <a:latin typeface="Goudy Stout"/>
              </a:rPr>
              <a:t>   </a:t>
            </a:r>
            <a:r>
              <a:rPr b="1" lang="ru-RU" sz="2400" spc="-1" strike="noStrike">
                <a:solidFill>
                  <a:srgbClr val="800000"/>
                </a:solidFill>
                <a:latin typeface="Goudy Stout"/>
              </a:rPr>
              <a:t>человек, близкий вам по духу, по   убеждениям, на которого можно во всем   положиться, доверить свои та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1905120" y="2666880"/>
            <a:ext cx="7238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b5cc"/>
                </a:solidFill>
                <a:latin typeface="Goudy Stout"/>
              </a:rPr>
              <a:t>   </a:t>
            </a:r>
            <a:r>
              <a:rPr b="1" lang="ru-RU" sz="2400" spc="-1" strike="noStrike">
                <a:solidFill>
                  <a:srgbClr val="800000"/>
                </a:solidFill>
                <a:latin typeface="Goudy Stout"/>
              </a:rPr>
              <a:t>человек, близкий вам по роду занятий, деятельности, по условиям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2057400" y="373392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b5cc"/>
                </a:solidFill>
                <a:latin typeface="Goudy Stout"/>
              </a:rPr>
              <a:t>   </a:t>
            </a:r>
            <a:r>
              <a:rPr b="1" lang="ru-RU" sz="2400" spc="-1" strike="noStrike">
                <a:solidFill>
                  <a:srgbClr val="800000"/>
                </a:solidFill>
                <a:latin typeface="Goudy Stout"/>
              </a:rPr>
              <a:t>человек, с которым у вас сложились хорошие, простые, но не совсем близки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2209680" y="5334120"/>
            <a:ext cx="6934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oudy Stout"/>
              </a:rPr>
              <a:t>   </a:t>
            </a:r>
            <a:r>
              <a:rPr b="1" lang="ru-RU" sz="2400" spc="-1" strike="noStrike">
                <a:solidFill>
                  <a:srgbClr val="800000"/>
                </a:solidFill>
                <a:latin typeface="Goudy Stout"/>
              </a:rPr>
              <a:t>человек, с которым вы просто здоровай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8"/>
          <p:cNvSpPr/>
          <p:nvPr/>
        </p:nvSpPr>
        <p:spPr>
          <a:xfrm>
            <a:off x="30492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b5cc"/>
                </a:solidFill>
                <a:latin typeface="Goudy Stout"/>
              </a:rPr>
              <a:t>Д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9"/>
          <p:cNvSpPr/>
          <p:nvPr/>
        </p:nvSpPr>
        <p:spPr>
          <a:xfrm>
            <a:off x="95400" y="281952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b5cc"/>
                </a:solidFill>
                <a:latin typeface="Goudy Stout"/>
              </a:rPr>
              <a:t>ТОВАРИ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0"/>
          <p:cNvSpPr/>
          <p:nvPr/>
        </p:nvSpPr>
        <p:spPr>
          <a:xfrm>
            <a:off x="238680" y="4114800"/>
            <a:ext cx="19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b5cc"/>
                </a:solidFill>
                <a:latin typeface="Goudy Stout"/>
              </a:rPr>
              <a:t>ПРИЯ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11"/>
          <p:cNvSpPr/>
          <p:nvPr/>
        </p:nvSpPr>
        <p:spPr>
          <a:xfrm>
            <a:off x="163800" y="5486400"/>
            <a:ext cx="23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0b5cc"/>
                </a:solidFill>
                <a:latin typeface="Goudy Stout"/>
              </a:rPr>
              <a:t>ЗНАКОМ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28600" y="1447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тч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ак-то два друга много дней шли в пустыне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днажды они поспорили, и один из них сгоряча дал пощёчину другому. Егодруг, почувствовал боль, но ничего не сказал. Молча, он написал на песк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Сегодня мой самый лучший друг дал мне пощёчину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рузья продолжали идти, и через много дней нашли оазис с озером, 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тором они решили искупаться. Тот, который получил пощёчину, едва не утонул и его друг его спас. Когда он пришёл в себя, то высек на камн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Сегодня мой самый лучший друг спас мне жизнь»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ервый спросил его: – Когда я тебя обидел, ты написал на песке, а теперь ты пишешь на камне. Почему?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 друг ответил: – Когда кто-либо нас обижает, мы должны написать это на песке, чтобы ветер мог стереть это. Но когда кто-либо делает что-либо хорошее, мы должны высечь это на камне, чтобы никакой ветер не смог бы стереть это. Научись писать обиды на песке и высекать радости на камн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рямоугольник 5"/>
          <p:cNvSpPr/>
          <p:nvPr/>
        </p:nvSpPr>
        <p:spPr>
          <a:xfrm>
            <a:off x="457200" y="2286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Rounded MT Bold"/>
              </a:rPr>
              <a:t>Притча «ПЕСОК И КАМЕНЬ</a:t>
            </a:r>
            <a:r>
              <a:rPr b="0" lang="ru-RU" sz="4400" spc="-1" strike="noStrike">
                <a:solidFill>
                  <a:srgbClr val="000099"/>
                </a:solidFill>
                <a:latin typeface="Arial Rounded MT Bold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Когда со мной случилось горе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Подняться не хватало сил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Рук подоспевшее подспорь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Всегда в друзьях я находи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А в счастье было тяжело —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Друзья стояли в сторон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Завидуя и сожале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Что помогли когда-то мн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А. Дементьев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24" name="Содержимое 2" descr=""/>
          <p:cNvPicPr/>
          <p:nvPr/>
        </p:nvPicPr>
        <p:blipFill>
          <a:blip r:embed="rId1"/>
          <a:stretch/>
        </p:blipFill>
        <p:spPr>
          <a:xfrm>
            <a:off x="378000" y="1736640"/>
            <a:ext cx="8315280" cy="4670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http://img0.liveinternet.ru/images/attach/c/8/100/418/100418740_3453311_slovardalya.jpg">
            <a:hlinkClick r:id="rId2"/>
          </p:cNvPr>
          <p:cNvPicPr/>
          <p:nvPr/>
        </p:nvPicPr>
        <p:blipFill>
          <a:blip r:embed="rId3"/>
          <a:stretch/>
        </p:blipFill>
        <p:spPr>
          <a:xfrm rot="20264400">
            <a:off x="658800" y="3625560"/>
            <a:ext cx="1878120" cy="223668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4"/>
          <p:cNvSpPr/>
          <p:nvPr/>
        </p:nvSpPr>
        <p:spPr>
          <a:xfrm>
            <a:off x="2286000" y="228600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кие отношения, основанные на      взаим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вязанности, доверии, духовной близ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ности интер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311040" y="328680"/>
            <a:ext cx="8467920" cy="1019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это преданность человека человеку.  В   дружбе человеческой вечно горит огонек, который можно назвать духовной готовностью прийти на помощь другому человеку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это общность интересов, убеждений, устремлений, взаимная симпатия, готовность оказать помощь другу, разделить с ним неудачу, поступиться ради него собственным  благополучием и временем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143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 u="sng">
              <a:solidFill>
                <a:srgbClr val="c00000"/>
              </a:solidFill>
              <a:uFillTx/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9528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одойди, загляни в глаза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И плечо его тихо тронь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 щеке у него слеза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И обиды в душе огон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Его боль раздели на двоих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омоги ему, он – твой друг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идишь, шторм ледяной у них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т тепла твоих верных ру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 ладонь положи звезду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И звезду эту другу дай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усть она его вместе с тобой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оведёт в прекрасную даль 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дмила</dc:creator>
  <dc:description/>
  <dc:language>en-US</dc:language>
  <cp:lastModifiedBy>Windows User</cp:lastModifiedBy>
  <dcterms:modified xsi:type="dcterms:W3CDTF">2021-04-25T12:50:59Z</dcterms:modified>
  <cp:revision>2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