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9.wmf" ContentType="image/x-wmf"/>
  <Override PartName="/ppt/media/image14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wmf" ContentType="image/x-wmf"/>
  <Override PartName="/ppt/media/image15.jpeg" ContentType="image/jpeg"/>
  <Override PartName="/ppt/media/image16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47BE-3E4E-4596-A33A-A93DBE1B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DA03-D779-481C-8D1D-D919407B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24EB-510D-47F7-B699-A3485B48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670-A21E-4F45-8374-EF56F5CD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E28C-8F17-4EC2-9508-640C1A93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24EF-8D82-470B-AEF3-CCD668D0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30A9-2CB7-4F42-9123-A6E1F0D9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D866-6F7B-4A12-B63E-7A63C009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33B3-22D2-4A6F-912E-AF1320CB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0A0E-C396-40EF-A4F4-483084DC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A0B5-7F72-401E-BAA7-A260622D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C1A1-7F79-4999-B246-8E480670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8B66-91D1-411A-BE27-492BD2A5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7A94-421E-47FC-B78D-3F299ED3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0506-EF4E-4CA6-B200-19E9F825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4375-F9A8-480F-AEA4-2A5E07E1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0F22-8A25-4A8A-9C1F-70C91D4A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B303B-0F22-4493-8B9C-70C94D10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BD709-02BC-4269-9CAE-041C9D14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0709F-511C-437B-B3AA-1AC5F93A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FADD8-48EA-422B-A884-ED56665F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FD436-C9AE-4FB4-A127-41492528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4492-84BF-471B-8C03-BD3B4757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451DA-C2EE-4930-8FF9-6F4C0D42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D8F6A-16D4-4A2D-B88A-10159F35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F35D2-827E-49D0-8844-4B340108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D5400-EDD9-401D-AF0D-97E1270C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FD5CD-EC9A-4205-9C85-7BD85DA4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2CCD5-BBE1-42A4-AFBD-300011C4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C8332-E310-4265-A708-A3DC0986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8087E-3289-4189-A4EA-E23E5356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96B7E-1EC2-467E-9654-5E1A6CCB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6D04A-978D-4875-B086-190CDDA8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5054-E0DC-49BA-9009-88231425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5D100-6768-49B3-87EF-D9B4B364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820BD-52D5-409D-9CE1-F3A4F936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D577D-14C0-4003-942A-B42A1C4B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7C922-9AC4-485A-9D88-A7EF9AE3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8765D-2A81-44B2-A6C2-DA7E1B73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FCB65-4BA1-4A5F-8F3D-CC2C5E32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2F6DE-0A77-44FF-A7E6-BA89A859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4A7C3-C147-49EE-81E2-164BBB1A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E3BBF-3D31-4F53-9963-40B1879D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9BDFA-09B7-4FC0-9D89-DC4335D6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8757-F82D-441A-9A93-77AE5994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04C4F-015B-44D9-9647-04D4D536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B2B7A-195D-45FB-A4C9-773A472F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B9954-7D05-46F2-82D5-524E1E9D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8085A-D930-4280-856F-AD548B8B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81699-6763-49E3-87EC-2165A9CB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ED5A1-6550-4EC8-8C90-1888DB0B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56F2A-D5ED-4B10-9049-32D684A8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0F383-B889-49CC-8F73-EC951664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F4B04-C8FB-4D47-9BC9-65246158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6F8F2-F14D-4360-A25B-B1C97D8E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B21B-97DA-44F2-A0E9-5ED0F522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A6545-95C9-4A15-8313-39417D9B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E8365-7BE1-4FC4-B4B8-68F61DC8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D1418-05E3-4405-8B57-104D816F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F67FE-01BB-4B33-8076-B9B3CE75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0A358-D4F4-4883-B1D8-E85B2A23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C3C13-48A9-4FD9-91F8-D44DCF55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FDB29-3B79-4654-9BDE-7CBE9D64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18F7B-65CD-410A-9A9E-28E48102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E65BC-B1A0-468D-8DC7-6ED1E564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8812C-6F07-4609-9BB1-EBF0DB25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B3B6-D01F-4486-9679-BD1BD95A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4BFE1-824D-47FD-BD2E-49BE31A5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A3EDA-7440-41FB-B522-D681889F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1122F-4A1F-436F-A770-B2AE276D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2BF28-F925-47DB-B572-8C26909E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31CD3-1E68-44F5-A5C9-EC8BEA46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BAB98-8A62-4743-A448-260FC052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E06C9-22A1-4FF0-8768-7623CCFE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05CD5-FCE0-42C5-A5B5-E750D2FA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C4D08-FA18-42AB-88C1-65242351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D17FB-DBB0-4BA6-A1EF-EBD4EF3C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C01D-41C3-4408-9F7D-CAF103EB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87A52-96D9-49E0-8EAC-99B002C0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77182-A814-4CF9-BF04-B8232C46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4BFD8-9187-4862-8E12-72357090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D5769-D499-42E6-ABCA-1A4814D3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22C84-B2CD-4562-833B-ABA8BDE2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B238-9FF0-4A0C-9190-942FA1DB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CEFF-F506-42E3-A6C2-CA429B1C6060}" type="slidenum">
              <a:rPr b="0" lang="ru-RU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5ACB-3BAA-4AEB-8518-D5700E58A0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8588-A3E5-4AAE-9264-7A1030F0B9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0C8B-CC46-45D3-938D-20BC76AEA8B8}" type="slidenum">
              <a:rPr b="0" lang="ru-RU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CFE7-5E17-44C9-9361-D32685F72066}" type="slidenum">
              <a:rPr b="0" lang="ru-RU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1C83-D936-472E-9E55-1088D189E2B8}" type="slidenum">
              <a:rPr b="0" lang="ru-RU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43B5-8B16-45D4-B161-EC960B17B577}" type="slidenum">
              <a:rPr b="0" lang="ru-RU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yandex.ru/yandsearch?text=&#1044;&#1072;&#1083;&#1100;%20&#1090;&#1086;&#1083;&#1082;&#1086;&#1074;&#1099;&#1081;%20&#1057;&#1083;&#1086;&#1074;&#1072;&#1088;&#1100;%20%20&#1092;&#1086;&#1090;&#1086;&amp;img_url=http%3A%2F%2Fboyandin.name%2Ffiles%2Fslovar-dalya.jpg&amp;pos=0&amp;rpt=simage&amp;lr=47&amp;noreask=1&amp;source=wiz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Классный час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«Поговорим о дружбе»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ружба – это не только великий дар, но и великий труд. Можно друга найти, но очень легко потеря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т друга – ищи, а найдешь – берег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руга иметь – себя не жале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285840" y="407880"/>
            <a:ext cx="8407440" cy="8668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15000"/>
              </a:lnSpc>
              <a:spcAft>
                <a:spcPts val="1001"/>
              </a:spcAft>
              <a:buClr>
                <a:srgbClr val="f0ad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Есть ли у тебя друг? Если да, то почему ты считаешь его своим другом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15000"/>
              </a:lnSpc>
              <a:spcAft>
                <a:spcPts val="1001"/>
              </a:spcAft>
              <a:buClr>
                <a:srgbClr val="f0ad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акие черты характера друга ты больше всего ценишь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15000"/>
              </a:lnSpc>
              <a:spcAft>
                <a:spcPts val="1001"/>
              </a:spcAft>
              <a:buClr>
                <a:srgbClr val="f0ad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Что не смог бы простить другу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15000"/>
              </a:lnSpc>
              <a:spcAft>
                <a:spcPts val="1001"/>
              </a:spcAft>
              <a:buClr>
                <a:srgbClr val="f0ad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сегда ли ты говоришь другу правду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15000"/>
              </a:lnSpc>
              <a:spcAft>
                <a:spcPts val="1001"/>
              </a:spcAft>
              <a:buClr>
                <a:srgbClr val="f0ad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акое различие между дружбой и приятельскими отношениями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1" descr=""/>
          <p:cNvPicPr/>
          <p:nvPr/>
        </p:nvPicPr>
        <p:blipFill>
          <a:blip r:embed="rId1"/>
          <a:stretch/>
        </p:blipFill>
        <p:spPr>
          <a:xfrm>
            <a:off x="298440" y="152280"/>
            <a:ext cx="839484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30492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рузей не выбирают – их встречаю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х берегут – им жизни отдаю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 с ними время интересней пролет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 с ними – радость, счастье и уют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гда грущу – они мне помогаю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еду далеко – приходят письма мн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ни страдают за меня, переживают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 нет друзей вернее на Земле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икогда не меняйте друзе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х нельзя разменять как монет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ы поймёте это поздней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лиже друга на свете нету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Содержимое 4" descr="AG00218__0.tmp"/>
          <p:cNvPicPr/>
          <p:nvPr/>
        </p:nvPicPr>
        <p:blipFill>
          <a:blip r:embed="rId2"/>
          <a:stretch/>
        </p:blipFill>
        <p:spPr>
          <a:xfrm>
            <a:off x="5867280" y="4454640"/>
            <a:ext cx="3025800" cy="1638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Line 23"/>
          <p:cNvSpPr/>
          <p:nvPr/>
        </p:nvSpPr>
        <p:spPr>
          <a:xfrm flipH="1" flipV="1">
            <a:off x="2590920" y="2819520"/>
            <a:ext cx="259056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4"/>
          <p:cNvSpPr/>
          <p:nvPr/>
        </p:nvSpPr>
        <p:spPr>
          <a:xfrm flipH="1" flipV="1">
            <a:off x="2514240" y="2971800"/>
            <a:ext cx="24382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10"/>
          <p:cNvSpPr txBox="1"/>
          <p:nvPr/>
        </p:nvSpPr>
        <p:spPr>
          <a:xfrm>
            <a:off x="2438280" y="380880"/>
            <a:ext cx="6477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41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6600"/>
                </a:solidFill>
                <a:latin typeface="Arial"/>
              </a:rPr>
              <a:t>НАСТОЯЩИЙ ДРУГ -</a:t>
            </a:r>
            <a:endParaRPr b="1" lang="en-US" sz="1800" spc="1" strike="noStrike">
              <a:ln w="9360">
                <a:solidFill>
                  <a:srgbClr val="cc0066"/>
                </a:solidFill>
                <a:miter/>
              </a:ln>
              <a:solidFill>
                <a:srgbClr val="cc6600"/>
              </a:solidFill>
              <a:latin typeface="Arial"/>
              <a:ea typeface="Arial"/>
            </a:endParaRPr>
          </a:p>
        </p:txBody>
      </p:sp>
      <p:sp>
        <p:nvSpPr>
          <p:cNvPr id="341" name="WordArt 11"/>
          <p:cNvSpPr txBox="1"/>
          <p:nvPr/>
        </p:nvSpPr>
        <p:spPr>
          <a:xfrm>
            <a:off x="4114800" y="1600200"/>
            <a:ext cx="2743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80000"/>
                </a:solidFill>
                <a:latin typeface="Arial"/>
              </a:rPr>
              <a:t>скром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80000"/>
              </a:solidFill>
              <a:latin typeface="Arial"/>
              <a:ea typeface="Arial"/>
            </a:endParaRPr>
          </a:p>
        </p:txBody>
      </p:sp>
      <p:sp>
        <p:nvSpPr>
          <p:cNvPr id="342" name="WordArt 12"/>
          <p:cNvSpPr txBox="1"/>
          <p:nvPr/>
        </p:nvSpPr>
        <p:spPr>
          <a:xfrm>
            <a:off x="2971800" y="3352680"/>
            <a:ext cx="5029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80000"/>
                </a:solidFill>
                <a:latin typeface="Arial"/>
              </a:rPr>
              <a:t>доброжелатель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80000"/>
              </a:solidFill>
              <a:latin typeface="Arial"/>
              <a:ea typeface="Arial"/>
            </a:endParaRPr>
          </a:p>
        </p:txBody>
      </p:sp>
      <p:sp>
        <p:nvSpPr>
          <p:cNvPr id="343" name="WordArt 13"/>
          <p:cNvSpPr txBox="1"/>
          <p:nvPr/>
        </p:nvSpPr>
        <p:spPr>
          <a:xfrm>
            <a:off x="5334120" y="4191120"/>
            <a:ext cx="3433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80000"/>
                </a:solidFill>
                <a:latin typeface="Arial"/>
              </a:rPr>
              <a:t>общитель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80000"/>
              </a:solidFill>
              <a:latin typeface="Arial"/>
              <a:ea typeface="Arial"/>
            </a:endParaRPr>
          </a:p>
        </p:txBody>
      </p:sp>
      <p:sp>
        <p:nvSpPr>
          <p:cNvPr id="344" name="WordArt 14"/>
          <p:cNvSpPr txBox="1"/>
          <p:nvPr/>
        </p:nvSpPr>
        <p:spPr>
          <a:xfrm>
            <a:off x="5181480" y="5029200"/>
            <a:ext cx="3353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80000"/>
                </a:solidFill>
                <a:latin typeface="Arial"/>
              </a:rPr>
              <a:t>отзывчив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80000"/>
              </a:solidFill>
              <a:latin typeface="Arial"/>
              <a:ea typeface="Arial"/>
            </a:endParaRPr>
          </a:p>
        </p:txBody>
      </p:sp>
      <p:sp>
        <p:nvSpPr>
          <p:cNvPr id="345" name="WordArt 15"/>
          <p:cNvSpPr txBox="1"/>
          <p:nvPr/>
        </p:nvSpPr>
        <p:spPr>
          <a:xfrm>
            <a:off x="5334120" y="2514600"/>
            <a:ext cx="3433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80000"/>
                </a:solidFill>
                <a:latin typeface="Arial"/>
              </a:rPr>
              <a:t>завистлив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80000"/>
              </a:solidFill>
              <a:latin typeface="Arial"/>
              <a:ea typeface="Arial"/>
            </a:endParaRPr>
          </a:p>
        </p:txBody>
      </p:sp>
      <p:sp>
        <p:nvSpPr>
          <p:cNvPr id="346" name="WordArt 16"/>
          <p:cNvSpPr txBox="1"/>
          <p:nvPr/>
        </p:nvSpPr>
        <p:spPr>
          <a:xfrm>
            <a:off x="304920" y="4267080"/>
            <a:ext cx="3433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80000"/>
                </a:solidFill>
                <a:latin typeface="Arial"/>
              </a:rPr>
              <a:t>равнодуш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80000"/>
              </a:solidFill>
              <a:latin typeface="Arial"/>
              <a:ea typeface="Arial"/>
            </a:endParaRPr>
          </a:p>
        </p:txBody>
      </p:sp>
      <p:sp>
        <p:nvSpPr>
          <p:cNvPr id="347" name="WordArt 17"/>
          <p:cNvSpPr txBox="1"/>
          <p:nvPr/>
        </p:nvSpPr>
        <p:spPr>
          <a:xfrm>
            <a:off x="685800" y="5029200"/>
            <a:ext cx="3276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80000"/>
                </a:solidFill>
                <a:latin typeface="Arial"/>
              </a:rPr>
              <a:t>хвастлив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80000"/>
              </a:solidFill>
              <a:latin typeface="Arial"/>
              <a:ea typeface="Arial"/>
            </a:endParaRPr>
          </a:p>
        </p:txBody>
      </p:sp>
      <p:sp>
        <p:nvSpPr>
          <p:cNvPr id="348" name="WordArt 18"/>
          <p:cNvSpPr txBox="1"/>
          <p:nvPr/>
        </p:nvSpPr>
        <p:spPr>
          <a:xfrm>
            <a:off x="2895480" y="25146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80000"/>
                </a:solidFill>
                <a:latin typeface="Arial"/>
              </a:rPr>
              <a:t>зл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80000"/>
              </a:solidFill>
              <a:latin typeface="Arial"/>
              <a:ea typeface="Arial"/>
            </a:endParaRPr>
          </a:p>
        </p:txBody>
      </p:sp>
      <p:sp>
        <p:nvSpPr>
          <p:cNvPr id="349" name="WordArt 19"/>
          <p:cNvSpPr txBox="1"/>
          <p:nvPr/>
        </p:nvSpPr>
        <p:spPr>
          <a:xfrm>
            <a:off x="1828800" y="5943600"/>
            <a:ext cx="1981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80000"/>
                </a:solidFill>
                <a:latin typeface="Arial"/>
              </a:rPr>
              <a:t>добр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80000"/>
              </a:solidFill>
              <a:latin typeface="Arial"/>
              <a:ea typeface="Arial"/>
            </a:endParaRPr>
          </a:p>
        </p:txBody>
      </p:sp>
      <p:sp>
        <p:nvSpPr>
          <p:cNvPr id="350" name="WordArt 20"/>
          <p:cNvSpPr txBox="1"/>
          <p:nvPr/>
        </p:nvSpPr>
        <p:spPr>
          <a:xfrm>
            <a:off x="5715000" y="5943600"/>
            <a:ext cx="220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80000"/>
                </a:solidFill>
                <a:latin typeface="Arial"/>
              </a:rPr>
              <a:t>жад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80000"/>
              </a:solidFill>
              <a:latin typeface="Arial"/>
              <a:ea typeface="Arial"/>
            </a:endParaRPr>
          </a:p>
        </p:txBody>
      </p:sp>
      <p:sp>
        <p:nvSpPr>
          <p:cNvPr id="351" name="Line 21"/>
          <p:cNvSpPr/>
          <p:nvPr/>
        </p:nvSpPr>
        <p:spPr>
          <a:xfrm flipH="1">
            <a:off x="274284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 flipH="1" flipV="1">
            <a:off x="2361960" y="3048120"/>
            <a:ext cx="533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5"/>
          <p:cNvSpPr/>
          <p:nvPr/>
        </p:nvSpPr>
        <p:spPr>
          <a:xfrm flipV="1">
            <a:off x="1752480" y="3809880"/>
            <a:ext cx="30492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9" descr="MCj02959150000[1]"/>
          <p:cNvPicPr/>
          <p:nvPr/>
        </p:nvPicPr>
        <p:blipFill>
          <a:blip r:embed="rId1"/>
          <a:stretch/>
        </p:blipFill>
        <p:spPr>
          <a:xfrm>
            <a:off x="0" y="685800"/>
            <a:ext cx="2514600" cy="2819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5000"/>
              </a:lnSpc>
              <a:spcAft>
                <a:spcPts val="10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Дружба да братство дороже любого     богатства»; </a:t>
            </a:r>
            <a:br>
              <a:rPr sz="3000"/>
            </a:br>
            <a:r>
              <a:rPr b="0" i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     «Один за всех, и все за одного»; </a:t>
            </a:r>
            <a:br>
              <a:rPr sz="3000"/>
            </a:br>
            <a:r>
              <a:rPr b="0" i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     «Нет службы без дружбы»;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     «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Дружба службе помогает»; </a:t>
            </a:r>
            <a:br>
              <a:rPr sz="3000"/>
            </a:br>
            <a:r>
              <a:rPr b="0" i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     «Чем крепче дружба, тем легче (лучше) служба»; </a:t>
            </a:r>
            <a:br>
              <a:rPr sz="3000"/>
            </a:br>
            <a:r>
              <a:rPr b="0" i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     «Солдат солдату друг и брат»; </a:t>
            </a:r>
            <a:br>
              <a:rPr sz="3000"/>
            </a:br>
            <a:r>
              <a:rPr b="0" i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    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1023840" y="255600"/>
            <a:ext cx="7967880" cy="14270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5000"/>
              </a:lnSpc>
              <a:spcAft>
                <a:spcPts val="10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Товарищеские отношения - это отношения, складывающиеся между людьми в процессе их совместной деятельности. Они возникают между ,  людьми, которые  хорошо знают друг друга и в нужное время оказывают взаимную и бескорыстную помощь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Товарищеское отношение сплачивает  учебный коллектив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15000"/>
              </a:lnSpc>
              <a:spcAft>
                <a:spcPts val="10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Поддерживайте товарищеские отношения со своими одноклассниками. Будьте хорошим, честным, прямым и добрым товарищем, именно товарищем. Это запоминается на всю жизнь»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1" name="Содержимое 4" descr="AG00218__0.tmp"/>
          <p:cNvPicPr/>
          <p:nvPr/>
        </p:nvPicPr>
        <p:blipFill>
          <a:blip r:embed="rId2"/>
          <a:stretch/>
        </p:blipFill>
        <p:spPr>
          <a:xfrm>
            <a:off x="7164360" y="4941720"/>
            <a:ext cx="1979640" cy="151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WordArt 3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Bookman Old Style"/>
              </a:rPr>
              <a:t>Пословицы о дружб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Bookman Old Style"/>
              <a:ea typeface="Bookman Old Style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-228600" y="11422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Старый друг луч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3657600" y="11422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овых дву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389160" y="167652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Дерево живет корнями, а человек 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6629400" y="16758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рузь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386280" y="2209680"/>
            <a:ext cx="408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Не имей сто рублей,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4424040" y="2209680"/>
            <a:ext cx="32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имей сто друз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0"/>
          <p:cNvSpPr/>
          <p:nvPr/>
        </p:nvSpPr>
        <p:spPr>
          <a:xfrm>
            <a:off x="460800" y="2743200"/>
            <a:ext cx="426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ружба не гриб, в ле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1"/>
          <p:cNvSpPr/>
          <p:nvPr/>
        </p:nvSpPr>
        <p:spPr>
          <a:xfrm>
            <a:off x="4726800" y="2743200"/>
            <a:ext cx="20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е раст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2"/>
          <p:cNvSpPr/>
          <p:nvPr/>
        </p:nvSpPr>
        <p:spPr>
          <a:xfrm>
            <a:off x="462240" y="3276720"/>
            <a:ext cx="423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тье лучше новое,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3"/>
          <p:cNvSpPr/>
          <p:nvPr/>
        </p:nvSpPr>
        <p:spPr>
          <a:xfrm>
            <a:off x="4651200" y="327672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руг стар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4"/>
          <p:cNvSpPr/>
          <p:nvPr/>
        </p:nvSpPr>
        <p:spPr>
          <a:xfrm>
            <a:off x="385560" y="3809880"/>
            <a:ext cx="58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Человек без друзей, что дере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5"/>
          <p:cNvSpPr/>
          <p:nvPr/>
        </p:nvSpPr>
        <p:spPr>
          <a:xfrm>
            <a:off x="6326280" y="3809880"/>
            <a:ext cx="22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без кор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6"/>
          <p:cNvSpPr/>
          <p:nvPr/>
        </p:nvSpPr>
        <p:spPr>
          <a:xfrm>
            <a:off x="461520" y="4343400"/>
            <a:ext cx="448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Друга ищи, а найдешь 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7"/>
          <p:cNvSpPr/>
          <p:nvPr/>
        </p:nvSpPr>
        <p:spPr>
          <a:xfrm>
            <a:off x="4572000" y="434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бере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80880" y="4878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ружба крепка не лестью,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9"/>
          <p:cNvSpPr/>
          <p:nvPr/>
        </p:nvSpPr>
        <p:spPr>
          <a:xfrm>
            <a:off x="5560920" y="487692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авдой и че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477360" y="5486400"/>
            <a:ext cx="37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Дружба как стекло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3984120" y="5486400"/>
            <a:ext cx="48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разобьёшь – не сложи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462600" y="601992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кажи мне кто твой друг,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9"/>
          <p:cNvSpPr/>
          <p:nvPr/>
        </p:nvSpPr>
        <p:spPr>
          <a:xfrm>
            <a:off x="5120640" y="6019920"/>
            <a:ext cx="32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и я скажу кто 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57200" indent="-318960">
              <a:lnSpc>
                <a:spcPct val="115000"/>
              </a:lnSpc>
              <a:spcAft>
                <a:spcPts val="10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Если хочешь иметь хорошего,  друга, старайся сам стать лучше. Будь добрым 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57200" indent="-31896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раведливым, смелым, честным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57200" indent="-31896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тремись больше узнать, больше  уметь, чтобы другим было интересно с тобой дружи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5720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Дружба испытываетс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в беде и опасности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7" name="Содержимое 4" descr="dvd060_0.tmp"/>
          <p:cNvPicPr/>
          <p:nvPr/>
        </p:nvPicPr>
        <p:blipFill>
          <a:blip r:embed="rId2"/>
          <a:stretch/>
        </p:blipFill>
        <p:spPr>
          <a:xfrm>
            <a:off x="4140360" y="2349360"/>
            <a:ext cx="3887640" cy="388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1255680" y="542880"/>
            <a:ext cx="7662960" cy="1157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5238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крыть личностную и социальную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мость дружбы и товарищест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сших человеческих чувств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казать различия между дружбой и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иществом.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Заголовок 1" descr=""/>
          <p:cNvPicPr/>
          <p:nvPr/>
        </p:nvPicPr>
        <p:blipFill>
          <a:blip r:embed="rId1"/>
          <a:stretch/>
        </p:blipFill>
        <p:spPr>
          <a:xfrm>
            <a:off x="311040" y="328680"/>
            <a:ext cx="8467920" cy="10191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это преданность человека человеку.  В   дружбе человеческой вечно горит огонек, который можно назвать духовной готовностью прийти на помощь другому человеку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это общность интересов, убеждений, устремлений, взаимная симпатия, готовность оказать помощь другу, разделить с ним неудачу, поступиться ради него собственным  благополучием и временем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7920" cy="12621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е оставляй друга в беде. Быть верным в дружбе-значит  делить с другом не только радости, но и горе. Если ты видишь, что у друга беда, иди к нему н помощь. Отвернуться от друга в тяжелую для него минуту- значит, нравственно готовить себя к предательству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2" name="Picture 4" descr="MCj04323850000[1]"/>
          <p:cNvPicPr/>
          <p:nvPr/>
        </p:nvPicPr>
        <p:blipFill>
          <a:blip r:embed="rId2"/>
          <a:stretch/>
        </p:blipFill>
        <p:spPr>
          <a:xfrm>
            <a:off x="6372360" y="4724280"/>
            <a:ext cx="223200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57200" indent="-318960">
              <a:lnSpc>
                <a:spcPct val="115000"/>
              </a:lnSpc>
              <a:spcAft>
                <a:spcPts val="10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Если хочешь иметь хорошего,  друга, старайся сам стать лучше. Будь добрым 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57200" indent="-31896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раведливым, смелым, честным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57200" indent="-31896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тремись больше узнать, больше  уметь, чтобы другим было интересно с тобой дружи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5720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57200" indent="-318960">
              <a:lnSpc>
                <a:spcPct val="115000"/>
              </a:lnSpc>
              <a:spcAft>
                <a:spcPts val="10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Если хочешь иметь хорошего,  друга, старайся сам стать лучше. Будь добрым 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57200" indent="-31896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раведливым, смелым, честным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57200" indent="-31896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тремись больше узнать, больше  уметь, чтобы другим было интересно с тобой дружи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5720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15000"/>
              </a:lnSpc>
              <a:spcAft>
                <a:spcPts val="10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Поддерживайте товарищеские отношения со своими одноклассниками. Будьте хорошим, честным, прямым и добрым товарищем, именно товарищем. Это запоминается на всю жизнь»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уступать друг другу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быть вежливым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быть внимательным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быть честным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омогать друг другу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е жадничать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е злиться и не ссоритьс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е обижать друга понапрасну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уметь просить прощение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023840" y="195120"/>
            <a:ext cx="7669440" cy="1425600"/>
          </a:xfrm>
          <a:prstGeom prst="rect">
            <a:avLst/>
          </a:prstGeom>
          <a:ln w="0">
            <a:noFill/>
          </a:ln>
        </p:spPr>
      </p:pic>
      <p:pic>
        <p:nvPicPr>
          <p:cNvPr id="402" name="Объект 2" descr=""/>
          <p:cNvPicPr/>
          <p:nvPr/>
        </p:nvPicPr>
        <p:blipFill>
          <a:blip r:embed="rId2"/>
          <a:stretch/>
        </p:blipFill>
        <p:spPr>
          <a:xfrm>
            <a:off x="665280" y="1596960"/>
            <a:ext cx="802800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33520" y="1219320"/>
            <a:ext cx="8191440" cy="49831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rbel"/>
              </a:rPr>
              <a:t>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Самый прекрасный подарок после мудрости, которым могла бы одарить нас природа, - это дружба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                    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 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4"/>
          <p:cNvSpPr/>
          <p:nvPr/>
        </p:nvSpPr>
        <p:spPr>
          <a:xfrm>
            <a:off x="1765440" y="115920"/>
            <a:ext cx="549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Eras Bold ITC"/>
              </a:rPr>
              <a:t>ОТЛИЧАЙ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981080" y="114300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b5cc"/>
                </a:solidFill>
                <a:latin typeface="Goudy Stout"/>
              </a:rPr>
              <a:t>   </a:t>
            </a:r>
            <a:r>
              <a:rPr b="1" lang="ru-RU" sz="2400" spc="-1" strike="noStrike">
                <a:solidFill>
                  <a:srgbClr val="800000"/>
                </a:solidFill>
                <a:latin typeface="Goudy Stout"/>
              </a:rPr>
              <a:t>человек, близкий вам по духу, по   убеждениям, на которого можно во всем   положиться, доверить свои тай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1905120" y="2666880"/>
            <a:ext cx="7238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0b5cc"/>
                </a:solidFill>
                <a:latin typeface="Goudy Stout"/>
              </a:rPr>
              <a:t>   </a:t>
            </a:r>
            <a:r>
              <a:rPr b="1" lang="ru-RU" sz="2400" spc="-1" strike="noStrike">
                <a:solidFill>
                  <a:srgbClr val="800000"/>
                </a:solidFill>
                <a:latin typeface="Goudy Stout"/>
              </a:rPr>
              <a:t>человек, близкий вам по роду занятий, деятельности, по условиям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2057400" y="373392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b5cc"/>
                </a:solidFill>
                <a:latin typeface="Goudy Stout"/>
              </a:rPr>
              <a:t>   </a:t>
            </a:r>
            <a:r>
              <a:rPr b="1" lang="ru-RU" sz="2400" spc="-1" strike="noStrike">
                <a:solidFill>
                  <a:srgbClr val="800000"/>
                </a:solidFill>
                <a:latin typeface="Goudy Stout"/>
              </a:rPr>
              <a:t>человек, с которым у вас сложились хорошие, простые, но не совсем близки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2209680" y="5334120"/>
            <a:ext cx="6934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Goudy Stout"/>
              </a:rPr>
              <a:t>   </a:t>
            </a:r>
            <a:r>
              <a:rPr b="1" lang="ru-RU" sz="2400" spc="-1" strike="noStrike">
                <a:solidFill>
                  <a:srgbClr val="800000"/>
                </a:solidFill>
                <a:latin typeface="Goudy Stout"/>
              </a:rPr>
              <a:t>человек, с которым вы просто здоровайте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8"/>
          <p:cNvSpPr/>
          <p:nvPr/>
        </p:nvSpPr>
        <p:spPr>
          <a:xfrm>
            <a:off x="304920" y="1600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0b5cc"/>
                </a:solidFill>
                <a:latin typeface="Goudy Stout"/>
              </a:rPr>
              <a:t>Д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9"/>
          <p:cNvSpPr/>
          <p:nvPr/>
        </p:nvSpPr>
        <p:spPr>
          <a:xfrm>
            <a:off x="95400" y="281952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0b5cc"/>
                </a:solidFill>
                <a:latin typeface="Goudy Stout"/>
              </a:rPr>
              <a:t>ТОВАРИ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10"/>
          <p:cNvSpPr/>
          <p:nvPr/>
        </p:nvSpPr>
        <p:spPr>
          <a:xfrm>
            <a:off x="238680" y="4114800"/>
            <a:ext cx="19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0b5cc"/>
                </a:solidFill>
                <a:latin typeface="Goudy Stout"/>
              </a:rPr>
              <a:t>ПРИЯ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11"/>
          <p:cNvSpPr/>
          <p:nvPr/>
        </p:nvSpPr>
        <p:spPr>
          <a:xfrm>
            <a:off x="163800" y="5486400"/>
            <a:ext cx="23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0b5cc"/>
                </a:solidFill>
                <a:latin typeface="Goudy Stout"/>
              </a:rPr>
              <a:t>ЗНАКОМ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28600" y="1447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итч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ак-то два друга много дней шли в пустыне.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днажды они поспорили, и один из них сгоряча дал пощёчину другому. Егодруг, почувствовал боль, но ничего не сказал. Молча, он написал на песке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«Сегодня мой самый лучший друг дал мне пощёчину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рузья продолжали идти, и через много дней нашли оазис с озером, 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отором они решили искупаться. Тот, который получил пощёчину, едва не утонул и его друг его спас. Когда он пришёл в себя, то высек на камне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«Сегодня мой самый лучший друг спас мне жизнь».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ервый спросил его: – Когда я тебя обидел, ты написал на песке, а теперь ты пишешь на камне. Почему?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 друг ответил: – Когда кто-либо нас обижает, мы должны написать это на песке, чтобы ветер мог стереть это. Но когда кто-либо делает что-либо хорошее, мы должны высечь это на камне, чтобы никакой ветер не смог бы стереть это. Научись писать обиды на песке и высекать радости на камн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Прямоугольник 5"/>
          <p:cNvSpPr/>
          <p:nvPr/>
        </p:nvSpPr>
        <p:spPr>
          <a:xfrm>
            <a:off x="457200" y="22860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Rounded MT Bold"/>
              </a:rPr>
              <a:t>Притча «ПЕСОК И КАМЕНЬ</a:t>
            </a:r>
            <a:r>
              <a:rPr b="0" lang="ru-RU" sz="4400" spc="-1" strike="noStrike">
                <a:solidFill>
                  <a:srgbClr val="000099"/>
                </a:solidFill>
                <a:latin typeface="Arial Rounded MT Bold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Когда со мной случилось горе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Подняться не хватало сил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Рук подоспевшее подспорь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Всегда в друзьях я находи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А в счастье было тяжело —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Друзья стояли в сторон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Завидуя и сожале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Что помогли когда-то мн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А. Дементьев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24" name="Содержимое 2" descr=""/>
          <p:cNvPicPr/>
          <p:nvPr/>
        </p:nvPicPr>
        <p:blipFill>
          <a:blip r:embed="rId1"/>
          <a:stretch/>
        </p:blipFill>
        <p:spPr>
          <a:xfrm>
            <a:off x="378000" y="1736640"/>
            <a:ext cx="8315280" cy="4670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http://img0.liveinternet.ru/images/attach/c/8/100/418/100418740_3453311_slovardalya.jpg">
            <a:hlinkClick r:id="rId2"/>
          </p:cNvPr>
          <p:cNvPicPr/>
          <p:nvPr/>
        </p:nvPicPr>
        <p:blipFill>
          <a:blip r:embed="rId3"/>
          <a:stretch/>
        </p:blipFill>
        <p:spPr>
          <a:xfrm rot="20264400">
            <a:off x="658800" y="3625560"/>
            <a:ext cx="1878120" cy="223668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4"/>
          <p:cNvSpPr/>
          <p:nvPr/>
        </p:nvSpPr>
        <p:spPr>
          <a:xfrm>
            <a:off x="2286000" y="228600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лизкие отношения, основанные на      взаим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вязанности, доверии, духовной близ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ности интер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1" descr=""/>
          <p:cNvPicPr/>
          <p:nvPr/>
        </p:nvPicPr>
        <p:blipFill>
          <a:blip r:embed="rId1"/>
          <a:stretch/>
        </p:blipFill>
        <p:spPr>
          <a:xfrm>
            <a:off x="311040" y="328680"/>
            <a:ext cx="8467920" cy="1019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это преданность человека человеку.  В   дружбе человеческой вечно горит огонек, который можно назвать духовной готовностью прийти на помощь другому человеку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это общность интересов, убеждений, устремлений, взаимная симпатия, готовность оказать помощь другу, разделить с ним неудачу, поступиться ради него собственным  благополучием и временем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1436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 u="sng">
              <a:solidFill>
                <a:srgbClr val="c00000"/>
              </a:solidFill>
              <a:uFillTx/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9528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одойди, загляни в глаза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И плечо его тихо тронь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а щеке у него слеза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И обиды в душе огон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Его боль раздели на двоих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омоги ему, он – твой друг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идишь, шторм ледяной у них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От тепла твоих верных рук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а ладонь положи звезду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И звезду эту другу дай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усть она его вместе с тобой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оведёт в прекрасную даль 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дмила</dc:creator>
  <dc:description/>
  <dc:language>en-US</dc:language>
  <cp:lastModifiedBy>Windows User</cp:lastModifiedBy>
  <dcterms:modified xsi:type="dcterms:W3CDTF">2021-04-25T12:50:59Z</dcterms:modified>
  <cp:revision>2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