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AF4-564A-4E55-86B2-87512696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9F5-E5AA-434B-91C5-0B137017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8D3-AC6D-4D04-855B-B18D3742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D56B-6544-4AC7-8C2C-7D303D1C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EF9D-E590-4B8E-A909-F441D789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9FB8-395B-4A15-AAD3-EA5A6AA8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D3E-060F-4C21-B199-D5DCF1AB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567-9036-4D84-9E83-E153EF2C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BC8-7274-422C-9AF5-A8C776C3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40C-493B-4A39-B398-29A9EC28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3DFF-3D58-4282-A5C5-634A5E01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F6B2-7455-4EE6-9C4F-6D340BC8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2F23-7D16-4AA6-8A80-60FC2FBF47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лект для сюжетно-ролевых игр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ГОРОД ПРОФЕСС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звитие игрового замысла до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Организовать РППС, способствующую развитию игровой деятельности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Развивать у детей творческий замысел, интерес к иг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умение самостоятельно занять себя иг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омплект вход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ной карк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сменных чех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ладной карк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Объект 1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"/>
          <p:cNvPicPr/>
          <p:nvPr/>
        </p:nvPicPr>
        <p:blipFill>
          <a:blip r:embed="rId2"/>
          <a:stretch/>
        </p:blipFill>
        <p:spPr>
          <a:xfrm>
            <a:off x="4824360" y="1413000"/>
            <a:ext cx="338148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Р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Объект 1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4662360" y="1557360"/>
            <a:ext cx="33814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/р игра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Больниц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Объект 1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/р игра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Полиц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Объект 1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/р игра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Пожарная час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Объект 1" descr=""/>
          <p:cNvPicPr/>
          <p:nvPr/>
        </p:nvPicPr>
        <p:blipFill>
          <a:blip r:embed="rId1"/>
          <a:stretch/>
        </p:blipFill>
        <p:spPr>
          <a:xfrm>
            <a:off x="2478240" y="1600200"/>
            <a:ext cx="418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2:26:57Z</dcterms:created>
  <dc:creator>MAMA</dc:creator>
  <dc:description/>
  <dc:language>en-US</dc:language>
  <cp:lastModifiedBy>Оксана</cp:lastModifiedBy>
  <dcterms:modified xsi:type="dcterms:W3CDTF">2019-03-01T12:36:50Z</dcterms:modified>
  <cp:revision>12</cp:revision>
  <dc:subject/>
  <dc:title>Слайд 1</dc:title>
</cp:coreProperties>
</file>