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B3E-F361-4853-84DF-1917D769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C13-6111-4855-95D1-C0C14C43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D3E-BCFE-446D-9E81-1FA866CB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D03-4ADD-4C72-9D8B-AE25824B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AA8-5FBE-4AC3-985E-42631D75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D9E-0EF2-4D69-AD7E-94130327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66D-9122-4CA1-BD62-FA89A33B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5DE-D271-4AC3-A95E-EBC6D746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317-FCA3-40B9-B77E-5D8186B7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F6A-E35D-4BDA-8CB0-8CE24801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D01-4123-4E85-979E-1E937398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1F3-AA59-4A3C-AF9D-5F18521E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2071-1C56-431A-9916-8AC9BB8A8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лект для сюжетно-ролевых игр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ГОРОД ПРОФЕСС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витие игрового замысла до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Организовать РППС, способствующую развитию игровой деятельност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Развивать у детей творческий замысел, интерес к иг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умение самостоятельно занять себя иг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мплект вх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ной карк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сменных чех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адной карк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Объект 1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"/>
          <p:cNvPicPr/>
          <p:nvPr/>
        </p:nvPicPr>
        <p:blipFill>
          <a:blip r:embed="rId2"/>
          <a:stretch/>
        </p:blipFill>
        <p:spPr>
          <a:xfrm>
            <a:off x="4824360" y="1413000"/>
            <a:ext cx="338148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1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4662360" y="1557360"/>
            <a:ext cx="33814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/р игр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Больн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Объект 1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/р игр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Полиц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Объект 1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/р игр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Пожарная ча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Объект 1" descr=""/>
          <p:cNvPicPr/>
          <p:nvPr/>
        </p:nvPicPr>
        <p:blipFill>
          <a:blip r:embed="rId1"/>
          <a:stretch/>
        </p:blipFill>
        <p:spPr>
          <a:xfrm>
            <a:off x="2478240" y="1600200"/>
            <a:ext cx="41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26:57Z</dcterms:created>
  <dc:creator>MAMA</dc:creator>
  <dc:description/>
  <dc:language>en-US</dc:language>
  <cp:lastModifiedBy>Оксана</cp:lastModifiedBy>
  <dcterms:modified xsi:type="dcterms:W3CDTF">2019-03-01T12:36:50Z</dcterms:modified>
  <cp:revision>12</cp:revision>
  <dc:subject/>
  <dc:title>Слайд 1</dc:title>
</cp:coreProperties>
</file>