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6A2B-9AD0-48AD-BBB2-F25ED8D8CC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9D6B-05DC-43EE-ACA9-7D69624CC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F451-BA27-4487-ABA9-B4AAF163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BE9D-11A5-4872-8825-9780B94A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C023-9E6F-49DF-8169-5121C42B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EFAC-4E37-4319-B8E6-E25307C8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440-448F-4B80-9D2D-1F12795F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3A1-A2CE-4682-B2A9-B0B30B99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3725-27D3-43A5-8A62-70A71520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54F-E8BC-4688-90F6-06968253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C93-46E6-446D-880D-4594DA9F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1DF6-A30C-4BCC-AE42-C0436EB9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2D3C-4A90-435B-80A5-69B4933E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C5A-E07B-4B05-B5E4-FC0699AB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6B9B-B593-46D0-B5A3-995281FCB8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6979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ru-RU" sz="6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оект</a:t>
            </a:r>
            <a:br>
              <a:rPr sz="6000"/>
            </a:br>
            <a:r>
              <a:rPr b="1" lang="ru-RU" sz="6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«</a:t>
            </a: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ождество</a:t>
            </a:r>
            <a:r>
              <a:rPr b="1" lang="ru-RU" sz="6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8000" y="1197000"/>
            <a:ext cx="4565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оспитателя Государственного бюджетного общеобразовательного учреждения города Москв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"Школа № 2101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дразделение № 13 Детский сад № 844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убанова Ольга Владими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редняя груп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Москва, 20</a:t>
            </a:r>
            <a:r>
              <a:rPr b="1" lang="en-US" sz="1600" spc="-1" strike="noStrike">
                <a:solidFill>
                  <a:srgbClr val="17375e"/>
                </a:solidFill>
                <a:latin typeface="Calibri"/>
              </a:rPr>
              <a:t>2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Рождество"/>
          <p:cNvPicPr/>
          <p:nvPr/>
        </p:nvPicPr>
        <p:blipFill>
          <a:blip r:embed="rId1"/>
          <a:stretch/>
        </p:blipFill>
        <p:spPr>
          <a:xfrm>
            <a:off x="4929120" y="2643120"/>
            <a:ext cx="3571920" cy="34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ce28cc1a2cc5.jpg"/>
          <p:cNvPicPr/>
          <p:nvPr/>
        </p:nvPicPr>
        <p:blipFill>
          <a:blip r:embed="rId1"/>
          <a:stretch/>
        </p:blipFill>
        <p:spPr>
          <a:xfrm>
            <a:off x="1238400" y="1595520"/>
            <a:ext cx="66672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0007-008-Dlja-prazdnika-potrebujutsja-kostjumy-rjazhenykh.jpg"/>
          <p:cNvPicPr/>
          <p:nvPr/>
        </p:nvPicPr>
        <p:blipFill>
          <a:blip r:embed="rId1"/>
          <a:stretch/>
        </p:blipFill>
        <p:spPr>
          <a:xfrm>
            <a:off x="1523880" y="1185840"/>
            <a:ext cx="6096240" cy="448632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684360" y="40464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талась и языческая традиция рядиться в шкуры животных, маски и костюмы колдунов, ведьм. Мужчины и женщины, стар и млад представали в мерзком обличье, дабы своим видом отпугнуть, удалить от себя нечистую си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826920" y="692280"/>
            <a:ext cx="7632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Этот обычай назывался колядаванием в честь языческого бога пиршеств и мира Коляды, а песни - колядк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a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Коляда, коля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шла коля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кануне Рожд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Мы ходил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мы искали Коляду свят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 всем по двора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 проулочкам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51397637.jpg"/>
          <p:cNvPicPr/>
          <p:nvPr/>
        </p:nvPicPr>
        <p:blipFill>
          <a:blip r:embed="rId1"/>
          <a:stretch/>
        </p:blipFill>
        <p:spPr>
          <a:xfrm>
            <a:off x="762120" y="203040"/>
            <a:ext cx="7619760" cy="645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96198204_1358039917_59376403689384.jpg"/>
          <p:cNvPicPr/>
          <p:nvPr/>
        </p:nvPicPr>
        <p:blipFill>
          <a:blip r:embed="rId1"/>
          <a:stretch/>
        </p:blipFill>
        <p:spPr>
          <a:xfrm>
            <a:off x="611280" y="765000"/>
            <a:ext cx="80024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108835344_147198_600.jpg"/>
          <p:cNvPicPr/>
          <p:nvPr/>
        </p:nvPicPr>
        <p:blipFill>
          <a:blip r:embed="rId1"/>
          <a:stretch/>
        </p:blipFill>
        <p:spPr>
          <a:xfrm>
            <a:off x="1116000" y="1285920"/>
            <a:ext cx="684072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original.jpg"/>
          <p:cNvPicPr/>
          <p:nvPr/>
        </p:nvPicPr>
        <p:blipFill>
          <a:blip r:embed="rId1"/>
          <a:stretch/>
        </p:blipFill>
        <p:spPr>
          <a:xfrm>
            <a:off x="611280" y="765000"/>
            <a:ext cx="4032000" cy="2880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pic1848_1536.jpg"/>
          <p:cNvPicPr/>
          <p:nvPr/>
        </p:nvPicPr>
        <p:blipFill>
          <a:blip r:embed="rId2"/>
          <a:stretch/>
        </p:blipFill>
        <p:spPr>
          <a:xfrm>
            <a:off x="4788000" y="1125360"/>
            <a:ext cx="4105080" cy="48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4" descr="1294346135_rizdvo_posht_inside.jpg"/>
          <p:cNvPicPr/>
          <p:nvPr/>
        </p:nvPicPr>
        <p:blipFill>
          <a:blip r:embed="rId1"/>
          <a:stretch/>
        </p:blipFill>
        <p:spPr>
          <a:xfrm>
            <a:off x="1187280" y="404640"/>
            <a:ext cx="647712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81488716_large_0_aa8c_68db74e9_XL.jpg"/>
          <p:cNvPicPr/>
          <p:nvPr/>
        </p:nvPicPr>
        <p:blipFill>
          <a:blip r:embed="rId1"/>
          <a:stretch/>
        </p:blipFill>
        <p:spPr>
          <a:xfrm>
            <a:off x="1476360" y="2133720"/>
            <a:ext cx="5864400" cy="42512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>
            <a:off x="324000" y="351720"/>
            <a:ext cx="842472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ьки, катание на санях, л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има совсем не так уж сурова к людям. Она зовет всех из дома на воздух и дарит немало веселых забав, особенно на Святки. Как только реки, озера и пруды затягивались льдом, там появлялись взрослые и дети на конь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как вы думаете, сколько лет конькам и как давно они появились в России? Самым древним конькам - 3200 лет. Они сделаны из кости. Археологи нашли их около Одессы. На раскопках среди домашней утвари археологи почти всегда находили конь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img9.jpg"/>
          <p:cNvPicPr/>
          <p:nvPr/>
        </p:nvPicPr>
        <p:blipFill>
          <a:blip r:embed="rId1"/>
          <a:srcRect l="0" t="13858" r="0" b="0"/>
          <a:stretch/>
        </p:blipFill>
        <p:spPr>
          <a:xfrm>
            <a:off x="755640" y="981000"/>
            <a:ext cx="7620120" cy="4923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324000" y="259560"/>
            <a:ext cx="820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Святыми вечерами или даже ночами, а особенно в сочельник, накануне Крещения, гадали: по искусственным и естественным знакам пытались предсказать свою судьбу, угадать, открыть тайн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91856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Monotype Corsiva"/>
              </a:rPr>
              <a:t>Рождество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561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7030a0"/>
                </a:solidFill>
                <a:latin typeface="Calibri"/>
              </a:rPr>
              <a:t>Издавна зимой люди праздновали не только Новый год, но и Рождество. Это большой праздник христианской церкви. В Европе Рождество встречают в конце года - 25 декабря. И лишь православная русская церковь отмечает этот праздник две недели спустя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68858819_1294337028_0_2c89d_5af23a73_XL.jpg"/>
          <p:cNvPicPr/>
          <p:nvPr/>
        </p:nvPicPr>
        <p:blipFill>
          <a:blip r:embed="rId1"/>
          <a:stretch/>
        </p:blipFill>
        <p:spPr>
          <a:xfrm>
            <a:off x="1371600" y="10288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2" descr="8cc4de93afc9cc6b36a3a56ff78217ef_XL.jpg"/>
          <p:cNvPicPr/>
          <p:nvPr/>
        </p:nvPicPr>
        <p:blipFill>
          <a:blip r:embed="rId1"/>
          <a:stretch/>
        </p:blipFill>
        <p:spPr>
          <a:xfrm>
            <a:off x="755640" y="981000"/>
            <a:ext cx="77979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df05aebe8a3570c1bd48e533654a62d2.jpg"/>
          <p:cNvPicPr/>
          <p:nvPr/>
        </p:nvPicPr>
        <p:blipFill>
          <a:blip r:embed="rId1"/>
          <a:stretch/>
        </p:blipFill>
        <p:spPr>
          <a:xfrm>
            <a:off x="2124000" y="404640"/>
            <a:ext cx="484668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e0d357033533.jpg"/>
          <p:cNvPicPr/>
          <p:nvPr/>
        </p:nvPicPr>
        <p:blipFill>
          <a:blip r:embed="rId1"/>
          <a:stretch/>
        </p:blipFill>
        <p:spPr>
          <a:xfrm>
            <a:off x="971640" y="981000"/>
            <a:ext cx="750564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2" descr="e0d357033533.jpg"/>
          <p:cNvPicPr/>
          <p:nvPr/>
        </p:nvPicPr>
        <p:blipFill>
          <a:blip r:embed="rId1"/>
          <a:stretch/>
        </p:blipFill>
        <p:spPr>
          <a:xfrm>
            <a:off x="1238400" y="1300320"/>
            <a:ext cx="6667200" cy="42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95280" y="410760"/>
            <a:ext cx="817236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Когда же вернее праздновать Рождеств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 января Рождество празднуется по юлианскому календарю, который так называется в честь Юлия Цезаря, выдающегося древнеримского государственного деятеля и полководца. Сам же календарь был создан в Древнем Египте. Это солнечный календарь. Египетские астрономы продолжительность года определили в 365 суток, поскольку столько времени проходило от одного дня весеннего равноденствия (когда световой день равен ночи) до другого. Юлий Цезарь изучил в Египте этот календарь и решил, что необходимо заменить сумбурный и сложный римский лунносолнечный календарь на египетский солнечный календарь. Так в Европу пришел этот календарь. И вместе с христианством распространился по ней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В нашей стране Рождество почитали и широко отмечали до 1929 года. После праздник был забыт. В большинстве семей отмечать его перестали. И только церковь шестого и седьмого января устраивала праздничные службы. Поэтому не все сегодня знают, что это за праздник - Рождество и что в этот день наши бабушки и дедушки праздновали рождение Иисуса Хри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179280" y="786600"/>
            <a:ext cx="856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Calibri"/>
              </a:rPr>
              <a:t>«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Христос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Calibri"/>
              </a:rPr>
              <a:t>»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 значит царь. Но Иисус был не обыкновенным царем: у него не было ни короны, ни трона. Его называли так, потому что он открыл людям великие тайны о жизни, о доброте, о правде. Поэтому Рождество очень важно для людей, ведь почти все народы договорились вести счет годам, начиная с этого собы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Библия - главная книга христиан - рассказывает нам о том времени, когда родился Иисус Христо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539640" y="129240"/>
            <a:ext cx="766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ождество в России всегда праздновали радостно и весело. Накануне украшали дома и улицы. Магазины, лавочки и рынки бурлили: все покупали подарки и угощения к праздн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ождественский пост заканчивался 6 января. Этот день считался самым голодным. С утра никто ничего не ел, даже за стол не садился. Все готовились к Рождеству: пекли пироги с горохом, картофелем, сочни с ягодами и готовили сочиво - кашу с медом, ягодами и плодами. Поэтому день перед Рождеством назвали сочельником или сочевни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Никто не садился за стол до появления первой вечерней звезды в память о звезде, по которой волхвы узнали о рождении Иисуса Христа. В этот день рассказывали о рождении Иисуса Хри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В сочельник и рождественскую ночь люди зажигали и ставили на окна свечи, на улицах  жгли костры, чтобы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согреть новорожденного Иисуса Христа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Маленькие мальчики с бумажными звездами и фонариками в сопровожд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e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нии взрослого ходили по городу и стучали в те дома, где на окнах были зажженные свечи. Они шутили, устраивали представления, плясали, пели рождественские песни, славящие Христа, и после каждой песни говорили хозяевам дома: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С праздником хозяина поздравляем, здравия желаем ...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»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 А хозяева обязаны были пригласить певцов в дом, к столу или щедро наградить их рождественскими угощениями. Не принять христославов считалось грехом - нарушением Божьих заповедей - для хозяина и обидой для тех, кто славил Хри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2073_6_CompressedImage.jpg"/>
          <p:cNvPicPr/>
          <p:nvPr/>
        </p:nvPicPr>
        <p:blipFill>
          <a:blip r:embed="rId1"/>
          <a:stretch/>
        </p:blipFill>
        <p:spPr>
          <a:xfrm>
            <a:off x="684360" y="692280"/>
            <a:ext cx="77040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69188301_fffa369a3a80.jpg"/>
          <p:cNvPicPr/>
          <p:nvPr/>
        </p:nvPicPr>
        <p:blipFill>
          <a:blip r:embed="rId1"/>
          <a:stretch/>
        </p:blipFill>
        <p:spPr>
          <a:xfrm>
            <a:off x="127080" y="495360"/>
            <a:ext cx="88898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37440744_Podverbnaya_Mariya.jpg"/>
          <p:cNvPicPr/>
          <p:nvPr/>
        </p:nvPicPr>
        <p:blipFill>
          <a:blip r:embed="rId1"/>
          <a:stretch/>
        </p:blipFill>
        <p:spPr>
          <a:xfrm>
            <a:off x="755640" y="836640"/>
            <a:ext cx="7488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110406265_4839503_maslen.jpg"/>
          <p:cNvPicPr/>
          <p:nvPr/>
        </p:nvPicPr>
        <p:blipFill>
          <a:blip r:embed="rId1"/>
          <a:stretch/>
        </p:blipFill>
        <p:spPr>
          <a:xfrm>
            <a:off x="444600" y="431640"/>
            <a:ext cx="8254800" cy="59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11:31:10Z</dcterms:created>
  <dc:creator>Губанова</dc:creator>
  <dc:description/>
  <dc:language>en-US</dc:language>
  <cp:lastModifiedBy>Ben</cp:lastModifiedBy>
  <dcterms:modified xsi:type="dcterms:W3CDTF">2021-04-25T09:52:55Z</dcterms:modified>
  <cp:revision>15</cp:revision>
  <dc:subject/>
  <dc:title>Слайд 1</dc:title>
</cp:coreProperties>
</file>