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60E-7433-4BEB-B95F-6EB758A0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6711-710F-435F-8D32-B5FB32F8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C7E-9FDB-4D2A-BF27-832C07C6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A6BD-DCC6-4A37-A8E3-2889067D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6C96-CFE5-4AA8-8DBA-11B6DBCD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FD50-0156-4B51-9AFD-62768469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FCB-4016-4779-805D-E5EC16EB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03C-D9F2-4EDC-A73B-2C9007C5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B63-A138-4D38-ABA7-40D61A26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CC3-5C41-49A7-9401-830D8D45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E266-3E7D-40DA-BED5-5EA02F20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800-C53E-4CBF-9A37-130F3131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092F-3D8C-4A60-B05A-6B2D60B7BD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53352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800000"/>
                </a:solidFill>
                <a:latin typeface="Monotype Corsiva"/>
              </a:rPr>
              <a:t>«Финансовая грамотность  дошкольников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ANd9GcR0BPnw6qiRuhRHXvcXlWAIHzSfjiUpqKNCZVGufAqCxa3mhh6Ppg"/>
          <p:cNvPicPr/>
          <p:nvPr/>
        </p:nvPicPr>
        <p:blipFill>
          <a:blip r:embed="rId1"/>
          <a:stretch/>
        </p:blipFill>
        <p:spPr>
          <a:xfrm>
            <a:off x="2362320" y="1981080"/>
            <a:ext cx="4343400" cy="3006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1295280" y="1143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«Сказка ложь, да в ней намек – добрым молодцам ур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Дорогие друзь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Сегодня мы с вами будем учиться правильному экономическому поведению, а помогут нам в этом любимые герои старых сказок и народная мудр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Вспомним известные сказки и поговорки, и сформулируем правила экономического поведения, ведь в современной жизни эти правила очень важн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.С. Пушкин «Сказка о рыбаке и рыб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7920" y="4952520"/>
            <a:ext cx="7315200" cy="163044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очему поступки старухи нельзя назвать правильным экономическим повед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Что значит «остаться у разбитого корыт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ANd9GcSMESJLgdS4kkeCyCWET7Es_8x98hnxO7SMih6uTf6sPE1Ky11f"/>
          <p:cNvPicPr/>
          <p:nvPr/>
        </p:nvPicPr>
        <p:blipFill>
          <a:blip r:embed="rId1"/>
          <a:stretch/>
        </p:blipFill>
        <p:spPr>
          <a:xfrm>
            <a:off x="228600" y="762120"/>
            <a:ext cx="2438280" cy="1695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ANd9GcTm5ZAy2F9UvdSY7edfHsjqgSMjmr5wjwp2RCQyJgKvO7_CuD3F9A"/>
          <p:cNvPicPr/>
          <p:nvPr/>
        </p:nvPicPr>
        <p:blipFill>
          <a:blip r:embed="rId2"/>
          <a:stretch/>
        </p:blipFill>
        <p:spPr>
          <a:xfrm>
            <a:off x="3200400" y="762120"/>
            <a:ext cx="2514600" cy="1712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ANd9GcQV_I-XQeFYmQZIBet8GQnxQ5V0fyx6LOMf0y-OWuVXemwHbNw"/>
          <p:cNvPicPr/>
          <p:nvPr/>
        </p:nvPicPr>
        <p:blipFill>
          <a:blip r:embed="rId3"/>
          <a:stretch/>
        </p:blipFill>
        <p:spPr>
          <a:xfrm>
            <a:off x="6248520" y="762120"/>
            <a:ext cx="2514600" cy="172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ANd9GcS_T8WsugyAPUm_EWRNbp7Is80Sf6-5GFXkx4FU6Lnfs8cMtepW8A"/>
          <p:cNvPicPr/>
          <p:nvPr/>
        </p:nvPicPr>
        <p:blipFill>
          <a:blip r:embed="rId4"/>
          <a:stretch/>
        </p:blipFill>
        <p:spPr>
          <a:xfrm>
            <a:off x="3276720" y="297180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ANd9GcQbVOLq09XGeCaviOSsgHuxBe4-Bws6LI_oIbXEAJMwk_oVDfIr"/>
          <p:cNvPicPr/>
          <p:nvPr/>
        </p:nvPicPr>
        <p:blipFill>
          <a:blip r:embed="rId5"/>
          <a:stretch/>
        </p:blipFill>
        <p:spPr>
          <a:xfrm>
            <a:off x="228600" y="2971800"/>
            <a:ext cx="2438280" cy="1758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ANd9GcS6Mbco_b6ojWNg5WywL6_6NCAOuGcy-YCWbqHHCChadMfyrsgH"/>
          <p:cNvPicPr/>
          <p:nvPr/>
        </p:nvPicPr>
        <p:blipFill>
          <a:blip r:embed="rId6"/>
          <a:stretch/>
        </p:blipFill>
        <p:spPr>
          <a:xfrm>
            <a:off x="6248520" y="2971800"/>
            <a:ext cx="251460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24"/>
          <p:cNvSpPr/>
          <p:nvPr/>
        </p:nvSpPr>
        <p:spPr>
          <a:xfrm>
            <a:off x="2743200" y="144792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5"/>
          <p:cNvSpPr/>
          <p:nvPr/>
        </p:nvSpPr>
        <p:spPr>
          <a:xfrm>
            <a:off x="5791320" y="144792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6"/>
          <p:cNvSpPr/>
          <p:nvPr/>
        </p:nvSpPr>
        <p:spPr>
          <a:xfrm rot="5400000">
            <a:off x="7291440" y="246204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8"/>
          <p:cNvSpPr/>
          <p:nvPr/>
        </p:nvSpPr>
        <p:spPr>
          <a:xfrm flipH="1">
            <a:off x="5791320" y="342900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9"/>
          <p:cNvSpPr/>
          <p:nvPr/>
        </p:nvSpPr>
        <p:spPr>
          <a:xfrm flipH="1">
            <a:off x="2743200" y="342900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0"/>
          <p:cNvSpPr/>
          <p:nvPr/>
        </p:nvSpPr>
        <p:spPr>
          <a:xfrm flipV="1" rot="16200000">
            <a:off x="1119240" y="246204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1" descr="ANd9GcSWH7ppXfeWQ8nsYP61n7674oe4_fRxGyl2eTMMF9l7_F1skl6rgg"/>
          <p:cNvPicPr/>
          <p:nvPr/>
        </p:nvPicPr>
        <p:blipFill>
          <a:blip r:embed="rId7"/>
          <a:stretch/>
        </p:blipFill>
        <p:spPr>
          <a:xfrm>
            <a:off x="304920" y="51814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А.Н. Толстой «Золотой ключ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5181480"/>
            <a:ext cx="7543800" cy="14479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Буратино хотел получить много денег сразу для добрых дел, но что он сделал не та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обился ли Буратино желаемого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ANd9GcS9AwIoirbjr6NqSmN7brSYYwAezhlcE4ExLgAHMbl7baLv-uHJ"/>
          <p:cNvPicPr/>
          <p:nvPr/>
        </p:nvPicPr>
        <p:blipFill>
          <a:blip r:embed="rId1"/>
          <a:stretch/>
        </p:blipFill>
        <p:spPr>
          <a:xfrm>
            <a:off x="3657600" y="762120"/>
            <a:ext cx="174960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ANd9GcR261rSoQcnaWgDeBH522ZgkKPvZDnZHYWtSZzurPqorJ_nJemx"/>
          <p:cNvPicPr/>
          <p:nvPr/>
        </p:nvPicPr>
        <p:blipFill>
          <a:blip r:embed="rId2"/>
          <a:stretch/>
        </p:blipFill>
        <p:spPr>
          <a:xfrm>
            <a:off x="228600" y="838080"/>
            <a:ext cx="254304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ANd9GcQdS5GzMlXeJ_575eXi571gBuqi3FhIMKaiclsjsv6UtZIEak8m"/>
          <p:cNvPicPr/>
          <p:nvPr/>
        </p:nvPicPr>
        <p:blipFill>
          <a:blip r:embed="rId3"/>
          <a:stretch/>
        </p:blipFill>
        <p:spPr>
          <a:xfrm>
            <a:off x="304920" y="2895480"/>
            <a:ext cx="2133360" cy="20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ANd9GcRFg1qmU8derAFSq6kZqWOOuxA77ynkC5v-RVvIOiEQN5OI66QK9Q"/>
          <p:cNvPicPr/>
          <p:nvPr/>
        </p:nvPicPr>
        <p:blipFill>
          <a:blip r:embed="rId4"/>
          <a:stretch/>
        </p:blipFill>
        <p:spPr>
          <a:xfrm>
            <a:off x="6553080" y="685800"/>
            <a:ext cx="2057400" cy="1959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" descr="ANd9GcQhycLKJJJwqVgxR0gqS6-QuPttoXyMunY8HONqXDEEPMo_vWDa"/>
          <p:cNvPicPr/>
          <p:nvPr/>
        </p:nvPicPr>
        <p:blipFill>
          <a:blip r:embed="rId5"/>
          <a:stretch/>
        </p:blipFill>
        <p:spPr>
          <a:xfrm>
            <a:off x="6629400" y="3124080"/>
            <a:ext cx="1981080" cy="185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1" descr="ANd9GcS4RDYy5dGcv0TSn0O3kOLU9-hv4zbzYJH_pESIYsT8GwJQFV0Xmw"/>
          <p:cNvPicPr/>
          <p:nvPr/>
        </p:nvPicPr>
        <p:blipFill>
          <a:blip r:embed="rId6"/>
          <a:stretch/>
        </p:blipFill>
        <p:spPr>
          <a:xfrm>
            <a:off x="3352680" y="3048120"/>
            <a:ext cx="2590920" cy="199692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22"/>
          <p:cNvSpPr/>
          <p:nvPr/>
        </p:nvSpPr>
        <p:spPr>
          <a:xfrm>
            <a:off x="2895480" y="1447920"/>
            <a:ext cx="3812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3"/>
          <p:cNvSpPr/>
          <p:nvPr/>
        </p:nvSpPr>
        <p:spPr>
          <a:xfrm>
            <a:off x="5867280" y="1523880"/>
            <a:ext cx="38124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4"/>
          <p:cNvSpPr/>
          <p:nvPr/>
        </p:nvSpPr>
        <p:spPr>
          <a:xfrm rot="5400000">
            <a:off x="7443360" y="2614680"/>
            <a:ext cx="3812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5"/>
          <p:cNvSpPr/>
          <p:nvPr/>
        </p:nvSpPr>
        <p:spPr>
          <a:xfrm flipH="1">
            <a:off x="5943600" y="388620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6"/>
          <p:cNvSpPr/>
          <p:nvPr/>
        </p:nvSpPr>
        <p:spPr>
          <a:xfrm>
            <a:off x="2895480" y="3809880"/>
            <a:ext cx="38124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7" descr="ANd9GcSWH7ppXfeWQ8nsYP61n7674oe4_fRxGyl2eTMMF9l7_F1skl6rgg"/>
          <p:cNvPicPr/>
          <p:nvPr/>
        </p:nvPicPr>
        <p:blipFill>
          <a:blip r:embed="rId7"/>
          <a:stretch/>
        </p:blipFill>
        <p:spPr>
          <a:xfrm>
            <a:off x="0" y="54100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ри порос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5105160"/>
            <a:ext cx="6934320" cy="14778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очему поросята построили разные доми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то из них оказался прав 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&amp;tcy;&amp;rcy;&amp;icy; &amp;pcy;&amp;ocy;&amp;rcy;&amp;ocy;&amp;scy;&amp;iecy;&amp;ncy;&amp;kcy;&amp;acy;, &amp;icy;&amp;lcy;&amp;lcy;&amp;yucy;&amp;scy;&amp;tcy;&amp;rcy;&amp;acy;&amp;tscy;&amp;icy;&amp;icy; &amp;Tcy;&amp;ocy;&amp;ncy;&amp;icy; &amp;Vcy;&amp;ucy;&amp;lcy;&amp;fcy;"/>
          <p:cNvPicPr/>
          <p:nvPr/>
        </p:nvPicPr>
        <p:blipFill>
          <a:blip r:embed="rId1"/>
          <a:stretch/>
        </p:blipFill>
        <p:spPr>
          <a:xfrm>
            <a:off x="228600" y="762120"/>
            <a:ext cx="2286000" cy="213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&amp;tcy;&amp;rcy;&amp;icy; &amp;pcy;&amp;ocy;&amp;rcy;&amp;ocy;&amp;scy;&amp;iecy;&amp;ncy;&amp;kcy;&amp;acy;, &amp;icy;&amp;lcy;&amp;lcy;&amp;yucy;&amp;scy;&amp;tcy;&amp;rcy;&amp;acy;&amp;tscy;&amp;icy;&amp;icy; &amp;Tcy;&amp;ocy;&amp;ncy;&amp;icy; &amp;Vcy;&amp;ucy;&amp;lcy;&amp;fcy;"/>
          <p:cNvPicPr/>
          <p:nvPr/>
        </p:nvPicPr>
        <p:blipFill>
          <a:blip r:embed="rId2"/>
          <a:stretch/>
        </p:blipFill>
        <p:spPr>
          <a:xfrm>
            <a:off x="3429000" y="762120"/>
            <a:ext cx="1857240" cy="1981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&amp;tcy;&amp;rcy;&amp;icy; &amp;pcy;&amp;ocy;&amp;rcy;&amp;ocy;&amp;scy;&amp;iecy;&amp;ncy;&amp;kcy;&amp;acy;, &amp;icy;&amp;lcy;&amp;lcy;&amp;yucy;&amp;scy;&amp;tcy;&amp;rcy;&amp;acy;&amp;tscy;&amp;icy;&amp;icy; &amp;Tcy;&amp;ocy;&amp;ncy;&amp;icy; &amp;Vcy;&amp;ucy;&amp;lcy;&amp;fcy;"/>
          <p:cNvPicPr/>
          <p:nvPr/>
        </p:nvPicPr>
        <p:blipFill>
          <a:blip r:embed="rId3"/>
          <a:stretch/>
        </p:blipFill>
        <p:spPr>
          <a:xfrm>
            <a:off x="5867280" y="838080"/>
            <a:ext cx="2971800" cy="1905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&amp;tcy;&amp;rcy;&amp;icy; &amp;pcy;&amp;ocy;&amp;rcy;&amp;ocy;&amp;scy;&amp;iecy;&amp;ncy;&amp;kcy;&amp;acy;, &amp;icy;&amp;lcy;&amp;lcy;&amp;yucy;&amp;scy;&amp;tcy;&amp;rcy;&amp;acy;&amp;tscy;&amp;icy;&amp;icy; &amp;Tcy;&amp;ocy;&amp;ncy;&amp;icy; &amp;Vcy;&amp;ucy;&amp;lcy;&amp;fcy;"/>
          <p:cNvPicPr/>
          <p:nvPr/>
        </p:nvPicPr>
        <p:blipFill>
          <a:blip r:embed="rId4"/>
          <a:stretch/>
        </p:blipFill>
        <p:spPr>
          <a:xfrm>
            <a:off x="304920" y="350532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&amp;tcy;&amp;rcy;&amp;icy; &amp;pcy;&amp;ocy;&amp;rcy;&amp;ocy;&amp;scy;&amp;iecy;&amp;ncy;&amp;kcy;&amp;acy;, &amp;icy;&amp;lcy;&amp;lcy;&amp;yucy;&amp;scy;&amp;tcy;&amp;rcy;&amp;acy;&amp;tscy;&amp;icy;&amp;icy; &amp;Tcy;&amp;ocy;&amp;ncy;&amp;icy; &amp;Vcy;&amp;ucy;&amp;lcy;&amp;fcy;"/>
          <p:cNvPicPr/>
          <p:nvPr/>
        </p:nvPicPr>
        <p:blipFill>
          <a:blip r:embed="rId5"/>
          <a:stretch/>
        </p:blipFill>
        <p:spPr>
          <a:xfrm>
            <a:off x="3200400" y="3505320"/>
            <a:ext cx="2428920" cy="1207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&amp;tcy;&amp;rcy;&amp;icy; &amp;pcy;&amp;ocy;&amp;rcy;&amp;ocy;&amp;scy;&amp;iecy;&amp;ncy;&amp;kcy;&amp;acy;"/>
          <p:cNvPicPr/>
          <p:nvPr/>
        </p:nvPicPr>
        <p:blipFill>
          <a:blip r:embed="rId6"/>
          <a:stretch/>
        </p:blipFill>
        <p:spPr>
          <a:xfrm>
            <a:off x="6095880" y="3200400"/>
            <a:ext cx="2667240" cy="16970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9"/>
          <p:cNvSpPr/>
          <p:nvPr/>
        </p:nvSpPr>
        <p:spPr>
          <a:xfrm rot="5400000">
            <a:off x="1194840" y="291924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0"/>
          <p:cNvSpPr/>
          <p:nvPr/>
        </p:nvSpPr>
        <p:spPr>
          <a:xfrm rot="5400000">
            <a:off x="4090680" y="2842920"/>
            <a:ext cx="38124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1"/>
          <p:cNvSpPr/>
          <p:nvPr/>
        </p:nvSpPr>
        <p:spPr>
          <a:xfrm rot="5400000">
            <a:off x="7367040" y="269064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>
            <a:off x="2743200" y="388620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3"/>
          <p:cNvSpPr/>
          <p:nvPr/>
        </p:nvSpPr>
        <p:spPr>
          <a:xfrm>
            <a:off x="5715000" y="380988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4" descr="ANd9GcSWH7ppXfeWQ8nsYP61n7674oe4_fRxGyl2eTMMF9l7_F1skl6rgg"/>
          <p:cNvPicPr/>
          <p:nvPr/>
        </p:nvPicPr>
        <p:blipFill>
          <a:blip r:embed="rId7"/>
          <a:stretch/>
        </p:blipFill>
        <p:spPr>
          <a:xfrm>
            <a:off x="457200" y="52578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словицы и поговорки об экономическом поведении: как ты понимаешь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Без труда не вытащить рыбку из п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Семь раз отмерь, один раз отреж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С мастерством люди не родятся, а добытым ремеслом гордя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За всякое дело берись ум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Умелец да рукодельник и себе и людям радость принос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Скоро сказка сказывается, да не скоро дело дела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остые правила экономического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80-2"/>
          <p:cNvPicPr/>
          <p:nvPr/>
        </p:nvPicPr>
        <p:blipFill>
          <a:blip r:embed="rId1"/>
          <a:stretch/>
        </p:blipFill>
        <p:spPr>
          <a:xfrm>
            <a:off x="380880" y="914400"/>
            <a:ext cx="85752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80-2"/>
          <p:cNvPicPr/>
          <p:nvPr/>
        </p:nvPicPr>
        <p:blipFill>
          <a:blip r:embed="rId2"/>
          <a:stretch/>
        </p:blipFill>
        <p:spPr>
          <a:xfrm>
            <a:off x="380880" y="2362320"/>
            <a:ext cx="85752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80-2"/>
          <p:cNvPicPr/>
          <p:nvPr/>
        </p:nvPicPr>
        <p:blipFill>
          <a:blip r:embed="rId3"/>
          <a:stretch/>
        </p:blipFill>
        <p:spPr>
          <a:xfrm>
            <a:off x="457200" y="3733920"/>
            <a:ext cx="85716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80-2"/>
          <p:cNvPicPr/>
          <p:nvPr/>
        </p:nvPicPr>
        <p:blipFill>
          <a:blip r:embed="rId4"/>
          <a:stretch/>
        </p:blipFill>
        <p:spPr>
          <a:xfrm>
            <a:off x="457200" y="5181480"/>
            <a:ext cx="857160" cy="1143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1676520" y="1066680"/>
            <a:ext cx="6933960" cy="642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Всегда соразмеряй свои желания и возможности, делай выбор в пользу главного и необходим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676520" y="2514600"/>
            <a:ext cx="6949800" cy="642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омни, что только честным трудом, своими знаниями можно добиться настоящего 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676520" y="3846600"/>
            <a:ext cx="6933960" cy="642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ежде, чем что-то сделать, узнай все о том, как, зачем и почему это нужно делать, какие могут быть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1676520" y="5257800"/>
            <a:ext cx="6933960" cy="9169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омни, что ты живешь среди людей и сотрудничество с ними, уважение их стремлений – важная часть успеха на пути к твоим цел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2:27:30Z</dcterms:created>
  <dc:creator>acer</dc:creator>
  <dc:description/>
  <dc:language>en-US</dc:language>
  <cp:lastModifiedBy>Лена</cp:lastModifiedBy>
  <dcterms:modified xsi:type="dcterms:W3CDTF">2018-04-23T19:01:0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