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1FA-2C5C-4972-B810-0545DB09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5E7-DC3A-488D-AC6F-9CA410E9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C6E-495A-4612-BBDD-5446EF56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254-B144-43EA-B5C0-F43AEB0D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0C3-5BB4-4870-8CB2-A92DB94A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ABE-83D6-475B-B147-A530D6C2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42B-732C-4130-B3DD-D361537D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FB3-4CE9-4A09-AE80-BFCB2F3C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672-2115-446A-AEA1-172CB92A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210-0A5D-4BFA-81BA-C7258FE4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8C6-C306-43B2-BE18-F76A1019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B65-C844-496D-88F6-F8248509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8AD9-7F57-4A9B-87FE-95C2895DC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3352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Monotype Corsiva"/>
              </a:rPr>
              <a:t>«Финансовая грамотность  дошкольников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ANd9GcR0BPnw6qiRuhRHXvcXlWAIHzSfjiUpqKNCZVGufAqCxa3mhh6Ppg"/>
          <p:cNvPicPr/>
          <p:nvPr/>
        </p:nvPicPr>
        <p:blipFill>
          <a:blip r:embed="rId1"/>
          <a:stretch/>
        </p:blipFill>
        <p:spPr>
          <a:xfrm>
            <a:off x="2362320" y="1981080"/>
            <a:ext cx="4343400" cy="3006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295280" y="1143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Сказка ложь, да в ней намек – добрым молодцам ур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Дорогие друзь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годня мы с вами будем учиться правильному экономическому поведению, а помогут нам в этом любимые герои старых сказок и народная мудр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спомним известные сказки и поговорки, и сформулируем правила экономического поведения, ведь в современной жизни эти правила очень важн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.С. Пушкин «Сказка о рыбаке и рыб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920" y="4952520"/>
            <a:ext cx="7315200" cy="163044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чему поступки старухи нельзя назвать правильным экономическим повед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то значит «остаться у разбитого корыт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ANd9GcSMESJLgdS4kkeCyCWET7Es_8x98hnxO7SMih6uTf6sPE1Ky11f"/>
          <p:cNvPicPr/>
          <p:nvPr/>
        </p:nvPicPr>
        <p:blipFill>
          <a:blip r:embed="rId1"/>
          <a:stretch/>
        </p:blipFill>
        <p:spPr>
          <a:xfrm>
            <a:off x="228600" y="762120"/>
            <a:ext cx="2438280" cy="1695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ANd9GcTm5ZAy2F9UvdSY7edfHsjqgSMjmr5wjwp2RCQyJgKvO7_CuD3F9A"/>
          <p:cNvPicPr/>
          <p:nvPr/>
        </p:nvPicPr>
        <p:blipFill>
          <a:blip r:embed="rId2"/>
          <a:stretch/>
        </p:blipFill>
        <p:spPr>
          <a:xfrm>
            <a:off x="3200400" y="762120"/>
            <a:ext cx="2514600" cy="1712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d9GcQV_I-XQeFYmQZIBet8GQnxQ5V0fyx6LOMf0y-OWuVXemwHbNw"/>
          <p:cNvPicPr/>
          <p:nvPr/>
        </p:nvPicPr>
        <p:blipFill>
          <a:blip r:embed="rId3"/>
          <a:stretch/>
        </p:blipFill>
        <p:spPr>
          <a:xfrm>
            <a:off x="6248520" y="762120"/>
            <a:ext cx="2514600" cy="172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ANd9GcS_T8WsugyAPUm_EWRNbp7Is80Sf6-5GFXkx4FU6Lnfs8cMtepW8A"/>
          <p:cNvPicPr/>
          <p:nvPr/>
        </p:nvPicPr>
        <p:blipFill>
          <a:blip r:embed="rId4"/>
          <a:stretch/>
        </p:blipFill>
        <p:spPr>
          <a:xfrm>
            <a:off x="3276720" y="29718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ANd9GcQbVOLq09XGeCaviOSsgHuxBe4-Bws6LI_oIbXEAJMwk_oVDfIr"/>
          <p:cNvPicPr/>
          <p:nvPr/>
        </p:nvPicPr>
        <p:blipFill>
          <a:blip r:embed="rId5"/>
          <a:stretch/>
        </p:blipFill>
        <p:spPr>
          <a:xfrm>
            <a:off x="228600" y="2971800"/>
            <a:ext cx="2438280" cy="175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ANd9GcS6Mbco_b6ojWNg5WywL6_6NCAOuGcy-YCWbqHHCChadMfyrsgH"/>
          <p:cNvPicPr/>
          <p:nvPr/>
        </p:nvPicPr>
        <p:blipFill>
          <a:blip r:embed="rId6"/>
          <a:stretch/>
        </p:blipFill>
        <p:spPr>
          <a:xfrm>
            <a:off x="6248520" y="297180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24"/>
          <p:cNvSpPr/>
          <p:nvPr/>
        </p:nvSpPr>
        <p:spPr>
          <a:xfrm>
            <a:off x="2743200" y="144792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5"/>
          <p:cNvSpPr/>
          <p:nvPr/>
        </p:nvSpPr>
        <p:spPr>
          <a:xfrm>
            <a:off x="5791320" y="144792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6"/>
          <p:cNvSpPr/>
          <p:nvPr/>
        </p:nvSpPr>
        <p:spPr>
          <a:xfrm rot="5400000">
            <a:off x="7291440" y="246204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8"/>
          <p:cNvSpPr/>
          <p:nvPr/>
        </p:nvSpPr>
        <p:spPr>
          <a:xfrm flipH="1">
            <a:off x="5791320" y="34290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9"/>
          <p:cNvSpPr/>
          <p:nvPr/>
        </p:nvSpPr>
        <p:spPr>
          <a:xfrm flipH="1">
            <a:off x="2743200" y="34290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0"/>
          <p:cNvSpPr/>
          <p:nvPr/>
        </p:nvSpPr>
        <p:spPr>
          <a:xfrm flipV="1" rot="16200000">
            <a:off x="1119240" y="246204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1" descr="ANd9GcSWH7ppXfeWQ8nsYP61n7674oe4_fRxGyl2eTMMF9l7_F1skl6rgg"/>
          <p:cNvPicPr/>
          <p:nvPr/>
        </p:nvPicPr>
        <p:blipFill>
          <a:blip r:embed="rId7"/>
          <a:stretch/>
        </p:blipFill>
        <p:spPr>
          <a:xfrm>
            <a:off x="304920" y="51814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А.Н. Толстой «Золотой клю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5181480"/>
            <a:ext cx="7543800" cy="1447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уратино хотел получить много денег сразу для добрых дел, но что он сделал не та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обился ли Буратино желаемого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ANd9GcS9AwIoirbjr6NqSmN7brSYYwAezhlcE4ExLgAHMbl7baLv-uHJ"/>
          <p:cNvPicPr/>
          <p:nvPr/>
        </p:nvPicPr>
        <p:blipFill>
          <a:blip r:embed="rId1"/>
          <a:stretch/>
        </p:blipFill>
        <p:spPr>
          <a:xfrm>
            <a:off x="3657600" y="762120"/>
            <a:ext cx="1749600" cy="1981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ANd9GcR261rSoQcnaWgDeBH522ZgkKPvZDnZHYWtSZzurPqorJ_nJemx"/>
          <p:cNvPicPr/>
          <p:nvPr/>
        </p:nvPicPr>
        <p:blipFill>
          <a:blip r:embed="rId2"/>
          <a:stretch/>
        </p:blipFill>
        <p:spPr>
          <a:xfrm>
            <a:off x="228600" y="83808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ANd9GcQdS5GzMlXeJ_575eXi571gBuqi3FhIMKaiclsjsv6UtZIEak8m"/>
          <p:cNvPicPr/>
          <p:nvPr/>
        </p:nvPicPr>
        <p:blipFill>
          <a:blip r:embed="rId3"/>
          <a:stretch/>
        </p:blipFill>
        <p:spPr>
          <a:xfrm>
            <a:off x="304920" y="2895480"/>
            <a:ext cx="2133360" cy="20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ANd9GcRFg1qmU8derAFSq6kZqWOOuxA77ynkC5v-RVvIOiEQN5OI66QK9Q"/>
          <p:cNvPicPr/>
          <p:nvPr/>
        </p:nvPicPr>
        <p:blipFill>
          <a:blip r:embed="rId4"/>
          <a:stretch/>
        </p:blipFill>
        <p:spPr>
          <a:xfrm>
            <a:off x="6553080" y="685800"/>
            <a:ext cx="2057400" cy="1959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ANd9GcQhycLKJJJwqVgxR0gqS6-QuPttoXyMunY8HONqXDEEPMo_vWDa"/>
          <p:cNvPicPr/>
          <p:nvPr/>
        </p:nvPicPr>
        <p:blipFill>
          <a:blip r:embed="rId5"/>
          <a:stretch/>
        </p:blipFill>
        <p:spPr>
          <a:xfrm>
            <a:off x="6629400" y="3124080"/>
            <a:ext cx="19810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" descr="ANd9GcS4RDYy5dGcv0TSn0O3kOLU9-hv4zbzYJH_pESIYsT8GwJQFV0Xmw"/>
          <p:cNvPicPr/>
          <p:nvPr/>
        </p:nvPicPr>
        <p:blipFill>
          <a:blip r:embed="rId6"/>
          <a:stretch/>
        </p:blipFill>
        <p:spPr>
          <a:xfrm>
            <a:off x="3352680" y="3048120"/>
            <a:ext cx="2590920" cy="19969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2"/>
          <p:cNvSpPr/>
          <p:nvPr/>
        </p:nvSpPr>
        <p:spPr>
          <a:xfrm>
            <a:off x="2895480" y="144792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5867280" y="1523880"/>
            <a:ext cx="3812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4"/>
          <p:cNvSpPr/>
          <p:nvPr/>
        </p:nvSpPr>
        <p:spPr>
          <a:xfrm rot="5400000">
            <a:off x="7443360" y="2614680"/>
            <a:ext cx="3812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 flipH="1">
            <a:off x="5943600" y="38862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6"/>
          <p:cNvSpPr/>
          <p:nvPr/>
        </p:nvSpPr>
        <p:spPr>
          <a:xfrm>
            <a:off x="2895480" y="3809880"/>
            <a:ext cx="3812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7" descr="ANd9GcSWH7ppXfeWQ8nsYP61n7674oe4_fRxGyl2eTMMF9l7_F1skl6rgg"/>
          <p:cNvPicPr/>
          <p:nvPr/>
        </p:nvPicPr>
        <p:blipFill>
          <a:blip r:embed="rId7"/>
          <a:stretch/>
        </p:blipFill>
        <p:spPr>
          <a:xfrm>
            <a:off x="0" y="54100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ри порос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5105160"/>
            <a:ext cx="6934320" cy="14778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чему поросята построили разные дом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то из них оказался прав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1"/>
          <a:stretch/>
        </p:blipFill>
        <p:spPr>
          <a:xfrm>
            <a:off x="228600" y="762120"/>
            <a:ext cx="2286000" cy="213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2"/>
          <a:stretch/>
        </p:blipFill>
        <p:spPr>
          <a:xfrm>
            <a:off x="3429000" y="762120"/>
            <a:ext cx="185724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3"/>
          <a:stretch/>
        </p:blipFill>
        <p:spPr>
          <a:xfrm>
            <a:off x="5867280" y="838080"/>
            <a:ext cx="297180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4"/>
          <a:stretch/>
        </p:blipFill>
        <p:spPr>
          <a:xfrm>
            <a:off x="304920" y="35053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5"/>
          <a:stretch/>
        </p:blipFill>
        <p:spPr>
          <a:xfrm>
            <a:off x="3200400" y="3505320"/>
            <a:ext cx="2428920" cy="120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&amp;tcy;&amp;rcy;&amp;icy; &amp;pcy;&amp;ocy;&amp;rcy;&amp;ocy;&amp;scy;&amp;iecy;&amp;ncy;&amp;kcy;&amp;acy;"/>
          <p:cNvPicPr/>
          <p:nvPr/>
        </p:nvPicPr>
        <p:blipFill>
          <a:blip r:embed="rId6"/>
          <a:stretch/>
        </p:blipFill>
        <p:spPr>
          <a:xfrm>
            <a:off x="6095880" y="3200400"/>
            <a:ext cx="2667240" cy="16970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9"/>
          <p:cNvSpPr/>
          <p:nvPr/>
        </p:nvSpPr>
        <p:spPr>
          <a:xfrm rot="5400000">
            <a:off x="1194840" y="291924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 rot="5400000">
            <a:off x="4090680" y="2842920"/>
            <a:ext cx="3812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 rot="5400000">
            <a:off x="7367040" y="269064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2743200" y="3886200"/>
            <a:ext cx="3808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5715000" y="3809880"/>
            <a:ext cx="3808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4" descr="ANd9GcSWH7ppXfeWQ8nsYP61n7674oe4_fRxGyl2eTMMF9l7_F1skl6rgg"/>
          <p:cNvPicPr/>
          <p:nvPr/>
        </p:nvPicPr>
        <p:blipFill>
          <a:blip r:embed="rId7"/>
          <a:stretch/>
        </p:blipFill>
        <p:spPr>
          <a:xfrm>
            <a:off x="457200" y="52578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словицы и поговорки об экономическом поведении: как ты понимаешь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Без труда не вытащить рыбку из п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емь раз отмерь, один раз отре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 мастерством люди не родятся, а добытым ремеслом гор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За всякое дело берись ум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Умелец да рукодельник и себе и людям радость прино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коро сказка сказывается, да не скоро дело дел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остые правила экономическ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80-2"/>
          <p:cNvPicPr/>
          <p:nvPr/>
        </p:nvPicPr>
        <p:blipFill>
          <a:blip r:embed="rId1"/>
          <a:stretch/>
        </p:blipFill>
        <p:spPr>
          <a:xfrm>
            <a:off x="380880" y="91440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80-2"/>
          <p:cNvPicPr/>
          <p:nvPr/>
        </p:nvPicPr>
        <p:blipFill>
          <a:blip r:embed="rId2"/>
          <a:stretch/>
        </p:blipFill>
        <p:spPr>
          <a:xfrm>
            <a:off x="380880" y="2362320"/>
            <a:ext cx="85752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80-2"/>
          <p:cNvPicPr/>
          <p:nvPr/>
        </p:nvPicPr>
        <p:blipFill>
          <a:blip r:embed="rId3"/>
          <a:stretch/>
        </p:blipFill>
        <p:spPr>
          <a:xfrm>
            <a:off x="457200" y="373392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80-2"/>
          <p:cNvPicPr/>
          <p:nvPr/>
        </p:nvPicPr>
        <p:blipFill>
          <a:blip r:embed="rId4"/>
          <a:stretch/>
        </p:blipFill>
        <p:spPr>
          <a:xfrm>
            <a:off x="457200" y="5181480"/>
            <a:ext cx="857160" cy="1143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1676520" y="106668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сегда соразмеряй свои желания и возможности, делай выбор в пользу главного и необходи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676520" y="2514600"/>
            <a:ext cx="694980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мни, что только честным трудом, своими знаниями можно добиться настоящего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676520" y="384660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жде, чем что-то сделать, узнай все о том, как, зачем и почему это нужно делать, какие могут быть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676520" y="5257800"/>
            <a:ext cx="6933960" cy="916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мни, что ты живешь среди людей и сотрудничество с ними, уважение их стремлений – важная часть успеха на пути к твои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2:27:30Z</dcterms:created>
  <dc:creator>acer</dc:creator>
  <dc:description/>
  <dc:language>en-US</dc:language>
  <cp:lastModifiedBy>Лена</cp:lastModifiedBy>
  <dcterms:modified xsi:type="dcterms:W3CDTF">2018-04-23T19:01:0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