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5B3F-98DD-4C16-B7E5-4BF2C584B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A07-3DF6-4939-83B4-C03341ADC2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29D-A9C4-4C68-9C04-CBBB0543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0A2-2B07-42A8-878D-376E901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61F-4DF6-4835-B7F1-4C1A20B1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AA3-FA3A-45A7-A726-81F03C70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274-6006-4CCB-BC0C-10FF53CA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66BA-1A09-4C88-BB74-86FEDB1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5463-47EB-4E93-9866-2D7DC8A2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53D7-56D2-4D4B-96EC-973A10DD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2FF9-2D39-47AC-8A27-0CDECC3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2B41-9244-4998-8182-E68D748F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9577-9465-4F57-85A8-757FFC5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4B9-CFF1-45D8-A504-C0120C9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605-27CA-4E75-B706-D9F3717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AB21-C54F-48C7-84B9-0D3C72F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A1B-51E2-42ED-B2A6-298DBE6F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41E-FC64-42D3-9367-40FA70EB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E73D-F8A9-4395-A01E-5D75B957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09F-9B52-481A-AB7A-40DD1E0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FE7-EFAF-45E2-8966-F8039164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BF5-1850-43B8-8610-0DE3E95B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8DA-A5DB-4C03-8575-D36CB74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BCA-D9C7-4D46-9461-25F566F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73E-D334-4385-B4C4-DE036DD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54A-749A-443E-891A-A773A1C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BCF-1DB2-4432-91FF-E15956A20AE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249-4398-4378-B513-B100D9A61C9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A560-1898-41AA-801C-C679F85F2C9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357200" y="785880"/>
            <a:ext cx="7143840" cy="23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ГАЗИН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Детский мир»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3786120" y="60008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214720" y="32148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ЮЖЕТНО-РОЛЕВАЯ  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214960" y="214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е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3" descr=""/>
          <p:cNvPicPr/>
          <p:nvPr/>
        </p:nvPicPr>
        <p:blipFill>
          <a:blip r:embed="rId1"/>
          <a:stretch/>
        </p:blipFill>
        <p:spPr>
          <a:xfrm>
            <a:off x="1109520" y="171360"/>
            <a:ext cx="7710480" cy="83520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0895-0DE3-4FDC-8497-CFAA1B0C4C5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1" descr="http://www.7pd.ru/stores/images/in_big_16.jpg"/>
          <p:cNvPicPr/>
          <p:nvPr/>
        </p:nvPicPr>
        <p:blipFill>
          <a:blip r:embed="rId2"/>
          <a:stretch/>
        </p:blipFill>
        <p:spPr>
          <a:xfrm>
            <a:off x="571680" y="1143000"/>
            <a:ext cx="8215200" cy="545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3" descr=""/>
          <p:cNvPicPr/>
          <p:nvPr/>
        </p:nvPicPr>
        <p:blipFill>
          <a:blip r:embed="rId1"/>
          <a:stretch/>
        </p:blipFill>
        <p:spPr>
          <a:xfrm>
            <a:off x="208080" y="122400"/>
            <a:ext cx="8582040" cy="88416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4292-0156-4946-82F5-F390A760059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14240" y="1357200"/>
            <a:ext cx="700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РО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давцы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ссиры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ректор магазина, покуп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3" descr=""/>
          <p:cNvPicPr/>
          <p:nvPr/>
        </p:nvPicPr>
        <p:blipFill>
          <a:blip r:embed="rId1"/>
          <a:stretch/>
        </p:blipFill>
        <p:spPr>
          <a:xfrm>
            <a:off x="208080" y="122400"/>
            <a:ext cx="8582040" cy="88416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0E4-5A3E-44E6-BA33-4036CD83E42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 rot="20752200">
            <a:off x="347040" y="1806480"/>
            <a:ext cx="4851360" cy="703440"/>
          </a:xfrm>
          <a:prstGeom prst="rect">
            <a:avLst/>
          </a:prstGeom>
          <a:solidFill>
            <a:srgbClr val="a5a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деньг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500720" y="2714760"/>
            <a:ext cx="4143240" cy="703440"/>
          </a:xfrm>
          <a:prstGeom prst="rect">
            <a:avLst/>
          </a:prstGeom>
          <a:solidFill>
            <a:srgbClr val="4f4d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ена – эт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240200">
            <a:off x="1976760" y="3705120"/>
            <a:ext cx="3327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45773"/>
                </a:solidFill>
                <a:latin typeface="Arial"/>
              </a:rPr>
              <a:t>Покупка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 rot="20698800">
            <a:off x="4561920" y="4973760"/>
            <a:ext cx="3357360" cy="703440"/>
          </a:xfrm>
          <a:prstGeom prst="rect">
            <a:avLst/>
          </a:prstGeom>
          <a:solidFill>
            <a:srgbClr val="968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Продажа 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3" descr=""/>
          <p:cNvPicPr/>
          <p:nvPr/>
        </p:nvPicPr>
        <p:blipFill>
          <a:blip r:embed="rId1"/>
          <a:stretch/>
        </p:blipFill>
        <p:spPr>
          <a:xfrm>
            <a:off x="208080" y="139680"/>
            <a:ext cx="8582040" cy="151308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39A-4CB2-46F6-BE28-396611A3867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000080" y="1928880"/>
            <a:ext cx="671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енькая, круглень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кармана в карман скач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Монета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е берегутся, а растрясу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Деньг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товаре быть долж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тельна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цен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3" descr=""/>
          <p:cNvPicPr/>
          <p:nvPr/>
        </p:nvPicPr>
        <p:blipFill>
          <a:blip r:embed="rId1"/>
          <a:stretch/>
        </p:blipFill>
        <p:spPr>
          <a:xfrm>
            <a:off x="208080" y="36360"/>
            <a:ext cx="8582040" cy="145116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B638-1A18-460E-A0C0-AA9842171CF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00080" y="2143080"/>
            <a:ext cx="671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сметану, хлеб и сыр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ссе чек пробьёт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касси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бель, хлеб и огурц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ают нам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продавц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http://go3.imgsmail.ru/imgpreview?key=http%3A//www.toyway.ru/upload/iblock/f0a/f0a96c4947b0c711354ded5dbf09c00d.jpg&amp;mb=imgdb_preview_279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785880" y="1714680"/>
            <a:ext cx="8076960" cy="42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До скорой встреч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в магазине «Детский мир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6:24Z</dcterms:created>
  <dc:creator>Ридин</dc:creator>
  <dc:description/>
  <dc:language>en-US</dc:language>
  <cp:lastModifiedBy>Лена</cp:lastModifiedBy>
  <dcterms:modified xsi:type="dcterms:W3CDTF">2018-04-23T18:58:48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01049</vt:lpwstr>
  </property>
</Properties>
</file>