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02D7A-FEC0-42B6-A899-45D780A0AE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9B9F-5741-4AC3-90DC-35543071C6C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D56A-C429-4E00-A70B-5FEFC3AFA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AD29-612C-4E62-BF83-C14F3BB69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F7D3-793B-4C80-9169-332E11FA5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5A74-1157-4C49-8FCE-D5C4BD74B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40FB3-59AC-4623-A384-1BF6D6C89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58DDE-2ED4-4480-8FD1-6B4FB5A99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24488-B248-42BF-9396-1A12B0436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8B54C-737C-4C7C-833B-0C331EE8D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FC279-032C-4275-B7AE-82D976776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32A59-831A-4785-A97A-632008AFA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C0F48-7F42-4516-9B1C-66657D0E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7BED-F809-4917-9F72-913DA0FF1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5B4B5-E10C-41FC-9033-EC7B1985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B6CE0-DCF3-4604-B1C4-0521A277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64CDD-5C61-4D1B-9973-A3E3D45E7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73615-2C90-434D-9815-254F283B8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8693B-A2A7-484E-B296-24F469F5B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BB71-2472-4741-8B4B-86BBEB82E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1C13-AFF5-4240-9CCE-6DC344C3A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C2EF-0936-46D8-9544-90B8AB851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6CC3-3B91-4869-BDB5-A332F98EF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B634-3569-4C43-82A0-FBFDC1F0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75E7-544B-401A-A7A7-CCD631AA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28C0-EF59-4F68-9111-1A1E82D2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8BDDB-A7B2-40B9-ACA8-8ED2C0F56443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7">
            <a:hlinkClick r:id="" action="ppaction://hlinkshowjump?jump=nextslide"/>
          </p:cNvPr>
          <p:cNvSpPr/>
          <p:nvPr/>
        </p:nvSpPr>
        <p:spPr>
          <a:xfrm>
            <a:off x="179280" y="4365720"/>
            <a:ext cx="505080" cy="5032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3832" y="3794"/>
                </a:moveTo>
                <a:lnTo>
                  <a:pt x="17845" y="10800"/>
                </a:lnTo>
                <a:lnTo>
                  <a:pt x="3832" y="17806"/>
                </a:lnTo>
                <a:close/>
              </a:path>
            </a:pathLst>
          </a:cu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7">
            <a:hlinkClick r:id="" action="ppaction://hlinkshowjump?jump=nextslide"/>
          </p:cNvPr>
          <p:cNvSpPr/>
          <p:nvPr/>
        </p:nvSpPr>
        <p:spPr>
          <a:xfrm>
            <a:off x="179280" y="4365720"/>
            <a:ext cx="505080" cy="5032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3832" y="3794"/>
                </a:moveTo>
                <a:lnTo>
                  <a:pt x="17845" y="10800"/>
                </a:lnTo>
                <a:lnTo>
                  <a:pt x="3832" y="17806"/>
                </a:lnTo>
                <a:close/>
              </a:path>
            </a:pathLst>
          </a:cu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6513B-90E2-4C4D-A23E-BDD3F8B25F43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Номер слайда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91AB0-D785-4C27-9933-EF1968B5EAB2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WordArt 4"/>
          <p:cNvSpPr txBox="1"/>
          <p:nvPr/>
        </p:nvSpPr>
        <p:spPr>
          <a:xfrm>
            <a:off x="1357200" y="785880"/>
            <a:ext cx="7143840" cy="236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МАГАЗИН 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«Детский мир»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3786120" y="6000840"/>
            <a:ext cx="18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0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2214720" y="3214800"/>
            <a:ext cx="55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ЮЖЕТНО-РОЛЕВАЯ  ИГ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5214960" y="21420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роприятие №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3" descr=""/>
          <p:cNvPicPr/>
          <p:nvPr/>
        </p:nvPicPr>
        <p:blipFill>
          <a:blip r:embed="rId1"/>
          <a:stretch/>
        </p:blipFill>
        <p:spPr>
          <a:xfrm>
            <a:off x="1109520" y="171360"/>
            <a:ext cx="7710480" cy="835200"/>
          </a:xfrm>
          <a:prstGeom prst="rect">
            <a:avLst/>
          </a:prstGeom>
          <a:ln w="0">
            <a:noFill/>
          </a:ln>
        </p:spPr>
      </p:pic>
      <p:sp>
        <p:nvSpPr>
          <p:cNvPr id="97" name="Номер слайда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535CE-9968-483D-A4B7-121B555D2CCD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WordArt 15"/>
          <p:cNvSpPr txBox="1"/>
          <p:nvPr/>
        </p:nvSpPr>
        <p:spPr>
          <a:xfrm>
            <a:off x="1403280" y="981000"/>
            <a:ext cx="68961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9" name="Rectangle 17"/>
          <p:cNvSpPr/>
          <p:nvPr/>
        </p:nvSpPr>
        <p:spPr>
          <a:xfrm>
            <a:off x="714240" y="4786560"/>
            <a:ext cx="77868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69676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31" descr="http://www.7pd.ru/stores/images/in_big_16.jpg"/>
          <p:cNvPicPr/>
          <p:nvPr/>
        </p:nvPicPr>
        <p:blipFill>
          <a:blip r:embed="rId2"/>
          <a:stretch/>
        </p:blipFill>
        <p:spPr>
          <a:xfrm>
            <a:off x="571680" y="1143000"/>
            <a:ext cx="8215200" cy="5452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3" descr=""/>
          <p:cNvPicPr/>
          <p:nvPr/>
        </p:nvPicPr>
        <p:blipFill>
          <a:blip r:embed="rId1"/>
          <a:stretch/>
        </p:blipFill>
        <p:spPr>
          <a:xfrm>
            <a:off x="208080" y="122400"/>
            <a:ext cx="8582040" cy="884160"/>
          </a:xfrm>
          <a:prstGeom prst="rect">
            <a:avLst/>
          </a:prstGeom>
          <a:ln w="0">
            <a:noFill/>
          </a:ln>
        </p:spPr>
      </p:pic>
      <p:sp>
        <p:nvSpPr>
          <p:cNvPr id="102" name="Номер слайда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07126-A7C6-4E98-BBD5-F5CF7F8238D6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WordArt 15"/>
          <p:cNvSpPr txBox="1"/>
          <p:nvPr/>
        </p:nvSpPr>
        <p:spPr>
          <a:xfrm>
            <a:off x="1403280" y="981000"/>
            <a:ext cx="68961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4" name="Rectangle 17"/>
          <p:cNvSpPr/>
          <p:nvPr/>
        </p:nvSpPr>
        <p:spPr>
          <a:xfrm>
            <a:off x="714240" y="4786560"/>
            <a:ext cx="77868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69676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Box 15"/>
          <p:cNvSpPr/>
          <p:nvPr/>
        </p:nvSpPr>
        <p:spPr>
          <a:xfrm>
            <a:off x="714240" y="1357200"/>
            <a:ext cx="70009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РОЛИ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одавцы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ассиры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иректор магазина, покупател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3" descr=""/>
          <p:cNvPicPr/>
          <p:nvPr/>
        </p:nvPicPr>
        <p:blipFill>
          <a:blip r:embed="rId1"/>
          <a:stretch/>
        </p:blipFill>
        <p:spPr>
          <a:xfrm>
            <a:off x="208080" y="122400"/>
            <a:ext cx="8582040" cy="884160"/>
          </a:xfrm>
          <a:prstGeom prst="rect">
            <a:avLst/>
          </a:prstGeom>
          <a:ln w="0">
            <a:noFill/>
          </a:ln>
        </p:spPr>
      </p:pic>
      <p:sp>
        <p:nvSpPr>
          <p:cNvPr id="107" name="Номер слайда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E0DC5-2051-4063-A245-A39F464C5B02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WordArt 15"/>
          <p:cNvSpPr txBox="1"/>
          <p:nvPr/>
        </p:nvSpPr>
        <p:spPr>
          <a:xfrm>
            <a:off x="1403280" y="981000"/>
            <a:ext cx="68961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9" name="Rectangle 17"/>
          <p:cNvSpPr/>
          <p:nvPr/>
        </p:nvSpPr>
        <p:spPr>
          <a:xfrm>
            <a:off x="714240" y="4786560"/>
            <a:ext cx="77868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69676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 rot="20752200">
            <a:off x="347040" y="1806480"/>
            <a:ext cx="4851360" cy="703440"/>
          </a:xfrm>
          <a:prstGeom prst="rect">
            <a:avLst/>
          </a:prstGeom>
          <a:solidFill>
            <a:srgbClr val="a5a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Что такое деньги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Box 7"/>
          <p:cNvSpPr/>
          <p:nvPr/>
        </p:nvSpPr>
        <p:spPr>
          <a:xfrm>
            <a:off x="4500720" y="2714760"/>
            <a:ext cx="4143240" cy="703440"/>
          </a:xfrm>
          <a:prstGeom prst="rect">
            <a:avLst/>
          </a:prstGeom>
          <a:solidFill>
            <a:srgbClr val="4f4d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Цена – это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Box 8"/>
          <p:cNvSpPr/>
          <p:nvPr/>
        </p:nvSpPr>
        <p:spPr>
          <a:xfrm rot="1240200">
            <a:off x="1976760" y="3705120"/>
            <a:ext cx="33274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45773"/>
                </a:solidFill>
                <a:latin typeface="Arial"/>
              </a:rPr>
              <a:t>Покупка??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Box 9"/>
          <p:cNvSpPr/>
          <p:nvPr/>
        </p:nvSpPr>
        <p:spPr>
          <a:xfrm rot="20698800">
            <a:off x="4561920" y="4973760"/>
            <a:ext cx="3357360" cy="703440"/>
          </a:xfrm>
          <a:prstGeom prst="rect">
            <a:avLst/>
          </a:prstGeom>
          <a:solidFill>
            <a:srgbClr val="9689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Продажа ??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Заголовок 13" descr=""/>
          <p:cNvPicPr/>
          <p:nvPr/>
        </p:nvPicPr>
        <p:blipFill>
          <a:blip r:embed="rId1"/>
          <a:stretch/>
        </p:blipFill>
        <p:spPr>
          <a:xfrm>
            <a:off x="208080" y="139680"/>
            <a:ext cx="8582040" cy="1513080"/>
          </a:xfrm>
          <a:prstGeom prst="rect">
            <a:avLst/>
          </a:prstGeom>
          <a:ln w="0">
            <a:noFill/>
          </a:ln>
        </p:spPr>
      </p:pic>
      <p:sp>
        <p:nvSpPr>
          <p:cNvPr id="115" name="Номер слайда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C44B8-B6BB-4BD7-BE57-7CAB4EB9153A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WordArt 15"/>
          <p:cNvSpPr txBox="1"/>
          <p:nvPr/>
        </p:nvSpPr>
        <p:spPr>
          <a:xfrm>
            <a:off x="1403280" y="981000"/>
            <a:ext cx="68961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7" name="Rectangle 17"/>
          <p:cNvSpPr/>
          <p:nvPr/>
        </p:nvSpPr>
        <p:spPr>
          <a:xfrm>
            <a:off x="714240" y="4786560"/>
            <a:ext cx="77868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69676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Box 15"/>
          <p:cNvSpPr/>
          <p:nvPr/>
        </p:nvSpPr>
        <p:spPr>
          <a:xfrm>
            <a:off x="1000080" y="1928880"/>
            <a:ext cx="6715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ленькая, кругленьк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 кармана в карман скач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(</a:t>
            </a:r>
            <a:r>
              <a:rPr b="1" i="1" lang="ru-RU" sz="3200" spc="-1" strike="noStrike">
                <a:solidFill>
                  <a:srgbClr val="ffc000"/>
                </a:solidFill>
                <a:latin typeface="Arial"/>
              </a:rPr>
              <a:t>Монета</a:t>
            </a: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не берегутся, а растрясутс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(Деньги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товаре быть должна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язательна ..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(цен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Заголовок 13" descr=""/>
          <p:cNvPicPr/>
          <p:nvPr/>
        </p:nvPicPr>
        <p:blipFill>
          <a:blip r:embed="rId1"/>
          <a:stretch/>
        </p:blipFill>
        <p:spPr>
          <a:xfrm>
            <a:off x="208080" y="36360"/>
            <a:ext cx="8582040" cy="1451160"/>
          </a:xfrm>
          <a:prstGeom prst="rect">
            <a:avLst/>
          </a:prstGeom>
          <a:ln w="0">
            <a:noFill/>
          </a:ln>
        </p:spPr>
      </p:pic>
      <p:sp>
        <p:nvSpPr>
          <p:cNvPr id="120" name="Номер слайда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5720D-B581-48F9-A5D5-BCD8FDBE61EB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WordArt 15"/>
          <p:cNvSpPr txBox="1"/>
          <p:nvPr/>
        </p:nvSpPr>
        <p:spPr>
          <a:xfrm>
            <a:off x="1403280" y="981000"/>
            <a:ext cx="68961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2" name="Rectangle 17"/>
          <p:cNvSpPr/>
          <p:nvPr/>
        </p:nvSpPr>
        <p:spPr>
          <a:xfrm>
            <a:off x="714240" y="4786560"/>
            <a:ext cx="77868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69676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Box 15"/>
          <p:cNvSpPr/>
          <p:nvPr/>
        </p:nvSpPr>
        <p:spPr>
          <a:xfrm>
            <a:off x="1000080" y="2143080"/>
            <a:ext cx="6715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 сметану, хлеб и сыр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кассе чек пробьёт 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(кассир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бель, хлеб и огурцы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дают нам ..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(продавцы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http://go3.imgsmail.ru/imgpreview?key=http%3A//www.toyway.ru/upload/iblock/f0a/f0a96c4947b0c711354ded5dbf09c00d.jpg&amp;mb=imgdb_preview_279"/>
          <p:cNvPicPr/>
          <p:nvPr/>
        </p:nvPicPr>
        <p:blipFill>
          <a:blip r:embed="rId1"/>
          <a:stretch/>
        </p:blipFill>
        <p:spPr>
          <a:xfrm>
            <a:off x="0" y="0"/>
            <a:ext cx="91566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WordArt 5"/>
          <p:cNvSpPr txBox="1"/>
          <p:nvPr/>
        </p:nvSpPr>
        <p:spPr>
          <a:xfrm>
            <a:off x="785880" y="1714680"/>
            <a:ext cx="8076960" cy="421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+mn-lt"/>
              </a:rPr>
              <a:t>До скорой встречи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+mn-lt"/>
              </a:rPr>
              <a:t>в магазине «Детский мир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+mn-lt"/>
              <a:ea typeface="+mn-lt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5:46:24Z</dcterms:created>
  <dc:creator>Ридин</dc:creator>
  <dc:description/>
  <dc:language>en-US</dc:language>
  <cp:lastModifiedBy>Лена</cp:lastModifiedBy>
  <dcterms:modified xsi:type="dcterms:W3CDTF">2018-04-23T18:58:48Z</dcterms:modified>
  <cp:revision>10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080201049</vt:lpwstr>
  </property>
</Properties>
</file>