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40D59-1E56-44D2-B37B-D0BB0364396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FE096-0AE8-4E96-8184-8F748A09858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2943C-CE29-4427-BA4A-C15F52E2E84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3332-2110-4911-871B-C6C884CE1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1036-FC24-4706-808F-07EE3FFE4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7FFF-37DA-47ED-9988-C379068A7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8C71-E270-4C00-92E9-1EA92E0EC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66C1A-2468-4ACA-9EB5-F2A434CCC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413D4-D60B-415C-9EA5-7A26FA2BE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2D267-A437-49C2-921D-339D7EF72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CF9F8-42F1-42F0-8B09-5541FDE6A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02696-C6C7-4A8F-86C3-B4ABA2A3B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17FB1-89AD-43EB-8EE5-5A844F1AA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81FAB-6C85-4BCA-82E2-466986009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E227-6BD8-4C08-912B-CF427BAF1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F6E3A-109D-4ECD-88A5-BF2F8698F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E72DD-B39C-46E3-BBF6-2FCD64166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2F584-15D2-4CCD-8346-EFD67939E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F6F01-B906-41C2-95FF-B04245C6F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A1769-0BC5-4DB8-A99D-F88A45064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B62D-972E-4D2E-8B51-C13EB7AA9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9362-7A77-4BBB-A8EA-3B73AA357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37BA-FA1B-4A27-AA5D-C1E92BC87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610E-5D24-4C72-9F9C-DFB555B77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8400-E51B-442B-8E05-D6C219A44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E885-7099-46BE-898A-D5759FFC9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9D85-9290-4CDD-9BD2-C721EABAC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C441C-B82D-47E3-B65A-736072C1C9F8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AutoShape 7">
            <a:hlinkClick r:id="" action="ppaction://hlinkshowjump?jump=nextslide"/>
          </p:cNvPr>
          <p:cNvSpPr/>
          <p:nvPr/>
        </p:nvSpPr>
        <p:spPr>
          <a:xfrm>
            <a:off x="179280" y="4365720"/>
            <a:ext cx="505080" cy="50328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77" h="21600">
                <a:moveTo>
                  <a:pt x="0" y="0"/>
                </a:moveTo>
                <a:lnTo>
                  <a:pt x="21677" y="0"/>
                </a:lnTo>
                <a:lnTo>
                  <a:pt x="21677" y="21600"/>
                </a:lnTo>
                <a:lnTo>
                  <a:pt x="0" y="21600"/>
                </a:lnTo>
                <a:close/>
              </a:path>
              <a:path fill="lightenLess" w="21677" h="21600">
                <a:moveTo>
                  <a:pt x="0" y="0"/>
                </a:moveTo>
                <a:lnTo>
                  <a:pt x="21677" y="0"/>
                </a:lnTo>
                <a:lnTo>
                  <a:pt x="20277" y="1400"/>
                </a:lnTo>
                <a:lnTo>
                  <a:pt x="1400" y="1400"/>
                </a:lnTo>
                <a:close/>
              </a:path>
              <a:path fill="darken" w="21677" h="21600">
                <a:moveTo>
                  <a:pt x="21677" y="0"/>
                </a:moveTo>
                <a:lnTo>
                  <a:pt x="21677" y="21600"/>
                </a:lnTo>
                <a:lnTo>
                  <a:pt x="20277" y="20200"/>
                </a:lnTo>
                <a:lnTo>
                  <a:pt x="20277" y="1400"/>
                </a:lnTo>
                <a:close/>
              </a:path>
              <a:path fill="darkenLess" w="21677" h="21600">
                <a:moveTo>
                  <a:pt x="216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77" y="20200"/>
                </a:lnTo>
                <a:close/>
              </a:path>
              <a:path fill="lighten" w="216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77" h="21600">
                <a:moveTo>
                  <a:pt x="3832" y="3794"/>
                </a:moveTo>
                <a:lnTo>
                  <a:pt x="17845" y="10800"/>
                </a:lnTo>
                <a:lnTo>
                  <a:pt x="3832" y="17806"/>
                </a:lnTo>
                <a:close/>
              </a:path>
            </a:pathLst>
          </a:cu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AutoShape 7">
            <a:hlinkClick r:id="" action="ppaction://hlinkshowjump?jump=nextslide"/>
          </p:cNvPr>
          <p:cNvSpPr/>
          <p:nvPr/>
        </p:nvSpPr>
        <p:spPr>
          <a:xfrm>
            <a:off x="179280" y="4365720"/>
            <a:ext cx="505080" cy="50328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77" h="21600">
                <a:moveTo>
                  <a:pt x="0" y="0"/>
                </a:moveTo>
                <a:lnTo>
                  <a:pt x="21677" y="0"/>
                </a:lnTo>
                <a:lnTo>
                  <a:pt x="21677" y="21600"/>
                </a:lnTo>
                <a:lnTo>
                  <a:pt x="0" y="21600"/>
                </a:lnTo>
                <a:close/>
              </a:path>
              <a:path fill="lightenLess" w="21677" h="21600">
                <a:moveTo>
                  <a:pt x="0" y="0"/>
                </a:moveTo>
                <a:lnTo>
                  <a:pt x="21677" y="0"/>
                </a:lnTo>
                <a:lnTo>
                  <a:pt x="20277" y="1400"/>
                </a:lnTo>
                <a:lnTo>
                  <a:pt x="1400" y="1400"/>
                </a:lnTo>
                <a:close/>
              </a:path>
              <a:path fill="darken" w="21677" h="21600">
                <a:moveTo>
                  <a:pt x="21677" y="0"/>
                </a:moveTo>
                <a:lnTo>
                  <a:pt x="21677" y="21600"/>
                </a:lnTo>
                <a:lnTo>
                  <a:pt x="20277" y="20200"/>
                </a:lnTo>
                <a:lnTo>
                  <a:pt x="20277" y="1400"/>
                </a:lnTo>
                <a:close/>
              </a:path>
              <a:path fill="darkenLess" w="21677" h="21600">
                <a:moveTo>
                  <a:pt x="216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77" y="20200"/>
                </a:lnTo>
                <a:close/>
              </a:path>
              <a:path fill="lighten" w="216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77" h="21600">
                <a:moveTo>
                  <a:pt x="3832" y="3794"/>
                </a:moveTo>
                <a:lnTo>
                  <a:pt x="17845" y="10800"/>
                </a:lnTo>
                <a:lnTo>
                  <a:pt x="3832" y="17806"/>
                </a:lnTo>
                <a:close/>
              </a:path>
            </a:pathLst>
          </a:cu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DBE21-8813-4B8F-B295-A87AFA961CE0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9" descr="http://go2.imgsmail.ru/imgpreview?key=http%3A//static.megashara.com/screenshots/1216035%5F%5F00%5F04%5F16.jpg&amp;mb=imgdb_preview_92"/>
          <p:cNvPicPr/>
          <p:nvPr/>
        </p:nvPicPr>
        <p:blipFill>
          <a:blip r:embed="rId1"/>
          <a:stretch/>
        </p:blipFill>
        <p:spPr>
          <a:xfrm>
            <a:off x="0" y="0"/>
            <a:ext cx="91566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Номер слайда 3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83AAE-81D9-43F7-ADA0-BAD352F7657E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WordArt 4"/>
          <p:cNvSpPr txBox="1"/>
          <p:nvPr/>
        </p:nvSpPr>
        <p:spPr>
          <a:xfrm>
            <a:off x="1357200" y="785880"/>
            <a:ext cx="7143840" cy="2363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c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о страницам сказки </a:t>
            </a:r>
            <a:endParaRPr b="1" lang="en-US" sz="1800" spc="1" strike="noStrike">
              <a:ln w="0">
                <a:noFill/>
              </a:ln>
              <a:solidFill>
                <a:srgbClr val="ffc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c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«Цветик-семицветик»</a:t>
            </a:r>
            <a:endParaRPr b="1" lang="en-US" sz="1800" spc="1" strike="noStrike">
              <a:ln w="0">
                <a:noFill/>
              </a:ln>
              <a:solidFill>
                <a:srgbClr val="ffc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4" name="TextBox 7"/>
          <p:cNvSpPr/>
          <p:nvPr/>
        </p:nvSpPr>
        <p:spPr>
          <a:xfrm>
            <a:off x="1214280" y="3214800"/>
            <a:ext cx="691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Box 7"/>
          <p:cNvSpPr/>
          <p:nvPr/>
        </p:nvSpPr>
        <p:spPr>
          <a:xfrm>
            <a:off x="4071960" y="564372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01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Box 6"/>
          <p:cNvSpPr/>
          <p:nvPr/>
        </p:nvSpPr>
        <p:spPr>
          <a:xfrm>
            <a:off x="5715000" y="214200"/>
            <a:ext cx="32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ероприятие №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Заголовок 13" descr=""/>
          <p:cNvPicPr/>
          <p:nvPr/>
        </p:nvPicPr>
        <p:blipFill>
          <a:blip r:embed="rId1"/>
          <a:stretch/>
        </p:blipFill>
        <p:spPr>
          <a:xfrm>
            <a:off x="1109520" y="122400"/>
            <a:ext cx="7680600" cy="884160"/>
          </a:xfrm>
          <a:prstGeom prst="rect">
            <a:avLst/>
          </a:prstGeom>
          <a:ln w="0">
            <a:noFill/>
          </a:ln>
        </p:spPr>
      </p:pic>
      <p:sp>
        <p:nvSpPr>
          <p:cNvPr id="98" name="Номер слайда 3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954AF-76CA-4A18-9CFE-D295DF9299F8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WordArt 15"/>
          <p:cNvSpPr txBox="1"/>
          <p:nvPr/>
        </p:nvSpPr>
        <p:spPr>
          <a:xfrm>
            <a:off x="1403280" y="981000"/>
            <a:ext cx="689616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00" name="Picture 14" descr="http://go3.imgsmail.ru/imgpreview?key=http%3A//mega-mult.net/uploads/posts/2012-08/1345275894%5Fcvetik-semicvetik-01.jpg&amp;mb=imgdb_preview_122"/>
          <p:cNvPicPr/>
          <p:nvPr/>
        </p:nvPicPr>
        <p:blipFill>
          <a:blip r:embed="rId2"/>
          <a:stretch/>
        </p:blipFill>
        <p:spPr>
          <a:xfrm>
            <a:off x="285840" y="1071720"/>
            <a:ext cx="5241960" cy="23572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6" descr="http://snova-prazdnik.ru/wp-content/uploads/2012/07/%D0%B4%D0%B5%D0%BD%D1%8C_%D1%80%D0%BE%D0%B6%D0%B4%D0%B5%D0%BD%D0%B8%D1%8F_5_%D0%BB%D0%B5%D1%82_06.jpg"/>
          <p:cNvPicPr/>
          <p:nvPr/>
        </p:nvPicPr>
        <p:blipFill>
          <a:blip r:embed="rId3"/>
          <a:stretch/>
        </p:blipFill>
        <p:spPr>
          <a:xfrm>
            <a:off x="-4786200" y="3286080"/>
            <a:ext cx="4572000" cy="311616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17"/>
          <p:cNvSpPr/>
          <p:nvPr/>
        </p:nvSpPr>
        <p:spPr>
          <a:xfrm>
            <a:off x="714240" y="3949560"/>
            <a:ext cx="13505040" cy="19227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69676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Все ли девочка получила от цветка по своему желанию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Как вы думаете, какое из желаний было самое ценное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Почему? Все ли наши желания могут исполнятьс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в реальной жизни? Почему не все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Если мы хотим что-то иметь, как мы это приобретаем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Заголовок 13" descr=""/>
          <p:cNvPicPr/>
          <p:nvPr/>
        </p:nvPicPr>
        <p:blipFill>
          <a:blip r:embed="rId1"/>
          <a:stretch/>
        </p:blipFill>
        <p:spPr>
          <a:xfrm>
            <a:off x="1109520" y="122400"/>
            <a:ext cx="7680600" cy="884160"/>
          </a:xfrm>
          <a:prstGeom prst="rect">
            <a:avLst/>
          </a:prstGeom>
          <a:ln w="0">
            <a:noFill/>
          </a:ln>
        </p:spPr>
      </p:pic>
      <p:sp>
        <p:nvSpPr>
          <p:cNvPr id="104" name="Номер слайда 3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5F366-4A17-4485-8644-20E61FD91D30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WordArt 15"/>
          <p:cNvSpPr txBox="1"/>
          <p:nvPr/>
        </p:nvSpPr>
        <p:spPr>
          <a:xfrm>
            <a:off x="1403280" y="981000"/>
            <a:ext cx="689616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06" name="Picture 16" descr="http://snova-prazdnik.ru/wp-content/uploads/2012/07/%D0%B4%D0%B5%D0%BD%D1%8C_%D1%80%D0%BE%D0%B6%D0%B4%D0%B5%D0%BD%D0%B8%D1%8F_5_%D0%BB%D0%B5%D1%82_06.jpg"/>
          <p:cNvPicPr/>
          <p:nvPr/>
        </p:nvPicPr>
        <p:blipFill>
          <a:blip r:embed="rId2"/>
          <a:stretch/>
        </p:blipFill>
        <p:spPr>
          <a:xfrm>
            <a:off x="357120" y="1214280"/>
            <a:ext cx="4572000" cy="311652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17"/>
          <p:cNvSpPr/>
          <p:nvPr/>
        </p:nvSpPr>
        <p:spPr>
          <a:xfrm>
            <a:off x="714240" y="4439880"/>
            <a:ext cx="7000920" cy="19227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69676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Что мы можем купить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 можно ли, ребята, купить себе товарища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чему товарища мы купить не можем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к мы находим себе друг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го мы можем считать настоящим другом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"/>
          <p:cNvPicPr/>
          <p:nvPr/>
        </p:nvPicPr>
        <p:blipFill>
          <a:blip r:embed="rId1"/>
          <a:stretch/>
        </p:blipFill>
        <p:spPr>
          <a:xfrm>
            <a:off x="-142920" y="0"/>
            <a:ext cx="9644040" cy="68580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69676d">
                <a:alpha val="50000"/>
              </a:srgbClr>
            </a:outerShdw>
          </a:effectLst>
        </p:spPr>
      </p:pic>
      <p:sp>
        <p:nvSpPr>
          <p:cNvPr id="109" name="WordArt 5"/>
          <p:cNvSpPr txBox="1"/>
          <p:nvPr/>
        </p:nvSpPr>
        <p:spPr>
          <a:xfrm>
            <a:off x="785880" y="3714840"/>
            <a:ext cx="8076960" cy="292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00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+mn-lt"/>
              </a:rPr>
              <a:t>Прогулка в магазин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000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00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+mn-lt"/>
              </a:rPr>
              <a:t>цветов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000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+mn-lt"/>
              <a:ea typeface="+mn-lt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http://go3.imgsmail.ru/imgpreview?key=http%3A//strana-sovetov.com/images/stories/tip/hobby/home-tulips.jpg&amp;mb=imgdb_preview_251"/>
          <p:cNvPicPr/>
          <p:nvPr/>
        </p:nvPicPr>
        <p:blipFill>
          <a:blip r:embed="rId1"/>
          <a:stretch/>
        </p:blipFill>
        <p:spPr>
          <a:xfrm>
            <a:off x="0" y="0"/>
            <a:ext cx="912636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WordArt 5"/>
          <p:cNvSpPr txBox="1"/>
          <p:nvPr/>
        </p:nvSpPr>
        <p:spPr>
          <a:xfrm>
            <a:off x="785880" y="1714680"/>
            <a:ext cx="8076960" cy="421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00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+mn-lt"/>
              </a:rPr>
              <a:t>Чудо для  мам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000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+mn-lt"/>
              <a:ea typeface="+mn-lt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Заголовок 1" descr=""/>
          <p:cNvPicPr/>
          <p:nvPr/>
        </p:nvPicPr>
        <p:blipFill>
          <a:blip r:embed="rId1"/>
          <a:stretch/>
        </p:blipFill>
        <p:spPr>
          <a:xfrm>
            <a:off x="450720" y="195120"/>
            <a:ext cx="8242560" cy="9684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456840" y="1571760"/>
            <a:ext cx="8472600" cy="48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 конкретном примере дети  усвоили понятия: деньги, цена, покупка, продажа;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 конкретном примере разобрали ситуацию как, где и через кого это можно осуществить покупку и продажу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существили   желание порадовать родителей своим трудом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Номер слайда 3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95702-134A-4555-886F-6937A47E4E6D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7T15:46:24Z</dcterms:created>
  <dc:creator>Ридин</dc:creator>
  <dc:description/>
  <dc:language>en-US</dc:language>
  <cp:lastModifiedBy>Лена</cp:lastModifiedBy>
  <dcterms:modified xsi:type="dcterms:W3CDTF">2018-04-23T19:02:03Z</dcterms:modified>
  <cp:revision>80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1080201049</vt:lpwstr>
  </property>
</Properties>
</file>