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BD53-A4D5-4FEB-832C-C31C284ED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76A-B416-4D25-9E3D-38CCBD2CC6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C36-E484-47FD-A0B7-B3240B5CF6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A11-F4E4-4329-8030-13A4F512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092-AE1E-47E5-80B3-0678B5A5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00F-6E3A-4F62-B56F-B42D2892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DCD-9270-47C6-8598-83B07685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C359-A7C9-4138-99FB-7751D159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7F64-9B2B-4EB5-9CE4-753D5CC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699-A55B-4EF4-B95A-E33A941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9139-0062-4B31-9818-9EF023B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6CC-FEFB-4A73-AC8C-4B58342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06D-F182-4869-BE03-E4905B3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4E8-62C3-4B5E-B96C-381F6A8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5E1-28AF-45A9-8A9E-F6B0814E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0E2-8641-403A-8CBC-0D3CF25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298C-F946-4CDF-A53B-40D7179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EBB2-2FCA-4FB9-B8AE-553F039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5D5-FE12-4035-90CD-F6C5085A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F667-541A-447D-9E30-A164EE82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4DA-C3D5-46B2-8EA7-0EBD184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D2B-6141-4AF3-9496-E5F5B0DC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1CD-5597-4A83-9A36-941C517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D61-1C16-453F-BA65-4DEB35F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763-B6C6-47A8-88D4-074A2C3E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D2A-2C39-4019-A5A0-9F87C98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BAF-F306-48FE-8179-F79FE57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B1F-777D-4C36-82A8-6256CDFEC6C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FE26-0503-41EA-A4E6-E4D90D2D69D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http://go2.imgsmail.ru/imgpreview?key=http%3A//static.megashara.com/screenshots/1216035%5F%5F00%5F04%5F16.jpg&amp;mb=imgdb_preview_92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B06-9C65-4F43-9288-B32B7B6F2E4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357200" y="785880"/>
            <a:ext cx="7143840" cy="23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страницам сказки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Цветик-семицветик»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214280" y="32148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071960" y="5643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715000" y="214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е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3" descr=""/>
          <p:cNvPicPr/>
          <p:nvPr/>
        </p:nvPicPr>
        <p:blipFill>
          <a:blip r:embed="rId1"/>
          <a:stretch/>
        </p:blipFill>
        <p:spPr>
          <a:xfrm>
            <a:off x="1109520" y="122400"/>
            <a:ext cx="768060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4D5-3005-481C-9D11-52CD2A901E1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4" descr="http://go3.imgsmail.ru/imgpreview?key=http%3A//mega-mult.net/uploads/posts/2012-08/1345275894%5Fcvetik-semicvetik-01.jpg&amp;mb=imgdb_preview_122"/>
          <p:cNvPicPr/>
          <p:nvPr/>
        </p:nvPicPr>
        <p:blipFill>
          <a:blip r:embed="rId2"/>
          <a:stretch/>
        </p:blipFill>
        <p:spPr>
          <a:xfrm>
            <a:off x="285840" y="1071720"/>
            <a:ext cx="524196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ttp://snova-prazdnik.ru/wp-content/uploads/2012/07/%D0%B4%D0%B5%D0%BD%D1%8C_%D1%80%D0%BE%D0%B6%D0%B4%D0%B5%D0%BD%D0%B8%D1%8F_5_%D0%BB%D0%B5%D1%82_06.jpg"/>
          <p:cNvPicPr/>
          <p:nvPr/>
        </p:nvPicPr>
        <p:blipFill>
          <a:blip r:embed="rId3"/>
          <a:stretch/>
        </p:blipFill>
        <p:spPr>
          <a:xfrm>
            <a:off x="-4786200" y="3286080"/>
            <a:ext cx="457200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714240" y="3949560"/>
            <a:ext cx="1350504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ли девочка получила от цветка по своему желани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вы думаете, какое из желаний было самое ценно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? Все ли наши желания могут исполн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еальной жизни? Почему не вс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мы хотим что-то иметь, как мы это приобрета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3" descr=""/>
          <p:cNvPicPr/>
          <p:nvPr/>
        </p:nvPicPr>
        <p:blipFill>
          <a:blip r:embed="rId1"/>
          <a:stretch/>
        </p:blipFill>
        <p:spPr>
          <a:xfrm>
            <a:off x="1109520" y="122400"/>
            <a:ext cx="7680600" cy="88416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508E-8173-4696-A5C0-203DB1B5B8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16" descr="http://snova-prazdnik.ru/wp-content/uploads/2012/07/%D0%B4%D0%B5%D0%BD%D1%8C_%D1%80%D0%BE%D0%B6%D0%B4%D0%B5%D0%BD%D0%B8%D1%8F_5_%D0%BB%D0%B5%D1%82_06.jpg"/>
          <p:cNvPicPr/>
          <p:nvPr/>
        </p:nvPicPr>
        <p:blipFill>
          <a:blip r:embed="rId2"/>
          <a:stretch/>
        </p:blipFill>
        <p:spPr>
          <a:xfrm>
            <a:off x="357120" y="1214280"/>
            <a:ext cx="4572000" cy="311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714240" y="4439880"/>
            <a:ext cx="700092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мы можем куп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можно ли, ребята, купить себе товарищ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товарища мы купить не мож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ы находим себе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о мы можем считать настоящим друг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142920" y="0"/>
            <a:ext cx="964404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</p:pic>
      <p:sp>
        <p:nvSpPr>
          <p:cNvPr id="109" name="WordArt 5"/>
          <p:cNvSpPr txBox="1"/>
          <p:nvPr/>
        </p:nvSpPr>
        <p:spPr>
          <a:xfrm>
            <a:off x="785880" y="3714840"/>
            <a:ext cx="8076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Прогулка в магази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цве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go3.imgsmail.ru/imgpreview?key=http%3A//strana-sovetov.com/images/stories/tip/hobby/home-tulips.jpg&amp;mb=imgdb_preview_251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785880" y="1714680"/>
            <a:ext cx="8076960" cy="42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Чудо для  ма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1571760"/>
            <a:ext cx="847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кретном примере дети  усвоили понятия: деньги, цена, покупка, продажа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кретном примере разобрали ситуацию как, где и через кого это можно осуществить покупку и продаж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уществили   желание порадовать родителей своим труд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B448-DB9B-4E13-B87B-3BB610E5948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dc:language>en-US</dc:language>
  <cp:lastModifiedBy>Лена</cp:lastModifiedBy>
  <dcterms:modified xsi:type="dcterms:W3CDTF">2018-04-23T19:02:03Z</dcterms:modified>
  <cp:revision>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