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1A25-867F-4E6E-AD63-E90C58DEA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6E1E-02FE-4CD7-B9BC-A2F425D3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418-957B-480D-93E6-53ECD61B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088-DA61-4146-B4FE-F9499B8B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33D-B0B0-41DA-8FDB-C8E3D36B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BCA-DDB6-478E-9BEF-FF368F6E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6DAE-3D1F-4799-9BF3-73B452BF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CA8-7DFB-493F-AA2A-C0C0331A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3896-835A-45D0-95EC-83E1132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D90-6515-457C-B117-D7910076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9444-A254-4333-ABE7-215CC8ED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5429-B781-4C7A-A471-57032F30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FA1F-2CD4-4ADE-9800-CED6B971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401-E7CA-42C4-B9A0-8B88C82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FEB-C28F-4BDE-BBB3-D6A1CCA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13C-E13F-4395-BDA1-0616219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721B-DCAF-40C0-939F-D952915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D862-5824-45AA-9C6A-5167B49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DB2-209C-4EE7-B0F2-D637C55C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DB1B-82AA-4CC6-A274-CD3011D6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163-6003-48BE-A47D-CFAE2EC6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29E-79BF-4AB7-A655-643D2553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068-6156-427E-8324-6924823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DB4-E4AA-493D-92E8-30E27BC1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532-7276-4E05-AB13-5894B3E6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E3F-415B-4902-B033-139DE395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EB9-69F6-4A2D-AD4F-15D5AB4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3EA-6B83-456B-B889-91B975B6E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3A3-60F3-4D62-9048-30C814C2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710320" cy="468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7042320" y="4873680"/>
            <a:ext cx="2008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4" descr=""/>
          <p:cNvPicPr/>
          <p:nvPr/>
        </p:nvPicPr>
        <p:blipFill>
          <a:blip r:embed="rId1"/>
          <a:stretch/>
        </p:blipFill>
        <p:spPr>
          <a:xfrm>
            <a:off x="5867280" y="272736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5" descr=""/>
          <p:cNvPicPr/>
          <p:nvPr/>
        </p:nvPicPr>
        <p:blipFill>
          <a:blip r:embed="rId2"/>
          <a:stretch/>
        </p:blipFill>
        <p:spPr>
          <a:xfrm>
            <a:off x="1498680" y="1557360"/>
            <a:ext cx="3189240" cy="31892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КОЛЬКО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2"/>
          <p:cNvSpPr/>
          <p:nvPr/>
        </p:nvSpPr>
        <p:spPr>
          <a:xfrm>
            <a:off x="3492360" y="2133720"/>
            <a:ext cx="3743640" cy="3671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4788000" y="604692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1 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апельсинов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2" descr=""/>
          <p:cNvPicPr/>
          <p:nvPr/>
        </p:nvPicPr>
        <p:blipFill>
          <a:blip r:embed="rId1"/>
          <a:stretch/>
        </p:blipFill>
        <p:spPr>
          <a:xfrm>
            <a:off x="2087640" y="1773360"/>
            <a:ext cx="7056360" cy="4703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2087640" y="4124160"/>
            <a:ext cx="1044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0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Й        маленьк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2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3934080" cy="3932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41308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17T17:26:34Z</dcterms:modified>
  <cp:revision>10</cp:revision>
  <dc:subject/>
  <dc:title>ThemeGallery PowerTemplate</dc:title>
</cp:coreProperties>
</file>