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90A-C0DF-4EC4-AD09-5B031B1E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3D0-F637-4A71-BB04-2DB9F0D5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DAE8-D46C-4384-902D-6FE7F362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1297-5D09-4422-A67E-CA1C4301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BE3-0CE9-4EDB-B609-46290DFE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758-436F-46B2-A906-E5486B68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19F-A730-4A32-9E73-982AF53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6B3-7B62-48F3-A121-8F611E85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CEB-9FB8-4563-B66A-8C271DC1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338-4628-45B6-9CFE-92CFAFEF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B647-C967-4046-A6D7-1CBB9B3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CB2-F4E8-4250-84CB-BE148CB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A91-7D49-4479-AA9A-974D8F62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C09B-1ED5-4083-96BA-9414A93C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89A-B833-4700-9AC4-2FD3346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8E06-3F96-4E89-BD7E-D443403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622-99DE-4922-9FA8-395B845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7AD6-01B2-47CD-8F22-B7CB716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448-80C5-4061-BB29-56ABEEF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ED18-2F8A-481E-9ED9-3956086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B06-E7AC-4B31-A1CF-55007490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2BE-64C6-4E34-8565-990E866F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389-601B-48D7-9F1F-0F59425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FA6-8796-4F7A-89A3-A4FB441E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60B-1CCB-4410-A61A-0AB9EF2E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057-8D0D-4CE9-85B4-542059E8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E14-EF56-4E5F-B82D-4252965D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B47-E259-4ECC-B4B4-EBF7787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328-A5E2-4FA4-B181-190D843E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0C88-841D-46E6-A621-C591A23B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3FD3-EF75-4835-AA82-E11974DA7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"/>
          <p:cNvSpPr/>
          <p:nvPr/>
        </p:nvSpPr>
        <p:spPr>
          <a:xfrm>
            <a:off x="2124000" y="1986120"/>
            <a:ext cx="1008000" cy="1008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3"/>
          <p:cNvSpPr/>
          <p:nvPr/>
        </p:nvSpPr>
        <p:spPr>
          <a:xfrm>
            <a:off x="4932360" y="1989000"/>
            <a:ext cx="2376360" cy="2376720"/>
          </a:xfrm>
          <a:prstGeom prst="ellipse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4"/>
          <p:cNvSpPr/>
          <p:nvPr/>
        </p:nvSpPr>
        <p:spPr>
          <a:xfrm>
            <a:off x="1908000" y="4365720"/>
            <a:ext cx="1800360" cy="1800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2305080" cy="2376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4067280" y="2205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Ч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643280" y="47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БЛОКО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6"/>
          <p:cNvSpPr/>
          <p:nvPr/>
        </p:nvSpPr>
        <p:spPr>
          <a:xfrm>
            <a:off x="7893000" y="3357720"/>
            <a:ext cx="649440" cy="647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41964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ПЕЛЬСИН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708360" y="47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ИДОР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7893000" y="3357720"/>
            <a:ext cx="649440" cy="647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1"/>
          <a:srcRect l="22705" t="16740" r="25491" b="14177"/>
          <a:stretch/>
        </p:blipFill>
        <p:spPr>
          <a:xfrm>
            <a:off x="1187280" y="1758960"/>
            <a:ext cx="2016360" cy="19224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"/>
          <p:cNvPicPr/>
          <p:nvPr/>
        </p:nvPicPr>
        <p:blipFill>
          <a:blip r:embed="rId2"/>
          <a:stretch/>
        </p:blipFill>
        <p:spPr>
          <a:xfrm>
            <a:off x="1265400" y="4232160"/>
            <a:ext cx="215424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6324480" y="3716280"/>
            <a:ext cx="28180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710320" cy="468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7042320" y="4873680"/>
            <a:ext cx="2008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380120" cy="3284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"/>
          <p:cNvPicPr/>
          <p:nvPr/>
        </p:nvPicPr>
        <p:blipFill>
          <a:blip r:embed="rId2"/>
          <a:srcRect l="0" t="-6871" r="50010" b="0"/>
          <a:stretch/>
        </p:blipFill>
        <p:spPr>
          <a:xfrm>
            <a:off x="7093080" y="3754440"/>
            <a:ext cx="1726920" cy="27702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3"/>
          <a:srcRect l="9398" t="34143" r="12019" b="38182"/>
          <a:stretch/>
        </p:blipFill>
        <p:spPr>
          <a:xfrm>
            <a:off x="1233360" y="4951440"/>
            <a:ext cx="404208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956720" cy="46162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2195640" y="6029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2"/>
          <a:srcRect l="11754" t="67511" r="12831" b="5277"/>
          <a:stretch/>
        </p:blipFill>
        <p:spPr>
          <a:xfrm>
            <a:off x="1270080" y="1413000"/>
            <a:ext cx="4454280" cy="17874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"/>
          <p:cNvPicPr/>
          <p:nvPr/>
        </p:nvPicPr>
        <p:blipFill>
          <a:blip r:embed="rId3"/>
          <a:stretch/>
        </p:blipFill>
        <p:spPr>
          <a:xfrm>
            <a:off x="12600" y="0"/>
            <a:ext cx="140328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"/>
          <p:cNvPicPr/>
          <p:nvPr/>
        </p:nvPicPr>
        <p:blipFill>
          <a:blip r:embed="rId1"/>
          <a:stretch/>
        </p:blipFill>
        <p:spPr>
          <a:xfrm>
            <a:off x="5867280" y="272736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"/>
          <p:cNvPicPr/>
          <p:nvPr/>
        </p:nvPicPr>
        <p:blipFill>
          <a:blip r:embed="rId2"/>
          <a:stretch/>
        </p:blipFill>
        <p:spPr>
          <a:xfrm>
            <a:off x="1498680" y="1557360"/>
            <a:ext cx="3189240" cy="31892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1993680" cy="19936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2"/>
          <a:stretch/>
        </p:blipFill>
        <p:spPr>
          <a:xfrm>
            <a:off x="4741920" y="1773360"/>
            <a:ext cx="2109600" cy="21096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3"/>
          <a:stretch/>
        </p:blipFill>
        <p:spPr>
          <a:xfrm>
            <a:off x="5005440" y="4370400"/>
            <a:ext cx="266364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1246320" y="1557360"/>
            <a:ext cx="1993680" cy="199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3492360" y="1498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2224080" cy="21589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7114320" y="39956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788000" y="60469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09-30T18:45:33Z</dcterms:modified>
  <cp:revision>9</cp:revision>
  <dc:subject/>
  <dc:title>ThemeGallery PowerTemplate</dc:title>
</cp:coreProperties>
</file>