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7AFC-D820-409C-B2C4-8174A8E6A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033D-BAE5-47D4-80D5-8ED4FEDBD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DDC6-32FC-485E-89E0-94CD0A0F0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17DD-DAA5-4F42-BC26-2F24525EE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2C09-639B-439E-A7FD-0F4ECE38E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F07-9CA3-41DD-972B-0463BDCF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267-9E94-4358-B348-61AE3B8D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F54-80E2-46AE-A8DA-9279E47C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89B-DD7C-44B2-A63E-AE4B895C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D037-9941-471D-B234-F1548428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776D-21C5-4369-AE23-5ED3E1FB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D745-71A5-4BA1-B31C-232A76F3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C1E1-7348-4234-AC4C-3E5C0BA9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8483-127E-4AE2-8E15-46E97D03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8BCB-4752-4EAD-B370-5DE94152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0D83-B3E7-4C53-9962-C1D2B823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726-DDFF-4E62-B272-B2F91D4B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305F-0E99-42D3-B7D5-EC192C7F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D3CA-765D-423C-9BB6-B1BE929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B571-027C-48CD-BCD3-CE012D32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6395-9C5B-4998-831C-7C087A8D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091D-628A-4DD2-AB8C-3E55583A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3A2-772E-491D-9B67-C3258156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693-45A5-425E-98E1-6BD2EE9F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381-8906-41B6-B505-3A73079B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A04-2247-46D2-8090-5746B1A8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ED8-7A99-4038-B439-0C85DA69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E77-1799-412A-BB02-D87E017A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C52-E29F-4064-99B4-B16041C3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260280"/>
            <a:ext cx="1116000" cy="659772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6F6D-A1A2-4700-96DD-AD595D24E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700640"/>
            <a:ext cx="1117440" cy="550440"/>
            <a:chOff x="0" y="170064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0960" y="1309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3920" y="1627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0"/>
            <a:ext cx="456840" cy="6857640"/>
            <a:chOff x="152280" y="0"/>
            <a:chExt cx="456840" cy="6857640"/>
          </a:xfrm>
        </p:grpSpPr>
        <p:sp>
          <p:nvSpPr>
            <p:cNvPr id="11" name="Rectangle 81"/>
            <p:cNvSpPr/>
            <p:nvPr/>
          </p:nvSpPr>
          <p:spPr>
            <a:xfrm>
              <a:off x="152280" y="0"/>
              <a:ext cx="1072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4640" y="0"/>
              <a:ext cx="2944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5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19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2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5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8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01"/>
          <p:cNvGrpSpPr/>
          <p:nvPr/>
        </p:nvGrpSpPr>
        <p:grpSpPr>
          <a:xfrm>
            <a:off x="152280" y="0"/>
            <a:ext cx="456840" cy="262080"/>
            <a:chOff x="152280" y="0"/>
            <a:chExt cx="456840" cy="262080"/>
          </a:xfrm>
        </p:grpSpPr>
        <p:sp>
          <p:nvSpPr>
            <p:cNvPr id="32" name="Rectangle 102"/>
            <p:cNvSpPr/>
            <p:nvPr/>
          </p:nvSpPr>
          <p:spPr>
            <a:xfrm>
              <a:off x="152280" y="0"/>
              <a:ext cx="1072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>
              <a:off x="314640" y="0"/>
              <a:ext cx="2944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5" name="Rectangle 105"/>
            <p:cNvSpPr/>
            <p:nvPr/>
          </p:nvSpPr>
          <p:spPr>
            <a:xfrm rot="16200000">
              <a:off x="390960" y="422424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106"/>
            <p:cNvSpPr/>
            <p:nvPr/>
          </p:nvSpPr>
          <p:spPr>
            <a:xfrm rot="16200000">
              <a:off x="493920" y="454212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38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0"/>
          <p:cNvGrpSpPr/>
          <p:nvPr/>
        </p:nvGrpSpPr>
        <p:grpSpPr>
          <a:xfrm>
            <a:off x="0" y="476640"/>
            <a:ext cx="1117440" cy="550440"/>
            <a:chOff x="0" y="476640"/>
            <a:chExt cx="1117440" cy="550440"/>
          </a:xfrm>
        </p:grpSpPr>
        <p:sp>
          <p:nvSpPr>
            <p:cNvPr id="41" name="Rectangle 111"/>
            <p:cNvSpPr/>
            <p:nvPr/>
          </p:nvSpPr>
          <p:spPr>
            <a:xfrm rot="16200000">
              <a:off x="390960" y="85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2"/>
            <p:cNvSpPr/>
            <p:nvPr/>
          </p:nvSpPr>
          <p:spPr>
            <a:xfrm rot="16200000">
              <a:off x="493920" y="403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3"/>
          <p:cNvGrpSpPr/>
          <p:nvPr/>
        </p:nvGrpSpPr>
        <p:grpSpPr>
          <a:xfrm>
            <a:off x="108000" y="189000"/>
            <a:ext cx="864720" cy="718920"/>
            <a:chOff x="108000" y="189000"/>
            <a:chExt cx="864720" cy="718920"/>
          </a:xfrm>
        </p:grpSpPr>
        <p:sp>
          <p:nvSpPr>
            <p:cNvPr id="44" name="Rectangle 114"/>
            <p:cNvSpPr/>
            <p:nvPr/>
          </p:nvSpPr>
          <p:spPr>
            <a:xfrm>
              <a:off x="305640" y="189000"/>
              <a:ext cx="632880" cy="507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15"/>
            <p:cNvSpPr/>
            <p:nvPr/>
          </p:nvSpPr>
          <p:spPr>
            <a:xfrm>
              <a:off x="424080" y="315720"/>
              <a:ext cx="548640" cy="5076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6"/>
            <p:cNvSpPr/>
            <p:nvPr/>
          </p:nvSpPr>
          <p:spPr>
            <a:xfrm>
              <a:off x="108000" y="400320"/>
              <a:ext cx="474480" cy="50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1"/>
          <p:cNvGrpSpPr/>
          <p:nvPr/>
        </p:nvGrpSpPr>
        <p:grpSpPr>
          <a:xfrm>
            <a:off x="-6120" y="360"/>
            <a:ext cx="461880" cy="6857640"/>
            <a:chOff x="-6120" y="360"/>
            <a:chExt cx="461880" cy="6857640"/>
          </a:xfrm>
        </p:grpSpPr>
        <p:sp>
          <p:nvSpPr>
            <p:cNvPr id="85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3"/>
            <p:cNvSpPr/>
            <p:nvPr/>
          </p:nvSpPr>
          <p:spPr>
            <a:xfrm rot="10800000">
              <a:off x="-5760" y="360"/>
              <a:ext cx="29772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8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93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6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9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102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5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8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11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6"/>
          <p:cNvGrpSpPr/>
          <p:nvPr/>
        </p:nvGrpSpPr>
        <p:grpSpPr>
          <a:xfrm>
            <a:off x="-11160" y="6462720"/>
            <a:ext cx="2121120" cy="395280"/>
            <a:chOff x="-11160" y="6462720"/>
            <a:chExt cx="2121120" cy="395280"/>
          </a:xfrm>
        </p:grpSpPr>
        <p:sp>
          <p:nvSpPr>
            <p:cNvPr id="114" name="Rectangle 242"/>
            <p:cNvSpPr/>
            <p:nvPr/>
          </p:nvSpPr>
          <p:spPr>
            <a:xfrm rot="5400000">
              <a:off x="984960" y="54662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43"/>
            <p:cNvSpPr/>
            <p:nvPr/>
          </p:nvSpPr>
          <p:spPr>
            <a:xfrm rot="5400000">
              <a:off x="949320" y="5697360"/>
              <a:ext cx="200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7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8" name="Rectangle 220"/>
              <p:cNvSpPr/>
              <p:nvPr/>
            </p:nvSpPr>
            <p:spPr>
              <a:xfrm rot="5400000">
                <a:off x="985320" y="-372600"/>
                <a:ext cx="1281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21"/>
              <p:cNvSpPr/>
              <p:nvPr/>
            </p:nvSpPr>
            <p:spPr>
              <a:xfrm rot="5400000">
                <a:off x="873000" y="-65880"/>
                <a:ext cx="35280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21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57"/>
          <p:cNvGrpSpPr/>
          <p:nvPr/>
        </p:nvGrpSpPr>
        <p:grpSpPr>
          <a:xfrm>
            <a:off x="179280" y="549360"/>
            <a:ext cx="1666800" cy="1295280"/>
            <a:chOff x="179280" y="549360"/>
            <a:chExt cx="1666800" cy="1295280"/>
          </a:xfrm>
        </p:grpSpPr>
        <p:sp>
          <p:nvSpPr>
            <p:cNvPr id="124" name="Rectangle 258"/>
            <p:cNvSpPr/>
            <p:nvPr/>
          </p:nvSpPr>
          <p:spPr>
            <a:xfrm>
              <a:off x="560160" y="549360"/>
              <a:ext cx="1219320" cy="91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59"/>
            <p:cNvSpPr/>
            <p:nvPr/>
          </p:nvSpPr>
          <p:spPr>
            <a:xfrm>
              <a:off x="788760" y="77796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0"/>
            <p:cNvSpPr/>
            <p:nvPr/>
          </p:nvSpPr>
          <p:spPr>
            <a:xfrm>
              <a:off x="179280" y="93024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0414-BE01-4894-AC1C-FB0AC6DEF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257440" y="4281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-дефект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убин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йди   КВАДРА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"/>
          <p:cNvSpPr/>
          <p:nvPr/>
        </p:nvSpPr>
        <p:spPr>
          <a:xfrm>
            <a:off x="1476360" y="1916280"/>
            <a:ext cx="1079640" cy="108108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3419640" y="1628640"/>
            <a:ext cx="1296720" cy="1368720"/>
          </a:xfrm>
          <a:prstGeom prst="rect">
            <a:avLst/>
          </a:prstGeom>
          <a:solidFill>
            <a:srgbClr val="4192db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5510160" y="1916280"/>
            <a:ext cx="503280" cy="541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6732720" y="1600200"/>
            <a:ext cx="1584360" cy="165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2" descr=""/>
          <p:cNvPicPr/>
          <p:nvPr/>
        </p:nvPicPr>
        <p:blipFill>
          <a:blip r:embed="rId1"/>
          <a:stretch/>
        </p:blipFill>
        <p:spPr>
          <a:xfrm>
            <a:off x="0" y="112068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ВАДРА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Я ФОРМ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810108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76200" y="456840"/>
            <a:ext cx="761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 предметы квадратной фор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2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"/>
          <p:cNvPicPr/>
          <p:nvPr/>
        </p:nvPicPr>
        <p:blipFill>
          <a:blip r:embed="rId1"/>
          <a:stretch/>
        </p:blipFill>
        <p:spPr>
          <a:xfrm>
            <a:off x="1692360" y="2238480"/>
            <a:ext cx="6696000" cy="3998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 2  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1"/>
          <a:srcRect l="8668" t="0" r="9638" b="4375"/>
          <a:stretch/>
        </p:blipFill>
        <p:spPr>
          <a:xfrm>
            <a:off x="1349280" y="1566720"/>
            <a:ext cx="3380040" cy="52754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5032440" y="1549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"/>
          <p:cNvPicPr/>
          <p:nvPr/>
        </p:nvPicPr>
        <p:blipFill>
          <a:blip r:embed="rId3"/>
          <a:stretch/>
        </p:blipFill>
        <p:spPr>
          <a:xfrm>
            <a:off x="5006880" y="3600360"/>
            <a:ext cx="1206720" cy="12067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3" descr=""/>
          <p:cNvPicPr/>
          <p:nvPr/>
        </p:nvPicPr>
        <p:blipFill>
          <a:blip r:embed="rId4"/>
          <a:stretch/>
        </p:blipFill>
        <p:spPr>
          <a:xfrm>
            <a:off x="6516720" y="3600360"/>
            <a:ext cx="1244520" cy="12463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"/>
          <p:cNvPicPr/>
          <p:nvPr/>
        </p:nvPicPr>
        <p:blipFill>
          <a:blip r:embed="rId5"/>
          <a:stretch/>
        </p:blipFill>
        <p:spPr>
          <a:xfrm>
            <a:off x="4951440" y="541188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5" descr=""/>
          <p:cNvPicPr/>
          <p:nvPr/>
        </p:nvPicPr>
        <p:blipFill>
          <a:blip r:embed="rId6"/>
          <a:stretch/>
        </p:blipFill>
        <p:spPr>
          <a:xfrm>
            <a:off x="6294600" y="542772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7" descr=""/>
          <p:cNvPicPr/>
          <p:nvPr/>
        </p:nvPicPr>
        <p:blipFill>
          <a:blip r:embed="rId7"/>
          <a:stretch/>
        </p:blipFill>
        <p:spPr>
          <a:xfrm>
            <a:off x="7655040" y="5427720"/>
            <a:ext cx="1317600" cy="1317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1" descr=""/>
          <p:cNvPicPr/>
          <p:nvPr/>
        </p:nvPicPr>
        <p:blipFill>
          <a:blip r:embed="rId1"/>
          <a:srcRect l="12491" t="23360" r="4723" b="15899"/>
          <a:stretch/>
        </p:blipFill>
        <p:spPr>
          <a:xfrm>
            <a:off x="1116000" y="1587600"/>
            <a:ext cx="7704000" cy="4865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4"/>
          <p:cNvSpPr/>
          <p:nvPr/>
        </p:nvSpPr>
        <p:spPr>
          <a:xfrm>
            <a:off x="2195640" y="60292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четы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3"/>
          <p:cNvSpPr/>
          <p:nvPr/>
        </p:nvSpPr>
        <p:spPr>
          <a:xfrm>
            <a:off x="1619280" y="2205000"/>
            <a:ext cx="144000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4"/>
          <p:cNvSpPr/>
          <p:nvPr/>
        </p:nvSpPr>
        <p:spPr>
          <a:xfrm>
            <a:off x="3203640" y="1476360"/>
            <a:ext cx="1404720" cy="144792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5"/>
          <p:cNvSpPr/>
          <p:nvPr/>
        </p:nvSpPr>
        <p:spPr>
          <a:xfrm>
            <a:off x="4608360" y="2349360"/>
            <a:ext cx="154800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6"/>
          <p:cNvSpPr/>
          <p:nvPr/>
        </p:nvSpPr>
        <p:spPr>
          <a:xfrm>
            <a:off x="6515280" y="1612800"/>
            <a:ext cx="143964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5" descr=""/>
          <p:cNvPicPr/>
          <p:nvPr/>
        </p:nvPicPr>
        <p:blipFill>
          <a:blip r:embed="rId1"/>
          <a:stretch/>
        </p:blipFill>
        <p:spPr>
          <a:xfrm>
            <a:off x="1166760" y="1484280"/>
            <a:ext cx="1706760" cy="17067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212400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ЯЧ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1" descr=""/>
          <p:cNvPicPr/>
          <p:nvPr/>
        </p:nvPicPr>
        <p:blipFill>
          <a:blip r:embed="rId2"/>
          <a:stretch/>
        </p:blipFill>
        <p:spPr>
          <a:xfrm>
            <a:off x="2873520" y="223200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"/>
          <p:cNvPicPr/>
          <p:nvPr/>
        </p:nvPicPr>
        <p:blipFill>
          <a:blip r:embed="rId3"/>
          <a:stretch/>
        </p:blipFill>
        <p:spPr>
          <a:xfrm>
            <a:off x="4645080" y="1484280"/>
            <a:ext cx="1779480" cy="17272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7"/>
          <p:cNvSpPr/>
          <p:nvPr/>
        </p:nvSpPr>
        <p:spPr>
          <a:xfrm>
            <a:off x="6945120" y="3995640"/>
            <a:ext cx="119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4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1" descr=""/>
          <p:cNvPicPr/>
          <p:nvPr/>
        </p:nvPicPr>
        <p:blipFill>
          <a:blip r:embed="rId4"/>
          <a:stretch/>
        </p:blipFill>
        <p:spPr>
          <a:xfrm>
            <a:off x="6551640" y="1844640"/>
            <a:ext cx="1982880" cy="1982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ОМЕТРИЧЕСКАЯ ФИГУ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У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2"/>
          <p:cNvSpPr/>
          <p:nvPr/>
        </p:nvSpPr>
        <p:spPr>
          <a:xfrm>
            <a:off x="3492360" y="2133720"/>
            <a:ext cx="3743640" cy="3671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4788000" y="604692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ОМЕТРИЧЕСКАЯ ФИГУ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ВАДРА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1908000" y="6046920"/>
            <a:ext cx="49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"/>
          <p:cNvSpPr/>
          <p:nvPr/>
        </p:nvSpPr>
        <p:spPr>
          <a:xfrm>
            <a:off x="3203640" y="2276640"/>
            <a:ext cx="3313080" cy="316836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ометрические фигу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1403280" y="4076640"/>
            <a:ext cx="374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1547640" y="1989000"/>
            <a:ext cx="3311640" cy="316872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2"/>
          <p:cNvSpPr/>
          <p:nvPr/>
        </p:nvSpPr>
        <p:spPr>
          <a:xfrm>
            <a:off x="5580000" y="1989000"/>
            <a:ext cx="3024360" cy="3149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6443640" y="5589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ВАДРАТ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476360" y="1916280"/>
            <a:ext cx="1079640" cy="108108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"/>
          <p:cNvSpPr/>
          <p:nvPr/>
        </p:nvSpPr>
        <p:spPr>
          <a:xfrm>
            <a:off x="3419640" y="1628640"/>
            <a:ext cx="1296720" cy="1368720"/>
          </a:xfrm>
          <a:prstGeom prst="rect">
            <a:avLst/>
          </a:prstGeom>
          <a:solidFill>
            <a:srgbClr val="4192db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6"/>
          <p:cNvSpPr/>
          <p:nvPr/>
        </p:nvSpPr>
        <p:spPr>
          <a:xfrm>
            <a:off x="5510160" y="1916280"/>
            <a:ext cx="503280" cy="541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7"/>
          <p:cNvSpPr/>
          <p:nvPr/>
        </p:nvSpPr>
        <p:spPr>
          <a:xfrm>
            <a:off x="6732720" y="1600200"/>
            <a:ext cx="1584360" cy="165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13:33Z</dcterms:created>
  <dc:creator>1</dc:creator>
  <dc:description/>
  <dc:language>en-US</dc:language>
  <cp:lastModifiedBy>u1</cp:lastModifiedBy>
  <dcterms:modified xsi:type="dcterms:W3CDTF">2020-10-05T14:06:36Z</dcterms:modified>
  <cp:revision>12</cp:revision>
  <dc:subject/>
  <dc:title>ThemeGallery PowerTemplate</dc:title>
</cp:coreProperties>
</file>