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4CDA-A1CE-4F04-A14F-E3850588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5073-9B56-418E-A49E-CCC16EEC6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322A-94B9-4075-82B7-E170CEC0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6440-BF90-4ED3-BAFB-DB8AD753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E123-BDA8-489F-B956-F9E3A229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904-9812-4D25-B577-7E3EBF5C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9C2-D858-46A6-AC37-3DA589CA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6E1-4DE2-4ADB-AF13-9E2B492A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E90-A821-430B-8D73-2D4C493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FAD6-1EAB-4E24-AC33-DE987EF0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BE2A-74DB-4684-A634-B682B986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9419-0091-4040-8745-E1F5D072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3F76-69CB-411D-A6B7-282E484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455-6AF6-430B-B0B7-5E83392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563-BBAF-4E7E-A75F-C659CA53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C9FA-9901-4E74-9740-CB194D5C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AE1-1C72-4325-8B04-5ED67ED2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7B8-B913-4029-ABC1-51CE49D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78C7-FE9A-491E-A39B-90CE397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C21E-5CDE-4AE0-9607-D6D1D1A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B3EB-C15B-4D59-9CBF-E093D69C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743D-9F9E-4508-A49A-433EE4E3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E3D-389B-4676-8558-48D46605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733-0201-49AA-B442-A9916921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720-DAA3-485F-8E2E-0452E51D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F88-0DFA-43DD-A457-F46AD28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65C-CC0F-460C-BC1A-A648F88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E24-AD1B-4484-BBF2-0CE2C66E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400-8907-4238-9B4C-9D7833A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260280"/>
            <a:ext cx="1116000" cy="659772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0C51-DDBE-4DB4-B6D9-A7FE8B99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700640"/>
            <a:ext cx="1117440" cy="550440"/>
            <a:chOff x="0" y="170064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309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27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0"/>
            <a:ext cx="456840" cy="6857640"/>
            <a:chOff x="152280" y="0"/>
            <a:chExt cx="456840" cy="6857640"/>
          </a:xfrm>
        </p:grpSpPr>
        <p:sp>
          <p:nvSpPr>
            <p:cNvPr id="11" name="Rectangle 81"/>
            <p:cNvSpPr/>
            <p:nvPr/>
          </p:nvSpPr>
          <p:spPr>
            <a:xfrm>
              <a:off x="152280" y="0"/>
              <a:ext cx="1072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0"/>
              <a:ext cx="29448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5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19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2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5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8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2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5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38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Group 110"/>
          <p:cNvGrpSpPr/>
          <p:nvPr/>
        </p:nvGrpSpPr>
        <p:grpSpPr>
          <a:xfrm>
            <a:off x="0" y="476640"/>
            <a:ext cx="1117440" cy="550440"/>
            <a:chOff x="0" y="476640"/>
            <a:chExt cx="1117440" cy="550440"/>
          </a:xfrm>
        </p:grpSpPr>
        <p:sp>
          <p:nvSpPr>
            <p:cNvPr id="41" name="Rectangle 111"/>
            <p:cNvSpPr/>
            <p:nvPr/>
          </p:nvSpPr>
          <p:spPr>
            <a:xfrm rot="16200000">
              <a:off x="390960" y="85680"/>
              <a:ext cx="3355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12"/>
            <p:cNvSpPr/>
            <p:nvPr/>
          </p:nvSpPr>
          <p:spPr>
            <a:xfrm rot="16200000">
              <a:off x="493920" y="403560"/>
              <a:ext cx="1296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113"/>
          <p:cNvGrpSpPr/>
          <p:nvPr/>
        </p:nvGrpSpPr>
        <p:grpSpPr>
          <a:xfrm>
            <a:off x="108000" y="189000"/>
            <a:ext cx="864720" cy="718920"/>
            <a:chOff x="108000" y="189000"/>
            <a:chExt cx="864720" cy="718920"/>
          </a:xfrm>
        </p:grpSpPr>
        <p:sp>
          <p:nvSpPr>
            <p:cNvPr id="44" name="Rectangle 114"/>
            <p:cNvSpPr/>
            <p:nvPr/>
          </p:nvSpPr>
          <p:spPr>
            <a:xfrm>
              <a:off x="305640" y="189000"/>
              <a:ext cx="632880" cy="507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15"/>
            <p:cNvSpPr/>
            <p:nvPr/>
          </p:nvSpPr>
          <p:spPr>
            <a:xfrm>
              <a:off x="424080" y="315720"/>
              <a:ext cx="548640" cy="5076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6"/>
            <p:cNvSpPr/>
            <p:nvPr/>
          </p:nvSpPr>
          <p:spPr>
            <a:xfrm>
              <a:off x="108000" y="400320"/>
              <a:ext cx="474480" cy="50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5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8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93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6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9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102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5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8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11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4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7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8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21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57"/>
          <p:cNvGrpSpPr/>
          <p:nvPr/>
        </p:nvGrpSpPr>
        <p:grpSpPr>
          <a:xfrm>
            <a:off x="179280" y="549360"/>
            <a:ext cx="1666800" cy="1295280"/>
            <a:chOff x="179280" y="549360"/>
            <a:chExt cx="1666800" cy="1295280"/>
          </a:xfrm>
        </p:grpSpPr>
        <p:sp>
          <p:nvSpPr>
            <p:cNvPr id="124" name="Rectangle 258"/>
            <p:cNvSpPr/>
            <p:nvPr/>
          </p:nvSpPr>
          <p:spPr>
            <a:xfrm>
              <a:off x="560160" y="549360"/>
              <a:ext cx="1219320" cy="914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9"/>
            <p:cNvSpPr/>
            <p:nvPr/>
          </p:nvSpPr>
          <p:spPr>
            <a:xfrm>
              <a:off x="788760" y="77796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60"/>
            <p:cNvSpPr/>
            <p:nvPr/>
          </p:nvSpPr>
          <p:spPr>
            <a:xfrm>
              <a:off x="179280" y="930240"/>
              <a:ext cx="914400" cy="914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BB4-4805-40BE-9CE5-A5EE6A4CB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257440" y="42811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-дефект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убина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   КВАД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"/>
          <p:cNvPicPr/>
          <p:nvPr/>
        </p:nvPicPr>
        <p:blipFill>
          <a:blip r:embed="rId1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ВАДРА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Я ФОРМ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810108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76200" y="456840"/>
            <a:ext cx="7616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 предметы квадратной фор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"/>
          <p:cNvPicPr/>
          <p:nvPr/>
        </p:nvPicPr>
        <p:blipFill>
          <a:blip r:embed="rId1"/>
          <a:stretch/>
        </p:blipFill>
        <p:spPr>
          <a:xfrm>
            <a:off x="1692360" y="2238480"/>
            <a:ext cx="6696000" cy="3998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 2  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1"/>
          <a:srcRect l="8668" t="0" r="9638" b="4375"/>
          <a:stretch/>
        </p:blipFill>
        <p:spPr>
          <a:xfrm>
            <a:off x="1349280" y="1566720"/>
            <a:ext cx="3380040" cy="52754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5032440" y="1549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"/>
          <p:cNvPicPr/>
          <p:nvPr/>
        </p:nvPicPr>
        <p:blipFill>
          <a:blip r:embed="rId3"/>
          <a:stretch/>
        </p:blipFill>
        <p:spPr>
          <a:xfrm>
            <a:off x="5006880" y="3600360"/>
            <a:ext cx="1206720" cy="12067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3" descr=""/>
          <p:cNvPicPr/>
          <p:nvPr/>
        </p:nvPicPr>
        <p:blipFill>
          <a:blip r:embed="rId4"/>
          <a:stretch/>
        </p:blipFill>
        <p:spPr>
          <a:xfrm>
            <a:off x="6516720" y="3600360"/>
            <a:ext cx="1244520" cy="1246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"/>
          <p:cNvPicPr/>
          <p:nvPr/>
        </p:nvPicPr>
        <p:blipFill>
          <a:blip r:embed="rId5"/>
          <a:stretch/>
        </p:blipFill>
        <p:spPr>
          <a:xfrm>
            <a:off x="4951440" y="541188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5" descr=""/>
          <p:cNvPicPr/>
          <p:nvPr/>
        </p:nvPicPr>
        <p:blipFill>
          <a:blip r:embed="rId6"/>
          <a:stretch/>
        </p:blipFill>
        <p:spPr>
          <a:xfrm>
            <a:off x="6294600" y="542772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7" descr=""/>
          <p:cNvPicPr/>
          <p:nvPr/>
        </p:nvPicPr>
        <p:blipFill>
          <a:blip r:embed="rId7"/>
          <a:stretch/>
        </p:blipFill>
        <p:spPr>
          <a:xfrm>
            <a:off x="7655040" y="542772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rcRect l="12491" t="23360" r="4723" b="15899"/>
          <a:stretch/>
        </p:blipFill>
        <p:spPr>
          <a:xfrm>
            <a:off x="1116000" y="1587600"/>
            <a:ext cx="7704000" cy="486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4"/>
          <p:cNvSpPr/>
          <p:nvPr/>
        </p:nvSpPr>
        <p:spPr>
          <a:xfrm>
            <a:off x="2195640" y="6029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четы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и цифра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3"/>
          <p:cNvSpPr/>
          <p:nvPr/>
        </p:nvSpPr>
        <p:spPr>
          <a:xfrm>
            <a:off x="1619280" y="2205000"/>
            <a:ext cx="1440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4"/>
          <p:cNvSpPr/>
          <p:nvPr/>
        </p:nvSpPr>
        <p:spPr>
          <a:xfrm>
            <a:off x="3203640" y="1476360"/>
            <a:ext cx="1404720" cy="144792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Овал 5"/>
          <p:cNvSpPr/>
          <p:nvPr/>
        </p:nvSpPr>
        <p:spPr>
          <a:xfrm>
            <a:off x="4608360" y="2349360"/>
            <a:ext cx="154800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6"/>
          <p:cNvSpPr/>
          <p:nvPr/>
        </p:nvSpPr>
        <p:spPr>
          <a:xfrm>
            <a:off x="6515280" y="1612800"/>
            <a:ext cx="1439640" cy="144000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? посчита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5" descr=""/>
          <p:cNvPicPr/>
          <p:nvPr/>
        </p:nvPicPr>
        <p:blipFill>
          <a:blip r:embed="rId1"/>
          <a:stretch/>
        </p:blipFill>
        <p:spPr>
          <a:xfrm>
            <a:off x="1166760" y="1484280"/>
            <a:ext cx="1706760" cy="170676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2124000" y="501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МЯЧ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2873520" y="2232000"/>
            <a:ext cx="1763640" cy="17636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"/>
          <p:cNvPicPr/>
          <p:nvPr/>
        </p:nvPicPr>
        <p:blipFill>
          <a:blip r:embed="rId3"/>
          <a:stretch/>
        </p:blipFill>
        <p:spPr>
          <a:xfrm>
            <a:off x="4645080" y="1484280"/>
            <a:ext cx="1779480" cy="1727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7"/>
          <p:cNvSpPr/>
          <p:nvPr/>
        </p:nvSpPr>
        <p:spPr>
          <a:xfrm>
            <a:off x="6945120" y="3995640"/>
            <a:ext cx="119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4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4"/>
          <a:stretch/>
        </p:blipFill>
        <p:spPr>
          <a:xfrm>
            <a:off x="6551640" y="1844640"/>
            <a:ext cx="1982880" cy="198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РУ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2"/>
          <p:cNvSpPr/>
          <p:nvPr/>
        </p:nvSpPr>
        <p:spPr>
          <a:xfrm>
            <a:off x="3492360" y="2133720"/>
            <a:ext cx="3743640" cy="3671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4788000" y="60469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ВАДРА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1908000" y="6046920"/>
            <a:ext cx="49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"/>
          <p:cNvSpPr/>
          <p:nvPr/>
        </p:nvSpPr>
        <p:spPr>
          <a:xfrm>
            <a:off x="3203640" y="2276640"/>
            <a:ext cx="3313080" cy="316836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768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403280" y="407664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1547640" y="1989000"/>
            <a:ext cx="3311640" cy="316872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2"/>
          <p:cNvSpPr/>
          <p:nvPr/>
        </p:nvSpPr>
        <p:spPr>
          <a:xfrm>
            <a:off x="5580000" y="1989000"/>
            <a:ext cx="3024360" cy="3149640"/>
          </a:xfrm>
          <a:prstGeom prst="ellipse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6443640" y="5589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ДРАТ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476360" y="1916280"/>
            <a:ext cx="1079640" cy="1081080"/>
          </a:xfrm>
          <a:prstGeom prst="rect">
            <a:avLst/>
          </a:prstGeom>
          <a:solidFill>
            <a:srgbClr val="70d34d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"/>
          <p:cNvSpPr/>
          <p:nvPr/>
        </p:nvSpPr>
        <p:spPr>
          <a:xfrm>
            <a:off x="3419640" y="1628640"/>
            <a:ext cx="1296720" cy="1368720"/>
          </a:xfrm>
          <a:prstGeom prst="rect">
            <a:avLst/>
          </a:prstGeom>
          <a:solidFill>
            <a:srgbClr val="4192db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5510160" y="1916280"/>
            <a:ext cx="503280" cy="54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7"/>
          <p:cNvSpPr/>
          <p:nvPr/>
        </p:nvSpPr>
        <p:spPr>
          <a:xfrm>
            <a:off x="6732720" y="1600200"/>
            <a:ext cx="158436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509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17:13:33Z</dcterms:created>
  <dc:creator>1</dc:creator>
  <dc:description/>
  <dc:language>en-US</dc:language>
  <cp:lastModifiedBy>u1</cp:lastModifiedBy>
  <dcterms:modified xsi:type="dcterms:W3CDTF">2020-10-05T14:06:36Z</dcterms:modified>
  <cp:revision>12</cp:revision>
  <dc:subject/>
  <dc:title>ThemeGallery PowerTemplate</dc:title>
</cp:coreProperties>
</file>