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2820-B769-4F06-880F-256A8193E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BB90-D900-4FA1-A6F8-2E66F2575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CAB3-B27E-459A-9A02-DF53B8A51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818F-D44E-4AA8-A7A1-F8F69FD93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6757-848D-4D3D-B869-683F94938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E86-02D2-4D10-8117-272C7DC4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ECC-5CB9-4D44-9BCB-565A38C8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239-C1A6-49DF-B7E3-A3416BB7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860-AFC1-42AF-BB37-184D7FB7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10DD-3883-463F-834B-D0C9C0CA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420B-DDB7-4566-BA5A-8F8C6E6B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F4FD-2070-4836-AD80-49E63E0A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EA93-53EC-4961-8AD4-0E7CFB16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EDA9-4F1D-4E51-9446-7A5A6BEF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E8D6-38BA-4792-BADF-00FA5E3F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5EA8-941D-45CB-B4A4-EE8641C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DA6-3C1F-4A20-8B51-F0850717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2BC8-17D0-49F7-9319-4CF932A7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B8EC-4562-4F04-A144-2FC8BF83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C3BE-F7CF-4625-9157-9A1A958E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72AF-A711-40B9-BB36-B7F0AF8E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C890-BF09-495C-AC2C-7878E067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0A9-D083-445D-8170-FF20C1F0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CF8-3D0D-4B4E-81A8-666A4D40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997-61DD-4F58-9DCA-4C92C1A7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E2F-40FA-423B-A411-AAB07659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48B-8EE6-4632-8D67-86043255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AA3-4907-46EC-9055-3DFDCBA5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B02-0EDD-4C29-AF09-08671228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49C3-34C4-4D9E-83A8-95CC6A4FB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309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27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6840" cy="6857640"/>
            <a:chOff x="152280" y="0"/>
            <a:chExt cx="45684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72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0"/>
              <a:ext cx="2944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0960" y="85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3920" y="403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5640" y="189000"/>
              <a:ext cx="63288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4080" y="315720"/>
              <a:ext cx="54864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7F29-AEA7-45D5-8364-893954993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57440" y="42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убин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2" descr=""/>
          <p:cNvPicPr/>
          <p:nvPr/>
        </p:nvPicPr>
        <p:blipFill>
          <a:blip r:embed="rId1"/>
          <a:stretch/>
        </p:blipFill>
        <p:spPr>
          <a:xfrm>
            <a:off x="1547640" y="1392120"/>
            <a:ext cx="583272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ие фигу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755640" y="4076640"/>
            <a:ext cx="439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"/>
          <p:cNvSpPr/>
          <p:nvPr/>
        </p:nvSpPr>
        <p:spPr>
          <a:xfrm>
            <a:off x="1547640" y="1989000"/>
            <a:ext cx="1872000" cy="172728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2"/>
          <p:cNvSpPr/>
          <p:nvPr/>
        </p:nvSpPr>
        <p:spPr>
          <a:xfrm>
            <a:off x="4356000" y="1989000"/>
            <a:ext cx="1800360" cy="185436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4500720" y="5589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Равнобедренный треугольник 4"/>
          <p:cNvSpPr/>
          <p:nvPr/>
        </p:nvSpPr>
        <p:spPr>
          <a:xfrm>
            <a:off x="7236000" y="1989000"/>
            <a:ext cx="1439640" cy="1727280"/>
          </a:xfrm>
          <a:prstGeom prst="triangle">
            <a:avLst>
              <a:gd name="adj" fmla="val 50000"/>
            </a:avLst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372360" y="573264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ЯМОУГОЛЬНИ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2050920" y="2349360"/>
            <a:ext cx="5257800" cy="309564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908000" y="1700280"/>
            <a:ext cx="2519640" cy="144144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5052960" y="3141720"/>
            <a:ext cx="2952720" cy="1511280"/>
          </a:xfrm>
          <a:prstGeom prst="rect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tretch/>
        </p:blipFill>
        <p:spPr>
          <a:xfrm>
            <a:off x="1619280" y="4241880"/>
            <a:ext cx="167796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1476360" y="1916280"/>
            <a:ext cx="1079640" cy="108108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3419640" y="1628640"/>
            <a:ext cx="1296720" cy="1368720"/>
          </a:xfrm>
          <a:prstGeom prst="rect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5510160" y="1916280"/>
            <a:ext cx="503280" cy="541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6732720" y="1600200"/>
            <a:ext cx="158436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2" descr=""/>
          <p:cNvPicPr/>
          <p:nvPr/>
        </p:nvPicPr>
        <p:blipFill>
          <a:blip r:embed="rId1"/>
          <a:stretch/>
        </p:blipFill>
        <p:spPr>
          <a:xfrm>
            <a:off x="0" y="1120680"/>
            <a:ext cx="9144000" cy="57373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йди прямоугольни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вет: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2" descr=""/>
          <p:cNvPicPr/>
          <p:nvPr/>
        </p:nvPicPr>
        <p:blipFill>
          <a:blip r:embed="rId1"/>
          <a:srcRect l="3213" t="4635" r="2967" b="945"/>
          <a:stretch/>
        </p:blipFill>
        <p:spPr>
          <a:xfrm>
            <a:off x="1476360" y="1596960"/>
            <a:ext cx="727236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rcRect l="0" t="6400" r="0" b="0"/>
          <a:stretch/>
        </p:blipFill>
        <p:spPr>
          <a:xfrm>
            <a:off x="1258920" y="1628640"/>
            <a:ext cx="7705800" cy="4942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2987640" y="549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: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ЖЁ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187280" y="1235160"/>
            <a:ext cx="7963200" cy="56228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"/>
          <p:cNvSpPr/>
          <p:nvPr/>
        </p:nvSpPr>
        <p:spPr>
          <a:xfrm>
            <a:off x="2268360" y="62064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4560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692360" y="2238480"/>
            <a:ext cx="6696000" cy="3998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3" descr=""/>
          <p:cNvPicPr/>
          <p:nvPr/>
        </p:nvPicPr>
        <p:blipFill>
          <a:blip r:embed="rId1"/>
          <a:srcRect l="0" t="9898" r="0" b="0"/>
          <a:stretch/>
        </p:blipFill>
        <p:spPr>
          <a:xfrm>
            <a:off x="1658880" y="1341360"/>
            <a:ext cx="5202360" cy="5516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7164360" y="2421000"/>
            <a:ext cx="10080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"/>
          <p:cNvPicPr/>
          <p:nvPr/>
        </p:nvPicPr>
        <p:blipFill>
          <a:blip r:embed="rId1"/>
          <a:srcRect l="0" t="6264" r="2549" b="0"/>
          <a:stretch/>
        </p:blipFill>
        <p:spPr>
          <a:xfrm>
            <a:off x="1622520" y="430200"/>
            <a:ext cx="5748120" cy="6427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7596360" y="2708280"/>
            <a:ext cx="93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1" descr=""/>
          <p:cNvPicPr/>
          <p:nvPr/>
        </p:nvPicPr>
        <p:blipFill>
          <a:blip r:embed="rId1"/>
          <a:srcRect l="0" t="6061" r="1703" b="0"/>
          <a:stretch/>
        </p:blipFill>
        <p:spPr>
          <a:xfrm>
            <a:off x="1574640" y="415800"/>
            <a:ext cx="5892840" cy="64422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7596360" y="2781360"/>
            <a:ext cx="1152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" descr=""/>
          <p:cNvPicPr/>
          <p:nvPr/>
        </p:nvPicPr>
        <p:blipFill>
          <a:blip r:embed="rId1"/>
          <a:srcRect l="0" t="6175" r="0" b="0"/>
          <a:stretch/>
        </p:blipFill>
        <p:spPr>
          <a:xfrm>
            <a:off x="1187280" y="333360"/>
            <a:ext cx="6253200" cy="6400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7740720" y="2565360"/>
            <a:ext cx="8636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"/>
          <p:cNvPicPr/>
          <p:nvPr/>
        </p:nvPicPr>
        <p:blipFill>
          <a:blip r:embed="rId1"/>
          <a:srcRect l="0" t="6872" r="0" b="0"/>
          <a:stretch/>
        </p:blipFill>
        <p:spPr>
          <a:xfrm>
            <a:off x="1332000" y="471600"/>
            <a:ext cx="5745240" cy="63864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7077240" y="2637000"/>
            <a:ext cx="152712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2" descr=""/>
          <p:cNvPicPr/>
          <p:nvPr/>
        </p:nvPicPr>
        <p:blipFill>
          <a:blip r:embed="rId1"/>
          <a:srcRect l="23176" t="0" r="19833" b="8318"/>
          <a:stretch/>
        </p:blipFill>
        <p:spPr>
          <a:xfrm>
            <a:off x="1692360" y="1557360"/>
            <a:ext cx="2671560" cy="48798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" descr=""/>
          <p:cNvPicPr/>
          <p:nvPr/>
        </p:nvPicPr>
        <p:blipFill>
          <a:blip r:embed="rId2"/>
          <a:stretch/>
        </p:blipFill>
        <p:spPr>
          <a:xfrm>
            <a:off x="4363920" y="1949400"/>
            <a:ext cx="4741920" cy="3873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2195640" y="6029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п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3"/>
          <p:cNvSpPr/>
          <p:nvPr/>
        </p:nvSpPr>
        <p:spPr>
          <a:xfrm>
            <a:off x="1187280" y="2708280"/>
            <a:ext cx="144000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4"/>
          <p:cNvSpPr/>
          <p:nvPr/>
        </p:nvSpPr>
        <p:spPr>
          <a:xfrm>
            <a:off x="2843280" y="1528920"/>
            <a:ext cx="1404720" cy="144756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5"/>
          <p:cNvSpPr/>
          <p:nvPr/>
        </p:nvSpPr>
        <p:spPr>
          <a:xfrm>
            <a:off x="4519440" y="2492280"/>
            <a:ext cx="154656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6"/>
          <p:cNvSpPr/>
          <p:nvPr/>
        </p:nvSpPr>
        <p:spPr>
          <a:xfrm>
            <a:off x="6161040" y="1528920"/>
            <a:ext cx="1440000" cy="143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7572240" y="2967120"/>
            <a:ext cx="1440000" cy="143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2124000" y="602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укл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ы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7"/>
          <p:cNvSpPr/>
          <p:nvPr/>
        </p:nvSpPr>
        <p:spPr>
          <a:xfrm>
            <a:off x="7451640" y="5373720"/>
            <a:ext cx="72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кол</a:t>
            </a: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1181160" y="1327320"/>
            <a:ext cx="6270480" cy="4694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7667640" y="602136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u1</cp:lastModifiedBy>
  <dcterms:modified xsi:type="dcterms:W3CDTF">2020-10-24T18:25:19Z</dcterms:modified>
  <cp:revision>19</cp:revision>
  <dc:subject/>
  <dc:title>ThemeGallery PowerTemplate</dc:title>
</cp:coreProperties>
</file>