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A7D2-8A9E-4888-A572-CA62A2E5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FE81-959D-4B05-93D7-5C9E2F0B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3B8E-2015-4A2B-AC94-4B53AD9F2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8535-CB52-4F02-A125-21543310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E26B-2933-4ED0-BCB2-E99EEE213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19C-B78B-44AA-B17D-7F2CCA6D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D4A-167C-445F-B16C-6280517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3EC-0AD2-486D-B357-A0A1E318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8EF-1FAE-4AB1-8BAD-0981D254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03B-7D34-49C3-AA37-8D83ADD5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5AA-F6A0-496A-AF12-B4283502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CDC-2341-499B-BF8E-78BA7BF7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E8EB-52FF-42C6-B148-01821FBA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CFC4-C537-4078-AAF9-7A7C088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4109-B427-4E47-A5B0-9BE04F40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A79A-9535-416C-9674-9BCDD7F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F3B-BC84-4071-908D-1987484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1DE-CB64-4AC4-857E-E1048E0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0A2F-E4D4-48D9-A60B-09C9AC1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1739-554D-4B29-B0AC-17D1C2FD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1210-67C5-4065-9D35-A9110B62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6C9-932C-4A47-BB8E-8B3CB78B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B04-2E13-48A4-9FF9-FB29159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A4D-FE2F-4E8F-8639-CEFACF77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B14-35E8-4558-9177-19FE65F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7D5-0294-46DF-B6B8-3A2C46F3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9A69-B779-42AB-A75D-94A1C7C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B6F-4E68-4346-B9F1-6BBFD946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430-0E7E-4923-B33A-1514983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BB0-5A69-4F15-BEF4-B381AE2B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338-EF50-4671-9301-42C81FE5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"/>
          <p:cNvPicPr/>
          <p:nvPr/>
        </p:nvPicPr>
        <p:blipFill>
          <a:blip r:embed="rId1"/>
          <a:stretch/>
        </p:blipFill>
        <p:spPr>
          <a:xfrm>
            <a:off x="1547640" y="139212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755640" y="4076640"/>
            <a:ext cx="43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1547640" y="1989000"/>
            <a:ext cx="1872000" cy="17272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2"/>
          <p:cNvSpPr/>
          <p:nvPr/>
        </p:nvSpPr>
        <p:spPr>
          <a:xfrm>
            <a:off x="4356000" y="1989000"/>
            <a:ext cx="1800360" cy="18543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4500720" y="5589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Равнобедренный треугольник 4"/>
          <p:cNvSpPr/>
          <p:nvPr/>
        </p:nvSpPr>
        <p:spPr>
          <a:xfrm>
            <a:off x="7236000" y="1989000"/>
            <a:ext cx="1439640" cy="172728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372360" y="573264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ЯМО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2050920" y="2349360"/>
            <a:ext cx="5257800" cy="309564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908000" y="1700280"/>
            <a:ext cx="2519640" cy="144144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5052960" y="3141720"/>
            <a:ext cx="2952720" cy="151128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1619280" y="4241880"/>
            <a:ext cx="1677960" cy="966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прямо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2" descr=""/>
          <p:cNvPicPr/>
          <p:nvPr/>
        </p:nvPicPr>
        <p:blipFill>
          <a:blip r:embed="rId1"/>
          <a:srcRect l="3213" t="4635" r="2967" b="945"/>
          <a:stretch/>
        </p:blipFill>
        <p:spPr>
          <a:xfrm>
            <a:off x="1476360" y="159696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rcRect l="0" t="6400" r="0" b="0"/>
          <a:stretch/>
        </p:blipFill>
        <p:spPr>
          <a:xfrm>
            <a:off x="1258920" y="1628640"/>
            <a:ext cx="7705800" cy="4942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2987640" y="54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187280" y="1235160"/>
            <a:ext cx="7963200" cy="5622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"/>
          <p:cNvSpPr/>
          <p:nvPr/>
        </p:nvSpPr>
        <p:spPr>
          <a:xfrm>
            <a:off x="2268360" y="62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4560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"/>
          <p:cNvPicPr/>
          <p:nvPr/>
        </p:nvPicPr>
        <p:blipFill>
          <a:blip r:embed="rId1"/>
          <a:srcRect l="0" t="9898" r="0" b="0"/>
          <a:stretch/>
        </p:blipFill>
        <p:spPr>
          <a:xfrm>
            <a:off x="1658880" y="1341360"/>
            <a:ext cx="5202360" cy="5516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164360" y="2421000"/>
            <a:ext cx="1008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rcRect l="0" t="6264" r="2549" b="0"/>
          <a:stretch/>
        </p:blipFill>
        <p:spPr>
          <a:xfrm>
            <a:off x="1622520" y="430200"/>
            <a:ext cx="5748120" cy="6427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7596360" y="2708280"/>
            <a:ext cx="936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1" descr=""/>
          <p:cNvPicPr/>
          <p:nvPr/>
        </p:nvPicPr>
        <p:blipFill>
          <a:blip r:embed="rId1"/>
          <a:srcRect l="0" t="6061" r="1703" b="0"/>
          <a:stretch/>
        </p:blipFill>
        <p:spPr>
          <a:xfrm>
            <a:off x="1574640" y="415800"/>
            <a:ext cx="5892840" cy="6442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7596360" y="2781360"/>
            <a:ext cx="1152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rcRect l="0" t="6175" r="0" b="0"/>
          <a:stretch/>
        </p:blipFill>
        <p:spPr>
          <a:xfrm>
            <a:off x="1187280" y="333360"/>
            <a:ext cx="6253200" cy="6400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7740720" y="2565360"/>
            <a:ext cx="863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"/>
          <p:cNvPicPr/>
          <p:nvPr/>
        </p:nvPicPr>
        <p:blipFill>
          <a:blip r:embed="rId1"/>
          <a:srcRect l="0" t="6872" r="0" b="0"/>
          <a:stretch/>
        </p:blipFill>
        <p:spPr>
          <a:xfrm>
            <a:off x="1332000" y="471600"/>
            <a:ext cx="5745240" cy="63864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7077240" y="2637000"/>
            <a:ext cx="152712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"/>
          <p:cNvPicPr/>
          <p:nvPr/>
        </p:nvPicPr>
        <p:blipFill>
          <a:blip r:embed="rId1"/>
          <a:srcRect l="23176" t="0" r="19833" b="8318"/>
          <a:stretch/>
        </p:blipFill>
        <p:spPr>
          <a:xfrm>
            <a:off x="1692360" y="1557360"/>
            <a:ext cx="2671560" cy="48798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3" descr=""/>
          <p:cNvPicPr/>
          <p:nvPr/>
        </p:nvPicPr>
        <p:blipFill>
          <a:blip r:embed="rId2"/>
          <a:stretch/>
        </p:blipFill>
        <p:spPr>
          <a:xfrm>
            <a:off x="4363920" y="1949400"/>
            <a:ext cx="47419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1187280" y="270828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Овал 4"/>
          <p:cNvSpPr/>
          <p:nvPr/>
        </p:nvSpPr>
        <p:spPr>
          <a:xfrm>
            <a:off x="2843280" y="1528920"/>
            <a:ext cx="1404720" cy="14475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5"/>
          <p:cNvSpPr/>
          <p:nvPr/>
        </p:nvSpPr>
        <p:spPr>
          <a:xfrm>
            <a:off x="4519440" y="2492280"/>
            <a:ext cx="154656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6"/>
          <p:cNvSpPr/>
          <p:nvPr/>
        </p:nvSpPr>
        <p:spPr>
          <a:xfrm>
            <a:off x="6161040" y="15289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7572240" y="29671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2124000" y="602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укл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7"/>
          <p:cNvSpPr/>
          <p:nvPr/>
        </p:nvSpPr>
        <p:spPr>
          <a:xfrm>
            <a:off x="7451640" y="5373720"/>
            <a:ext cx="72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кол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1181160" y="1327320"/>
            <a:ext cx="6270480" cy="469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7667640" y="6021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24T18:25:19Z</dcterms:modified>
  <cp:revision>19</cp:revision>
  <dc:subject/>
  <dc:title>ThemeGallery PowerTemplate</dc:title>
</cp:coreProperties>
</file>