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14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.gif" ContentType="image/gif"/>
  <Override PartName="/ppt/media/image28.png" ContentType="image/png"/>
  <Override PartName="/ppt/media/image7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5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6.gif" ContentType="image/gif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359F-0D0E-4229-85CC-50C46B8EA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24F7-0CEC-4C15-8BCA-6E0D76EA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F36F-6A33-4E6F-A931-7D426AA4F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46A6-E768-4919-A563-DB529F689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5E15E-2EBD-4773-828A-ADA3108D6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14C70-4E43-4D7E-8E3C-B40C9B91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EB8FD-B281-48F3-BE4B-E54D3B2A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C4356B-05A2-43EC-8A2B-3F0E2DA9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04B2D-4502-45CA-AA0E-F2FA4A20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90B15-05B8-4C7F-B542-EFAC30E9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CD7F3-E32C-4F3E-8364-E22275E3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09FB-C2BC-46C1-BF1C-B8E45E35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B9A9B8-FE30-4DC8-BCF4-CE4F2949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A7B90-6EB1-4624-A6AA-52F82C03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2EFDF-3303-4F67-BC62-43AC0026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B7E60-3113-45CA-B90C-872F65251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578CA-2AEB-4C8C-B9C5-3F95C7357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6306-4225-477F-BF19-36C3C5AD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DD8A-0A25-4803-9035-9DF86233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A5B1-D6AB-47CA-A4FA-A298D611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B30C-A763-4999-ADA1-907C0A10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3C6B-E192-4C6F-A781-7FCF3316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5389-E87D-41BD-A267-0206EBD7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4E0E-C8E1-4017-85B4-B5B5ADF1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8DFD-2F94-42B2-8646-0B9CBA84F2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FB3C-9BCB-414A-B459-B8CD8799B1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171360"/>
            <a:ext cx="77724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ЮЖНАЯ ССЫЛКА А.С.ПУШКИНА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(1820-1824)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203280" y="3068640"/>
            <a:ext cx="576108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Но где же вы, минуты умилень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Младых надежд, сердечной тишин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Где прежний жар и слезы вдохновенья?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Придите вновь, года моей весны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А.С.Пушк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79280" y="2637000"/>
            <a:ext cx="2954520" cy="36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508720" y="3213000"/>
            <a:ext cx="31780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Айвазовский.</a:t>
            </a:r>
            <a:br>
              <a:rPr sz="3200"/>
            </a:b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Пушкин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в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Гурзуф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4843440" cy="60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БАХЧИСАРА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5084640"/>
            <a:ext cx="454644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Ханский дворе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4680000" cy="3591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148360" y="1197000"/>
            <a:ext cx="3636720" cy="54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48052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«СЕЛЬСЕВИЛЬ»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  ФОНТАН СЛЕЗ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3440160" cy="4775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572000" y="549360"/>
            <a:ext cx="424512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ФОНТАНУ БАХЧИСАРАЙСКОГО ДВОРЦ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55640" y="1557360"/>
            <a:ext cx="614196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ahoma"/>
              </a:rPr>
              <a:t>Фонтан любви, фонтан живой!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ahoma"/>
              </a:rPr>
              <a:t>Принес я в дар тебе две роз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ahoma"/>
              </a:rPr>
              <a:t>Люблю немолчный говор твой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ahoma"/>
              </a:rPr>
              <a:t>И поэтические слез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ahoma"/>
              </a:rPr>
              <a:t>         </a:t>
            </a:r>
            <a:r>
              <a:rPr b="0" i="1" lang="ru-RU" sz="1600" spc="-1" strike="noStrike">
                <a:solidFill>
                  <a:srgbClr val="ffff00"/>
                </a:solidFill>
                <a:latin typeface="Tahoma"/>
              </a:rPr>
              <a:t>Твоя серебряная пыл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ahoma"/>
              </a:rPr>
              <a:t>         </a:t>
            </a:r>
            <a:r>
              <a:rPr b="0" i="1" lang="ru-RU" sz="1600" spc="-1" strike="noStrike">
                <a:solidFill>
                  <a:srgbClr val="ffff00"/>
                </a:solidFill>
                <a:latin typeface="Tahoma"/>
              </a:rPr>
              <a:t>Меня кропит росою хладной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ahoma"/>
              </a:rPr>
              <a:t>         </a:t>
            </a:r>
            <a:r>
              <a:rPr b="0" i="1" lang="ru-RU" sz="1600" spc="-1" strike="noStrike">
                <a:solidFill>
                  <a:srgbClr val="ffff00"/>
                </a:solidFill>
                <a:latin typeface="Tahoma"/>
              </a:rPr>
              <a:t>Ах, лейся, лейся ключ отрадный!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ahoma"/>
              </a:rPr>
              <a:t>         </a:t>
            </a:r>
            <a:r>
              <a:rPr b="0" i="1" lang="ru-RU" sz="1600" spc="-1" strike="noStrike">
                <a:solidFill>
                  <a:srgbClr val="ffff00"/>
                </a:solidFill>
                <a:latin typeface="Tahoma"/>
              </a:rPr>
              <a:t>Журчи, журчи свою мне быль…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ahoma"/>
              </a:rPr>
              <a:t>Фонтан любви, фонтан печальный!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ahoma"/>
              </a:rPr>
              <a:t>И я твой мрамор вопрошал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ahoma"/>
              </a:rPr>
              <a:t>Хвалу стране прочел я дальной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ahoma"/>
              </a:rPr>
              <a:t>Но о Марии ты молчал…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ahoma"/>
              </a:rPr>
              <a:t>         </a:t>
            </a:r>
            <a:r>
              <a:rPr b="0" i="1" lang="ru-RU" sz="1600" spc="-1" strike="noStrike">
                <a:solidFill>
                  <a:srgbClr val="ffff00"/>
                </a:solidFill>
                <a:latin typeface="Tahoma"/>
              </a:rPr>
              <a:t>Светило бледное гарема!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ahoma"/>
              </a:rPr>
              <a:t>         </a:t>
            </a:r>
            <a:r>
              <a:rPr b="0" i="1" lang="ru-RU" sz="1600" spc="-1" strike="noStrike">
                <a:solidFill>
                  <a:srgbClr val="ffff00"/>
                </a:solidFill>
                <a:latin typeface="Tahoma"/>
              </a:rPr>
              <a:t>И здесь ужель забвенно ты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ahoma"/>
              </a:rPr>
              <a:t>         </a:t>
            </a:r>
            <a:r>
              <a:rPr b="0" i="1" lang="ru-RU" sz="1600" spc="-1" strike="noStrike">
                <a:solidFill>
                  <a:srgbClr val="ffff00"/>
                </a:solidFill>
                <a:latin typeface="Tahoma"/>
              </a:rPr>
              <a:t>Или Мария и Зарем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ahoma"/>
              </a:rPr>
              <a:t>         </a:t>
            </a:r>
            <a:r>
              <a:rPr b="0" i="1" lang="ru-RU" sz="1600" spc="-1" strike="noStrike">
                <a:solidFill>
                  <a:srgbClr val="ffff00"/>
                </a:solidFill>
                <a:latin typeface="Tahoma"/>
              </a:rPr>
              <a:t>Одни счастливые мечты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ahoma"/>
              </a:rPr>
              <a:t>Иль только сон воображень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ahoma"/>
              </a:rPr>
              <a:t>В пустынной мгле нарисова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ahoma"/>
              </a:rPr>
              <a:t>Свои минутные виденья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ahoma"/>
              </a:rPr>
              <a:t>Души неясный идеал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Tahoma"/>
              </a:rPr>
              <a:t>                                </a:t>
            </a:r>
            <a:r>
              <a:rPr b="0" i="1" lang="ru-RU" sz="1600" spc="-1" strike="noStrike">
                <a:solidFill>
                  <a:srgbClr val="ffff00"/>
                </a:solidFill>
                <a:latin typeface="Tahoma"/>
              </a:rPr>
              <a:t>1824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КИШИНЕВ (1820-1823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3959280" cy="3167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084720" y="1197000"/>
            <a:ext cx="2652840" cy="3522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3708360" y="3716280"/>
            <a:ext cx="209232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067280" y="4508280"/>
            <a:ext cx="489744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За их ленивыми толп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В пустынях часто я бродил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                </a:t>
            </a: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А.С.Пушки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2340000" cy="3137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140360" y="260280"/>
            <a:ext cx="4643280" cy="3530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971640" y="2708280"/>
            <a:ext cx="2971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ЗНАКОМСТВО С ДЕКАБРИСТАМ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51280" y="2420640"/>
            <a:ext cx="4835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«Пушкин ругает правительство, помещиков, говорит остро, убедительно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           </a:t>
            </a: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П.И.Долгоруков,                         сослуживец поэ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2838600" cy="3066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50920" y="5013360"/>
            <a:ext cx="302580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.И. ПЕСТ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ОДЕССА, 1823 го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8920" y="4508280"/>
            <a:ext cx="554508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ahoma"/>
              </a:rPr>
              <a:t>Полу-милорд, полу-купец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ahoma"/>
              </a:rPr>
              <a:t>Полу-мудрец, полу-невежд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ahoma"/>
              </a:rPr>
              <a:t>Полу-подлец, но есть надежд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ahoma"/>
              </a:rPr>
              <a:t>Что будет полным наконец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4714920" cy="30290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5940360" y="1484280"/>
            <a:ext cx="2838600" cy="34401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12000" y="5157720"/>
            <a:ext cx="2808000" cy="3589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ГРАФ М.С.ВОРОНЦ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ИЮЛЬ 1824 го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780000" y="2923920"/>
            <a:ext cx="49068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« … здесь вместо того, чтобы учиться и работать, он еще более собьется с пути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              </a:t>
            </a: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Из донесения             М.С.Воронцо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302724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Г. ЕКАТЕРИНОСЛАВ,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май 1820 го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1904760"/>
            <a:ext cx="850752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енерал И.Н.Инзов          Николай Раевс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26920" y="2205000"/>
            <a:ext cx="2667240" cy="3048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651640" y="2205000"/>
            <a:ext cx="246528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79280" y="190512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«Мой друг, счастливейшие минуты жизни моей провел я посреди семейства почтенного Раевского… Суди, был ли я счастлив: свободная, беспечная жизнь в кругу милого семейства… счастливое полуденное небо; прелестный край…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        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Письмо брату Льв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     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24 сентября 1820 г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39640" y="5359320"/>
            <a:ext cx="2303640" cy="965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76968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КАВКАЗ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4076280"/>
            <a:ext cx="46800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«… Я лег в коляску больной, через неделю вылечился. 2 месяца жил я на Кавказе; воды мне были очень нужны…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4429080" cy="3105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859280" y="2492280"/>
            <a:ext cx="4067280" cy="3051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292720" y="5805360"/>
            <a:ext cx="3382920" cy="503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ЯТИГОРС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КАВКАЗ: МИНЕРАЛЬНЫЕ ВО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6526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«Жалею, мой друг, что ты  со мною вместе не видал великолепную цепь этих гор; ледяные их вершины, которые издали, на ясной заре, кажутся странными облаками, разноцветными и недвижными…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003640" y="1574640"/>
            <a:ext cx="3961080" cy="29750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50920" y="1536840"/>
            <a:ext cx="446544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76360" y="291960"/>
            <a:ext cx="561636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Поэма «Кавказский пленник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58920" y="1699920"/>
            <a:ext cx="58338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« Я в нем хотел изобразить это равнодушие к жизни и к ее наслаждениям, эту преждевременную старость души, которые сделались отличительными чертами молодежи 19 века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3019680" cy="46832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932360" y="4497480"/>
            <a:ext cx="405936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47640" y="-360"/>
            <a:ext cx="71503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                          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***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Погасло дневное светило;</a:t>
            </a:r>
            <a:br>
              <a:rPr sz="2400"/>
            </a:b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На море синее вечерний пал туман.</a:t>
            </a:r>
            <a:br>
              <a:rPr sz="2400"/>
            </a:b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     Шуми, шуми, послушное ветрило,</a:t>
            </a:r>
            <a:br>
              <a:rPr sz="2400"/>
            </a:b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Волнуйся подо мной, угрюмый океан.</a:t>
            </a:r>
            <a:br>
              <a:rPr sz="2400"/>
            </a:b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     Я вижу берег отдаленный,</a:t>
            </a:r>
            <a:br>
              <a:rPr sz="2400"/>
            </a:b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Земли полуденной волшебные края;</a:t>
            </a:r>
            <a:br>
              <a:rPr sz="2400"/>
            </a:b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С волненьем и тоской туда стремлюся я,</a:t>
            </a:r>
            <a:br>
              <a:rPr sz="2400"/>
            </a:b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     Воспоминаньем упоенный…</a:t>
            </a:r>
            <a:br>
              <a:rPr sz="2400"/>
            </a:b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И чувствую: в очах родились слезы вновь;</a:t>
            </a:r>
            <a:br>
              <a:rPr sz="2400"/>
            </a:b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     Душа кипит и замирает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Мечта знакомая вокруг меня летает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Я вспомнил прежних лет безумную любовь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И все, чем я страдал, и все, что сердцу мило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Желаний и надежд томительный обман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Шуми, шуми, послушное ветрило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Волнуйся подо мной, угрюмый океа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111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123640" y="259920"/>
            <a:ext cx="6356520" cy="67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Лети, корабль, неси меня к пределам дальны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По грозной прихоти обманчивых морей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Но только не к брегам печальны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Туманной родины моей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Страны, где пламенем страст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Впервые чувства разгорались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Где музы нежные мне тайно улыбались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Где рано в бурях отцвел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Моя потерянная млад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И сердце хладное страданью предал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             </a:t>
            </a: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Искатель новых впечатлений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Я вас бежал, отечески кра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Я вас бежал, питомцы наслаждений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Минутной младости минутные друзь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И вы, наперстницы порочных заблуждений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Которым без любви я жертвовал собой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Покоем, славою, свободой и душой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И вы забыты мной, изменницы млады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Подруги тайные моей весны златы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И вы забыты мной… Но прежних сердца ран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Глубоких ран любви, ничто не излечило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Шуми, шуми, послушное ветрило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Волнуйся подо мной, угрюмый океан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</a:t>
            </a:r>
            <a:r>
              <a:rPr b="0" i="1" lang="ru-RU" sz="1800" spc="-1" strike="noStrike">
                <a:solidFill>
                  <a:srgbClr val="ffff00"/>
                </a:solidFill>
                <a:latin typeface="Tahoma"/>
              </a:rPr>
              <a:t>18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           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ГУРЗУФ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427280" y="4869000"/>
            <a:ext cx="425916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«… природа, удовлетворяющая воображению, - горы, сады, море..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3961080" cy="2979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796000" y="189000"/>
            <a:ext cx="3203640" cy="2135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79280" y="4076640"/>
            <a:ext cx="3457800" cy="2610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3564000" y="2349360"/>
            <a:ext cx="410364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8T04:32:38Z</dcterms:created>
  <dc:creator>ER</dc:creator>
  <dc:description/>
  <dc:language>en-US</dc:language>
  <cp:lastModifiedBy>ER</cp:lastModifiedBy>
  <dcterms:modified xsi:type="dcterms:W3CDTF">2008-11-08T06:55:21Z</dcterms:modified>
  <cp:revision>4</cp:revision>
  <dc:subject/>
  <dc:title>ЮЖНАЯ ССЫЛКА А.С.ПУШКИНА (1820-1824) </dc:title>
</cp:coreProperties>
</file>