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gif" ContentType="image/gif"/>
  <Override PartName="/ppt/media/image9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7.png" ContentType="image/png"/>
  <Override PartName="/ppt/media/image3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24C0-E9F6-40B3-B836-E03C7307B7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DF09-AD06-4D0B-9515-51E115E323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1B50-46F2-4AF5-B1B4-BCCC3CE9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85E8-06BA-40EF-929D-1A4B496E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785-EAA4-4CAB-96E0-8D2213F6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931-1F50-4E38-9699-D1AD8F80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6B5A-E053-4CA1-9647-0A660D46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C729-A90B-4396-A87A-20EE17FD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506F-F072-4A8F-B595-4C46DC3C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C403-5B0D-401B-BC9C-E84F255E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80E6-CDE3-4BE8-BF56-A4490B7A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A462-67CB-4838-9F3B-9E35AC38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4963-B425-4603-B7DC-503FA950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29E-E5A0-42F9-A77F-C3256337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8A19-5993-4E0E-A61C-A8C6730B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8ABA-75F2-4002-A399-B5298A00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B789-8784-4B65-B37C-2D6CBB3A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8A4F-820C-4801-9497-06C369C2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4D9D-20BE-4DF5-8DD3-ABEE6DED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D714F-5923-43E6-9468-8EA57FDE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1931A-7558-43CC-BB11-A70D85E7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DC906-3691-4A4C-9DC5-D8B20ED0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5AE7A-1C33-486C-91DC-FCF405C1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8B35B-2CB2-4E99-8C57-6D802EFB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C3F-64BC-4DCC-99F6-6389EE0C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CAA98-996F-4FD4-A465-42BA4FBA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3E2DB-6B54-4400-9AA7-0CFBA5E7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C618C-ECB4-4FDB-84BE-ADBA6CC5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27A20-0CB9-4113-9D19-93C9AF40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11495-E770-47F5-B9F6-C51699F1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016BF-A2B4-4FEC-995C-C12CC37F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BEA75-74E0-4F85-A859-F284317E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BF160-0F3B-433F-93C6-7C39938F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4BFEB-9683-442C-8D3E-B6704B79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6F6A8-5BF7-4094-9123-A17AB52D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4C12-4D6D-4F4A-82C1-AEAF8D4D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5D26A-BA53-4752-85FD-2CE3EF6C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4BC15-6822-47B8-8479-29A45796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5A812-CF73-48B7-9AF1-CCF7AF2E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2EED5-64A8-4690-A517-3968013A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116F7-421E-4F0B-9FE3-B9B73B92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35409-134A-49A9-965B-F2F70D1B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0DD0D-6795-427E-87E8-AC590B04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31F6A-3CA1-4270-ADAF-D63513F6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A9A58-ABDC-4FA5-A493-D98C4DEC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A0F95-2A9E-45F9-B16E-5BF4922A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E868-F8EA-4F08-A226-E247847E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A08EA-BCAF-45EC-81DC-84900BD3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7A02C-FD6C-43E0-A27E-3661C652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4DB35-13C4-4F8F-AF74-1645ED11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25313-0B02-4DDA-BD16-BFAC137F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ED9E3-2DE5-4537-B5A8-BF63FAC5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0DB8C-205A-49F1-8431-30F766FC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E86D9-6013-45BA-8A60-A51B0EF9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8E1EE-3B78-40D6-8D1A-3C8CE894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1C667-2B98-4DC7-AE9D-474E42C4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459EE-76DF-48A4-B0EC-7C9BF9D4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628-6BB4-4309-A9CF-A0EAACAA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7E60A-5909-4D7B-80B5-B473522D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4009B9-AECC-4063-9637-1A421489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C8C468-C69D-43F0-B532-64CC6343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B47F02-F4D2-42DA-A4EC-DFAE9298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640D63-6635-42AF-B8CA-D8F0DBFC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8A2A31-C095-405F-A21F-785F6C7B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601440-0C01-411E-83DE-AD10226B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AB67F8-0FD0-43AF-BE56-D4B7DCED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5909EA-9091-46DC-9BC3-4ED89FEC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D3635A-1F18-457E-B5F9-959F4987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05F-8575-4947-A79B-CEB9BA4C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29484-1EF4-4AB7-998B-6091D58F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98862A-52F0-4D7F-9728-9A78E4DB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251F8A-8103-4F53-8333-6C94FA07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FF574-60E8-4401-92B0-2D3B7A8D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40D9D-BD05-4D15-B0F3-C2F3C0A1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DC5BD-A251-4B36-8CFC-EC0EAB61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ADD6F-97D7-461F-9341-D6C5A610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24743-B060-4EFF-9425-B4F84D0B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51061-2FEA-4C4D-A387-DC27F9A6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D8809-FF6C-449F-8556-39982F46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697D-7E34-4C28-BFA5-804E9AD9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50D27-C63A-482C-B387-4CFAC82C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27029-2C83-426A-9AF2-458CD893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B5A3C-DA38-4105-8AFB-48F15AD2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3BA93-218D-4C89-8C0C-8667C6EF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E3B7C-D778-433B-9EB4-02035865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594-4D6B-421F-925D-11697193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861A-A7C6-462F-8A11-C311F23EDBDC}" type="datetime">
              <a:rPr b="0" lang="ru-RU" sz="1200" spc="-1" strike="noStrike">
                <a:solidFill>
                  <a:srgbClr val="564b3c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437D-9E71-471C-88C8-E3EFFDD06B15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8220-DCE8-4FCD-A2E1-91DA5F538248}" type="datetime">
              <a:rPr b="0" lang="ru-RU" sz="1200" spc="-1" strike="noStrike">
                <a:solidFill>
                  <a:srgbClr val="564b3c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10DC-200D-4024-A815-806264D69AEC}" type="slidenum">
              <a:rPr b="0" lang="ru-RU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EC05-3085-4389-A10D-043F897B1964}" type="datetime">
              <a:rPr b="0" lang="ru-RU" sz="1200" spc="-1" strike="noStrike">
                <a:solidFill>
                  <a:srgbClr val="564b3c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2DEB-9C2C-493C-8093-15C35D6ABA0C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B035-6C1A-45D2-9E84-282377F516FF}" type="datetime">
              <a:rPr b="0" lang="ru-RU" sz="1200" spc="-1" strike="noStrike">
                <a:solidFill>
                  <a:srgbClr val="564b3c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C388-DF57-4809-A349-51D82D4F0EB7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D4C0-82DF-4A4A-98D6-BFEA984AE74C}" type="datetime">
              <a:rPr b="0" lang="ru-RU" sz="1200" spc="-1" strike="noStrike">
                <a:solidFill>
                  <a:srgbClr val="564b3c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A5AA-97C9-4678-AB45-D4FCBD155E24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DAF4-FD48-4DFC-88A0-441761020546}" type="datetime">
              <a:rPr b="0" lang="ru-RU" sz="1200" spc="-1" strike="noStrike">
                <a:solidFill>
                  <a:srgbClr val="564b3c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0D0E-1B0C-4264-BDD2-EF0BD6927DC6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257D-544F-45E4-900B-FD2347BCF0BB}" type="datetime">
              <a:rPr b="0" lang="ru-RU" sz="1200" spc="-1" strike="noStrike">
                <a:solidFill>
                  <a:srgbClr val="564b3c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E69A-7F4C-4042-AC5C-DBA90ED753C1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90EA-CED1-4B46-A816-86E2239106C7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"/>
          <p:cNvSpPr/>
          <p:nvPr/>
        </p:nvSpPr>
        <p:spPr>
          <a:xfrm>
            <a:off x="0" y="40464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c5928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6"/>
          <p:cNvSpPr/>
          <p:nvPr/>
        </p:nvSpPr>
        <p:spPr>
          <a:xfrm>
            <a:off x="1619280" y="1341360"/>
            <a:ext cx="68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Тема: «Уравнени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7"/>
          <p:cNvSpPr/>
          <p:nvPr/>
        </p:nvSpPr>
        <p:spPr>
          <a:xfrm>
            <a:off x="4284720" y="486900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01f"/>
                </a:solidFill>
                <a:latin typeface="바탕"/>
                <a:ea typeface="바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8"/>
          <p:cNvSpPr/>
          <p:nvPr/>
        </p:nvSpPr>
        <p:spPr>
          <a:xfrm>
            <a:off x="3323520" y="104760"/>
            <a:ext cx="24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a853c"/>
                </a:solidFill>
                <a:latin typeface="Tahom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2672280" y="13129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8a853c"/>
                </a:solidFill>
                <a:latin typeface="Arial"/>
              </a:rPr>
              <a:t>z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4594320" y="1547640"/>
            <a:ext cx="185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 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3560760" y="1547640"/>
            <a:ext cx="159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  <a:ea typeface="Tahoma"/>
              </a:rPr>
              <a:t>−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2250360" y="37162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4859280" y="3645000"/>
            <a:ext cx="185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=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3492360" y="3645000"/>
            <a:ext cx="159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a853c"/>
                </a:solidFill>
                <a:latin typeface="Tahoma"/>
                <a:ea typeface="Tahoma"/>
              </a:rPr>
              <a:t>−</a:t>
            </a: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2484360" y="472428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9</a:t>
            </a:r>
            <a:r>
              <a:rPr b="0" lang="en-US" sz="6000" spc="-1" strike="noStrike">
                <a:solidFill>
                  <a:srgbClr val="8a853c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=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2782800" y="278136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ahoma"/>
              </a:rPr>
              <a:t>Провер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Рисунок 9" descr="59.gif"/>
          <p:cNvPicPr/>
          <p:nvPr/>
        </p:nvPicPr>
        <p:blipFill>
          <a:blip r:embed="rId1"/>
          <a:stretch/>
        </p:blipFill>
        <p:spPr>
          <a:xfrm>
            <a:off x="1258920" y="4797360"/>
            <a:ext cx="6141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7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86" nodeType="after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" dur="indefinite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88" dur="indefinite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9" dur="indefinite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755640" y="1916280"/>
            <a:ext cx="192564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x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826920" y="2997360"/>
            <a:ext cx="192564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y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826920" y="4365720"/>
            <a:ext cx="183996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z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5219640" y="1773360"/>
            <a:ext cx="200808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a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5364000" y="2852640"/>
            <a:ext cx="200520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b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5435640" y="4149720"/>
            <a:ext cx="193680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c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2340000" y="2060640"/>
            <a:ext cx="24066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икс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5"/>
          <p:cNvSpPr/>
          <p:nvPr/>
        </p:nvSpPr>
        <p:spPr>
          <a:xfrm>
            <a:off x="2340000" y="3213000"/>
            <a:ext cx="3154320" cy="190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и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  <a:ea typeface="Times New Roman"/>
              </a:rPr>
              <a:t>́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грек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6"/>
          <p:cNvSpPr/>
          <p:nvPr/>
        </p:nvSpPr>
        <p:spPr>
          <a:xfrm>
            <a:off x="2340000" y="4292640"/>
            <a:ext cx="24066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зэт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7"/>
          <p:cNvSpPr/>
          <p:nvPr/>
        </p:nvSpPr>
        <p:spPr>
          <a:xfrm>
            <a:off x="7020000" y="1916280"/>
            <a:ext cx="136692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а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8"/>
          <p:cNvSpPr/>
          <p:nvPr/>
        </p:nvSpPr>
        <p:spPr>
          <a:xfrm>
            <a:off x="7020000" y="2997360"/>
            <a:ext cx="186372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бэ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9"/>
          <p:cNvSpPr/>
          <p:nvPr/>
        </p:nvSpPr>
        <p:spPr>
          <a:xfrm>
            <a:off x="7093080" y="4221000"/>
            <a:ext cx="186372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цэ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WordArt 20"/>
          <p:cNvSpPr txBox="1"/>
          <p:nvPr/>
        </p:nvSpPr>
        <p:spPr>
          <a:xfrm>
            <a:off x="1979640" y="907920"/>
            <a:ext cx="6568920" cy="4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7933c"/>
                </a:solidFill>
                <a:latin typeface="Tahoma"/>
              </a:rPr>
              <a:t>Назовите правильно:</a:t>
            </a:r>
            <a:endParaRPr b="0" lang="en-US" sz="1800" spc="1" strike="noStrike">
              <a:ln w="0">
                <a:noFill/>
              </a:ln>
              <a:solidFill>
                <a:srgbClr val="77933c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826920" y="1700280"/>
            <a:ext cx="192564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d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826920" y="2852640"/>
            <a:ext cx="192564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e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826920" y="4221000"/>
            <a:ext cx="183996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f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4859280" y="1773360"/>
            <a:ext cx="200808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k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4643280" y="2924280"/>
            <a:ext cx="226404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m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4643280" y="4149720"/>
            <a:ext cx="219564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n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2340000" y="1773360"/>
            <a:ext cx="192564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дэ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2556000" y="2997360"/>
            <a:ext cx="187164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е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2340000" y="4221000"/>
            <a:ext cx="217476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эф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6372360" y="1773360"/>
            <a:ext cx="197784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ка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6372360" y="2924280"/>
            <a:ext cx="195408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эм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3"/>
          <p:cNvSpPr/>
          <p:nvPr/>
        </p:nvSpPr>
        <p:spPr>
          <a:xfrm>
            <a:off x="6443640" y="4149720"/>
            <a:ext cx="195408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эн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WordArt 20"/>
          <p:cNvSpPr txBox="1"/>
          <p:nvPr/>
        </p:nvSpPr>
        <p:spPr>
          <a:xfrm>
            <a:off x="1979640" y="907920"/>
            <a:ext cx="6568920" cy="4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7933c"/>
                </a:solidFill>
                <a:latin typeface="Tahoma"/>
              </a:rPr>
              <a:t>Назовите правильно:</a:t>
            </a:r>
            <a:endParaRPr b="0" lang="en-US" sz="1800" spc="1" strike="noStrike">
              <a:ln w="0">
                <a:noFill/>
              </a:ln>
              <a:solidFill>
                <a:srgbClr val="77933c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WordArt 4"/>
          <p:cNvSpPr txBox="1"/>
          <p:nvPr/>
        </p:nvSpPr>
        <p:spPr>
          <a:xfrm>
            <a:off x="2124000" y="765000"/>
            <a:ext cx="6569280" cy="4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7933c"/>
                </a:solidFill>
                <a:latin typeface="Tahoma"/>
              </a:rPr>
              <a:t>Прочтите правильно:</a:t>
            </a:r>
            <a:endParaRPr b="0" lang="en-US" sz="1800" spc="1" strike="noStrike">
              <a:ln w="0">
                <a:noFill/>
              </a:ln>
              <a:solidFill>
                <a:srgbClr val="77933c"/>
              </a:solidFill>
              <a:latin typeface="Tahoma"/>
              <a:ea typeface="Tahoma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042920" y="1268280"/>
            <a:ext cx="3595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x</a:t>
            </a:r>
            <a:r>
              <a:rPr b="0" lang="ru-RU" sz="7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c00000"/>
                </a:solidFill>
                <a:latin typeface="Verdana"/>
              </a:rPr>
              <a:t>=</a:t>
            </a:r>
            <a:r>
              <a:rPr b="0" lang="en-US" sz="7200" spc="-1" strike="noStrike">
                <a:solidFill>
                  <a:srgbClr val="c00000"/>
                </a:solidFill>
                <a:latin typeface="Verdana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971640" y="2421000"/>
            <a:ext cx="3595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z</a:t>
            </a:r>
            <a:r>
              <a:rPr b="0" lang="ru-RU" sz="7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c00000"/>
                </a:solidFill>
                <a:latin typeface="Verdana"/>
              </a:rPr>
              <a:t>=</a:t>
            </a:r>
            <a:r>
              <a:rPr b="0" lang="en-US" sz="7200" spc="-1" strike="noStrike">
                <a:solidFill>
                  <a:srgbClr val="c00000"/>
                </a:solidFill>
                <a:latin typeface="Verdana"/>
              </a:rPr>
              <a:t>1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26920" y="3645000"/>
            <a:ext cx="4096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m</a:t>
            </a:r>
            <a:r>
              <a:rPr b="0" lang="ru-RU" sz="7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c00000"/>
                </a:solidFill>
                <a:latin typeface="Verdana"/>
              </a:rPr>
              <a:t>=</a:t>
            </a:r>
            <a:r>
              <a:rPr b="0" lang="en-US" sz="7200" spc="-1" strike="noStrike">
                <a:solidFill>
                  <a:srgbClr val="c00000"/>
                </a:solidFill>
                <a:latin typeface="Verdana"/>
              </a:rPr>
              <a:t> 1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826920" y="4869000"/>
            <a:ext cx="4005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d</a:t>
            </a:r>
            <a:r>
              <a:rPr b="0" lang="ru-RU" sz="7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c00000"/>
                </a:solidFill>
                <a:latin typeface="Verdana"/>
              </a:rPr>
              <a:t>=</a:t>
            </a:r>
            <a:r>
              <a:rPr b="0" lang="en-US" sz="7200" spc="-1" strike="noStrike">
                <a:solidFill>
                  <a:srgbClr val="c00000"/>
                </a:solidFill>
                <a:latin typeface="Verdana"/>
              </a:rPr>
              <a:t> 1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1"/>
          <p:cNvSpPr/>
          <p:nvPr/>
        </p:nvSpPr>
        <p:spPr>
          <a:xfrm>
            <a:off x="4572000" y="884160"/>
            <a:ext cx="0" cy="5973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7"/>
          <p:cNvSpPr/>
          <p:nvPr/>
        </p:nvSpPr>
        <p:spPr>
          <a:xfrm>
            <a:off x="5076720" y="1197000"/>
            <a:ext cx="36608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k</a:t>
            </a:r>
            <a:r>
              <a:rPr b="0" lang="ru-RU" sz="7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c00000"/>
                </a:solidFill>
                <a:latin typeface="Verdana"/>
              </a:rPr>
              <a:t>=</a:t>
            </a:r>
            <a:r>
              <a:rPr b="0" lang="en-US" sz="7200" spc="-1" strike="noStrike">
                <a:solidFill>
                  <a:srgbClr val="c00000"/>
                </a:solidFill>
                <a:latin typeface="Verdana"/>
              </a:rPr>
              <a:t> 1</a:t>
            </a:r>
            <a:r>
              <a:rPr b="0" lang="en-US" sz="8000" spc="-1" strike="noStrike">
                <a:solidFill>
                  <a:srgbClr val="c00000"/>
                </a:solidFill>
                <a:latin typeface="Verdana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5076720" y="2492280"/>
            <a:ext cx="377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f</a:t>
            </a:r>
            <a:r>
              <a:rPr b="0" lang="ru-RU" sz="7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c00000"/>
                </a:solidFill>
                <a:latin typeface="Verdana"/>
              </a:rPr>
              <a:t>=</a:t>
            </a:r>
            <a:r>
              <a:rPr b="0" lang="en-US" sz="7200" spc="-1" strike="noStrike">
                <a:solidFill>
                  <a:srgbClr val="c00000"/>
                </a:solidFill>
                <a:latin typeface="Verdana"/>
              </a:rPr>
              <a:t> 1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5076720" y="3645000"/>
            <a:ext cx="3635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y</a:t>
            </a:r>
            <a:r>
              <a:rPr b="0" lang="ru-RU" sz="7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c00000"/>
                </a:solidFill>
                <a:latin typeface="Verdana"/>
              </a:rPr>
              <a:t>=</a:t>
            </a:r>
            <a:r>
              <a:rPr b="0" lang="en-US" sz="7200" spc="-1" strike="noStrike">
                <a:solidFill>
                  <a:srgbClr val="c00000"/>
                </a:solidFill>
                <a:latin typeface="Verdana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4932360" y="4797360"/>
            <a:ext cx="3813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n</a:t>
            </a:r>
            <a:r>
              <a:rPr b="0" lang="ru-RU" sz="7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c00000"/>
                </a:solidFill>
                <a:latin typeface="Verdana"/>
              </a:rPr>
              <a:t>=</a:t>
            </a:r>
            <a:r>
              <a:rPr b="0" lang="en-US" sz="7200" spc="-1" strike="noStrike">
                <a:solidFill>
                  <a:srgbClr val="c00000"/>
                </a:solidFill>
                <a:latin typeface="Verdana"/>
              </a:rPr>
              <a:t> 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WordArt 15"/>
          <p:cNvSpPr txBox="1"/>
          <p:nvPr/>
        </p:nvSpPr>
        <p:spPr>
          <a:xfrm>
            <a:off x="1979640" y="620640"/>
            <a:ext cx="6568920" cy="48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7933c"/>
                </a:solidFill>
                <a:latin typeface="Tahoma"/>
              </a:rPr>
              <a:t>Решите уравнение:</a:t>
            </a:r>
            <a:endParaRPr b="0" lang="en-US" sz="1800" spc="1" strike="noStrike">
              <a:ln w="0">
                <a:noFill/>
              </a:ln>
              <a:solidFill>
                <a:srgbClr val="77933c"/>
              </a:solidFill>
              <a:latin typeface="Tahoma"/>
              <a:ea typeface="Tahoma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539640" y="1268280"/>
            <a:ext cx="41148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Tahoma"/>
              </a:rPr>
              <a:t>1</a:t>
            </a:r>
            <a:r>
              <a:rPr b="0" lang="ru-RU" sz="54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c00000"/>
                </a:solidFill>
                <a:latin typeface="Tahoma"/>
                <a:ea typeface="Arial"/>
              </a:rPr>
              <a:t>+</a:t>
            </a:r>
            <a:r>
              <a:rPr b="0" lang="ru-RU" sz="5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5400" spc="-1" strike="noStrike">
                <a:solidFill>
                  <a:srgbClr val="8a853c"/>
                </a:solidFill>
                <a:latin typeface="Arial"/>
              </a:rPr>
              <a:t>a</a:t>
            </a:r>
            <a:r>
              <a:rPr b="0" lang="ru-RU" sz="5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00000"/>
                </a:solidFill>
                <a:latin typeface="Tahoma"/>
              </a:rPr>
              <a:t>= </a:t>
            </a:r>
            <a:r>
              <a:rPr b="0" lang="en-US" sz="5400" spc="-1" strike="noStrike">
                <a:solidFill>
                  <a:srgbClr val="c00000"/>
                </a:solidFill>
                <a:latin typeface="Tahoma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1258920" y="1916280"/>
            <a:ext cx="25146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a853c"/>
                </a:solidFill>
                <a:latin typeface="Arial"/>
              </a:rPr>
              <a:t>a</a:t>
            </a:r>
            <a:r>
              <a:rPr b="0" lang="ru-RU" sz="4800" spc="-1" strike="noStrike">
                <a:solidFill>
                  <a:srgbClr val="8a853c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8a853c"/>
                </a:solidFill>
                <a:latin typeface="Tahoma"/>
              </a:rPr>
              <a:t>= </a:t>
            </a:r>
            <a:r>
              <a:rPr b="0" lang="en-US" sz="4800" spc="-1" strike="noStrike">
                <a:solidFill>
                  <a:srgbClr val="8a853c"/>
                </a:solidFill>
                <a:latin typeface="Tahoma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250920" y="2924280"/>
            <a:ext cx="4394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a853c"/>
                </a:solidFill>
                <a:latin typeface="Arial"/>
              </a:rPr>
              <a:t>b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</a:rPr>
              <a:t>+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  <a:ea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</a:rPr>
              <a:t>5 = </a:t>
            </a:r>
            <a:r>
              <a:rPr b="0" lang="en-US" sz="4800" spc="-1" strike="noStrike">
                <a:solidFill>
                  <a:srgbClr val="c00000"/>
                </a:solidFill>
                <a:latin typeface="Tahoma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1258920" y="3573360"/>
            <a:ext cx="2133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a853c"/>
                </a:solidFill>
                <a:latin typeface="Arial"/>
              </a:rPr>
              <a:t>b</a:t>
            </a:r>
            <a:r>
              <a:rPr b="0" lang="ru-RU" sz="4800" spc="-1" strike="noStrike">
                <a:solidFill>
                  <a:srgbClr val="8a853c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8a853c"/>
                </a:solidFill>
                <a:latin typeface="Tahoma"/>
              </a:rPr>
              <a:t>= </a:t>
            </a:r>
            <a:r>
              <a:rPr b="0" lang="en-US" sz="4800" spc="-1" strike="noStrike">
                <a:solidFill>
                  <a:srgbClr val="8a853c"/>
                </a:solidFill>
                <a:latin typeface="Tahom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0" y="4508640"/>
            <a:ext cx="44956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ahoma"/>
              </a:rPr>
              <a:t>1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</a:rPr>
              <a:t>7 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8a853c"/>
                </a:solidFill>
                <a:latin typeface="Arial"/>
              </a:rPr>
              <a:t>c</a:t>
            </a:r>
            <a:r>
              <a:rPr b="0" i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</a:rPr>
              <a:t>= </a:t>
            </a:r>
            <a:r>
              <a:rPr b="0" lang="en-US" sz="4800" spc="-1" strike="noStrike">
                <a:solidFill>
                  <a:srgbClr val="c00000"/>
                </a:solidFill>
                <a:latin typeface="Tahom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900000" y="5157720"/>
            <a:ext cx="25909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a853c"/>
                </a:solidFill>
                <a:latin typeface="Arial"/>
              </a:rPr>
              <a:t>c</a:t>
            </a:r>
            <a:r>
              <a:rPr b="0" lang="ru-RU" sz="4800" spc="-1" strike="noStrike">
                <a:solidFill>
                  <a:srgbClr val="8a853c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8a853c"/>
                </a:solidFill>
                <a:latin typeface="Tahoma"/>
              </a:rPr>
              <a:t>= </a:t>
            </a:r>
            <a:r>
              <a:rPr b="0" lang="en-US" sz="4800" spc="-1" strike="noStrike">
                <a:solidFill>
                  <a:srgbClr val="8a853c"/>
                </a:solidFill>
                <a:latin typeface="Tahoma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8"/>
          <p:cNvSpPr/>
          <p:nvPr/>
        </p:nvSpPr>
        <p:spPr>
          <a:xfrm>
            <a:off x="4368960" y="884160"/>
            <a:ext cx="0" cy="5973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4768920" y="1125360"/>
            <a:ext cx="43750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a853c"/>
                </a:solidFill>
                <a:latin typeface="Arial"/>
              </a:rPr>
              <a:t>k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</a:rPr>
              <a:t>+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  <a:ea typeface="Arial"/>
              </a:rPr>
              <a:t> </a:t>
            </a:r>
            <a:r>
              <a:rPr b="0" lang="en-US" sz="4800" spc="-1" strike="noStrike">
                <a:solidFill>
                  <a:srgbClr val="c00000"/>
                </a:solidFill>
                <a:latin typeface="Tahoma"/>
              </a:rPr>
              <a:t>4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</a:rPr>
              <a:t> = </a:t>
            </a:r>
            <a:r>
              <a:rPr b="0" lang="en-US" sz="4800" spc="-1" strike="noStrike">
                <a:solidFill>
                  <a:srgbClr val="c00000"/>
                </a:solidFill>
                <a:latin typeface="Tahom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5796000" y="1844640"/>
            <a:ext cx="2219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a853c"/>
                </a:solidFill>
                <a:latin typeface="Arial"/>
              </a:rPr>
              <a:t>k</a:t>
            </a:r>
            <a:r>
              <a:rPr b="0" lang="ru-RU" sz="4800" spc="-1" strike="noStrike">
                <a:solidFill>
                  <a:srgbClr val="8a853c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8a853c"/>
                </a:solidFill>
                <a:latin typeface="Tahoma"/>
              </a:rPr>
              <a:t>= </a:t>
            </a:r>
            <a:r>
              <a:rPr b="0" lang="en-US" sz="4800" spc="-1" strike="noStrike">
                <a:solidFill>
                  <a:srgbClr val="8a853c"/>
                </a:solidFill>
                <a:latin typeface="Tahoma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4572000" y="2924280"/>
            <a:ext cx="4383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ahoma"/>
              </a:rPr>
              <a:t>1</a:t>
            </a:r>
            <a:r>
              <a:rPr b="0" lang="en-US" sz="4800" spc="-1" strike="noStrike">
                <a:solidFill>
                  <a:srgbClr val="c00000"/>
                </a:solidFill>
                <a:latin typeface="Tahoma"/>
              </a:rPr>
              <a:t>5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8a853c"/>
                </a:solidFill>
                <a:latin typeface="Arial"/>
              </a:rPr>
              <a:t>n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</a:rPr>
              <a:t>= </a:t>
            </a:r>
            <a:r>
              <a:rPr b="0" lang="en-US" sz="4800" spc="-1" strike="noStrike">
                <a:solidFill>
                  <a:srgbClr val="c00000"/>
                </a:solidFill>
                <a:latin typeface="Tahoma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3"/>
          <p:cNvSpPr/>
          <p:nvPr/>
        </p:nvSpPr>
        <p:spPr>
          <a:xfrm>
            <a:off x="5796000" y="3573360"/>
            <a:ext cx="20476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a853c"/>
                </a:solidFill>
                <a:latin typeface="Arial"/>
              </a:rPr>
              <a:t>n</a:t>
            </a:r>
            <a:r>
              <a:rPr b="0" lang="ru-RU" sz="4800" spc="-1" strike="noStrike">
                <a:solidFill>
                  <a:srgbClr val="8a853c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8a853c"/>
                </a:solidFill>
                <a:latin typeface="Tahoma"/>
              </a:rPr>
              <a:t>= </a:t>
            </a:r>
            <a:r>
              <a:rPr b="0" lang="en-US" sz="4800" spc="-1" strike="noStrike">
                <a:solidFill>
                  <a:srgbClr val="8a853c"/>
                </a:solidFill>
                <a:latin typeface="Tahom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4635360" y="4508640"/>
            <a:ext cx="45086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8a853c"/>
                </a:solidFill>
                <a:latin typeface="Arial"/>
              </a:rPr>
              <a:t>m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00000"/>
                </a:solidFill>
                <a:latin typeface="Tahoma"/>
                <a:ea typeface="Arial"/>
              </a:rPr>
              <a:t>– </a:t>
            </a:r>
            <a:r>
              <a:rPr b="0" lang="en-US" sz="5400" spc="-1" strike="noStrike">
                <a:solidFill>
                  <a:srgbClr val="c00000"/>
                </a:solidFill>
                <a:latin typeface="Tahoma"/>
              </a:rPr>
              <a:t>16</a:t>
            </a:r>
            <a:r>
              <a:rPr b="0" lang="ru-RU" sz="5400" spc="-1" strike="noStrike">
                <a:solidFill>
                  <a:srgbClr val="c00000"/>
                </a:solidFill>
                <a:latin typeface="Tahoma"/>
              </a:rPr>
              <a:t> = </a:t>
            </a:r>
            <a:r>
              <a:rPr b="0" lang="en-US" sz="5400" spc="-1" strike="noStrike">
                <a:solidFill>
                  <a:srgbClr val="c00000"/>
                </a:solidFill>
                <a:latin typeface="Tahom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4"/>
          <p:cNvSpPr/>
          <p:nvPr/>
        </p:nvSpPr>
        <p:spPr>
          <a:xfrm>
            <a:off x="5105520" y="5346720"/>
            <a:ext cx="2876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a853c"/>
                </a:solidFill>
                <a:latin typeface="Arial"/>
              </a:rPr>
              <a:t>m</a:t>
            </a:r>
            <a:r>
              <a:rPr b="0" lang="ru-RU" sz="4800" spc="-1" strike="noStrike">
                <a:solidFill>
                  <a:srgbClr val="8a853c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8a853c"/>
                </a:solidFill>
                <a:latin typeface="Tahoma"/>
              </a:rPr>
              <a:t>= 1</a:t>
            </a:r>
            <a:r>
              <a:rPr b="0" lang="en-US" sz="4800" spc="-1" strike="noStrike">
                <a:solidFill>
                  <a:srgbClr val="8a853c"/>
                </a:solidFill>
                <a:latin typeface="Tahoma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Рисунок 7" descr="Photo 040.gif"/>
          <p:cNvPicPr/>
          <p:nvPr/>
        </p:nvPicPr>
        <p:blipFill>
          <a:blip r:embed="rId1"/>
          <a:stretch/>
        </p:blipFill>
        <p:spPr>
          <a:xfrm>
            <a:off x="1116000" y="4653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12" descr="82.gif"/>
          <p:cNvPicPr/>
          <p:nvPr/>
        </p:nvPicPr>
        <p:blipFill>
          <a:blip r:embed="rId2"/>
          <a:stretch/>
        </p:blipFill>
        <p:spPr>
          <a:xfrm>
            <a:off x="5425920" y="4853160"/>
            <a:ext cx="882720" cy="107784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10" descr="Photo 040.gif"/>
          <p:cNvPicPr/>
          <p:nvPr/>
        </p:nvPicPr>
        <p:blipFill>
          <a:blip r:embed="rId3"/>
          <a:stretch/>
        </p:blipFill>
        <p:spPr>
          <a:xfrm>
            <a:off x="6372360" y="46530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7" descr="Photo 040.gif"/>
          <p:cNvPicPr/>
          <p:nvPr/>
        </p:nvPicPr>
        <p:blipFill>
          <a:blip r:embed="rId4"/>
          <a:stretch/>
        </p:blipFill>
        <p:spPr>
          <a:xfrm>
            <a:off x="4211640" y="5429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4" descr="60.gif"/>
          <p:cNvPicPr/>
          <p:nvPr/>
        </p:nvPicPr>
        <p:blipFill>
          <a:blip r:embed="rId5"/>
          <a:stretch/>
        </p:blipFill>
        <p:spPr>
          <a:xfrm>
            <a:off x="7524720" y="3500280"/>
            <a:ext cx="528840" cy="814680"/>
          </a:xfrm>
          <a:prstGeom prst="rect">
            <a:avLst/>
          </a:prstGeom>
          <a:ln w="0">
            <a:noFill/>
          </a:ln>
        </p:spPr>
      </p:pic>
      <p:pic>
        <p:nvPicPr>
          <p:cNvPr id="484" name="Прямоугольник 11" descr=""/>
          <p:cNvPicPr/>
          <p:nvPr/>
        </p:nvPicPr>
        <p:blipFill>
          <a:blip r:embed="rId6"/>
          <a:stretch/>
        </p:blipFill>
        <p:spPr>
          <a:xfrm>
            <a:off x="2120760" y="536400"/>
            <a:ext cx="4658040" cy="1305000"/>
          </a:xfrm>
          <a:prstGeom prst="rect">
            <a:avLst/>
          </a:prstGeom>
          <a:ln w="0">
            <a:noFill/>
          </a:ln>
        </p:spPr>
      </p:pic>
      <p:pic>
        <p:nvPicPr>
          <p:cNvPr id="485" name="Прямоугольник 13" descr=""/>
          <p:cNvPicPr/>
          <p:nvPr/>
        </p:nvPicPr>
        <p:blipFill>
          <a:blip r:embed="rId7"/>
          <a:stretch/>
        </p:blipFill>
        <p:spPr>
          <a:xfrm>
            <a:off x="695160" y="1852560"/>
            <a:ext cx="8107560" cy="3243240"/>
          </a:xfrm>
          <a:prstGeom prst="rect">
            <a:avLst/>
          </a:prstGeom>
          <a:ln w="0">
            <a:noFill/>
          </a:ln>
        </p:spPr>
      </p:pic>
      <p:pic>
        <p:nvPicPr>
          <p:cNvPr id="486" name="Прямоугольник 14" descr=""/>
          <p:cNvPicPr/>
          <p:nvPr/>
        </p:nvPicPr>
        <p:blipFill>
          <a:blip r:embed="rId8"/>
          <a:stretch/>
        </p:blipFill>
        <p:spPr>
          <a:xfrm>
            <a:off x="1981080" y="4511520"/>
            <a:ext cx="4883400" cy="9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4.07407E-006 C -0.00348 0.00069 -0.00712 0.00069 -0.0106 0.00208 C -0.01858 0.00532 -0.01199 0.00718 -0.01962 0.01227 C -0.02188 0.01389 -0.02466 0.01343 -0.02726 0.01412 C -0.03143 0.02014 -0.03577 0.01852 -0.0408 0.02222 C -0.04393 0.02454 -0.04688 0.02755 -0.05001 0.03032 C -0.05695 0.03657 -0.06164 0.04792 -0.06962 0.05255 C -0.0731 0.0544 -0.07657 0.05579 -0.08021 0.05671 C -0.08681 0.05833 -0.10001 0.06065 -0.10001 0.06065 C -0.11181 0.06597 -0.0974 0.0581 -0.10747 0.06875 C -0.10869 0.07014 -0.11077 0.06968 -0.11216 0.07083 C -0.12726 0.08218 -0.11563 0.07662 -0.1257 0.08079 C -0.13039 0.08704 -0.13612 0.08634 -0.14237 0.08889 C -0.15244 0.09282 -0.16042 0.09537 -0.17119 0.09699 C -0.17726 0.09977 -0.18334 0.10046 -0.18942 0.10301 C -0.19098 0.1037 -0.19254 0.10417 -0.19393 0.10509 C -0.19549 0.10625 -0.19671 0.10833 -0.19844 0.10903 C -0.20678 0.11273 -0.21702 0.11505 -0.2257 0.11713 C -0.23334 0.12431 -0.24219 0.1294 -0.25157 0.13125 C -0.25955 0.13287 -0.2757 0.13542 -0.2757 0.13542 C -0.28264 0.14421 -0.29393 0.14421 -0.30296 0.1456 C -0.3198 0.14815 -0.33681 0.15023 -0.35296 0.15764 C -0.36511 0.17384 -0.38351 0.17847 -0.40001 0.18194 C -0.42969 0.18819 -0.44011 0.18866 -0.4757 0.19005 C -0.54931 0.22801 -0.63334 0.20324 -0.71216 0.20417 C -0.73455 0.20856 -0.7257 0.20486 -0.73942 0.21227 C -0.76164 0.21157 -0.78386 0.21157 -0.80608 0.21018 C -0.81737 0.20949 -0.83942 0.20417 -0.83942 0.20417 C -0.86181 0.19375 -0.88403 0.19259 -0.90747 0.18796 C -0.92553 0.18009 -0.91633 0.18264 -0.9349 0.17986 C -0.93646 0.17847 -0.93785 0.17454 -0.93942 0.17569 C -0.94133 0.17685 -0.94115 0.18102 -0.9408 0.1838 C -0.94063 0.18565 -0.93646 0.18773 -0.93785 0.18796 C -0.94549 0.18866 -0.95296 0.18657 -0.96042 0.18588 C -0.96407 0.18426 -0.96789 0.18403 -0.97101 0.18194 C -0.98646 0.17176 -0.96858 0.17847 -0.98334 0.17384 C -0.98924 0.16319 -0.98976 0.16551 -0.99844 0.16157 C -1.00556 0.15278 -0.99653 0.16273 -1.00903 0.15556 C -1.01042 0.15486 -1.01094 0.15255 -1.01216 0.15162 C -1.0191 0.1463 -1.01876 0.14954 -1.02414 0.14352 C -1.0264 0.14097 -1.02796 0.13773 -1.03021 0.13542 C -1.04705 0.11829 -1.02865 0.14097 -1.03942 0.12731 C -1.03837 0.12593 -1.03629 0.12338 -1.03629 0.12338 E">
                                      <p:cBhvr>
                                        <p:cTn id="693" dur="5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0EA3-41C1-4BB2-A9F0-3F1A761CBA8C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"/>
          <p:cNvSpPr/>
          <p:nvPr/>
        </p:nvSpPr>
        <p:spPr>
          <a:xfrm>
            <a:off x="611280" y="179028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entury"/>
              </a:rPr>
              <a:t>Вспомнить компоненты действия данного урав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0000"/>
              </a:buClr>
              <a:buFont typeface="Century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entury"/>
              </a:rPr>
              <a:t>Определить неизвестный компонен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0000"/>
              </a:buClr>
              <a:buFont typeface="Century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entury"/>
              </a:rPr>
              <a:t>Вспомнить правило нахождения неизвестного компонен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0000"/>
              </a:buClr>
              <a:buFont typeface="Century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entury"/>
              </a:rPr>
              <a:t>Применить правило и найти неизвестный компонен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0000"/>
              </a:buClr>
              <a:buFont typeface="Century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entury"/>
              </a:rPr>
              <a:t>Записать ответ.</a:t>
            </a:r>
            <a:r>
              <a:rPr b="0" lang="ru-RU" sz="2400" spc="-1" strike="noStrike">
                <a:solidFill>
                  <a:srgbClr val="c0000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Прямоугольник 5" descr=""/>
          <p:cNvPicPr/>
          <p:nvPr/>
        </p:nvPicPr>
        <p:blipFill>
          <a:blip r:embed="rId1"/>
          <a:stretch/>
        </p:blipFill>
        <p:spPr>
          <a:xfrm>
            <a:off x="1908000" y="463680"/>
            <a:ext cx="4651560" cy="1309680"/>
          </a:xfrm>
          <a:prstGeom prst="rect">
            <a:avLst/>
          </a:prstGeom>
          <a:ln w="0">
            <a:noFill/>
          </a:ln>
        </p:spPr>
      </p:pic>
      <p:pic>
        <p:nvPicPr>
          <p:cNvPr id="491" name="Рисунок 10" descr="Photo 040.gif"/>
          <p:cNvPicPr/>
          <p:nvPr/>
        </p:nvPicPr>
        <p:blipFill>
          <a:blip r:embed="rId2"/>
          <a:stretch/>
        </p:blipFill>
        <p:spPr>
          <a:xfrm>
            <a:off x="6372360" y="465300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6D37-FA80-40BD-A6AA-756A54693C7C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5"/>
          <p:cNvSpPr/>
          <p:nvPr/>
        </p:nvSpPr>
        <p:spPr>
          <a:xfrm>
            <a:off x="2124000" y="119700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853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6"/>
          <p:cNvSpPr/>
          <p:nvPr/>
        </p:nvSpPr>
        <p:spPr>
          <a:xfrm>
            <a:off x="179280" y="333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Спасибо за работу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7"/>
          <p:cNvSpPr/>
          <p:nvPr/>
        </p:nvSpPr>
        <p:spPr>
          <a:xfrm>
            <a:off x="1116000" y="270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8"/>
          <p:cNvSpPr/>
          <p:nvPr/>
        </p:nvSpPr>
        <p:spPr>
          <a:xfrm>
            <a:off x="4502880" y="2708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11"/>
          <p:cNvSpPr/>
          <p:nvPr/>
        </p:nvSpPr>
        <p:spPr>
          <a:xfrm>
            <a:off x="1187280" y="191628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Рисунок 10" descr="Photo 040.gif"/>
          <p:cNvPicPr/>
          <p:nvPr/>
        </p:nvPicPr>
        <p:blipFill>
          <a:blip r:embed="rId1"/>
          <a:stretch/>
        </p:blipFill>
        <p:spPr>
          <a:xfrm>
            <a:off x="5796000" y="4076640"/>
            <a:ext cx="2901960" cy="257652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10" descr="Photo 040.gif"/>
          <p:cNvPicPr/>
          <p:nvPr/>
        </p:nvPicPr>
        <p:blipFill>
          <a:blip r:embed="rId2"/>
          <a:stretch/>
        </p:blipFill>
        <p:spPr>
          <a:xfrm>
            <a:off x="2916360" y="2492280"/>
            <a:ext cx="2879640" cy="365760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10" descr="Photo 040.gif"/>
          <p:cNvPicPr/>
          <p:nvPr/>
        </p:nvPicPr>
        <p:blipFill>
          <a:blip r:embed="rId3"/>
          <a:stretch/>
        </p:blipFill>
        <p:spPr>
          <a:xfrm>
            <a:off x="324000" y="2708280"/>
            <a:ext cx="2447640" cy="3800520"/>
          </a:xfrm>
          <a:prstGeom prst="rect">
            <a:avLst/>
          </a:prstGeom>
          <a:ln w="0">
            <a:noFill/>
          </a:ln>
        </p:spPr>
      </p:pic>
      <p:pic>
        <p:nvPicPr>
          <p:cNvPr id="502" name="Рисунок 15" descr="82.gif"/>
          <p:cNvPicPr/>
          <p:nvPr/>
        </p:nvPicPr>
        <p:blipFill>
          <a:blip r:embed="rId4"/>
          <a:stretch/>
        </p:blipFill>
        <p:spPr>
          <a:xfrm>
            <a:off x="5572080" y="1432080"/>
            <a:ext cx="31338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4.07407E-006 C -0.00348 0.00069 -0.00712 0.00069 -0.0106 0.00208 C -0.01858 0.00532 -0.01199 0.00718 -0.01962 0.01227 C -0.02188 0.01389 -0.02466 0.01343 -0.02726 0.01412 C -0.03143 0.02014 -0.03577 0.01852 -0.0408 0.02222 C -0.04393 0.02454 -0.04688 0.02755 -0.05001 0.03032 C -0.05695 0.03657 -0.06164 0.04792 -0.06962 0.05255 C -0.0731 0.0544 -0.07657 0.05579 -0.08021 0.05671 C -0.08681 0.05833 -0.10001 0.06065 -0.10001 0.06065 C -0.11181 0.06597 -0.0974 0.0581 -0.10747 0.06875 C -0.10869 0.07014 -0.11077 0.06968 -0.11216 0.07083 C -0.12726 0.08218 -0.11563 0.07662 -0.1257 0.08079 C -0.13039 0.08704 -0.13612 0.08634 -0.14237 0.08889 C -0.15244 0.09282 -0.16042 0.09537 -0.17119 0.09699 C -0.17726 0.09977 -0.18334 0.10046 -0.18942 0.10301 C -0.19098 0.1037 -0.19254 0.10417 -0.19393 0.10509 C -0.19549 0.10625 -0.19671 0.10833 -0.19844 0.10903 C -0.20678 0.11273 -0.21702 0.11505 -0.2257 0.11713 C -0.23334 0.12431 -0.24219 0.1294 -0.25157 0.13125 C -0.25955 0.13287 -0.2757 0.13542 -0.2757 0.13542 C -0.28264 0.14421 -0.29393 0.14421 -0.30296 0.1456 C -0.3198 0.14815 -0.33681 0.15023 -0.35296 0.15764 C -0.36511 0.17384 -0.38351 0.17847 -0.40001 0.18194 C -0.42969 0.18819 -0.44011 0.18866 -0.4757 0.19005 C -0.54931 0.22801 -0.63334 0.20324 -0.71216 0.20417 C -0.73455 0.20856 -0.7257 0.20486 -0.73942 0.21227 C -0.76164 0.21157 -0.78386 0.21157 -0.80608 0.21018 C -0.81737 0.20949 -0.83942 0.20417 -0.83942 0.20417 C -0.86181 0.19375 -0.88403 0.19259 -0.90747 0.18796 C -0.92553 0.18009 -0.91633 0.18264 -0.9349 0.17986 C -0.93646 0.17847 -0.93785 0.17454 -0.93942 0.17569 C -0.94133 0.17685 -0.94115 0.18102 -0.9408 0.1838 C -0.94063 0.18565 -0.93646 0.18773 -0.93785 0.18796 C -0.94549 0.18866 -0.95296 0.18657 -0.96042 0.18588 C -0.96407 0.18426 -0.96789 0.18403 -0.97101 0.18194 C -0.98646 0.17176 -0.96858 0.17847 -0.98334 0.17384 C -0.98924 0.16319 -0.98976 0.16551 -0.99844 0.16157 C -1.00556 0.15278 -0.99653 0.16273 -1.00903 0.15556 C -1.01042 0.15486 -1.01094 0.15255 -1.01216 0.15162 C -1.0191 0.1463 -1.01876 0.14954 -1.02414 0.14352 C -1.0264 0.14097 -1.02796 0.13773 -1.03021 0.13542 C -1.04705 0.11829 -1.02865 0.14097 -1.03942 0.12731 C -1.03837 0.12593 -1.03629 0.12338 -1.03629 0.12338 E">
                                      <p:cBhvr>
                                        <p:cTn id="699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EC4D-86F6-4941-8997-91621DFA73AA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ok Antiqua"/>
              </a:rPr>
              <a:t>Реши 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4267080" y="1600200"/>
            <a:ext cx="1600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90-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45+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53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72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92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37+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26+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56-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7"/>
          <p:cNvSpPr/>
          <p:nvPr/>
        </p:nvSpPr>
        <p:spPr>
          <a:xfrm>
            <a:off x="5410080" y="1628640"/>
            <a:ext cx="106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853c"/>
                </a:solidFill>
                <a:latin typeface="Century Gothic"/>
              </a:rPr>
              <a:t>=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853c"/>
                </a:solidFill>
                <a:latin typeface="Century Gothic"/>
              </a:rPr>
              <a:t>=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853c"/>
                </a:solidFill>
                <a:latin typeface="Century Gothic"/>
              </a:rPr>
              <a:t>=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853c"/>
                </a:solidFill>
                <a:latin typeface="Century Gothic"/>
              </a:rPr>
              <a:t>=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853c"/>
                </a:solidFill>
                <a:latin typeface="Century Gothic"/>
              </a:rPr>
              <a:t>=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853c"/>
                </a:solidFill>
                <a:latin typeface="Century Gothic"/>
              </a:rPr>
              <a:t>=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853c"/>
                </a:solidFill>
                <a:latin typeface="Century Gothic"/>
              </a:rPr>
              <a:t>=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853c"/>
                </a:solidFill>
                <a:latin typeface="Century Gothic"/>
              </a:rPr>
              <a:t>=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Рисунок 17" descr="ny13.gif"/>
          <p:cNvPicPr/>
          <p:nvPr/>
        </p:nvPicPr>
        <p:blipFill>
          <a:blip r:embed="rId1"/>
          <a:stretch/>
        </p:blipFill>
        <p:spPr>
          <a:xfrm>
            <a:off x="1258920" y="3284640"/>
            <a:ext cx="990720" cy="115236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9" descr="59.gif"/>
          <p:cNvPicPr/>
          <p:nvPr/>
        </p:nvPicPr>
        <p:blipFill>
          <a:blip r:embed="rId2"/>
          <a:stretch/>
        </p:blipFill>
        <p:spPr>
          <a:xfrm>
            <a:off x="762120" y="4800600"/>
            <a:ext cx="614160" cy="73332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9" descr="59.gif"/>
          <p:cNvPicPr/>
          <p:nvPr/>
        </p:nvPicPr>
        <p:blipFill>
          <a:blip r:embed="rId3"/>
          <a:stretch/>
        </p:blipFill>
        <p:spPr>
          <a:xfrm>
            <a:off x="1979640" y="4941720"/>
            <a:ext cx="614160" cy="73368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9" descr="59.gif"/>
          <p:cNvPicPr/>
          <p:nvPr/>
        </p:nvPicPr>
        <p:blipFill>
          <a:blip r:embed="rId4"/>
          <a:stretch/>
        </p:blipFill>
        <p:spPr>
          <a:xfrm>
            <a:off x="2556000" y="3860640"/>
            <a:ext cx="61416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WordArt 2" descr=""/>
          <p:cNvPicPr/>
          <p:nvPr/>
        </p:nvPicPr>
        <p:blipFill>
          <a:blip r:embed="rId1"/>
          <a:stretch/>
        </p:blipFill>
        <p:spPr>
          <a:xfrm>
            <a:off x="3200400" y="182520"/>
            <a:ext cx="4687920" cy="4399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"/>
          <p:cNvSpPr/>
          <p:nvPr/>
        </p:nvSpPr>
        <p:spPr>
          <a:xfrm>
            <a:off x="2208240" y="1065240"/>
            <a:ext cx="159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2 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3987360" y="11253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3855960" y="1098720"/>
            <a:ext cx="1008000" cy="936360"/>
          </a:xfrm>
          <a:prstGeom prst="rect">
            <a:avLst/>
          </a:prstGeom>
          <a:noFill/>
          <a:ln w="38160">
            <a:solidFill>
              <a:srgbClr val="5c5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5"/>
          <p:cNvSpPr/>
          <p:nvPr/>
        </p:nvSpPr>
        <p:spPr>
          <a:xfrm>
            <a:off x="5153400" y="1065240"/>
            <a:ext cx="16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3162240" y="2457360"/>
            <a:ext cx="373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  <a:ea typeface="Tahoma"/>
              </a:rPr>
              <a:t>+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 11 = 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7"/>
          <p:cNvSpPr/>
          <p:nvPr/>
        </p:nvSpPr>
        <p:spPr>
          <a:xfrm>
            <a:off x="2149200" y="24400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8"/>
          <p:cNvSpPr/>
          <p:nvPr/>
        </p:nvSpPr>
        <p:spPr>
          <a:xfrm>
            <a:off x="1979640" y="2490840"/>
            <a:ext cx="1008000" cy="936720"/>
          </a:xfrm>
          <a:prstGeom prst="rect">
            <a:avLst/>
          </a:prstGeom>
          <a:noFill/>
          <a:ln w="38160">
            <a:solidFill>
              <a:srgbClr val="5c5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3"/>
          <p:cNvSpPr/>
          <p:nvPr/>
        </p:nvSpPr>
        <p:spPr>
          <a:xfrm>
            <a:off x="1979640" y="3849840"/>
            <a:ext cx="183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15 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4"/>
          <p:cNvSpPr/>
          <p:nvPr/>
        </p:nvSpPr>
        <p:spPr>
          <a:xfrm>
            <a:off x="4068360" y="38210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5"/>
          <p:cNvSpPr/>
          <p:nvPr/>
        </p:nvSpPr>
        <p:spPr>
          <a:xfrm>
            <a:off x="3868560" y="3882960"/>
            <a:ext cx="1008360" cy="93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6"/>
          <p:cNvSpPr/>
          <p:nvPr/>
        </p:nvSpPr>
        <p:spPr>
          <a:xfrm>
            <a:off x="5166000" y="3849840"/>
            <a:ext cx="16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 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7"/>
          <p:cNvSpPr/>
          <p:nvPr/>
        </p:nvSpPr>
        <p:spPr>
          <a:xfrm>
            <a:off x="3568680" y="5241960"/>
            <a:ext cx="333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  <a:ea typeface="Tahoma"/>
              </a:rPr>
              <a:t>+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 5 =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8"/>
          <p:cNvSpPr/>
          <p:nvPr/>
        </p:nvSpPr>
        <p:spPr>
          <a:xfrm>
            <a:off x="2555640" y="52038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9"/>
          <p:cNvSpPr/>
          <p:nvPr/>
        </p:nvSpPr>
        <p:spPr>
          <a:xfrm>
            <a:off x="2386080" y="5275440"/>
            <a:ext cx="1008000" cy="936360"/>
          </a:xfrm>
          <a:prstGeom prst="rect">
            <a:avLst/>
          </a:prstGeom>
          <a:noFill/>
          <a:ln w="38160">
            <a:solidFill>
              <a:srgbClr val="5c5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9" descr="59.gif"/>
          <p:cNvPicPr/>
          <p:nvPr/>
        </p:nvPicPr>
        <p:blipFill>
          <a:blip r:embed="rId2"/>
          <a:stretch/>
        </p:blipFill>
        <p:spPr>
          <a:xfrm>
            <a:off x="762120" y="4800600"/>
            <a:ext cx="6141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3"/>
          <p:cNvSpPr/>
          <p:nvPr/>
        </p:nvSpPr>
        <p:spPr>
          <a:xfrm>
            <a:off x="1903320" y="1065240"/>
            <a:ext cx="182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13 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  <a:ea typeface="Tahoma"/>
              </a:rPr>
              <a:t>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4055760" y="10587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66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3855960" y="1098720"/>
            <a:ext cx="1008000" cy="936360"/>
          </a:xfrm>
          <a:prstGeom prst="rect">
            <a:avLst/>
          </a:prstGeom>
          <a:noFill/>
          <a:ln w="38160">
            <a:solidFill>
              <a:srgbClr val="5c5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5163480" y="1065240"/>
            <a:ext cx="125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3125880" y="2457360"/>
            <a:ext cx="336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  <a:ea typeface="Tahoma"/>
              </a:rPr>
              <a:t>−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12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1931400" y="24400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66"/>
                </a:solidFill>
                <a:latin typeface="Tahoma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1979640" y="2490840"/>
            <a:ext cx="1008000" cy="936720"/>
          </a:xfrm>
          <a:prstGeom prst="rect">
            <a:avLst/>
          </a:prstGeom>
          <a:noFill/>
          <a:ln w="38160">
            <a:solidFill>
              <a:srgbClr val="5c5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1979640" y="3849840"/>
            <a:ext cx="183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14 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  <a:ea typeface="Tahoma"/>
              </a:rPr>
              <a:t>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4068360" y="38210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66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2"/>
          <p:cNvSpPr/>
          <p:nvPr/>
        </p:nvSpPr>
        <p:spPr>
          <a:xfrm>
            <a:off x="3868560" y="3882960"/>
            <a:ext cx="1008360" cy="936720"/>
          </a:xfrm>
          <a:prstGeom prst="rect">
            <a:avLst/>
          </a:prstGeom>
          <a:noFill/>
          <a:ln w="38160">
            <a:solidFill>
              <a:srgbClr val="5c5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3"/>
          <p:cNvSpPr/>
          <p:nvPr/>
        </p:nvSpPr>
        <p:spPr>
          <a:xfrm>
            <a:off x="5176080" y="3849840"/>
            <a:ext cx="125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3352680" y="524196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  <a:ea typeface="Tahoma"/>
              </a:rPr>
              <a:t>−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5 =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5"/>
          <p:cNvSpPr/>
          <p:nvPr/>
        </p:nvSpPr>
        <p:spPr>
          <a:xfrm>
            <a:off x="1905120" y="5203800"/>
            <a:ext cx="145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66"/>
                </a:solidFill>
                <a:latin typeface="Tahoma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6"/>
          <p:cNvSpPr/>
          <p:nvPr/>
        </p:nvSpPr>
        <p:spPr>
          <a:xfrm>
            <a:off x="2057400" y="5257800"/>
            <a:ext cx="1008000" cy="936720"/>
          </a:xfrm>
          <a:prstGeom prst="rect">
            <a:avLst/>
          </a:prstGeom>
          <a:noFill/>
          <a:ln w="38160">
            <a:solidFill>
              <a:srgbClr val="5c5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WordArt 2" descr=""/>
          <p:cNvPicPr/>
          <p:nvPr/>
        </p:nvPicPr>
        <p:blipFill>
          <a:blip r:embed="rId1"/>
          <a:stretch/>
        </p:blipFill>
        <p:spPr>
          <a:xfrm>
            <a:off x="3200400" y="182520"/>
            <a:ext cx="4687920" cy="43992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9" descr="59.gif"/>
          <p:cNvPicPr/>
          <p:nvPr/>
        </p:nvPicPr>
        <p:blipFill>
          <a:blip r:embed="rId2"/>
          <a:stretch/>
        </p:blipFill>
        <p:spPr>
          <a:xfrm>
            <a:off x="7740720" y="4869000"/>
            <a:ext cx="6141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2411280" y="333360"/>
            <a:ext cx="6121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Book Antiqua"/>
              </a:rPr>
              <a:t>Найди уравнения и реши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2354400" y="1447920"/>
            <a:ext cx="388908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entury Gothic"/>
              </a:rPr>
              <a:t>18+</a:t>
            </a:r>
            <a:r>
              <a:rPr b="0" lang="ru-RU" sz="4800" spc="-1" strike="noStrike">
                <a:solidFill>
                  <a:srgbClr val="5c5928"/>
                </a:solidFill>
                <a:latin typeface="Century Gothic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entury Gothic"/>
              </a:rPr>
              <a:t>70+</a:t>
            </a:r>
            <a:r>
              <a:rPr b="0" lang="ru-RU" sz="4800" spc="-1" strike="noStrike">
                <a:solidFill>
                  <a:srgbClr val="5c5928"/>
                </a:solidFill>
                <a:latin typeface="Century Gothic"/>
              </a:rPr>
              <a:t>х</a:t>
            </a:r>
            <a:r>
              <a:rPr b="0" lang="ru-RU" sz="4800" spc="-1" strike="noStrike">
                <a:solidFill>
                  <a:srgbClr val="c00000"/>
                </a:solidFill>
                <a:latin typeface="Century Gothic"/>
              </a:rPr>
              <a:t>=7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entury Gothic"/>
              </a:rPr>
              <a:t>56+</a:t>
            </a:r>
            <a:r>
              <a:rPr b="0" lang="ru-RU" sz="4800" spc="-1" strike="noStrike">
                <a:solidFill>
                  <a:srgbClr val="5c5928"/>
                </a:solidFill>
                <a:latin typeface="Century Gothic"/>
              </a:rPr>
              <a:t>х</a:t>
            </a:r>
            <a:r>
              <a:rPr b="0" lang="en-US" sz="4800" spc="-1" strike="noStrike">
                <a:solidFill>
                  <a:srgbClr val="c00000"/>
                </a:solidFill>
                <a:latin typeface="Century Gothic"/>
              </a:rPr>
              <a:t>&gt;</a:t>
            </a:r>
            <a:r>
              <a:rPr b="0" lang="ru-RU" sz="4800" spc="-1" strike="noStrike">
                <a:solidFill>
                  <a:srgbClr val="c00000"/>
                </a:solidFill>
                <a:latin typeface="Century Gothic"/>
              </a:rPr>
              <a:t>7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 Gothic"/>
              </a:rPr>
              <a:t>7</a:t>
            </a:r>
            <a:r>
              <a:rPr b="0" lang="ru-RU" sz="4800" spc="-1" strike="noStrike">
                <a:solidFill>
                  <a:srgbClr val="c00000"/>
                </a:solidFill>
                <a:latin typeface="Century Gothic"/>
              </a:rPr>
              <a:t>4-30=4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c5928"/>
                </a:solidFill>
                <a:latin typeface="Century Gothic"/>
              </a:rPr>
              <a:t>Х</a:t>
            </a:r>
            <a:r>
              <a:rPr b="0" lang="ru-RU" sz="4800" spc="-1" strike="noStrike">
                <a:solidFill>
                  <a:srgbClr val="c00000"/>
                </a:solidFill>
                <a:latin typeface="Century Gothic"/>
              </a:rPr>
              <a:t>-</a:t>
            </a:r>
            <a:r>
              <a:rPr b="0" lang="ru-RU" sz="4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Century Gothic"/>
              </a:rPr>
              <a:t>8=4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Рисунок 9" descr="59.gif"/>
          <p:cNvPicPr/>
          <p:nvPr/>
        </p:nvPicPr>
        <p:blipFill>
          <a:blip r:embed="rId1"/>
          <a:stretch/>
        </p:blipFill>
        <p:spPr>
          <a:xfrm>
            <a:off x="1258920" y="4724280"/>
            <a:ext cx="61416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WordArt 4"/>
          <p:cNvSpPr txBox="1"/>
          <p:nvPr/>
        </p:nvSpPr>
        <p:spPr>
          <a:xfrm>
            <a:off x="826920" y="3716280"/>
            <a:ext cx="76694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РАВЕН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388" name="WordArt 5"/>
          <p:cNvSpPr txBox="1"/>
          <p:nvPr/>
        </p:nvSpPr>
        <p:spPr>
          <a:xfrm>
            <a:off x="736560" y="2868480"/>
            <a:ext cx="766908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математическ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389" name="WordArt 6"/>
          <p:cNvSpPr txBox="1"/>
          <p:nvPr/>
        </p:nvSpPr>
        <p:spPr>
          <a:xfrm>
            <a:off x="2411280" y="4581360"/>
            <a:ext cx="43704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с букв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390" name="WordArt 7"/>
          <p:cNvSpPr txBox="1"/>
          <p:nvPr/>
        </p:nvSpPr>
        <p:spPr>
          <a:xfrm>
            <a:off x="1474920" y="1197000"/>
            <a:ext cx="727380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АВНЕНИЕ –</a:t>
            </a:r>
            <a:endParaRPr b="0" lang="en-US" sz="1800" spc="1" strike="noStrike">
              <a:ln w="0">
                <a:noFill/>
              </a:ln>
              <a:solidFill>
                <a:srgbClr val="00b05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4"/>
          <p:cNvSpPr/>
          <p:nvPr/>
        </p:nvSpPr>
        <p:spPr>
          <a:xfrm>
            <a:off x="3059280" y="0"/>
            <a:ext cx="42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a853c"/>
                </a:solidFill>
                <a:latin typeface="Tahoma"/>
              </a:rPr>
              <a:t>Уравн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8"/>
          <p:cNvSpPr/>
          <p:nvPr/>
        </p:nvSpPr>
        <p:spPr>
          <a:xfrm>
            <a:off x="4001760" y="13129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8a853c"/>
                </a:solidFill>
                <a:latin typeface="Arial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5127480" y="1547640"/>
            <a:ext cx="185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3817800" y="1581120"/>
            <a:ext cx="1008360" cy="936720"/>
          </a:xfrm>
          <a:prstGeom prst="rect">
            <a:avLst/>
          </a:prstGeom>
          <a:noFill/>
          <a:ln w="38160">
            <a:solidFill>
              <a:srgbClr val="5c5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2214720" y="2630520"/>
            <a:ext cx="411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8a853c"/>
                </a:solidFill>
                <a:latin typeface="Arial"/>
              </a:rPr>
              <a:t>x</a:t>
            </a: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14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 –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1"/>
          <p:cNvSpPr/>
          <p:nvPr/>
        </p:nvSpPr>
        <p:spPr>
          <a:xfrm>
            <a:off x="2214720" y="4005360"/>
            <a:ext cx="240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8a853c"/>
                </a:solidFill>
                <a:latin typeface="Arial"/>
              </a:rPr>
              <a:t>x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2227320" y="1547640"/>
            <a:ext cx="159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5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 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2"/>
          <p:cNvSpPr/>
          <p:nvPr/>
        </p:nvSpPr>
        <p:spPr>
          <a:xfrm>
            <a:off x="0" y="5157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9 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решение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Рисунок 9" descr="59.gif"/>
          <p:cNvPicPr/>
          <p:nvPr/>
        </p:nvPicPr>
        <p:blipFill>
          <a:blip r:embed="rId1"/>
          <a:stretch/>
        </p:blipFill>
        <p:spPr>
          <a:xfrm>
            <a:off x="7308720" y="4508640"/>
            <a:ext cx="6145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8"/>
          <p:cNvSpPr/>
          <p:nvPr/>
        </p:nvSpPr>
        <p:spPr>
          <a:xfrm>
            <a:off x="3323520" y="104760"/>
            <a:ext cx="24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a853c"/>
                </a:solidFill>
                <a:latin typeface="Tahom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4001760" y="13129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8a853c"/>
                </a:solidFill>
                <a:latin typeface="Arial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5127480" y="1547640"/>
            <a:ext cx="185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2227320" y="1547640"/>
            <a:ext cx="159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5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 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3843000" y="37162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a853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1"/>
          <p:cNvSpPr/>
          <p:nvPr/>
        </p:nvSpPr>
        <p:spPr>
          <a:xfrm>
            <a:off x="4643280" y="3716280"/>
            <a:ext cx="185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=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2340000" y="3716280"/>
            <a:ext cx="159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a853c"/>
                </a:solidFill>
                <a:latin typeface="Tahoma"/>
              </a:rPr>
              <a:t>5</a:t>
            </a: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 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2519280" y="472428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a853c"/>
                </a:solidFill>
                <a:latin typeface="Tahoma"/>
              </a:rPr>
              <a:t>14 </a:t>
            </a: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=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3072240" y="278136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Провер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Рисунок 9" descr="59.gif"/>
          <p:cNvPicPr/>
          <p:nvPr/>
        </p:nvPicPr>
        <p:blipFill>
          <a:blip r:embed="rId1"/>
          <a:stretch/>
        </p:blipFill>
        <p:spPr>
          <a:xfrm>
            <a:off x="1116000" y="4581360"/>
            <a:ext cx="61452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89" nodeType="after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1" dur="indefinite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2" dur="indefinite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8"/>
          <p:cNvSpPr/>
          <p:nvPr/>
        </p:nvSpPr>
        <p:spPr>
          <a:xfrm>
            <a:off x="3323520" y="104760"/>
            <a:ext cx="24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a853c"/>
                </a:solidFill>
                <a:latin typeface="Tahom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2672280" y="13129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8a853c"/>
                </a:solidFill>
                <a:latin typeface="Arial"/>
              </a:rPr>
              <a:t>z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4594320" y="1547640"/>
            <a:ext cx="185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 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2489040" y="1581120"/>
            <a:ext cx="1008360" cy="984240"/>
          </a:xfrm>
          <a:prstGeom prst="rect">
            <a:avLst/>
          </a:prstGeom>
          <a:noFill/>
          <a:ln w="38160">
            <a:solidFill>
              <a:srgbClr val="5c5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2627280" y="2637000"/>
            <a:ext cx="378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8a853c"/>
                </a:solidFill>
                <a:latin typeface="Arial"/>
              </a:rPr>
              <a:t>z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 9 +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2658960" y="4005360"/>
            <a:ext cx="288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8a853c"/>
                </a:solidFill>
                <a:latin typeface="Arial"/>
              </a:rPr>
              <a:t>z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3560760" y="1547640"/>
            <a:ext cx="159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  <a:ea typeface="Tahoma"/>
              </a:rPr>
              <a:t>−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0" y="5257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15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решение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Рисунок 9" descr="59.gif"/>
          <p:cNvPicPr/>
          <p:nvPr/>
        </p:nvPicPr>
        <p:blipFill>
          <a:blip r:embed="rId1"/>
          <a:stretch/>
        </p:blipFill>
        <p:spPr>
          <a:xfrm>
            <a:off x="7093080" y="4653000"/>
            <a:ext cx="6141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5:24:13Z</dcterms:created>
  <dc:creator>Андрейка</dc:creator>
  <dc:description>http://aida.ucoz.ru</dc:description>
  <dc:language>en-US</dc:language>
  <cp:lastModifiedBy>user</cp:lastModifiedBy>
  <dcterms:modified xsi:type="dcterms:W3CDTF">2019-01-30T11:55:46Z</dcterms:modified>
  <cp:revision>10</cp:revision>
  <dc:subject/>
  <dc:title>Слайд 1</dc:title>
</cp:coreProperties>
</file>