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7.png" ContentType="image/png"/>
  <Override PartName="/ppt/media/image3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3AC5-43E9-4D3C-A6AA-8CD2372CEC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727B-C27D-463A-AD56-9448D7F61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BB6-40C5-4374-AB0B-5323A834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923-25E2-44AD-A339-EA298926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20C-9CE7-4F4A-878F-CD85AD68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137-2CCB-4B23-8F78-F8D9690C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5A3C-2F43-48F5-B330-172E92D8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5C7-7F58-4B9E-AB14-DBAB5B4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3926-F5DF-4AB4-A2B4-74F1EF5A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8F9D-923D-48A3-A124-40A2BB7B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DD2-1287-4AF7-9CE8-B2C6B43D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CE34-F018-490F-9BF0-AAF4CD4D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78B3-7E5A-4ABC-B514-8224B23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988-8BF9-4651-9298-1A3B154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32DF-6733-4030-91C8-CD65479D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4453-9BD5-4630-A0EC-AF5D776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EA87-219B-4A0B-ADFD-6827A099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949C-FA61-4F12-A39D-4321B7DE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BAC8-8FB4-4A6D-88C1-F4769CCB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E51DC-E188-4A45-A26C-7D937AAC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BB4D-142A-4402-92F3-AE8E67B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63C6E-7DA7-4E3B-BD48-E55B8767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57AD-8054-45A1-BC77-CC4392E0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8E844-FB1E-4CFF-A401-3EF2487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257-68C0-472D-BC03-A2528A17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9FA7-B876-4717-9AEC-8B9E89BE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F408A-30E9-46BB-B059-921A0EC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15A9-450A-47B4-B633-0CB5B5B4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C7BE7-CF16-4956-B0B4-B83A226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FAC9-1D0E-4114-9A6A-99087EC6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E32A-450D-49B7-851D-4B9F09B5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1834-813D-4A6B-9D51-70AC7123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2D86-E3C2-42FB-ACAA-EBAA40CA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0104-5A59-4C7E-8057-22CFAAB6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E884C-DAF3-43B3-9E29-43770B12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CE3-6390-45AF-ACCD-37219C45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CDF2B-3CE6-49FD-8A8A-AA588084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2B14-BE30-4177-89B5-BA6A5E47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8605-F4A6-49A6-B9D3-A9C5EAF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6E07-6E2F-4278-B414-801827D4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7E20-3B93-47ED-B270-6DAD2F66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59D47-109E-4777-9684-299932E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FDF2-17C8-43FE-A33E-5464A192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AF03A-2460-4C27-ABE8-9D140AD2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4063-7654-4088-A406-C3639FF1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8CBAB-3EB8-44A4-A8A5-4CE1F0D3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468-E5FB-46E6-97DB-FAD104E7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1600-2DF6-40C7-A23E-E709F8B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41CCF-5031-47E6-9162-0D8A36FC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BFD53-5AF2-41F5-A76B-190AF0B9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ED42-4BAC-4026-AE2D-DE119B6E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75795-6E9F-4A17-9F5E-CD0D2B5E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91BC7-D1C7-4EBC-B2AD-FA1DA8A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DEE1-D19D-4C20-B99F-E858576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42DB5-EFE8-48B3-A7F5-43EE86F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E970-781E-4BDE-ACA7-968CC95D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1C25-85B8-4F7D-A6B0-FA55EA62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F7F-D281-4311-A29F-741D5AD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9B1EA-CE10-4A2D-8910-67F65E53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A46A0-47A9-49BC-B030-DF1ACA88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67AF0-F95D-455C-8FA2-57463EB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479E00-F5DD-4114-9C3B-F9D696C0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370E5-ED24-49F2-811A-CD3B80B9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29FEF-B279-45A8-BB14-0D685036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170CF-2F02-4E52-963C-729E92EE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A6CBF-16B8-460E-983D-BF6042B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EB179F-DCA4-482F-9ECF-7134C52A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A7350-275E-444E-B114-E775C8C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09E-F114-4F0B-A591-EDE41BA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598DC-CC3E-427B-B838-C2CE024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845BB-CE68-4767-A5E8-A87C067F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C8491-39D4-4FF5-8258-33E4B32F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6650A-5990-49C9-9E8D-C9FDD3F2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8F39-2ECA-4721-9DBA-EE86D977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23B34-05C6-4E8F-BEF1-3A86F17F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AE50-C40C-4069-8CAB-F9A2AA1E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EC48F-E082-4E16-9DFD-06538D9E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3136-B246-450B-9377-7AC639ED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56939-11E7-4CC1-866B-341B0CA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CCB-0E67-46A3-A7D9-604A3FFC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76ABE-3DC2-47FA-95C9-4357FF7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1FA35-9C15-45D4-946F-C35D4E99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5D3F-711E-492C-A9E4-642A7CF0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596E-5D00-46DA-ACFB-D5DF5CDD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2C8F7-E3DD-49B7-8C56-72EFC758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838-E7FB-48A5-A6EB-8EF441D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5B9-CA97-420D-96A1-30CA98E8F0FD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2873-4839-406E-8CFE-12CF8D23581B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564D-D4E0-4526-9F5A-0E3DA847D494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E2A-8513-4ABD-88A5-9F39FDC74489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2595-D0FA-44C0-9922-E9ED367994C7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40FF-D93B-4FF7-9753-DA6F762A254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80CC-CA1A-4E9C-B7A0-1235971E86F7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6911-5295-4DF1-90EF-CF67E5D22CC1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AEA1-868D-4598-BAD6-EF64778031B4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46D5-240E-49B8-B52A-6A378300E18E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9DD3-4C2F-414A-B289-689A5D4D26F5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FE3-EB08-4DC3-886F-47A19C93C94A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A4E8-8C4F-4530-AC61-474D51F1857F}" type="datetime">
              <a:rPr b="0" lang="ru-RU" sz="1200" spc="-1" strike="noStrike">
                <a:solidFill>
                  <a:srgbClr val="564b3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17D6-B8A8-41C3-BBA1-7FBF880ADBC2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31CA-21F3-40A8-9FE1-0D207016EB35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0" y="40464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c5928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1619280" y="1341360"/>
            <a:ext cx="68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Arial"/>
              </a:rPr>
              <a:t>Тема: «Уравнени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4284720" y="4869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01f"/>
                </a:solidFill>
                <a:latin typeface="바탕"/>
                <a:ea typeface="바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323520" y="1047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267228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4594320" y="1547640"/>
            <a:ext cx="18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3560760" y="1547640"/>
            <a:ext cx="15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2250360" y="37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4859280" y="3645000"/>
            <a:ext cx="18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3492360" y="3645000"/>
            <a:ext cx="15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  <a:ea typeface="Tahoma"/>
              </a:rPr>
              <a:t>−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2484360" y="47242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9</a:t>
            </a: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2782800" y="278136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ahoma"/>
              </a:rPr>
              <a:t>Пров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9" descr="59.gif"/>
          <p:cNvPicPr/>
          <p:nvPr/>
        </p:nvPicPr>
        <p:blipFill>
          <a:blip r:embed="rId1"/>
          <a:stretch/>
        </p:blipFill>
        <p:spPr>
          <a:xfrm>
            <a:off x="1258920" y="479736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7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6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indefinite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88" dur="indefinite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9" dur="indefinite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755640" y="191628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826920" y="299736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y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826920" y="4365720"/>
            <a:ext cx="1839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5219640" y="1773360"/>
            <a:ext cx="2008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a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5364000" y="2852640"/>
            <a:ext cx="20052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b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5435640" y="4149720"/>
            <a:ext cx="19368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c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2340000" y="2060640"/>
            <a:ext cx="24066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икс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5"/>
          <p:cNvSpPr/>
          <p:nvPr/>
        </p:nvSpPr>
        <p:spPr>
          <a:xfrm>
            <a:off x="2340000" y="3213000"/>
            <a:ext cx="3154320" cy="190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и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  <a:ea typeface="Times New Roman"/>
              </a:rPr>
              <a:t>́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грек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2340000" y="4292640"/>
            <a:ext cx="24066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зэт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7020000" y="1916280"/>
            <a:ext cx="136692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8"/>
          <p:cNvSpPr/>
          <p:nvPr/>
        </p:nvSpPr>
        <p:spPr>
          <a:xfrm>
            <a:off x="7020000" y="2997360"/>
            <a:ext cx="186372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бэ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9"/>
          <p:cNvSpPr/>
          <p:nvPr/>
        </p:nvSpPr>
        <p:spPr>
          <a:xfrm>
            <a:off x="7093080" y="4221000"/>
            <a:ext cx="186372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цэ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20"/>
          <p:cNvSpPr txBox="1"/>
          <p:nvPr/>
        </p:nvSpPr>
        <p:spPr>
          <a:xfrm>
            <a:off x="1979640" y="907920"/>
            <a:ext cx="65689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Назовите правильно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826920" y="170028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d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826920" y="2852640"/>
            <a:ext cx="192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e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26920" y="4221000"/>
            <a:ext cx="183996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f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4859280" y="1773360"/>
            <a:ext cx="200808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643280" y="2924280"/>
            <a:ext cx="22640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4643280" y="4149720"/>
            <a:ext cx="21956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2340000" y="1773360"/>
            <a:ext cx="192564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дэ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2556000" y="2997360"/>
            <a:ext cx="187164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е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340000" y="4221000"/>
            <a:ext cx="217476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эф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6372360" y="1773360"/>
            <a:ext cx="197784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ка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6372360" y="2924280"/>
            <a:ext cx="195408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эм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6443640" y="4149720"/>
            <a:ext cx="195408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0" lang="ru-RU" sz="7000" spc="-1" strike="noStrike">
                <a:solidFill>
                  <a:srgbClr val="c00000"/>
                </a:solidFill>
                <a:latin typeface="Tahoma"/>
              </a:rPr>
              <a:t>эн</a:t>
            </a:r>
            <a:r>
              <a:rPr b="0" lang="en-US" sz="7000" spc="-1" strike="noStrike">
                <a:solidFill>
                  <a:srgbClr val="c00000"/>
                </a:solidFill>
                <a:latin typeface="Tahoma"/>
              </a:rPr>
              <a:t>]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WordArt 20"/>
          <p:cNvSpPr txBox="1"/>
          <p:nvPr/>
        </p:nvSpPr>
        <p:spPr>
          <a:xfrm>
            <a:off x="1979640" y="907920"/>
            <a:ext cx="65689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Назовите правильно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4"/>
          <p:cNvSpPr txBox="1"/>
          <p:nvPr/>
        </p:nvSpPr>
        <p:spPr>
          <a:xfrm>
            <a:off x="2124000" y="765000"/>
            <a:ext cx="65692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Прочтите правильно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042920" y="1268280"/>
            <a:ext cx="35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971640" y="2421000"/>
            <a:ext cx="3595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26920" y="3645000"/>
            <a:ext cx="40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26920" y="4869000"/>
            <a:ext cx="4005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d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>
            <a:off x="4572000" y="884160"/>
            <a:ext cx="0" cy="5973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5076720" y="1197000"/>
            <a:ext cx="3660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</a:t>
            </a:r>
            <a:r>
              <a:rPr b="0" lang="en-US" sz="8000" spc="-1" strike="noStrike">
                <a:solidFill>
                  <a:srgbClr val="c00000"/>
                </a:solidFill>
                <a:latin typeface="Verdana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5076720" y="2492280"/>
            <a:ext cx="3776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f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5076720" y="3645000"/>
            <a:ext cx="3635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y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4932360" y="4797360"/>
            <a:ext cx="3813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7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00000"/>
                </a:solidFill>
                <a:latin typeface="Verdana"/>
              </a:rPr>
              <a:t>=</a:t>
            </a:r>
            <a:r>
              <a:rPr b="0" lang="en-US" sz="7200" spc="-1" strike="noStrike">
                <a:solidFill>
                  <a:srgbClr val="c00000"/>
                </a:solidFill>
                <a:latin typeface="Verdana"/>
              </a:rPr>
              <a:t>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15"/>
          <p:cNvSpPr txBox="1"/>
          <p:nvPr/>
        </p:nvSpPr>
        <p:spPr>
          <a:xfrm>
            <a:off x="1979640" y="620640"/>
            <a:ext cx="6568920" cy="4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77933c"/>
                </a:solidFill>
                <a:latin typeface="Tahoma"/>
              </a:rPr>
              <a:t>Решите уравнение:</a:t>
            </a:r>
            <a:endParaRPr b="0" lang="en-US" sz="1800" spc="1" strike="noStrike">
              <a:ln w="0">
                <a:noFill/>
              </a:ln>
              <a:solidFill>
                <a:srgbClr val="77933c"/>
              </a:solidFill>
              <a:latin typeface="Tahoma"/>
              <a:ea typeface="Tahoma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539640" y="1268280"/>
            <a:ext cx="4114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  <a:ea typeface="Arial"/>
              </a:rPr>
              <a:t>+</a:t>
            </a: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8a853c"/>
                </a:solidFill>
                <a:latin typeface="Arial"/>
              </a:rPr>
              <a:t>a</a:t>
            </a: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1258920" y="1916280"/>
            <a:ext cx="25146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250920" y="2924280"/>
            <a:ext cx="4394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b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+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5 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1258920" y="3573360"/>
            <a:ext cx="21337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b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0" y="4508640"/>
            <a:ext cx="4495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7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c</a:t>
            </a:r>
            <a:r>
              <a:rPr b="0" i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900000" y="5157720"/>
            <a:ext cx="25909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c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4368960" y="884160"/>
            <a:ext cx="0" cy="5973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4768920" y="1125360"/>
            <a:ext cx="4375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+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4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 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5796000" y="1844640"/>
            <a:ext cx="2219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4572000" y="2924280"/>
            <a:ext cx="4383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  <a:ea typeface="Arial"/>
              </a:rPr>
              <a:t>–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c00000"/>
                </a:solidFill>
                <a:latin typeface="Tahom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5796000" y="3573360"/>
            <a:ext cx="2047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n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4635360" y="4508640"/>
            <a:ext cx="45086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  <a:ea typeface="Arial"/>
              </a:rPr>
              <a:t>– </a:t>
            </a: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16</a:t>
            </a:r>
            <a:r>
              <a:rPr b="0" lang="ru-RU" sz="5400" spc="-1" strike="noStrike">
                <a:solidFill>
                  <a:srgbClr val="c00000"/>
                </a:solidFill>
                <a:latin typeface="Tahoma"/>
              </a:rPr>
              <a:t> = </a:t>
            </a:r>
            <a:r>
              <a:rPr b="0" lang="en-US" sz="5400" spc="-1" strike="noStrike">
                <a:solidFill>
                  <a:srgbClr val="c00000"/>
                </a:solidFill>
                <a:latin typeface="Tahom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5105520" y="5346720"/>
            <a:ext cx="2876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a853c"/>
                </a:solidFill>
                <a:latin typeface="Arial"/>
              </a:rPr>
              <a:t>m</a:t>
            </a:r>
            <a:r>
              <a:rPr b="0" lang="ru-RU" sz="4800" spc="-1" strike="noStrike">
                <a:solidFill>
                  <a:srgbClr val="8a853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8a853c"/>
                </a:solidFill>
                <a:latin typeface="Tahoma"/>
              </a:rPr>
              <a:t>= 1</a:t>
            </a:r>
            <a:r>
              <a:rPr b="0" lang="en-US" sz="4800" spc="-1" strike="noStrike">
                <a:solidFill>
                  <a:srgbClr val="8a853c"/>
                </a:solidFill>
                <a:latin typeface="Tahom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Рисунок 7" descr="Photo 040.gif"/>
          <p:cNvPicPr/>
          <p:nvPr/>
        </p:nvPicPr>
        <p:blipFill>
          <a:blip r:embed="rId1"/>
          <a:stretch/>
        </p:blipFill>
        <p:spPr>
          <a:xfrm>
            <a:off x="1116000" y="4653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12" descr="82.gif"/>
          <p:cNvPicPr/>
          <p:nvPr/>
        </p:nvPicPr>
        <p:blipFill>
          <a:blip r:embed="rId2"/>
          <a:stretch/>
        </p:blipFill>
        <p:spPr>
          <a:xfrm>
            <a:off x="5425920" y="4853160"/>
            <a:ext cx="882720" cy="107784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10" descr="Photo 040.gif"/>
          <p:cNvPicPr/>
          <p:nvPr/>
        </p:nvPicPr>
        <p:blipFill>
          <a:blip r:embed="rId3"/>
          <a:stretch/>
        </p:blipFill>
        <p:spPr>
          <a:xfrm>
            <a:off x="6372360" y="4653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7" descr="Photo 040.gif"/>
          <p:cNvPicPr/>
          <p:nvPr/>
        </p:nvPicPr>
        <p:blipFill>
          <a:blip r:embed="rId4"/>
          <a:stretch/>
        </p:blipFill>
        <p:spPr>
          <a:xfrm>
            <a:off x="421164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4" descr="60.gif"/>
          <p:cNvPicPr/>
          <p:nvPr/>
        </p:nvPicPr>
        <p:blipFill>
          <a:blip r:embed="rId5"/>
          <a:stretch/>
        </p:blipFill>
        <p:spPr>
          <a:xfrm>
            <a:off x="7524720" y="3500280"/>
            <a:ext cx="528840" cy="814680"/>
          </a:xfrm>
          <a:prstGeom prst="rect">
            <a:avLst/>
          </a:prstGeom>
          <a:ln w="0">
            <a:noFill/>
          </a:ln>
        </p:spPr>
      </p:pic>
      <p:pic>
        <p:nvPicPr>
          <p:cNvPr id="484" name="Прямоугольник 11" descr=""/>
          <p:cNvPicPr/>
          <p:nvPr/>
        </p:nvPicPr>
        <p:blipFill>
          <a:blip r:embed="rId6"/>
          <a:stretch/>
        </p:blipFill>
        <p:spPr>
          <a:xfrm>
            <a:off x="2120760" y="536400"/>
            <a:ext cx="4658040" cy="1305000"/>
          </a:xfrm>
          <a:prstGeom prst="rect">
            <a:avLst/>
          </a:prstGeom>
          <a:ln w="0">
            <a:noFill/>
          </a:ln>
        </p:spPr>
      </p:pic>
      <p:pic>
        <p:nvPicPr>
          <p:cNvPr id="485" name="Прямоугольник 13" descr=""/>
          <p:cNvPicPr/>
          <p:nvPr/>
        </p:nvPicPr>
        <p:blipFill>
          <a:blip r:embed="rId7"/>
          <a:stretch/>
        </p:blipFill>
        <p:spPr>
          <a:xfrm>
            <a:off x="695160" y="1852560"/>
            <a:ext cx="8107560" cy="3243240"/>
          </a:xfrm>
          <a:prstGeom prst="rect">
            <a:avLst/>
          </a:prstGeom>
          <a:ln w="0">
            <a:noFill/>
          </a:ln>
        </p:spPr>
      </p:pic>
      <p:pic>
        <p:nvPicPr>
          <p:cNvPr id="486" name="Прямоугольник 14" descr=""/>
          <p:cNvPicPr/>
          <p:nvPr/>
        </p:nvPicPr>
        <p:blipFill>
          <a:blip r:embed="rId8"/>
          <a:stretch/>
        </p:blipFill>
        <p:spPr>
          <a:xfrm>
            <a:off x="1981080" y="4511520"/>
            <a:ext cx="4883400" cy="9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07407E-006 C -0.00348 0.00069 -0.00712 0.00069 -0.0106 0.00208 C -0.01858 0.00532 -0.01199 0.00718 -0.01962 0.01227 C -0.02188 0.01389 -0.02466 0.01343 -0.02726 0.01412 C -0.03143 0.02014 -0.03577 0.01852 -0.0408 0.02222 C -0.04393 0.02454 -0.04688 0.02755 -0.05001 0.03032 C -0.05695 0.03657 -0.06164 0.04792 -0.06962 0.05255 C -0.0731 0.0544 -0.07657 0.05579 -0.08021 0.05671 C -0.08681 0.05833 -0.10001 0.06065 -0.10001 0.06065 C -0.11181 0.06597 -0.0974 0.0581 -0.10747 0.06875 C -0.10869 0.07014 -0.11077 0.06968 -0.11216 0.07083 C -0.12726 0.08218 -0.11563 0.07662 -0.1257 0.08079 C -0.13039 0.08704 -0.13612 0.08634 -0.14237 0.08889 C -0.15244 0.09282 -0.16042 0.09537 -0.17119 0.09699 C -0.17726 0.09977 -0.18334 0.10046 -0.18942 0.10301 C -0.19098 0.1037 -0.19254 0.10417 -0.19393 0.10509 C -0.19549 0.10625 -0.19671 0.10833 -0.19844 0.10903 C -0.20678 0.11273 -0.21702 0.11505 -0.2257 0.11713 C -0.23334 0.12431 -0.24219 0.1294 -0.25157 0.13125 C -0.25955 0.13287 -0.2757 0.13542 -0.2757 0.13542 C -0.28264 0.14421 -0.29393 0.14421 -0.30296 0.1456 C -0.3198 0.14815 -0.33681 0.15023 -0.35296 0.15764 C -0.36511 0.17384 -0.38351 0.17847 -0.40001 0.18194 C -0.42969 0.18819 -0.44011 0.18866 -0.4757 0.19005 C -0.54931 0.22801 -0.63334 0.20324 -0.71216 0.20417 C -0.73455 0.20856 -0.7257 0.20486 -0.73942 0.21227 C -0.76164 0.21157 -0.78386 0.21157 -0.80608 0.21018 C -0.81737 0.20949 -0.83942 0.20417 -0.83942 0.20417 C -0.86181 0.19375 -0.88403 0.19259 -0.90747 0.18796 C -0.92553 0.18009 -0.91633 0.18264 -0.9349 0.17986 C -0.93646 0.17847 -0.93785 0.17454 -0.93942 0.17569 C -0.94133 0.17685 -0.94115 0.18102 -0.9408 0.1838 C -0.94063 0.18565 -0.93646 0.18773 -0.93785 0.18796 C -0.94549 0.18866 -0.95296 0.18657 -0.96042 0.18588 C -0.96407 0.18426 -0.96789 0.18403 -0.97101 0.18194 C -0.98646 0.17176 -0.96858 0.17847 -0.98334 0.17384 C -0.98924 0.16319 -0.98976 0.16551 -0.99844 0.16157 C -1.00556 0.15278 -0.99653 0.16273 -1.00903 0.15556 C -1.01042 0.15486 -1.01094 0.15255 -1.01216 0.15162 C -1.0191 0.1463 -1.01876 0.14954 -1.02414 0.14352 C -1.0264 0.14097 -1.02796 0.13773 -1.03021 0.13542 C -1.04705 0.11829 -1.02865 0.14097 -1.03942 0.12731 C -1.03837 0.12593 -1.03629 0.12338 -1.03629 0.12338 E">
                                      <p:cBhvr>
                                        <p:cTn id="693" dur="5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2224-05AB-42E2-ABAB-F8677997926D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611280" y="1790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Вспомнить компоненты действия данного урав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Определить неизвестный компон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Вспомнить правило нахождения неизвестного компон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Применить правило и найти неизвестный компон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Century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"/>
              </a:rPr>
              <a:t>Записать ответ.</a:t>
            </a:r>
            <a:r>
              <a:rPr b="0" lang="ru-RU" sz="2400" spc="-1" strike="noStrike">
                <a:solidFill>
                  <a:srgbClr val="c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Прямоугольник 5" descr=""/>
          <p:cNvPicPr/>
          <p:nvPr/>
        </p:nvPicPr>
        <p:blipFill>
          <a:blip r:embed="rId1"/>
          <a:stretch/>
        </p:blipFill>
        <p:spPr>
          <a:xfrm>
            <a:off x="1908000" y="463680"/>
            <a:ext cx="4651560" cy="130968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10" descr="Photo 040.gif"/>
          <p:cNvPicPr/>
          <p:nvPr/>
        </p:nvPicPr>
        <p:blipFill>
          <a:blip r:embed="rId2"/>
          <a:stretch/>
        </p:blipFill>
        <p:spPr>
          <a:xfrm>
            <a:off x="6372360" y="46530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C4A9-EF70-4573-8E56-5594DC4611B1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2124000" y="1197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a853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6"/>
          <p:cNvSpPr/>
          <p:nvPr/>
        </p:nvSpPr>
        <p:spPr>
          <a:xfrm>
            <a:off x="179280" y="333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"/>
          <p:cNvSpPr/>
          <p:nvPr/>
        </p:nvSpPr>
        <p:spPr>
          <a:xfrm>
            <a:off x="1116000" y="270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8"/>
          <p:cNvSpPr/>
          <p:nvPr/>
        </p:nvSpPr>
        <p:spPr>
          <a:xfrm>
            <a:off x="4502880" y="2708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1"/>
          <p:cNvSpPr/>
          <p:nvPr/>
        </p:nvSpPr>
        <p:spPr>
          <a:xfrm>
            <a:off x="1187280" y="191628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Рисунок 10" descr="Photo 040.gif"/>
          <p:cNvPicPr/>
          <p:nvPr/>
        </p:nvPicPr>
        <p:blipFill>
          <a:blip r:embed="rId1"/>
          <a:stretch/>
        </p:blipFill>
        <p:spPr>
          <a:xfrm>
            <a:off x="5796000" y="4076640"/>
            <a:ext cx="2901960" cy="25765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10" descr="Photo 040.gif"/>
          <p:cNvPicPr/>
          <p:nvPr/>
        </p:nvPicPr>
        <p:blipFill>
          <a:blip r:embed="rId2"/>
          <a:stretch/>
        </p:blipFill>
        <p:spPr>
          <a:xfrm>
            <a:off x="2916360" y="2492280"/>
            <a:ext cx="2879640" cy="365760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10" descr="Photo 040.gif"/>
          <p:cNvPicPr/>
          <p:nvPr/>
        </p:nvPicPr>
        <p:blipFill>
          <a:blip r:embed="rId3"/>
          <a:stretch/>
        </p:blipFill>
        <p:spPr>
          <a:xfrm>
            <a:off x="324000" y="2708280"/>
            <a:ext cx="2447640" cy="38005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15" descr="82.gif"/>
          <p:cNvPicPr/>
          <p:nvPr/>
        </p:nvPicPr>
        <p:blipFill>
          <a:blip r:embed="rId4"/>
          <a:stretch/>
        </p:blipFill>
        <p:spPr>
          <a:xfrm>
            <a:off x="5572080" y="1432080"/>
            <a:ext cx="3133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07407E-006 C -0.00348 0.00069 -0.00712 0.00069 -0.0106 0.00208 C -0.01858 0.00532 -0.01199 0.00718 -0.01962 0.01227 C -0.02188 0.01389 -0.02466 0.01343 -0.02726 0.01412 C -0.03143 0.02014 -0.03577 0.01852 -0.0408 0.02222 C -0.04393 0.02454 -0.04688 0.02755 -0.05001 0.03032 C -0.05695 0.03657 -0.06164 0.04792 -0.06962 0.05255 C -0.0731 0.0544 -0.07657 0.05579 -0.08021 0.05671 C -0.08681 0.05833 -0.10001 0.06065 -0.10001 0.06065 C -0.11181 0.06597 -0.0974 0.0581 -0.10747 0.06875 C -0.10869 0.07014 -0.11077 0.06968 -0.11216 0.07083 C -0.12726 0.08218 -0.11563 0.07662 -0.1257 0.08079 C -0.13039 0.08704 -0.13612 0.08634 -0.14237 0.08889 C -0.15244 0.09282 -0.16042 0.09537 -0.17119 0.09699 C -0.17726 0.09977 -0.18334 0.10046 -0.18942 0.10301 C -0.19098 0.1037 -0.19254 0.10417 -0.19393 0.10509 C -0.19549 0.10625 -0.19671 0.10833 -0.19844 0.10903 C -0.20678 0.11273 -0.21702 0.11505 -0.2257 0.11713 C -0.23334 0.12431 -0.24219 0.1294 -0.25157 0.13125 C -0.25955 0.13287 -0.2757 0.13542 -0.2757 0.13542 C -0.28264 0.14421 -0.29393 0.14421 -0.30296 0.1456 C -0.3198 0.14815 -0.33681 0.15023 -0.35296 0.15764 C -0.36511 0.17384 -0.38351 0.17847 -0.40001 0.18194 C -0.42969 0.18819 -0.44011 0.18866 -0.4757 0.19005 C -0.54931 0.22801 -0.63334 0.20324 -0.71216 0.20417 C -0.73455 0.20856 -0.7257 0.20486 -0.73942 0.21227 C -0.76164 0.21157 -0.78386 0.21157 -0.80608 0.21018 C -0.81737 0.20949 -0.83942 0.20417 -0.83942 0.20417 C -0.86181 0.19375 -0.88403 0.19259 -0.90747 0.18796 C -0.92553 0.18009 -0.91633 0.18264 -0.9349 0.17986 C -0.93646 0.17847 -0.93785 0.17454 -0.93942 0.17569 C -0.94133 0.17685 -0.94115 0.18102 -0.9408 0.1838 C -0.94063 0.18565 -0.93646 0.18773 -0.93785 0.18796 C -0.94549 0.18866 -0.95296 0.18657 -0.96042 0.18588 C -0.96407 0.18426 -0.96789 0.18403 -0.97101 0.18194 C -0.98646 0.17176 -0.96858 0.17847 -0.98334 0.17384 C -0.98924 0.16319 -0.98976 0.16551 -0.99844 0.16157 C -1.00556 0.15278 -0.99653 0.16273 -1.00903 0.15556 C -1.01042 0.15486 -1.01094 0.15255 -1.01216 0.15162 C -1.0191 0.1463 -1.01876 0.14954 -1.02414 0.14352 C -1.0264 0.14097 -1.02796 0.13773 -1.03021 0.13542 C -1.04705 0.11829 -1.02865 0.14097 -1.03942 0.12731 C -1.03837 0.12593 -1.03629 0.12338 -1.03629 0.12338 E">
                                      <p:cBhvr>
                                        <p:cTn id="699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E897-DB75-4537-8169-88978C739B8D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ok Antiqua"/>
              </a:rPr>
              <a:t>Реши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4267080" y="1600200"/>
            <a:ext cx="1600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90-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45+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3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7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92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37+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26+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56-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"/>
          <p:cNvSpPr/>
          <p:nvPr/>
        </p:nvSpPr>
        <p:spPr>
          <a:xfrm>
            <a:off x="5410080" y="1628640"/>
            <a:ext cx="106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853c"/>
                </a:solidFill>
                <a:latin typeface="Century Gothic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Рисунок 17" descr="ny13.gif"/>
          <p:cNvPicPr/>
          <p:nvPr/>
        </p:nvPicPr>
        <p:blipFill>
          <a:blip r:embed="rId1"/>
          <a:stretch/>
        </p:blipFill>
        <p:spPr>
          <a:xfrm>
            <a:off x="1258920" y="328464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9" descr="59.gif"/>
          <p:cNvPicPr/>
          <p:nvPr/>
        </p:nvPicPr>
        <p:blipFill>
          <a:blip r:embed="rId2"/>
          <a:stretch/>
        </p:blipFill>
        <p:spPr>
          <a:xfrm>
            <a:off x="762120" y="4800600"/>
            <a:ext cx="614160" cy="7333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9" descr="59.gif"/>
          <p:cNvPicPr/>
          <p:nvPr/>
        </p:nvPicPr>
        <p:blipFill>
          <a:blip r:embed="rId3"/>
          <a:stretch/>
        </p:blipFill>
        <p:spPr>
          <a:xfrm>
            <a:off x="1979640" y="4941720"/>
            <a:ext cx="614160" cy="7336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9" descr="59.gif"/>
          <p:cNvPicPr/>
          <p:nvPr/>
        </p:nvPicPr>
        <p:blipFill>
          <a:blip r:embed="rId4"/>
          <a:stretch/>
        </p:blipFill>
        <p:spPr>
          <a:xfrm>
            <a:off x="2556000" y="3860640"/>
            <a:ext cx="6141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WordArt 2" descr=""/>
          <p:cNvPicPr/>
          <p:nvPr/>
        </p:nvPicPr>
        <p:blipFill>
          <a:blip r:embed="rId1"/>
          <a:stretch/>
        </p:blipFill>
        <p:spPr>
          <a:xfrm>
            <a:off x="3200400" y="182520"/>
            <a:ext cx="4687920" cy="4399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2208240" y="1065240"/>
            <a:ext cx="15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2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3987360" y="1125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855960" y="1098720"/>
            <a:ext cx="1008000" cy="93636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5153400" y="106524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3162240" y="2457360"/>
            <a:ext cx="373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+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11 =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2149200" y="24400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1979640" y="2490840"/>
            <a:ext cx="100800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3"/>
          <p:cNvSpPr/>
          <p:nvPr/>
        </p:nvSpPr>
        <p:spPr>
          <a:xfrm>
            <a:off x="1979640" y="3849840"/>
            <a:ext cx="183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5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4068360" y="3821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5"/>
          <p:cNvSpPr/>
          <p:nvPr/>
        </p:nvSpPr>
        <p:spPr>
          <a:xfrm>
            <a:off x="3868560" y="3882960"/>
            <a:ext cx="1008360" cy="93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6"/>
          <p:cNvSpPr/>
          <p:nvPr/>
        </p:nvSpPr>
        <p:spPr>
          <a:xfrm>
            <a:off x="5166000" y="384984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3568680" y="5241960"/>
            <a:ext cx="33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+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5 =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8"/>
          <p:cNvSpPr/>
          <p:nvPr/>
        </p:nvSpPr>
        <p:spPr>
          <a:xfrm>
            <a:off x="2555640" y="5203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2386080" y="5275440"/>
            <a:ext cx="1008000" cy="93636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9" descr="59.gif"/>
          <p:cNvPicPr/>
          <p:nvPr/>
        </p:nvPicPr>
        <p:blipFill>
          <a:blip r:embed="rId2"/>
          <a:stretch/>
        </p:blipFill>
        <p:spPr>
          <a:xfrm>
            <a:off x="762120" y="480060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1903320" y="1065240"/>
            <a:ext cx="182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3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055760" y="1058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3855960" y="1098720"/>
            <a:ext cx="1008000" cy="93636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5163480" y="1065240"/>
            <a:ext cx="125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125880" y="2457360"/>
            <a:ext cx="336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2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931400" y="24400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1979640" y="2490840"/>
            <a:ext cx="100800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1979640" y="3849840"/>
            <a:ext cx="183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4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4068360" y="3821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3868560" y="3882960"/>
            <a:ext cx="100836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176080" y="3849840"/>
            <a:ext cx="125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3352680" y="524196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5 =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1905120" y="5203800"/>
            <a:ext cx="145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66"/>
                </a:solidFill>
                <a:latin typeface="Tahoma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2057400" y="5257800"/>
            <a:ext cx="100800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WordArt 2" descr=""/>
          <p:cNvPicPr/>
          <p:nvPr/>
        </p:nvPicPr>
        <p:blipFill>
          <a:blip r:embed="rId1"/>
          <a:stretch/>
        </p:blipFill>
        <p:spPr>
          <a:xfrm>
            <a:off x="3200400" y="182520"/>
            <a:ext cx="4687920" cy="4399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9" descr="59.gif"/>
          <p:cNvPicPr/>
          <p:nvPr/>
        </p:nvPicPr>
        <p:blipFill>
          <a:blip r:embed="rId2"/>
          <a:stretch/>
        </p:blipFill>
        <p:spPr>
          <a:xfrm>
            <a:off x="7740720" y="486900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2411280" y="333360"/>
            <a:ext cx="6121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Найди уравнения и реши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2354400" y="1447920"/>
            <a:ext cx="388908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18+</a:t>
            </a: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70+</a:t>
            </a: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=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56+</a:t>
            </a: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r>
              <a:rPr b="0" lang="en-US" sz="4800" spc="-1" strike="noStrike">
                <a:solidFill>
                  <a:srgbClr val="c00000"/>
                </a:solidFill>
                <a:latin typeface="Century Gothic"/>
              </a:rPr>
              <a:t>&gt;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4-30=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c5928"/>
                </a:solidFill>
                <a:latin typeface="Century Gothic"/>
              </a:rPr>
              <a:t>Х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-</a:t>
            </a:r>
            <a:r>
              <a:rPr b="0" lang="ru-RU" sz="4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Century Gothic"/>
              </a:rPr>
              <a:t>8=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9" descr="59.gif"/>
          <p:cNvPicPr/>
          <p:nvPr/>
        </p:nvPicPr>
        <p:blipFill>
          <a:blip r:embed="rId1"/>
          <a:stretch/>
        </p:blipFill>
        <p:spPr>
          <a:xfrm>
            <a:off x="1258920" y="4724280"/>
            <a:ext cx="6141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WordArt 4"/>
          <p:cNvSpPr txBox="1"/>
          <p:nvPr/>
        </p:nvSpPr>
        <p:spPr>
          <a:xfrm>
            <a:off x="826920" y="3716280"/>
            <a:ext cx="766944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РАВЕН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736560" y="2868480"/>
            <a:ext cx="766908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математическ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389" name="WordArt 6"/>
          <p:cNvSpPr txBox="1"/>
          <p:nvPr/>
        </p:nvSpPr>
        <p:spPr>
          <a:xfrm>
            <a:off x="2411280" y="4581360"/>
            <a:ext cx="4370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с бук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390" name="WordArt 7"/>
          <p:cNvSpPr txBox="1"/>
          <p:nvPr/>
        </p:nvSpPr>
        <p:spPr>
          <a:xfrm>
            <a:off x="1474920" y="1197000"/>
            <a:ext cx="727380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АВНЕНИЕ –</a:t>
            </a:r>
            <a:endParaRPr b="0" lang="en-US" sz="1800" spc="1" strike="noStrike">
              <a:ln w="0">
                <a:noFill/>
              </a:ln>
              <a:solidFill>
                <a:srgbClr val="00b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4"/>
          <p:cNvSpPr/>
          <p:nvPr/>
        </p:nvSpPr>
        <p:spPr>
          <a:xfrm>
            <a:off x="3059280" y="0"/>
            <a:ext cx="42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400176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5127480" y="1547640"/>
            <a:ext cx="185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3817800" y="1581120"/>
            <a:ext cx="1008360" cy="93672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2214720" y="2630520"/>
            <a:ext cx="411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14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–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2214720" y="4005360"/>
            <a:ext cx="240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2227320" y="1547640"/>
            <a:ext cx="159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0" y="5157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9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решени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9" descr="59.gif"/>
          <p:cNvPicPr/>
          <p:nvPr/>
        </p:nvPicPr>
        <p:blipFill>
          <a:blip r:embed="rId1"/>
          <a:stretch/>
        </p:blipFill>
        <p:spPr>
          <a:xfrm>
            <a:off x="7308720" y="4508640"/>
            <a:ext cx="6145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3323520" y="1047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400176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5127480" y="1547640"/>
            <a:ext cx="185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227320" y="1547640"/>
            <a:ext cx="159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5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3843000" y="3716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4643280" y="3716280"/>
            <a:ext cx="185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2340000" y="3716280"/>
            <a:ext cx="159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5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 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2519280" y="4724280"/>
            <a:ext cx="41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a853c"/>
                </a:solidFill>
                <a:latin typeface="Tahoma"/>
              </a:rPr>
              <a:t>14 </a:t>
            </a:r>
            <a:r>
              <a:rPr b="0" lang="ru-RU" sz="6000" spc="-1" strike="noStrike">
                <a:solidFill>
                  <a:srgbClr val="8a853c"/>
                </a:solidFill>
                <a:latin typeface="Tahoma"/>
              </a:rPr>
              <a:t>=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3072240" y="278136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ahoma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9" descr="59.gif"/>
          <p:cNvPicPr/>
          <p:nvPr/>
        </p:nvPicPr>
        <p:blipFill>
          <a:blip r:embed="rId1"/>
          <a:stretch/>
        </p:blipFill>
        <p:spPr>
          <a:xfrm>
            <a:off x="1116000" y="4581360"/>
            <a:ext cx="6145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1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2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89" nodeType="afterEffect" fill="hold" presetClass="emph" presetID="5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1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2" dur="indefinite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323520" y="104760"/>
            <a:ext cx="24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a853c"/>
                </a:solidFill>
                <a:latin typeface="Tahoma"/>
              </a:rPr>
              <a:t>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2672280" y="131292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4594320" y="1547640"/>
            <a:ext cx="185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2489040" y="1581120"/>
            <a:ext cx="1008360" cy="984240"/>
          </a:xfrm>
          <a:prstGeom prst="rect">
            <a:avLst/>
          </a:prstGeom>
          <a:noFill/>
          <a:ln w="38160">
            <a:solidFill>
              <a:srgbClr val="5c5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2627280" y="2637000"/>
            <a:ext cx="378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9 +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2658960" y="4005360"/>
            <a:ext cx="288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8a853c"/>
                </a:solidFill>
                <a:latin typeface="Arial"/>
              </a:rPr>
              <a:t>z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c00000"/>
                </a:solidFill>
                <a:latin typeface="Tahoma"/>
              </a:rPr>
              <a:t>=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3560760" y="1547640"/>
            <a:ext cx="159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ahoma"/>
                <a:ea typeface="Tahoma"/>
              </a:rPr>
              <a:t>−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c00000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0" y="5257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ahoma"/>
              </a:rPr>
              <a:t>15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решение у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9" descr="59.gif"/>
          <p:cNvPicPr/>
          <p:nvPr/>
        </p:nvPicPr>
        <p:blipFill>
          <a:blip r:embed="rId1"/>
          <a:stretch/>
        </p:blipFill>
        <p:spPr>
          <a:xfrm>
            <a:off x="7093080" y="4653000"/>
            <a:ext cx="6141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24:13Z</dcterms:created>
  <dc:creator>Андрейка</dc:creator>
  <dc:description>http://aida.ucoz.ru</dc:description>
  <dc:language>en-US</dc:language>
  <cp:lastModifiedBy>user</cp:lastModifiedBy>
  <dcterms:modified xsi:type="dcterms:W3CDTF">2019-01-30T11:55:46Z</dcterms:modified>
  <cp:revision>10</cp:revision>
  <dc:subject/>
  <dc:title>Слайд 1</dc:title>
</cp:coreProperties>
</file>