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07E4-E41B-414B-8C25-862AD16369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371E-D584-42FE-97BC-29C0A7787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407-C785-4134-8061-63015E09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36C-67B4-4385-AAB9-6D273F8D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AE4-159A-4DF1-9722-24453510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7F7-30CA-4166-8305-2FA7E5DD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B16-BD5E-48EF-8BA0-C65040AF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E61-AE6F-4BB8-A496-E0B6E94F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1CC-0CFD-425C-BA4C-74F8B8FD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E68-26BC-43E8-BAC5-1163B250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DC0-DAE6-409C-843B-8B034733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725-A096-449A-BC4F-28B4B731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3FD-2E1E-4442-B08E-DEBDC9F1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346-E8A9-47BF-A996-88889FFE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25B5-EE85-4B68-8922-625C09D330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24000" y="2060640"/>
            <a:ext cx="857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кеан море - сине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упление к опере «Садко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.А. Римского-Корс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203640" y="616572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Ку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2624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Муниципальное бюджет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Calibri"/>
              </a:rPr>
              <a:t>«Средняя общеобразовательная школа № 8 имени К.К. Рокоссовског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795840" y="4581360"/>
            <a:ext cx="53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eef4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нциферова  Татьяна Валерьевна, учитель музыки,  первая кат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071720" y="2142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ыкальная викт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Таблица 4" descr=""/>
          <p:cNvPicPr/>
          <p:nvPr/>
        </p:nvPicPr>
        <p:blipFill>
          <a:blip r:embed="rId1"/>
          <a:stretch/>
        </p:blipFill>
        <p:spPr>
          <a:xfrm>
            <a:off x="212760" y="712800"/>
            <a:ext cx="8718480" cy="4280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214200" y="5072040"/>
            <a:ext cx="878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Оценка задания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5 (отлично)</a:t>
            </a:r>
            <a:r>
              <a:rPr b="1" lang="ru-RU" sz="1800" spc="-1" strike="noStrike" u="sng">
                <a:solidFill>
                  <a:srgbClr val="5c1f34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сё выполнено правильн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4 (хорошо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1-2 ошибки (неправильно названы два фрагмента из произвед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</a:rPr>
              <a:t>3 (удовлетворительно)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олее 3 ошибок (неправильно названы фрагменты из произведени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8" descr="Римский 2.jpg"/>
          <p:cNvPicPr/>
          <p:nvPr/>
        </p:nvPicPr>
        <p:blipFill>
          <a:blip r:embed="rId1"/>
          <a:stretch/>
        </p:blipFill>
        <p:spPr>
          <a:xfrm>
            <a:off x="571680" y="728640"/>
            <a:ext cx="4051080" cy="5580000"/>
          </a:xfrm>
          <a:prstGeom prst="rect">
            <a:avLst/>
          </a:prstGeom>
          <a:ln w="38160">
            <a:solidFill>
              <a:srgbClr val="632523"/>
            </a:solidFill>
            <a:miter/>
          </a:ln>
        </p:spPr>
      </p:pic>
      <p:sp>
        <p:nvSpPr>
          <p:cNvPr id="56" name="Прямоугольник 3"/>
          <p:cNvSpPr/>
          <p:nvPr/>
        </p:nvSpPr>
        <p:spPr>
          <a:xfrm>
            <a:off x="4857840" y="785880"/>
            <a:ext cx="414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Николай Андр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Римский – Корс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1844 – 19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композит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педагог, дирижё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морской офиц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садко.jpg"/>
          <p:cNvPicPr/>
          <p:nvPr/>
        </p:nvPicPr>
        <p:blipFill>
          <a:blip r:embed="rId1"/>
          <a:stretch/>
        </p:blipFill>
        <p:spPr>
          <a:xfrm>
            <a:off x="4214880" y="142920"/>
            <a:ext cx="4427640" cy="61196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-128520" y="476280"/>
            <a:ext cx="4468680" cy="1992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4500720" y="63086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.Репин «Сад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324000" y="3141720"/>
            <a:ext cx="38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снове оперы лежит литературное произведение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лина «Садк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0_b82f_9c7b3044_XL.jpg"/>
          <p:cNvPicPr/>
          <p:nvPr/>
        </p:nvPicPr>
        <p:blipFill>
          <a:blip r:embed="rId1"/>
          <a:stretch/>
        </p:blipFill>
        <p:spPr>
          <a:xfrm>
            <a:off x="826920" y="331920"/>
            <a:ext cx="7347240" cy="5400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143080" y="585792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В.Васнецов  «Гусля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гусли 1.jpg"/>
          <p:cNvPicPr/>
          <p:nvPr/>
        </p:nvPicPr>
        <p:blipFill>
          <a:blip r:embed="rId1"/>
          <a:stretch/>
        </p:blipFill>
        <p:spPr>
          <a:xfrm>
            <a:off x="142920" y="214200"/>
            <a:ext cx="4686120" cy="6448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гусли.jpg"/>
          <p:cNvPicPr/>
          <p:nvPr/>
        </p:nvPicPr>
        <p:blipFill>
          <a:blip r:embed="rId2"/>
          <a:stretch/>
        </p:blipFill>
        <p:spPr>
          <a:xfrm>
            <a:off x="5143680" y="214200"/>
            <a:ext cx="3776400" cy="2808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148360" y="3860640"/>
            <a:ext cx="3786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усли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струнный щипковый музыкаль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826920" y="26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тупление «Океан - море сине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250920" y="57880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композитор нарисовал картину мор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основной приём использовал композит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art-fel-x-more-volny-shtorm.jpg"/>
          <p:cNvPicPr/>
          <p:nvPr/>
        </p:nvPicPr>
        <p:blipFill>
          <a:blip r:embed="rId1"/>
          <a:stretch/>
        </p:blipFill>
        <p:spPr>
          <a:xfrm>
            <a:off x="860400" y="1052640"/>
            <a:ext cx="72406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0" y="5229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произведения компози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можно назвать композит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А. Римского-Корсак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ebfbd9b65e8b6b2445251cb02086841c.jpg"/>
          <p:cNvPicPr/>
          <p:nvPr/>
        </p:nvPicPr>
        <p:blipFill>
          <a:blip r:embed="rId1"/>
          <a:stretch/>
        </p:blipFill>
        <p:spPr>
          <a:xfrm>
            <a:off x="2987640" y="1125360"/>
            <a:ext cx="3052800" cy="4077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садко.jpg"/>
          <p:cNvPicPr/>
          <p:nvPr/>
        </p:nvPicPr>
        <p:blipFill>
          <a:blip r:embed="rId2"/>
          <a:stretch/>
        </p:blipFill>
        <p:spPr>
          <a:xfrm>
            <a:off x="6012000" y="549360"/>
            <a:ext cx="3022560" cy="4174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снегурочка.jpg"/>
          <p:cNvPicPr/>
          <p:nvPr/>
        </p:nvPicPr>
        <p:blipFill>
          <a:blip r:embed="rId3"/>
          <a:srcRect l="724" t="4506" r="2606" b="784"/>
          <a:stretch/>
        </p:blipFill>
        <p:spPr>
          <a:xfrm>
            <a:off x="104760" y="404640"/>
            <a:ext cx="2882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8" descr="Римский 2.jpg"/>
          <p:cNvPicPr/>
          <p:nvPr/>
        </p:nvPicPr>
        <p:blipFill>
          <a:blip r:embed="rId1"/>
          <a:stretch/>
        </p:blipFill>
        <p:spPr>
          <a:xfrm>
            <a:off x="428760" y="928800"/>
            <a:ext cx="4051080" cy="5580000"/>
          </a:xfrm>
          <a:prstGeom prst="rect">
            <a:avLst/>
          </a:prstGeom>
          <a:ln w="38160">
            <a:solidFill>
              <a:srgbClr val="632523"/>
            </a:solidFill>
            <a:miter/>
          </a:ln>
        </p:spPr>
      </p:pic>
      <p:sp>
        <p:nvSpPr>
          <p:cNvPr id="74" name="TextBox 2"/>
          <p:cNvSpPr/>
          <p:nvPr/>
        </p:nvSpPr>
        <p:spPr>
          <a:xfrm>
            <a:off x="4643280" y="1785960"/>
            <a:ext cx="43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</a:rPr>
              <a:t>Н.А. Римский-Корсаков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Georgia"/>
              </a:rPr>
              <a:t>композитор-сказо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9:03:15Z</dcterms:created>
  <dc:creator>Admin</dc:creator>
  <dc:description/>
  <dc:language>en-US</dc:language>
  <cp:lastModifiedBy>Admin</cp:lastModifiedBy>
  <dcterms:modified xsi:type="dcterms:W3CDTF">2021-04-27T21:27:20Z</dcterms:modified>
  <cp:revision>23</cp:revision>
  <dc:subject/>
  <dc:title>Слайд 1</dc:title>
</cp:coreProperties>
</file>