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210-FAFE-407C-89BF-1003F93B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A8B-8084-4103-BDC1-FE4BDAB5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8A2-36DD-413B-BE52-2DADF683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3789-5F75-4104-B1A3-A5A244E1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B6C9-E591-4C3E-9711-3A32ECDE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5A34-E445-411F-B489-EC11D453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DF1E-3BA8-493B-B026-5F3CD39B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9B31-0E74-4F5D-9EE9-A9DF3305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E8F0-7AAB-4B56-BE33-2DC4FE21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381E-4794-444C-A8C6-63986EBF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5F9F-2EF7-4550-A4CA-778301E4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A2C2-B570-42CC-A520-80217703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8598-489E-45A1-8F13-70D199B1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99F2-3706-49EC-9391-F114D348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BD11-D8E8-4516-886F-48639C1E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BD42-3844-430D-8876-936B9DC4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E269-C9C0-4476-9485-2E62B4E1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2CFC3-16D8-4770-8149-44B2142F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A04DC-3BD6-4F11-BBCD-F4CC0837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43842-9161-404D-B5D7-697F3BF8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CE628-0E59-4050-96A5-6F53D7A8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8D96F-ED81-437C-9C1B-AD99B84F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37D-E764-4431-9F89-1D0B70FE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05E61-626C-4A96-9601-2118076E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98ABC-56EC-4FA2-A6E7-E87074BC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FC8DC-5A38-45C1-8DF9-AF06825B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D2A68-3A0B-4121-92B3-513C6C24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16AB2-160D-480E-A8D4-9EBDA8D5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23746-CA52-4697-9850-369BD936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4075B-0570-4571-BEB6-459E5A52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F19A5-BEAD-411A-BB66-684FB78A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8101D-7CA1-462A-82F8-F323180F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31AC2-9331-4C10-BB41-4409B119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64A-D7DB-48E7-9EE3-0F090093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4214F-B4BC-4F36-83BC-B66B649F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F52E2-2395-488C-B241-61188FB7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1C270-AE2F-4337-8E07-1B7D4C4D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662A7-CFB0-4F7A-84FA-7E63F584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F9940-5FEB-481D-9991-9D86F384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BF53D-9112-4E88-A899-7097E659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91FF3-E8FC-484F-81F0-FF953731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7A7E3-6C75-47AC-A448-4F41F41C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9AC2F-4519-425D-8932-9B13C08E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80C3B-5E59-4C6A-AF62-77CD6603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39FF-30F2-4FD9-B320-B8F7D382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CEC4B-BF97-46BF-9776-0917DBC5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200D6-250C-4AD8-9A61-D324A749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1E6E8-3365-40CA-A0F9-5B1E3B98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A437F-D085-449D-AE9D-100C2754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E7066-6E30-44C4-95F0-C9812367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E6757-A356-4511-80FF-3FAAEED4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B34B4-AE60-4B74-B077-987D52AB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EF3BC-1135-4046-B3DA-7299857C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38C2A-CDB0-4CAF-9622-513D15D4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AEA5B-D4BA-4A77-B57D-1F186211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0454-09A3-430B-8F7D-CEC09751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C63E1-87CA-4A6E-B11C-8AAF1B2F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7FF51-E600-4727-AB5F-37B2D136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CF079-F196-4089-A88D-FDF0BE92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283CB-018F-4528-9988-E7870644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4ABA0-9361-4651-887A-F305D569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23322-BB30-432B-8EF0-97C91116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778B3-939D-4724-801A-DA33947E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72F26-8145-4CEA-9BBE-44C773DF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F912F-9838-4DC5-8C31-81B56F2A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79631-3D99-43C6-95B1-C953E4F6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104-7AF7-418C-9B2F-761F4D01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1EDA9-2FF9-4104-9729-0BD097B6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8DFAA-806F-46E4-9EAE-C9A76380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021BD-7683-4FE3-85F5-00629C04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94228-7DDA-4E4E-8760-F0C69D10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6AD86-C6A0-42BE-9849-7DBF3F23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01D0C-1509-406A-B452-D4558C17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C0EE7-688B-40E0-B828-E2FADE80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42CB6-7DD6-4DBD-8B20-426066FA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0FB9D-DA5A-4B9B-93CD-977B9D08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4DA08-6CCC-4BF6-B68E-708FA4A3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4A3-95D5-48BD-BD80-32885C04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AA56A-7366-41EA-AD6D-0B481A6B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8FAA5-41D0-4DD0-A730-AF8F6623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E0DD0-FE07-43C9-8107-50FCDB83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19253-63E4-496F-9F05-FD7B2F92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F50FB-ACFD-4D7C-A4AC-370FE303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0CE-39EC-464C-B453-7A69DDEE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C70D-F982-457D-A6FC-6E468606AB9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E400-5D08-43A8-8190-BC2F3315A24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ABA3-F78D-437A-B5EA-459EAE8A7B4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0B93-0E15-40D7-A874-3670440ED41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D6CA-9A07-415A-9EA2-3B18D619C4F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FDCE-E2B0-42A6-8DA3-975C33C5F60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7198-6C02-4A9D-9A19-7283578C03D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Содержимое 3" descr="rome-4.gif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8" descr="Magical%20Snap%20-%202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Corbel"/>
              </a:rPr>
              <a:t>Почему Рим победил во II Пунической войне? 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15238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Война приняла затяжной характер, что для войска Ганнибала было губительным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Расчёт Ганнибала на поддержку жителей Италии не оправдался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Превосходство римского войска над карфагенским (наёмным)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 План Сципиона нанести удар по Карфагену заставил Ганнибала в спешном порядке отправиться в Африк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  <a:ea typeface="Arial"/>
              </a:rPr>
              <a:t>Правильные ответы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1.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А-2; Б-3; В-4; Г-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2. 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3.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А-3; Б-1; В-2; Г-4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4.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КАРФАГЕН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ГАННИБА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5. 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6.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7.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ИТАЛИИ, ЗАПАДНОГО,КАРФАГЕН,АФРИКИ, СИЦИЛ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8.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«5»- нет ошибок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«4»- 1-2 ошибк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«3»- 3-4 ошибк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«2»-5 и более ошибо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Содержимое 3" descr="2-ya_Punicheskaya_voina_218-201_gg._do_n.e.jpg"/>
          <p:cNvPicPr/>
          <p:nvPr/>
        </p:nvPicPr>
        <p:blipFill>
          <a:blip r:embed="rId1"/>
          <a:stretch/>
        </p:blipFill>
        <p:spPr>
          <a:xfrm>
            <a:off x="39600" y="0"/>
            <a:ext cx="910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Благодаря чему Рим мог одержать победу в борьбе с таким сильным противником как Карфаген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orbel"/>
              </a:rPr>
              <a:t>Вторая война с Карфагеном.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2362320"/>
            <a:ext cx="893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rbel"/>
              </a:rPr>
              <a:t>Цель: Сформировать представление о причине и характере второй войны с Карфагеном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Arial"/>
                <a:ea typeface="Arial"/>
              </a:rPr>
              <a:t>Причины второй Пунической войны: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447920"/>
            <a:ext cx="8934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Карфаген хотел вернуть потерянные владения и былое морское могущество в Западном Средиземноморье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стремление к господству Рима в Западном Средиземноморье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Войска Ганнибала вторгаются в Италию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Picture 2" descr="http://konan.3dn.ru/Rome/punicwar2.gif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3448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Ганнибал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Picture 4" descr="Ганнибал "/>
          <p:cNvPicPr/>
          <p:nvPr/>
        </p:nvPicPr>
        <p:blipFill>
          <a:blip r:embed="rId1"/>
          <a:stretch/>
        </p:blipFill>
        <p:spPr>
          <a:xfrm>
            <a:off x="0" y="1523880"/>
            <a:ext cx="4267080" cy="53341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266720" y="152352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«Клянусь, что я никогда не буду другом римлян и сделаю им столько зла, сколько смогу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Ганнибал до самой смерти был верен своему слов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Переход через Альпы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Picture 2" descr="http://www.lki.ru/Txt/Horizon/0809/Weapon/Main/c_alpes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арья</dc:creator>
  <dc:description/>
  <dc:language>en-US</dc:language>
  <cp:lastModifiedBy>Админ</cp:lastModifiedBy>
  <dcterms:modified xsi:type="dcterms:W3CDTF">2016-03-13T14:25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