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409-A00D-4FC4-AA1E-BE972F51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BB1-0E03-4802-A007-73C2B9D4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7449-96B4-4181-81E0-BDD11F93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34A-E0FA-4638-9CCB-33A4414B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71AA-14F3-41D2-B3BF-1CE39632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632E-497E-4EEE-9226-614C14CF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46B6-41A5-4C30-B6D5-5E81D5C7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0DE8-E623-4011-92FF-8329FD23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2E4C-721F-428A-B457-FB369CA5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0A16-DE0B-4B33-B519-12E677C2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B04C-ED4B-427A-ACB9-2691E6A0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70A-16DF-452E-98F9-C0FEFF2D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5907-DBD8-45B7-AEBC-6EA6D4E0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75BB-62A0-4453-996D-F960E4EC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8E7D-95B3-4B00-AFED-A53FF977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D469-4871-4320-AFB6-2D2E54F9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8012-6BF6-4480-88AD-3DDF9267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CAFF9-45CB-4B95-9C34-5D371165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6D434-2A9D-4B79-9049-2F3420DF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6824E-072B-43F0-BB80-2356979F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1C704-2C15-4770-9A80-7EE90962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6A9C9-43A6-4FF0-9D7E-AFF14861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B9D-40CB-4E68-861B-47AE4389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D5FD4-71A0-4CCF-9125-C6495B54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621C4-9286-4A5F-ACEA-229B7C9F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274F1-C1C7-4B52-8DB6-72300B38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72989-BDD4-49DE-964A-63C280EF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8411A-DFE8-4E2E-91B3-4B4B49F9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DCF24-F169-4CB4-AA2A-DE8AE0FA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1E0F9-E2F1-4ECF-AABD-13C996BE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88B57-34FB-491D-871D-2C966FDB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37D01-B250-45B5-97C2-C4455166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C3204-188F-40FD-B872-FB5FAECB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C0F2-25E2-44C7-9E17-0747A158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5A76D-F3A8-48F1-B860-683D2674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45C9E-8928-4CFE-8292-C1BB3725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B9422-CECA-43F5-ABED-A1DC824A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387C5-4A37-4C60-A568-79F64E75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FDF0E-07DC-4241-8A0D-D6AAB72A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3C8AA-754A-4E9D-85E2-CD726496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43CED-6F7C-4DE2-98BF-9CD774CB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C1318-E8A9-4567-8AAE-D0CED64B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AF257-CA47-476E-99D7-1EA1ED8A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14B28-3994-4562-9973-D275498D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3E4-30D1-442E-BF21-F918843F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28124-3D53-49EC-8E62-EE27D8A4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C15AC-5370-43A5-829C-EAD82E64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BB5C2-3DE9-48B2-9FEF-95150377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D40B4-5787-404E-AEAF-91BBFC22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342AF-DC5A-4CD9-A015-52E9151D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E0192-DFFB-4C0F-BA0C-174C298E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E7BAA-11D7-43D9-952B-A01C5FC2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9B502-B7E6-4160-8FB9-82BED6AD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1E198-2456-4D56-A69D-401990E2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C5397-C2C0-422F-AEDF-BF5890D9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E44E-180C-4307-82C8-7F127AC7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16593-248C-4612-B6D8-9FC43CAE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D0A97-D7AC-439B-9E83-5BEC3923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BF946-03E6-483B-B6A2-F38B3C94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326C4-EE51-4981-96B2-BB166A6D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1A63C-E899-401F-B269-538FA840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0FF84-CA59-4131-A5FF-0DE390E1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F66E8-AD63-4DAE-89B5-7514D44E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4F1CD-AA14-4A35-BCBC-E0D5EA73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1AAA9-7B40-4805-8749-15E66997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51B72-C247-4D35-9FA3-2472E5B9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30B-A95E-44E5-8AF9-591AC548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233F7-4040-4FE3-9E74-D88D0C86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4E8F7-D3F7-41FE-B9B2-BBAE2B8A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AADAF-0327-48D7-A0B5-3795E607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7C2E0-6827-4AB4-8A1D-6DAF2E1B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38EED-7982-4226-A492-EBFAA697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8118A-9025-4980-89C1-12CC4D34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17695-4D98-477E-8367-C7633E74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18C33-BD63-40A3-8607-51405688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86061-D1F7-401F-9B9A-D65DD5E6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3BA9B-2673-4358-96D4-AAEFA70C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BC4-1C82-4BC2-8871-420A0DEF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01817-CB8C-43A8-8FF5-E8B28B6A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78375-2755-4943-999A-CFACCA43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04BC6-7409-4FE2-B5B1-14A31437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389E2-2D5E-4B71-A4CC-F92B68F5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46DF2-BAAE-45E9-8373-8E71780D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B00-4D60-42E7-8F3D-17D83455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4730-8302-4AA4-B78F-016F76A53DE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2855-DCD0-4391-A05C-35724AE9597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CBDC-D398-4E10-9E8E-9F4866ECB57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8F9D-16C7-446E-97F6-464FF0BE535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B7C5-A1F4-4D4C-B552-A3D1A5D02C5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87CB-9956-4FD6-A9F4-5FC2D11523D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F3FB-9CAE-43F7-A516-24BE0E4906A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Содержимое 3" descr="rome-4.gif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8" descr="Magical%20Snap%20-%202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Corbel"/>
              </a:rPr>
              <a:t>Почему Рим победил во II Пунической войне? 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Война приняла затяжной характер, что для войска Ганнибала было губительным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Расчёт Ганнибала на поддержку жителей Италии не оправдалс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Превосходство римского войска над карфагенским (наёмным)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План Сципиона нанести удар по Карфагену заставил Ганнибала в спешном порядке отправиться в Африк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  <a:ea typeface="Arial"/>
              </a:rPr>
              <a:t>Правильные ответы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1.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А-2; Б-3; В-4; Г-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2. 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3.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А-3; Б-1; В-2; Г-4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КАРФАГЕ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ГАННИБА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5. 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6.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7.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ИТАЛИИ, ЗАПАДНОГО,КАРФАГЕН,АФРИКИ, СИЦИЛ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8.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«5»- нет ошибок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«4»- 1-2 ошибк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«3»- 3-4 ошибк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«2»-5 и более ошибо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Содержимое 3" descr="2-ya_Punicheskaya_voina_218-201_gg._do_n.e.jpg"/>
          <p:cNvPicPr/>
          <p:nvPr/>
        </p:nvPicPr>
        <p:blipFill>
          <a:blip r:embed="rId1"/>
          <a:stretch/>
        </p:blipFill>
        <p:spPr>
          <a:xfrm>
            <a:off x="39600" y="0"/>
            <a:ext cx="910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Благодаря чему Рим мог одержать победу в борьбе с таким сильным противником как Карфаген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orbel"/>
              </a:rPr>
              <a:t>Вторая война с Карфагеном.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2362320"/>
            <a:ext cx="893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rbel"/>
              </a:rPr>
              <a:t>Цель: Сформировать представление о причине и характере второй войны с Карфагеном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Arial"/>
                <a:ea typeface="Arial"/>
              </a:rPr>
              <a:t>Причины второй Пунической войны: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447920"/>
            <a:ext cx="8934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Карфаген хотел вернуть потерянные владения и былое морское могущество в Западном Средиземноморье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стремление к господству Рима в Западном Средиземноморье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Войска Ганнибала вторгаются в Италию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2" descr="http://konan.3dn.ru/Rome/punicwar2.gif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3448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Ганнибал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Picture 4" descr="Ганнибал "/>
          <p:cNvPicPr/>
          <p:nvPr/>
        </p:nvPicPr>
        <p:blipFill>
          <a:blip r:embed="rId1"/>
          <a:stretch/>
        </p:blipFill>
        <p:spPr>
          <a:xfrm>
            <a:off x="0" y="1523880"/>
            <a:ext cx="4267080" cy="53341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266720" y="152352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«Клянусь, что я никогда не буду другом римлян и сделаю им столько зла, сколько смогу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аннибал до самой смерти был верен своему слов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Переход через Альпы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Picture 2" descr="http://www.lki.ru/Txt/Horizon/0809/Weapon/Main/c_alpes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арья</dc:creator>
  <dc:description/>
  <dc:language>en-US</dc:language>
  <cp:lastModifiedBy>Админ</cp:lastModifiedBy>
  <dcterms:modified xsi:type="dcterms:W3CDTF">2016-03-13T14:25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