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9BC-FA56-4A1F-8EBD-8D7278FD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ACA-4C7D-4761-82C3-8440BD8A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0D8-6326-4073-85F4-36AA1E22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2DA-B91A-428F-BF5C-DB6BE73D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8F56-1C9B-4089-8DC2-F1A1AF3C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5DC4-6037-4D39-B7EE-963CF378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2C76-5704-4845-B49D-B3B579F3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FCEF-9791-4FB3-8CB7-53A54C2A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DEDD-E85A-47AE-80CF-E2804AA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2062-8B48-4160-89EC-539E1BF3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DFB4-B177-484B-8191-80C14C6C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7B3-73A5-4B86-96F7-61530751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482E-C1CD-483C-BF69-352BC9EA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946E-7263-4021-BB19-9245A80B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F78A-0F2C-42BA-B356-7F725B12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CA52-B648-484A-8A78-871DE170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40F1-00EE-4BBB-9A42-03823437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2013-EE00-4CD5-8825-8EC8DA69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F585-F2FB-4E1E-88E2-1E0AB179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3F84-85EB-4134-B2AD-965CE094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55C2-9DA3-4BA8-A17A-C2CCC200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F367-3746-4954-B413-2B15820C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D68-5D5A-49CE-8A94-7838BEC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6BDC-F9FB-4E03-A1C5-073AA7B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D670-D7A8-43F1-93F0-A994ACA1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100D-F099-44DE-BD12-2679326B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2856-B703-418E-B656-F4EDB6E6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0B9F-3917-4EFE-B59F-BA1A798A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2EF3-B3A9-4F20-8707-64B88EE2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61D4-C232-4050-A4ED-90277D8C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75B6-D217-4FF3-BBC0-568154FA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BEFEA-20BF-4450-B670-78903C4B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00E7-7D1F-4E4F-97B7-469AF130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605-9E7B-4CC5-B09E-A64391C8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8073-9DEA-48FF-8596-51A1304F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6999A-ADBB-4874-9052-5D0EFB22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98EBB-D8CD-4220-9FCD-2F76604E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69AD-7FCF-4C01-8C52-7088D11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B1F3E-CFA4-4621-91DA-2DBAC946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E5ADD-D9B2-41C7-BE39-9FE9880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6C1F-7263-4879-A271-C390977D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41BB5-3E1F-420A-95DF-1E43C98D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A4C3A-2DFE-4E9B-AC32-15DFF4DB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B1F-87BA-4E41-8482-4C132788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CAA-3AFB-4147-AF42-EE213DC5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5F6-95CC-43BD-B78A-D8BB965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C89-56D2-4F49-BA13-FF34A00F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3BC-3C98-4612-8C42-C235842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0A26-B2C7-4F65-90CD-9EE97775A9C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9D68-FA56-45E3-A9BC-88179ECBAC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7D7C-DF82-464D-AF33-FA6FB82E172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9CA4-3542-46B8-BF5A-B8A1E22010B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0" y="4857840"/>
            <a:ext cx="45720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онева Анна Викторо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ОУ СОШ № 18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«В»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Художник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1. Пофантазировать о медицине будущего свои фантазии изобрази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2. Выбрать самые интересные и оригинальные рисун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Устроить выставк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tantia"/>
              </a:rPr>
              <a:t>Наблюдатели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1. Понаблюдать и найти разные способы оздоровления своего организма и описать их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2. В книгах, энциклопедиях, словарях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Интернете найти информацию о каждом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из них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делать выводы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Историки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. Найти информацию об истории возникновения медицины в книгах и Интернет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2. Оформить слайды в том порядке, как возникала и развивалась медицин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3. Рассказать об этом первоклассника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1-е занятие   Собираем информацию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2-е занятие   Обсуждаем информацию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3-е занятие    Оформляем информацию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4-е занятие     Представляем информацию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5-е занятие    Праздник «Если хочешь быть здоров?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БУДЬТЕ ЗДОРОВЫ!!!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523880" y="1658880"/>
          <a:ext cx="6096240" cy="3276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969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то 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наю: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 здоровье?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ем я Интересуюсь: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то поможет мне сохранить здоровье?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то я Узнал: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сохранить здоровье!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Chart 1" descr=""/>
          <p:cNvPicPr/>
          <p:nvPr/>
        </p:nvPicPr>
        <p:blipFill>
          <a:blip r:embed="rId1"/>
          <a:stretch/>
        </p:blipFill>
        <p:spPr>
          <a:xfrm>
            <a:off x="0" y="0"/>
            <a:ext cx="72057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Chart 4" descr=""/>
          <p:cNvPicPr/>
          <p:nvPr/>
        </p:nvPicPr>
        <p:blipFill>
          <a:blip r:embed="rId1"/>
          <a:stretch/>
        </p:blipFill>
        <p:spPr>
          <a:xfrm>
            <a:off x="2146320" y="1749600"/>
            <a:ext cx="4851360" cy="33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hart 5" descr=""/>
          <p:cNvPicPr/>
          <p:nvPr/>
        </p:nvPicPr>
        <p:blipFill>
          <a:blip r:embed="rId1"/>
          <a:stretch/>
        </p:blipFill>
        <p:spPr>
          <a:xfrm>
            <a:off x="2004840" y="1871640"/>
            <a:ext cx="5134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523800" y="2279520"/>
            <a:ext cx="7785000" cy="31575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0280" y="571680"/>
            <a:ext cx="7772400" cy="62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10cf9b"/>
                </a:solidFill>
                <a:latin typeface="Constantia"/>
              </a:rPr>
              <a:t>Если Вы хотите научится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:</a:t>
            </a:r>
            <a:br>
              <a:rPr sz="3700"/>
            </a:b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находить интересное в обычном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добывать необходимую информацию и работать с ней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самостоятельно решать проблемы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работать в группе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выражать и защищать свою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точку зрения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эффективно использовать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компьютер для осуществления творческих замыслов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эффективно использовать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Приёмы оздоровления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57120" y="185724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algn="ctr"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Психолог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Социолог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Художник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Истори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аблюдате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Психолог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1. Спросить у взрослых и одноклассников что значит быть здоровым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2. Поискать в книжках и в Интернете материал по этому вопрос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ссказать всем, что мы об этом узнал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Социолог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1. Наблюдения за людьми на улицах и в общественных местах( школа, поликлиника, клуб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2. Провести социологический опрос среди членов своей семь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делать выводы по этому вопрос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7:28:27Z</dcterms:created>
  <dc:creator>uchenik</dc:creator>
  <dc:description/>
  <dc:language>en-US</dc:language>
  <cp:lastModifiedBy>Home</cp:lastModifiedBy>
  <dcterms:modified xsi:type="dcterms:W3CDTF">2021-05-21T13:31:13Z</dcterms:modified>
  <cp:revision>9</cp:revision>
  <dc:subject/>
  <dc:title>Счастливые дети здоровые дети</dc:title>
</cp:coreProperties>
</file>