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88C6-8410-40E5-B012-AA5E6A66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F4D-66D0-411F-92EE-19594425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50C-FAC7-4140-830A-26A0BE92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6D1-909E-4674-B12A-DE50C9E4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D97F-76E8-498B-8B5D-F3E63A4C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39AB-45E4-4B4F-B164-AEE2FAD9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2B24-936D-4B85-B0ED-E6E7551D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6A8C-5650-4283-AA2C-AF458B1D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F33C-D50B-4B93-A026-FEECB1D4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34C5-ECC5-4B74-8BF9-BE54679D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9389-EC95-4DD3-B4A2-C9715376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9F6-4511-4740-9804-75C590B0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DE9C-4F5A-4B46-8ED0-A80A8FCF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BD3A-3001-4535-A989-95A9F4BE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8F0D-6203-4B30-9C49-A3C12C37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C714-A331-4595-B19F-6BAF8B90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906B-63E0-46C1-9D2D-4DFCF94F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CA95B-CF7F-40B1-B3E5-0B1CBEAC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A688E-F701-4316-8CA2-75675B18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AFCDB-32DC-4389-A849-5D837EB8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B7870-016C-4E4F-85F3-0336C9AD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1310A-6BEC-4F3F-A01E-6867F0D4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0F88-655B-40CA-A374-DC235CFF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943D4-9E6A-4C20-AA7C-ED5C8F61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804D4-4D06-4F7F-8DA6-59059155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6E4F7-B397-473C-BF6C-24319A71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0E7D8-32C1-482F-AC04-E1737692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6EF90-C400-42FF-983A-B40D318C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6E7A0-BCA8-40C9-AD72-4713072E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1E8C7-A338-41D8-AD6A-66B60010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8E976-C758-429F-886E-862CEF66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B6C28-A9D5-487E-8453-9991D405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54611-8E02-45C1-BC10-375B6A8D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ACE-9434-423F-B423-C14C6AE2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0C761-282F-4660-B46E-76BEAE43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9590E-9680-4DDC-A406-5AAF6D3A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38AAC-7256-490B-938C-242BBC44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75AE5-A6F5-4098-AE33-F73463F7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267B3-E403-4FE0-8AE3-EE270328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01B72-90EF-4F04-9F77-72B69E7E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710CD-4447-4E3F-90CF-7584B4E2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63989-378F-49E1-A9E9-63BF22CE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5A831-8632-48E6-932D-72AD0723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2B5-8817-4AAE-9FA0-79033424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FD67-F06F-49B3-A43A-86E59FC9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D004-5665-4414-BE28-6B0A331D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CC7-B39E-485B-8517-E603F12C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2B25-070C-429D-9B9D-306ED02E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BBB7-42CE-4050-AEEF-CA8BD6EB99E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1EEC-4A70-4573-A5B5-3DF636AE2D0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B009-FE48-4A89-A4C2-7B440509CC4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9F24-F793-4C05-988A-48DF8317823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3088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0" y="4857840"/>
            <a:ext cx="4572000" cy="2000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онева Анна Викторов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БОУ СОШ № 18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«В» клас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55440" y="-6480"/>
            <a:ext cx="8253360" cy="1646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Художники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1. Пофантазировать о медицине будущего свои фантазии изобразить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2. Выбрать самые интересные и оригинальные рисунк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Устроить выставк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55440" y="-6480"/>
            <a:ext cx="8253360" cy="16462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nstantia"/>
              </a:rPr>
              <a:t>Наблюдатели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1. Понаблюдать и найти разные способы оздоровления своего организма и описать их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2. В книгах, энциклопедиях, словарях,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Интернете найти информацию о каждом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из них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Сделать выводы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55440" y="-6480"/>
            <a:ext cx="8253360" cy="1646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Историки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1. Найти информацию об истории возникновения медицины в книгах и Интернет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2. Оформить слайды в том порядке, как возникала и развивалась медицин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3. Рассказать об этом первоклассникам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55440" y="-6480"/>
            <a:ext cx="8253360" cy="16462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1-е занятие   Собираем информацию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2-е занятие   Обсуждаем информацию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3-е занятие    Оформляем информацию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4-е занятие     Представляем информацию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5-е занятие    Праздник «Если хочешь быть здоров?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55440" y="-6480"/>
            <a:ext cx="8253360" cy="16462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БУДЬТЕ ЗДОРОВЫ!!!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1523880" y="1658880"/>
          <a:ext cx="6096240" cy="32767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9692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то 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наю: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 здоровье?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ем я Интересуюсь: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то поможет мне сохранить здоровье?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то я Узнал: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сохранить здоровье!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Chart 1" descr=""/>
          <p:cNvPicPr/>
          <p:nvPr/>
        </p:nvPicPr>
        <p:blipFill>
          <a:blip r:embed="rId1"/>
          <a:stretch/>
        </p:blipFill>
        <p:spPr>
          <a:xfrm>
            <a:off x="0" y="0"/>
            <a:ext cx="720576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Chart 4" descr=""/>
          <p:cNvPicPr/>
          <p:nvPr/>
        </p:nvPicPr>
        <p:blipFill>
          <a:blip r:embed="rId1"/>
          <a:stretch/>
        </p:blipFill>
        <p:spPr>
          <a:xfrm>
            <a:off x="2146320" y="1749600"/>
            <a:ext cx="4851360" cy="33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Chart 5" descr=""/>
          <p:cNvPicPr/>
          <p:nvPr/>
        </p:nvPicPr>
        <p:blipFill>
          <a:blip r:embed="rId1"/>
          <a:stretch/>
        </p:blipFill>
        <p:spPr>
          <a:xfrm>
            <a:off x="2004840" y="1871640"/>
            <a:ext cx="5134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523800" y="2279520"/>
            <a:ext cx="7785000" cy="31575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0280" y="571680"/>
            <a:ext cx="7772400" cy="628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10cf9b"/>
                </a:solidFill>
                <a:latin typeface="Constantia"/>
              </a:rPr>
              <a:t>Если Вы хотите научится</a:t>
            </a: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:</a:t>
            </a:r>
            <a:br>
              <a:rPr sz="3700"/>
            </a:b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• находить интересное в обычном;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• </a:t>
            </a: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добывать необходимую информацию и работать с ней;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• </a:t>
            </a: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самостоятельно решать проблемы;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• </a:t>
            </a: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работать в группе;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• </a:t>
            </a: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выражать и защищать свою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точку зрения;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• </a:t>
            </a: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эффективно использовать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компьютер для осуществления творческих замыслов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• </a:t>
            </a: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эффективно использовать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Приёмы оздоровления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55440" y="-6480"/>
            <a:ext cx="8253360" cy="16462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57120" y="1857240"/>
            <a:ext cx="7772400" cy="4786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algn="ctr"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Психолог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Социолог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Художник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Истори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Наблюдател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55440" y="-6480"/>
            <a:ext cx="8253360" cy="16462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Психологи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1. Спросить у взрослых и одноклассников что значит быть здоровым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2. Поискать в книжках и в Интернете материал по этому вопрос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ссказать всем, что мы об этом узнал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55440" y="-6480"/>
            <a:ext cx="8253360" cy="16462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Социологи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1. Наблюдения за людьми на улицах и в общественных местах( школа, поликлиника, клуб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2. Провести социологический опрос среди членов своей семь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делать выводы по этому вопрос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7:28:27Z</dcterms:created>
  <dc:creator>uchenik</dc:creator>
  <dc:description/>
  <dc:language>en-US</dc:language>
  <cp:lastModifiedBy>Home</cp:lastModifiedBy>
  <dcterms:modified xsi:type="dcterms:W3CDTF">2021-05-21T13:31:13Z</dcterms:modified>
  <cp:revision>9</cp:revision>
  <dc:subject/>
  <dc:title>Счастливые дети здоровые дети</dc:title>
</cp:coreProperties>
</file>