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425-666A-4BC4-8166-FBABE9F8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A56D-F62F-4F75-B811-E2798A3F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F9DA-08C7-4944-A2C7-BD829B14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D22C-D4C0-4A20-81CE-324B4669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1938A-6CFE-45F0-ABE0-F85BE177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ED4D1-7950-4E31-82AD-CA84ED70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77F0B-C680-4A05-91D0-4D422ABE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CD7D2-134D-4FCC-80FF-CF7ADC86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D9AA8-BE63-495A-ABEB-910C7494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8570F-5B97-4DC6-B2BF-4B956502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B1D28-AE36-406E-9F36-7B2E3C83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AF53-7E51-4A49-B6E5-27C684B1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A6AF5-893B-42FA-B5EF-884B6D02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E60F1-2942-4388-9169-3A01DB17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BDD68-B333-4EF7-AEE1-9AB03377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2885C-0EDD-428D-9E4E-78B35730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51483-F566-4F97-8EB8-89C0D965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C48E-E428-457D-AC18-BB9A6EEF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95B8-DC50-4678-A6BA-BC75CCD7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AB00-D23C-4046-80EB-6EE142D2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B025-1B23-4C42-A4E7-B355A21C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E92C-B38C-430B-B6CD-0846F8B0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4CA1-E1BE-41DA-84E1-472D7D06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DBC1-95C3-43A5-8FF0-6C189D12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B1DE-AF55-46CD-80DB-061E464B4C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67E5-F1F2-4211-B453-B063F39A600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Forest Flowers"/>
          <p:cNvPicPr/>
          <p:nvPr/>
        </p:nvPicPr>
        <p:blipFill>
          <a:blip r:embed="rId1"/>
          <a:stretch/>
        </p:blipFill>
        <p:spPr>
          <a:xfrm>
            <a:off x="3571920" y="3429000"/>
            <a:ext cx="3914640" cy="2936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889200" y="781200"/>
            <a:ext cx="685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 сор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 цветок – и он з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я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 пой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 жука – и он умер у меня на 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тог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я понял, что прикоснуться к красо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жно только сердце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ел Гнездос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1143000" y="428760"/>
            <a:ext cx="483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ктические мет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Прямоугольник 2"/>
          <p:cNvSpPr/>
          <p:nvPr/>
        </p:nvSpPr>
        <p:spPr>
          <a:xfrm>
            <a:off x="970920" y="2571840"/>
            <a:ext cx="38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и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тические иг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1044000" y="335772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метны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гр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Прямоугольник 4"/>
          <p:cNvSpPr/>
          <p:nvPr/>
        </p:nvSpPr>
        <p:spPr>
          <a:xfrm>
            <a:off x="950040" y="1785960"/>
            <a:ext cx="29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уд в природ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Прямоугольник 5"/>
          <p:cNvSpPr/>
          <p:nvPr/>
        </p:nvSpPr>
        <p:spPr>
          <a:xfrm>
            <a:off x="1025280" y="4000680"/>
            <a:ext cx="408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лемен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ные опыт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1376640" y="35892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Словесные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мет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852480" y="2428920"/>
            <a:ext cx="38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спитател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972720" y="30002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есе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777960" y="185724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ение художественной лите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у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кологически развивающая сре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Изображение 048"/>
          <p:cNvPicPr/>
          <p:nvPr/>
        </p:nvPicPr>
        <p:blipFill>
          <a:blip r:embed="rId1"/>
          <a:stretch/>
        </p:blipFill>
        <p:spPr>
          <a:xfrm>
            <a:off x="395280" y="177336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Изображение 049"/>
          <p:cNvPicPr/>
          <p:nvPr/>
        </p:nvPicPr>
        <p:blipFill>
          <a:blip r:embed="rId2"/>
          <a:stretch/>
        </p:blipFill>
        <p:spPr>
          <a:xfrm>
            <a:off x="4716360" y="1413000"/>
            <a:ext cx="3311640" cy="2482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Изображение 050"/>
          <p:cNvPicPr/>
          <p:nvPr/>
        </p:nvPicPr>
        <p:blipFill>
          <a:blip r:embed="rId3"/>
          <a:stretch/>
        </p:blipFill>
        <p:spPr>
          <a:xfrm>
            <a:off x="3259080" y="4278240"/>
            <a:ext cx="3097440" cy="232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блюдени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Изображение 025"/>
          <p:cNvPicPr/>
          <p:nvPr/>
        </p:nvPicPr>
        <p:blipFill>
          <a:blip r:embed="rId1"/>
          <a:stretch/>
        </p:blipFill>
        <p:spPr>
          <a:xfrm>
            <a:off x="611280" y="1484280"/>
            <a:ext cx="2952720" cy="2216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Изображение 026"/>
          <p:cNvPicPr/>
          <p:nvPr/>
        </p:nvPicPr>
        <p:blipFill>
          <a:blip r:embed="rId2"/>
          <a:stretch/>
        </p:blipFill>
        <p:spPr>
          <a:xfrm>
            <a:off x="4500720" y="620640"/>
            <a:ext cx="44114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идактические игр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Изображение 020"/>
          <p:cNvPicPr/>
          <p:nvPr/>
        </p:nvPicPr>
        <p:blipFill>
          <a:blip r:embed="rId1"/>
          <a:stretch/>
        </p:blipFill>
        <p:spPr>
          <a:xfrm>
            <a:off x="900000" y="14130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8"/>
          <p:cNvSpPr/>
          <p:nvPr/>
        </p:nvSpPr>
        <p:spPr>
          <a:xfrm>
            <a:off x="4859280" y="1341360"/>
            <a:ext cx="38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вижные иг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лан сотрудничества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 родителям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95280" y="2565360"/>
            <a:ext cx="193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уск журн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лесовичок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253600" y="3878280"/>
            <a:ext cx="222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аш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д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кроссворды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исание опытов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бусы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200560" y="4524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Line 8"/>
          <p:cNvSpPr/>
          <p:nvPr/>
        </p:nvSpPr>
        <p:spPr>
          <a:xfrm flipH="1">
            <a:off x="971280" y="1700280"/>
            <a:ext cx="431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2916360" y="1844640"/>
            <a:ext cx="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3798360" y="2276640"/>
            <a:ext cx="413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ведение конкур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лучшую поделку из природ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териа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4067280" y="1628640"/>
            <a:ext cx="360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736200" y="5894280"/>
            <a:ext cx="24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пки-раскладуш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14"/>
          <p:cNvSpPr/>
          <p:nvPr/>
        </p:nvSpPr>
        <p:spPr>
          <a:xfrm flipH="1">
            <a:off x="1979280" y="1773360"/>
            <a:ext cx="431640" cy="410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5014440" y="4581360"/>
            <a:ext cx="31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вместные развлечени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зд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3276720" y="1844640"/>
            <a:ext cx="1800000" cy="302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8"/>
          <p:cNvSpPr/>
          <p:nvPr/>
        </p:nvSpPr>
        <p:spPr>
          <a:xfrm>
            <a:off x="21600" y="260280"/>
            <a:ext cx="891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овизна и яркость ранних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печатлений остается на всю жизн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Рисунок 1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337440" cy="5045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28440" y="1285560"/>
            <a:ext cx="742932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Формы и методы озн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комления детей с природой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http://niceworld.biz/wp-content/uploads/%D0%B1%D0%B0%D0%B1%D0%BE%D1%87%D0%BA%D0%B8.jpg"/>
          <p:cNvPicPr/>
          <p:nvPr/>
        </p:nvPicPr>
        <p:blipFill>
          <a:blip r:embed="rId1"/>
          <a:stretch/>
        </p:blipFill>
        <p:spPr>
          <a:xfrm>
            <a:off x="285840" y="262080"/>
            <a:ext cx="3786120" cy="3233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http://www.domashniy.ru/f/upload/media/92300/illu_article_content.jpg"/>
          <p:cNvPicPr/>
          <p:nvPr/>
        </p:nvPicPr>
        <p:blipFill>
          <a:blip r:embed="rId2"/>
          <a:stretch/>
        </p:blipFill>
        <p:spPr>
          <a:xfrm>
            <a:off x="4357800" y="1928880"/>
            <a:ext cx="4021200" cy="2987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http://www.tofeelwell.ru/wp-content/uploads/2012/11/razvitie-rebenka.jpg"/>
          <p:cNvPicPr/>
          <p:nvPr/>
        </p:nvPicPr>
        <p:blipFill>
          <a:blip r:embed="rId3"/>
          <a:stretch/>
        </p:blipFill>
        <p:spPr>
          <a:xfrm>
            <a:off x="285840" y="4000680"/>
            <a:ext cx="36907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Цель экологического образов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ния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ст</a:t>
            </a: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новление у детей н</a:t>
            </a: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учно-позн</a:t>
            </a: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тельного, эмоцион</a:t>
            </a: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льно-нр</a:t>
            </a: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вственного, пр</a:t>
            </a: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ктически- деятельностного отношения к окружающей сред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Первое весло –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деятельность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Второе весло –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эмоци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ahoma"/>
              </a:rPr>
              <a:t>Виды деятельности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Изобр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ительн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Музык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льн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Физическ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иро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ие у детей элемент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ной системы зн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иро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ие у детей трудовых н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ков и ум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иро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ие у детей бережного отношения и любви к приро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1"/>
          <p:cNvSpPr/>
          <p:nvPr/>
        </p:nvSpPr>
        <p:spPr>
          <a:xfrm>
            <a:off x="353520" y="291240"/>
            <a:ext cx="693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Формы  озн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комлению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дошкольников с природ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285840" y="1470240"/>
            <a:ext cx="7500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з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нят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экскурси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огул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р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бота в уголке прир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р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бота на земельном уч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стке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509040" y="361440"/>
            <a:ext cx="560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Методы озн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комл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дошкольников с природ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571680" y="1790280"/>
            <a:ext cx="45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Н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гляд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566640" y="3643200"/>
            <a:ext cx="23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люд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642960" y="3071880"/>
            <a:ext cx="436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матри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ие 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ти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637920" y="4214880"/>
            <a:ext cx="29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ебный экра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2:16:26Z</dcterms:created>
  <dc:creator>Uzer</dc:creator>
  <dc:description/>
  <dc:language>en-US</dc:language>
  <cp:lastModifiedBy>Анна</cp:lastModifiedBy>
  <dcterms:modified xsi:type="dcterms:W3CDTF">2021-05-21T09:35:35Z</dcterms:modified>
  <cp:revision>30</cp:revision>
  <dc:subject/>
  <dc:title>Фотоальбом</dc:title>
</cp:coreProperties>
</file>