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CC8-8DB2-4AF3-B769-657DD8E8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6F1-F39E-4094-B40D-BF35038A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32A-FFDD-4596-B621-D65C6BD7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EF2-19ED-44FC-8974-E55A1C23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89515-D552-465C-A7DE-87CB51AB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C8E98-1F5F-4411-BD7D-F53E54EC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0F762-5709-46D9-B5F5-5E85D367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81F43-DDB9-4337-8014-0552CA45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46F56-0D4F-4B24-8A8D-6072C4E7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79FE9-A85B-4374-B550-FF1723F0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81277-D0A0-4069-BF8F-1E4A1F97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C0A-D53B-4F62-A186-E4A9362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96F6B-59CE-412C-AD3E-5E926D76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7EE2E-256C-496A-B3F4-018AB918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7EBF8-1373-465F-954B-FD640BA0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E38A-ADAE-47F3-94B0-41D7AB59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176D5-4660-49FE-87F7-72A00713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E04-7AEC-495A-80EF-4C01743B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4BF-D9D7-4D3A-8464-7AB0A362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2D1-1B11-409C-8851-C7A9671D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D1C-21CF-44BC-83F2-96674ECE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4BD-518C-4526-B567-36CBFB6C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DC0-EF95-494F-8E90-00AFA93B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A73-E8F4-43A9-B96B-83430DA1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16C1-5FA5-4019-B6E5-875F75C0D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0092-CC69-4094-88B1-434823A760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Forest Flowers"/>
          <p:cNvPicPr/>
          <p:nvPr/>
        </p:nvPicPr>
        <p:blipFill>
          <a:blip r:embed="rId1"/>
          <a:stretch/>
        </p:blipFill>
        <p:spPr>
          <a:xfrm>
            <a:off x="3571920" y="3429000"/>
            <a:ext cx="3914640" cy="2936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889200" y="781200"/>
            <a:ext cx="685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 сор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 цветок – и он з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я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 пой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 жука – и он умер у меня на 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тог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я понял, что прикоснуться к красо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но только сердц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л Гнездос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1143000" y="428760"/>
            <a:ext cx="48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ктические мет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970920" y="2571840"/>
            <a:ext cx="38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тические иг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044000" y="335772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мет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г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950040" y="178596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уд в природ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1025280" y="4000680"/>
            <a:ext cx="40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лемен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ные опы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376640" y="3589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Словесные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мет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52480" y="242892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ател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972720" y="3000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се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777960" y="185724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ение художественной лите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и развивающая сре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Изображение 048"/>
          <p:cNvPicPr/>
          <p:nvPr/>
        </p:nvPicPr>
        <p:blipFill>
          <a:blip r:embed="rId1"/>
          <a:stretch/>
        </p:blipFill>
        <p:spPr>
          <a:xfrm>
            <a:off x="395280" y="1773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Изображение 049"/>
          <p:cNvPicPr/>
          <p:nvPr/>
        </p:nvPicPr>
        <p:blipFill>
          <a:blip r:embed="rId2"/>
          <a:stretch/>
        </p:blipFill>
        <p:spPr>
          <a:xfrm>
            <a:off x="4716360" y="1413000"/>
            <a:ext cx="3311640" cy="2482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Изображение 050"/>
          <p:cNvPicPr/>
          <p:nvPr/>
        </p:nvPicPr>
        <p:blipFill>
          <a:blip r:embed="rId3"/>
          <a:stretch/>
        </p:blipFill>
        <p:spPr>
          <a:xfrm>
            <a:off x="3259080" y="4278240"/>
            <a:ext cx="3097440" cy="232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блюд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Изображение 025"/>
          <p:cNvPicPr/>
          <p:nvPr/>
        </p:nvPicPr>
        <p:blipFill>
          <a:blip r:embed="rId1"/>
          <a:stretch/>
        </p:blipFill>
        <p:spPr>
          <a:xfrm>
            <a:off x="611280" y="148428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Изображение 026"/>
          <p:cNvPicPr/>
          <p:nvPr/>
        </p:nvPicPr>
        <p:blipFill>
          <a:blip r:embed="rId2"/>
          <a:stretch/>
        </p:blipFill>
        <p:spPr>
          <a:xfrm>
            <a:off x="4500720" y="620640"/>
            <a:ext cx="44114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идактические игр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Изображение 020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4859280" y="134136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вижные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лан сотрудничеств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 родителя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5280" y="2565360"/>
            <a:ext cx="19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уск жур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лесовичо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53600" y="3878280"/>
            <a:ext cx="222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аш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кроссворд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исание опыто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бусы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200560" y="4524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971280" y="170028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2916360" y="184464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798360" y="2276640"/>
            <a:ext cx="41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едение конкур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лучшую поделку из природ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тери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4067280" y="1628640"/>
            <a:ext cx="360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736200" y="589428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пки-раскладуш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1979280" y="1773360"/>
            <a:ext cx="431640" cy="410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5014440" y="458136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местные развлечен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зд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3276720" y="1844640"/>
            <a:ext cx="180000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8"/>
          <p:cNvSpPr/>
          <p:nvPr/>
        </p:nvSpPr>
        <p:spPr>
          <a:xfrm>
            <a:off x="21600" y="260280"/>
            <a:ext cx="89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овизна и яркость ранних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печатлений остается на всю жиз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Рисунок 1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37440" cy="5045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8440" y="1285560"/>
            <a:ext cx="74293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Формы и методы озн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омления детей с природой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http://niceworld.biz/wp-content/uploads/%D0%B1%D0%B0%D0%B1%D0%BE%D1%87%D0%BA%D0%B8.jpg"/>
          <p:cNvPicPr/>
          <p:nvPr/>
        </p:nvPicPr>
        <p:blipFill>
          <a:blip r:embed="rId1"/>
          <a:stretch/>
        </p:blipFill>
        <p:spPr>
          <a:xfrm>
            <a:off x="285840" y="262080"/>
            <a:ext cx="3786120" cy="323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www.domashniy.ru/f/upload/media/92300/illu_article_content.jpg"/>
          <p:cNvPicPr/>
          <p:nvPr/>
        </p:nvPicPr>
        <p:blipFill>
          <a:blip r:embed="rId2"/>
          <a:stretch/>
        </p:blipFill>
        <p:spPr>
          <a:xfrm>
            <a:off x="4357800" y="1928880"/>
            <a:ext cx="4021200" cy="298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www.tofeelwell.ru/wp-content/uploads/2012/11/razvitie-rebenka.jpg"/>
          <p:cNvPicPr/>
          <p:nvPr/>
        </p:nvPicPr>
        <p:blipFill>
          <a:blip r:embed="rId3"/>
          <a:stretch/>
        </p:blipFill>
        <p:spPr>
          <a:xfrm>
            <a:off x="285840" y="4000680"/>
            <a:ext cx="36907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Цель экологического образов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и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ст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новление у детей н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учно-позн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тельного, эмоцион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льно-нр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вственного, пр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ктически- деятельностного отношения к окружающей сред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Первое весло –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деятельнос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Второе весло –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эмо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ahoma"/>
              </a:rPr>
              <a:t>Виды деятельност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зобр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ительн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узык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льн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Физическ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е у детей элемен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ной системы з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е у детей трудовых 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ков и ум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е у детей бережного отношения и любви к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"/>
          <p:cNvSpPr/>
          <p:nvPr/>
        </p:nvSpPr>
        <p:spPr>
          <a:xfrm>
            <a:off x="353520" y="291240"/>
            <a:ext cx="693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ы  озн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лению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дошкольников с природ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285840" y="1470240"/>
            <a:ext cx="7500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нят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экскурси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гул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р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бота в уголке прир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р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бота на земельном уч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стк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509040" y="361440"/>
            <a:ext cx="56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Методы оз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л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школьников с природ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71680" y="179028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гляд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566640" y="3643200"/>
            <a:ext cx="23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юд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42960" y="3071880"/>
            <a:ext cx="436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матри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е 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ти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637920" y="421488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ебный экр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2:16:26Z</dcterms:created>
  <dc:creator>Uzer</dc:creator>
  <dc:description/>
  <dc:language>en-US</dc:language>
  <cp:lastModifiedBy>Анна</cp:lastModifiedBy>
  <dcterms:modified xsi:type="dcterms:W3CDTF">2021-05-21T09:35:35Z</dcterms:modified>
  <cp:revision>30</cp:revision>
  <dc:subject/>
  <dc:title>Фотоальбом</dc:title>
</cp:coreProperties>
</file>