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4420-923D-4396-9BEB-673A58A6FB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FCA2-5DF1-4FC0-A80B-FDF7AB044B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34EA-8E23-4D70-9A0C-71EF181A70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BE7-14F2-4417-AB2E-EEDE5719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0DF2-B548-4462-B9A8-E2D38A1C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AB8-AB87-46B8-9F21-C16370AF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957-3EF2-4A16-ABA3-F0A940F7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963B-108B-4C5A-94A9-C8F38EB0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CE5E-A0F6-48B8-B495-086C3C43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A1F4-E865-4107-B9C9-13E721E8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7D6B-B07D-46A2-9B09-32276130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DE09-0F5E-41FA-AC19-AA813714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8455-51CE-4B9A-97D5-D172EBB8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69DE-3870-47A9-B6E5-8101B7AA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A87-3498-4593-9416-5EBF8187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3650-882D-4E78-BA27-C480F3A8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66ED-FDFA-4DA7-B470-A79401A6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C46A-AB52-48AD-B7CB-D0511B6D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B9AE-4796-4D44-BD65-9D8F8B0A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175D-B2EF-4BE7-B9D7-794F98C3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309-219B-4519-BB87-50557A42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749-9177-4814-BF39-F91F9AEF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B6D-AFD3-4EE0-BD3B-70687C3C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FA36-AC52-4AC7-AFE5-6512E1A6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169-B9E3-4527-A0A6-BBA312EC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6D7-6213-4DA7-9FCF-0D59DBA0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254D-758C-4B90-8055-9E1D31AB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3018-8FBD-42E8-A8FC-4BBCD7BD35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0431-FCDC-40A6-9645-C68E7DA297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yceum87.nnov.ru/" TargetMode="External"/><Relationship Id="rId2" Type="http://schemas.openxmlformats.org/officeDocument/2006/relationships/hyperlink" Target="http://lyceum87.nnov.ru/" TargetMode="External"/><Relationship Id="rId3" Type="http://schemas.openxmlformats.org/officeDocument/2006/relationships/hyperlink" Target="http://lyceum87.nnov.ru/" TargetMode="External"/><Relationship Id="rId4" Type="http://schemas.openxmlformats.org/officeDocument/2006/relationships/hyperlink" Target="http://lyceum87.nnov.ru/" TargetMode="External"/><Relationship Id="rId5" Type="http://schemas.openxmlformats.org/officeDocument/2006/relationships/hyperlink" Target="http://lyceum87.nnov.ru/" TargetMode="External"/><Relationship Id="rId6" Type="http://schemas.openxmlformats.org/officeDocument/2006/relationships/hyperlink" Target="http://lyceum87.nnov.ru/" TargetMode="External"/><Relationship Id="rId7" Type="http://schemas.openxmlformats.org/officeDocument/2006/relationships/hyperlink" Target="http://lyceum87.nnov.ru/" TargetMode="External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97708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ицей № 87 имени Л.И. Новиковой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 Красных Зорь, 14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ижний Новгород, 603047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831) 224- 03- 82, </a:t>
            </a:r>
            <a:r>
              <a:rPr b="1" lang="en-US" sz="2000" spc="-1" strike="noStrike" u="sng">
                <a:solidFill>
                  <a:srgbClr val="2660b6"/>
                </a:solidFill>
                <a:uFillTx/>
                <a:latin typeface="Times New Roman"/>
                <a:ea typeface="Times New Roman"/>
                <a:hlinkClick r:id="rId1"/>
              </a:rPr>
              <a:t>http</a:t>
            </a:r>
            <a:r>
              <a:rPr b="1" lang="ru-RU" sz="2000" spc="-1" strike="noStrike" u="sng">
                <a:solidFill>
                  <a:srgbClr val="2660b6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1" lang="en-US" sz="2000" spc="-1" strike="noStrike" u="sng">
                <a:solidFill>
                  <a:srgbClr val="2660b6"/>
                </a:solidFill>
                <a:uFillTx/>
                <a:latin typeface="Times New Roman"/>
                <a:ea typeface="Times New Roman"/>
                <a:hlinkClick r:id="rId3"/>
              </a:rPr>
              <a:t>lyceum</a:t>
            </a:r>
            <a:r>
              <a:rPr b="1" lang="ru-RU" sz="2000" spc="-1" strike="noStrike" u="sng">
                <a:solidFill>
                  <a:srgbClr val="2660b6"/>
                </a:solidFill>
                <a:uFillTx/>
                <a:latin typeface="Times New Roman"/>
                <a:ea typeface="Times New Roman"/>
                <a:hlinkClick r:id="rId4"/>
              </a:rPr>
              <a:t>87.</a:t>
            </a:r>
            <a:r>
              <a:rPr b="1" lang="en-US" sz="2000" spc="-1" strike="noStrike" u="sng">
                <a:solidFill>
                  <a:srgbClr val="2660b6"/>
                </a:solidFill>
                <a:uFillTx/>
                <a:latin typeface="Times New Roman"/>
                <a:ea typeface="Times New Roman"/>
                <a:hlinkClick r:id="rId5"/>
              </a:rPr>
              <a:t>nnov</a:t>
            </a:r>
            <a:r>
              <a:rPr b="1" lang="ru-RU" sz="2000" spc="-1" strike="noStrike" u="sng">
                <a:solidFill>
                  <a:srgbClr val="2660b6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1" lang="en-US" sz="2000" spc="-1" strike="noStrike" u="sng">
                <a:solidFill>
                  <a:srgbClr val="2660b6"/>
                </a:solidFill>
                <a:uFillTx/>
                <a:latin typeface="Times New Roman"/>
                <a:ea typeface="Times New Roman"/>
                <a:hlinkClick r:id="rId7"/>
              </a:rPr>
              <a:t>ru</a:t>
            </a:r>
            <a:br>
              <a:rPr sz="2000"/>
            </a:br>
            <a:r>
              <a:rPr b="1" lang="ru-RU" sz="1800" spc="-1" strike="noStrike">
                <a:solidFill>
                  <a:srgbClr val="0000d4"/>
                </a:solidFill>
                <a:latin typeface="Arial"/>
              </a:rPr>
              <a:t>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14400" y="1916280"/>
            <a:ext cx="556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бластной командный турнир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юных микробиолого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Вселенная микробов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еликие открытия микромир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0" y="3860640"/>
            <a:ext cx="9159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4"/>
                </a:solidFill>
                <a:latin typeface="Times New Roman"/>
              </a:rPr>
              <a:t>Авторы работы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кифорова Светлана Алексеевна 22.12.2004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именко Пётр Николаевич 23.06.2004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ехова Анастасия Владиславовна 11.01.2004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идяева Веста Евгеньевна 13.08.2004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ударагина Людмила Романовна 19.02.2004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знецова Наталия Денисовна 14.02.2004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4"/>
                </a:solidFill>
                <a:latin typeface="Times New Roman"/>
              </a:rPr>
              <a:t>                                   </a:t>
            </a:r>
            <a:r>
              <a:rPr b="1" lang="ru-RU" sz="1800" spc="-1" strike="noStrike">
                <a:solidFill>
                  <a:srgbClr val="0000d4"/>
                </a:solidFill>
                <a:latin typeface="Times New Roman"/>
              </a:rPr>
              <a:t>Руководитель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ирюкова Светлана Валерьевна, учитель биолог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664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новский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митрий Иосифович 1864 - 1920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79280" y="5734080"/>
            <a:ext cx="3732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108000" y="1554120"/>
            <a:ext cx="89280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ал физиологию растений и микробиологию. Уже в первый год своих исследований Ивановский установил, что табак поражён двумя болезнями различной природы. Одна из них вызывается мельчайшим паразитическим грибком и её распространение связано с климатическими условиями, за другой он сохранил название «мозаичной болезни»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4 февраля 1892 г. в Академии наук он сделал доклад «О двух болезнях табака». Эта дата и считается в мировой науке началом учения о фильтрующихся вирусах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ими исследованиями Дмитрий Иосифович заложил основы ряда научных направлений вирусологии: изучение природы вирусов, цитопатология вирусных инфекций, фильтрующихся форм микроорганизмов, хронического и латентного вирусоносительств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е открытия микромира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1655640" cy="2370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176400" y="392760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уи Пастер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822-189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108000" y="4478400"/>
            <a:ext cx="1519200" cy="1681200"/>
          </a:xfrm>
          <a:prstGeom prst="rect">
            <a:avLst/>
          </a:prstGeom>
          <a:ln w="0">
            <a:noFill/>
          </a:ln>
        </p:spPr>
      </p:pic>
      <p:sp>
        <p:nvSpPr>
          <p:cNvPr id="96" name="Управляющая кнопка: фильм 5"/>
          <p:cNvSpPr/>
          <p:nvPr/>
        </p:nvSpPr>
        <p:spPr>
          <a:xfrm>
            <a:off x="934920" y="6186600"/>
            <a:ext cx="552600" cy="531720"/>
          </a:xfrm>
          <a:custGeom>
            <a:avLst/>
            <a:gdLst>
              <a:gd name="textAreaLeft" fmla="*/ 34200 w 552600"/>
              <a:gd name="textAreaRight" fmla="*/ 518400 w 552600"/>
              <a:gd name="textAreaTop" fmla="*/ 34200 h 531720"/>
              <a:gd name="textAreaBottom" fmla="*/ 497520 h 531720"/>
            </a:gdLst>
            <a:ahLst/>
            <a:rect l="textAreaLeft" t="textAreaTop" r="textAreaRight" b="textAreaBottom"/>
            <a:pathLst>
              <a:path w="22448" h="21600">
                <a:moveTo>
                  <a:pt x="0" y="0"/>
                </a:moveTo>
                <a:lnTo>
                  <a:pt x="22448" y="0"/>
                </a:lnTo>
                <a:lnTo>
                  <a:pt x="22448" y="21600"/>
                </a:lnTo>
                <a:lnTo>
                  <a:pt x="0" y="21600"/>
                </a:lnTo>
                <a:close/>
              </a:path>
              <a:path fill="lightenLess" w="22448" h="21600">
                <a:moveTo>
                  <a:pt x="0" y="0"/>
                </a:moveTo>
                <a:lnTo>
                  <a:pt x="22448" y="0"/>
                </a:lnTo>
                <a:lnTo>
                  <a:pt x="21048" y="1400"/>
                </a:lnTo>
                <a:lnTo>
                  <a:pt x="1400" y="1400"/>
                </a:lnTo>
                <a:close/>
              </a:path>
              <a:path fill="darken" w="22448" h="21600">
                <a:moveTo>
                  <a:pt x="22448" y="0"/>
                </a:moveTo>
                <a:lnTo>
                  <a:pt x="22448" y="21600"/>
                </a:lnTo>
                <a:lnTo>
                  <a:pt x="21048" y="20200"/>
                </a:lnTo>
                <a:lnTo>
                  <a:pt x="21048" y="1400"/>
                </a:lnTo>
                <a:close/>
              </a:path>
              <a:path fill="darkenLess" w="22448" h="21600">
                <a:moveTo>
                  <a:pt x="22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48" y="20200"/>
                </a:lnTo>
                <a:close/>
              </a:path>
              <a:path fill="lighten" w="22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48" h="21600">
                <a:moveTo>
                  <a:pt x="4217" y="7301"/>
                </a:moveTo>
                <a:lnTo>
                  <a:pt x="5131" y="7301"/>
                </a:lnTo>
                <a:lnTo>
                  <a:pt x="5514" y="7667"/>
                </a:lnTo>
                <a:lnTo>
                  <a:pt x="14723" y="7667"/>
                </a:lnTo>
                <a:lnTo>
                  <a:pt x="15280" y="8224"/>
                </a:lnTo>
                <a:lnTo>
                  <a:pt x="15280" y="8772"/>
                </a:lnTo>
                <a:lnTo>
                  <a:pt x="17125" y="8772"/>
                </a:lnTo>
                <a:lnTo>
                  <a:pt x="17490" y="8224"/>
                </a:lnTo>
                <a:lnTo>
                  <a:pt x="18230" y="8224"/>
                </a:lnTo>
                <a:lnTo>
                  <a:pt x="18230" y="13376"/>
                </a:lnTo>
                <a:lnTo>
                  <a:pt x="17490" y="13376"/>
                </a:lnTo>
                <a:lnTo>
                  <a:pt x="17125" y="12828"/>
                </a:lnTo>
                <a:lnTo>
                  <a:pt x="15280" y="12828"/>
                </a:lnTo>
                <a:lnTo>
                  <a:pt x="15280" y="14107"/>
                </a:lnTo>
                <a:lnTo>
                  <a:pt x="5697" y="14107"/>
                </a:lnTo>
                <a:lnTo>
                  <a:pt x="5697" y="9877"/>
                </a:lnTo>
                <a:lnTo>
                  <a:pt x="5514" y="9877"/>
                </a:lnTo>
                <a:lnTo>
                  <a:pt x="5131" y="10243"/>
                </a:lnTo>
                <a:lnTo>
                  <a:pt x="4217" y="10243"/>
                </a:lnTo>
                <a:close/>
              </a:path>
            </a:pathLst>
          </a:custGeom>
          <a:solidFill>
            <a:srgbClr val="000066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54176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3"/>
          <a:stretch/>
        </p:blipFill>
        <p:spPr>
          <a:xfrm>
            <a:off x="3157560" y="1557360"/>
            <a:ext cx="2111400" cy="24256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2970720" y="4035600"/>
            <a:ext cx="245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двард Энтони Дженнер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749-1823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2457360" y="4780080"/>
            <a:ext cx="3024360" cy="17017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8"/>
          <p:cNvSpPr/>
          <p:nvPr/>
        </p:nvSpPr>
        <p:spPr>
          <a:xfrm>
            <a:off x="6469200" y="4008600"/>
            <a:ext cx="243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х Робер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843-191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5"/>
          <a:stretch/>
        </p:blipFill>
        <p:spPr>
          <a:xfrm>
            <a:off x="6681960" y="1557360"/>
            <a:ext cx="1726920" cy="246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6"/>
          <a:stretch/>
        </p:blipFill>
        <p:spPr>
          <a:xfrm>
            <a:off x="6280200" y="4578480"/>
            <a:ext cx="2811240" cy="1581120"/>
          </a:xfrm>
          <a:prstGeom prst="rect">
            <a:avLst/>
          </a:prstGeom>
          <a:ln w="0">
            <a:noFill/>
          </a:ln>
        </p:spPr>
      </p:pic>
      <p:sp>
        <p:nvSpPr>
          <p:cNvPr id="104" name="Управляющая кнопка: фильм 10"/>
          <p:cNvSpPr/>
          <p:nvPr/>
        </p:nvSpPr>
        <p:spPr>
          <a:xfrm>
            <a:off x="7986600" y="6138720"/>
            <a:ext cx="452520" cy="619200"/>
          </a:xfrm>
          <a:custGeom>
            <a:avLst/>
            <a:gdLst>
              <a:gd name="textAreaLeft" fmla="*/ 29160 w 452520"/>
              <a:gd name="textAreaRight" fmla="*/ 423360 w 452520"/>
              <a:gd name="textAreaTop" fmla="*/ 29160 h 619200"/>
              <a:gd name="textAreaBottom" fmla="*/ 590040 h 619200"/>
            </a:gdLst>
            <a:ahLst/>
            <a:rect l="textAreaLeft" t="textAreaTop" r="textAreaRight" b="textAreaBottom"/>
            <a:pathLst>
              <a:path w="21600" h="29550">
                <a:moveTo>
                  <a:pt x="0" y="0"/>
                </a:moveTo>
                <a:lnTo>
                  <a:pt x="21600" y="0"/>
                </a:lnTo>
                <a:lnTo>
                  <a:pt x="21600" y="29550"/>
                </a:lnTo>
                <a:lnTo>
                  <a:pt x="0" y="29550"/>
                </a:lnTo>
                <a:close/>
              </a:path>
              <a:path fill="lightenLess" w="21600" h="295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50">
                <a:moveTo>
                  <a:pt x="21600" y="0"/>
                </a:moveTo>
                <a:lnTo>
                  <a:pt x="21600" y="29550"/>
                </a:lnTo>
                <a:lnTo>
                  <a:pt x="20200" y="28150"/>
                </a:lnTo>
                <a:lnTo>
                  <a:pt x="20200" y="1400"/>
                </a:lnTo>
                <a:close/>
              </a:path>
              <a:path fill="darkenLess" w="21600" h="29550">
                <a:moveTo>
                  <a:pt x="21600" y="29550"/>
                </a:moveTo>
                <a:lnTo>
                  <a:pt x="0" y="29550"/>
                </a:lnTo>
                <a:lnTo>
                  <a:pt x="1400" y="28150"/>
                </a:lnTo>
                <a:lnTo>
                  <a:pt x="20200" y="28150"/>
                </a:lnTo>
                <a:close/>
              </a:path>
              <a:path fill="lighten" w="21600" h="29550">
                <a:moveTo>
                  <a:pt x="0" y="295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50"/>
                </a:lnTo>
                <a:close/>
              </a:path>
              <a:path fill="darken" w="21600" h="29550">
                <a:moveTo>
                  <a:pt x="3794" y="11276"/>
                </a:moveTo>
                <a:lnTo>
                  <a:pt x="4707" y="11276"/>
                </a:lnTo>
                <a:lnTo>
                  <a:pt x="5090" y="11642"/>
                </a:lnTo>
                <a:lnTo>
                  <a:pt x="14299" y="11642"/>
                </a:lnTo>
                <a:lnTo>
                  <a:pt x="14856" y="12199"/>
                </a:lnTo>
                <a:lnTo>
                  <a:pt x="14856" y="12747"/>
                </a:lnTo>
                <a:lnTo>
                  <a:pt x="16701" y="12747"/>
                </a:lnTo>
                <a:lnTo>
                  <a:pt x="17067" y="12199"/>
                </a:lnTo>
                <a:lnTo>
                  <a:pt x="17806" y="12199"/>
                </a:lnTo>
                <a:lnTo>
                  <a:pt x="17806" y="17351"/>
                </a:lnTo>
                <a:lnTo>
                  <a:pt x="17067" y="17351"/>
                </a:lnTo>
                <a:lnTo>
                  <a:pt x="16701" y="16803"/>
                </a:lnTo>
                <a:lnTo>
                  <a:pt x="14856" y="16803"/>
                </a:lnTo>
                <a:lnTo>
                  <a:pt x="14856" y="18082"/>
                </a:lnTo>
                <a:lnTo>
                  <a:pt x="5273" y="18082"/>
                </a:lnTo>
                <a:lnTo>
                  <a:pt x="5273" y="13852"/>
                </a:lnTo>
                <a:lnTo>
                  <a:pt x="5090" y="13852"/>
                </a:lnTo>
                <a:lnTo>
                  <a:pt x="4707" y="14218"/>
                </a:lnTo>
                <a:lnTo>
                  <a:pt x="3794" y="14218"/>
                </a:lnTo>
                <a:close/>
              </a:path>
            </a:pathLst>
          </a:custGeom>
          <a:solidFill>
            <a:srgbClr val="000066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Опыт Пастера.mp4" descr=""/>
          <p:cNvPicPr/>
          <p:nvPr/>
        </p:nvPicPr>
        <p:blipFill>
          <a:blip r:embed="rId7"/>
          <a:stretch/>
        </p:blipFill>
        <p:spPr>
          <a:xfrm>
            <a:off x="217440" y="6186600"/>
            <a:ext cx="725400" cy="544320"/>
          </a:xfrm>
          <a:prstGeom prst="rect">
            <a:avLst/>
          </a:prstGeom>
          <a:ln w="0">
            <a:noFill/>
          </a:ln>
        </p:spPr>
      </p:pic>
      <p:pic>
        <p:nvPicPr>
          <p:cNvPr id="106" name="Туберкулез и его история.mp4" descr=""/>
          <p:cNvPicPr/>
          <p:nvPr/>
        </p:nvPicPr>
        <p:blipFill>
          <a:blip r:embed="rId8"/>
          <a:stretch/>
        </p:blipFill>
        <p:spPr>
          <a:xfrm>
            <a:off x="7164360" y="6138720"/>
            <a:ext cx="8254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е открытия микромира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268360" y="1592280"/>
            <a:ext cx="2062440" cy="271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108000" y="1557360"/>
            <a:ext cx="1884240" cy="27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https://upload.wikimedia.org/wikipedia/ru/thumb/a/a2/Gabrichevsky_GN.jpg/160px-Gabrichevsky_GN.jpg"/>
          <p:cNvPicPr/>
          <p:nvPr/>
        </p:nvPicPr>
        <p:blipFill>
          <a:blip r:embed="rId3"/>
          <a:stretch/>
        </p:blipFill>
        <p:spPr>
          <a:xfrm>
            <a:off x="4643280" y="1581120"/>
            <a:ext cx="1946520" cy="2735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портет"/>
          <p:cNvPicPr/>
          <p:nvPr/>
        </p:nvPicPr>
        <p:blipFill>
          <a:blip r:embed="rId4"/>
          <a:stretch/>
        </p:blipFill>
        <p:spPr>
          <a:xfrm>
            <a:off x="6804000" y="1557360"/>
            <a:ext cx="2244600" cy="275904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111240" y="4437000"/>
            <a:ext cx="188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чников Илья Ильич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845 – 1916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2232000" y="4437000"/>
            <a:ext cx="212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дский Сергей Николаевич 1856 – 1953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4643280" y="4437000"/>
            <a:ext cx="1946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бричевский Георгий Норбертович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0 - 1907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6804000" y="4437000"/>
            <a:ext cx="22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ски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й Иосифович 1864 - 1920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5"/>
          <a:stretch/>
        </p:blipFill>
        <p:spPr>
          <a:xfrm>
            <a:off x="-11160" y="5240160"/>
            <a:ext cx="2003400" cy="1501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ÐÐ°ÑÑÐ¸Ð½ÐºÐ¸ Ð¿Ð¾ Ð·Ð°Ð¿ÑÐ¾ÑÑ Ð°Ð·Ð¾ÑÑÐ¸ÐºÑÐ¸ÑÑÑÑÐ¸Ðµ Ð±Ð°ÐºÑÐµÑÐ¸Ð¸"/>
          <p:cNvPicPr/>
          <p:nvPr/>
        </p:nvPicPr>
        <p:blipFill>
          <a:blip r:embed="rId6"/>
          <a:stretch/>
        </p:blipFill>
        <p:spPr>
          <a:xfrm>
            <a:off x="2805120" y="5240160"/>
            <a:ext cx="977760" cy="1474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ÐÐ°ÑÑÐ¸Ð½ÐºÐ¸ Ð¿Ð¾ Ð·Ð°Ð¿ÑÐ¾ÑÑ Ð°Ð½ÑÐ¸ÑÐ¾ÐºÑÐ¸Ð½ Ð´Ð¸Ð·ÐµÐ½ÑÐµÑÐ¸Ð¸"/>
          <p:cNvPicPr/>
          <p:nvPr/>
        </p:nvPicPr>
        <p:blipFill>
          <a:blip r:embed="rId7"/>
          <a:stretch/>
        </p:blipFill>
        <p:spPr>
          <a:xfrm>
            <a:off x="5173560" y="5470560"/>
            <a:ext cx="885960" cy="129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"/>
          <p:cNvPicPr/>
          <p:nvPr/>
        </p:nvPicPr>
        <p:blipFill>
          <a:blip r:embed="rId8"/>
          <a:stretch/>
        </p:blipFill>
        <p:spPr>
          <a:xfrm>
            <a:off x="6804000" y="5398920"/>
            <a:ext cx="2238480" cy="1130400"/>
          </a:xfrm>
          <a:prstGeom prst="rect">
            <a:avLst/>
          </a:prstGeom>
          <a:ln w="0">
            <a:noFill/>
          </a:ln>
        </p:spPr>
      </p:pic>
      <p:pic>
        <p:nvPicPr>
          <p:cNvPr id="120" name="фагоцитоз.mp4" descr=""/>
          <p:cNvPicPr/>
          <p:nvPr/>
        </p:nvPicPr>
        <p:blipFill>
          <a:blip r:embed="rId9"/>
          <a:stretch/>
        </p:blipFill>
        <p:spPr>
          <a:xfrm>
            <a:off x="1692360" y="6046920"/>
            <a:ext cx="922320" cy="691920"/>
          </a:xfrm>
          <a:prstGeom prst="rect">
            <a:avLst/>
          </a:prstGeom>
          <a:ln w="0">
            <a:noFill/>
          </a:ln>
        </p:spPr>
      </p:pic>
      <p:sp>
        <p:nvSpPr>
          <p:cNvPr id="121" name="Управляющая кнопка: фильм 3"/>
          <p:cNvSpPr/>
          <p:nvPr/>
        </p:nvSpPr>
        <p:spPr>
          <a:xfrm>
            <a:off x="2092320" y="6046920"/>
            <a:ext cx="522360" cy="66816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668160"/>
              <a:gd name="textAreaBottom" fmla="*/ 634320 h 668160"/>
            </a:gdLst>
            <a:ahLst/>
            <a:rect l="textAreaLeft" t="textAreaTop" r="textAreaRight" b="textAreaBottom"/>
            <a:pathLst>
              <a:path w="21600" h="27625">
                <a:moveTo>
                  <a:pt x="0" y="0"/>
                </a:moveTo>
                <a:lnTo>
                  <a:pt x="21600" y="0"/>
                </a:lnTo>
                <a:lnTo>
                  <a:pt x="21600" y="27625"/>
                </a:lnTo>
                <a:lnTo>
                  <a:pt x="0" y="27625"/>
                </a:lnTo>
                <a:close/>
              </a:path>
              <a:path fill="lightenLess" w="21600" h="276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25">
                <a:moveTo>
                  <a:pt x="21600" y="0"/>
                </a:moveTo>
                <a:lnTo>
                  <a:pt x="21600" y="27625"/>
                </a:lnTo>
                <a:lnTo>
                  <a:pt x="20200" y="26225"/>
                </a:lnTo>
                <a:lnTo>
                  <a:pt x="20200" y="1400"/>
                </a:lnTo>
                <a:close/>
              </a:path>
              <a:path fill="darkenLess" w="21600" h="27625">
                <a:moveTo>
                  <a:pt x="21600" y="27625"/>
                </a:moveTo>
                <a:lnTo>
                  <a:pt x="0" y="27625"/>
                </a:lnTo>
                <a:lnTo>
                  <a:pt x="1400" y="26225"/>
                </a:lnTo>
                <a:lnTo>
                  <a:pt x="20200" y="26225"/>
                </a:lnTo>
                <a:close/>
              </a:path>
              <a:path fill="lighten" w="21600" h="27625">
                <a:moveTo>
                  <a:pt x="0" y="276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25"/>
                </a:lnTo>
                <a:close/>
              </a:path>
              <a:path fill="darken" w="21600" h="27625">
                <a:moveTo>
                  <a:pt x="3794" y="10314"/>
                </a:moveTo>
                <a:lnTo>
                  <a:pt x="4707" y="10314"/>
                </a:lnTo>
                <a:lnTo>
                  <a:pt x="5090" y="10679"/>
                </a:lnTo>
                <a:lnTo>
                  <a:pt x="14299" y="10679"/>
                </a:lnTo>
                <a:lnTo>
                  <a:pt x="14856" y="11236"/>
                </a:lnTo>
                <a:lnTo>
                  <a:pt x="14856" y="11784"/>
                </a:lnTo>
                <a:lnTo>
                  <a:pt x="16701" y="11784"/>
                </a:lnTo>
                <a:lnTo>
                  <a:pt x="17067" y="11236"/>
                </a:lnTo>
                <a:lnTo>
                  <a:pt x="17806" y="11236"/>
                </a:lnTo>
                <a:lnTo>
                  <a:pt x="17806" y="16389"/>
                </a:lnTo>
                <a:lnTo>
                  <a:pt x="17067" y="16389"/>
                </a:lnTo>
                <a:lnTo>
                  <a:pt x="16701" y="15840"/>
                </a:lnTo>
                <a:lnTo>
                  <a:pt x="14856" y="15840"/>
                </a:lnTo>
                <a:lnTo>
                  <a:pt x="14856" y="17120"/>
                </a:lnTo>
                <a:lnTo>
                  <a:pt x="5273" y="17120"/>
                </a:lnTo>
                <a:lnTo>
                  <a:pt x="5273" y="12890"/>
                </a:lnTo>
                <a:lnTo>
                  <a:pt x="5090" y="12890"/>
                </a:lnTo>
                <a:lnTo>
                  <a:pt x="4707" y="13255"/>
                </a:lnTo>
                <a:lnTo>
                  <a:pt x="3794" y="13255"/>
                </a:lnTo>
                <a:close/>
              </a:path>
            </a:pathLst>
          </a:custGeom>
          <a:solidFill>
            <a:srgbClr val="000066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и Пастер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22-1895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6480" y="150336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м известно слово «пастеризация». Это процесс контролируемой тепловой обработки продуктов для уничтожения бактерий и других микроорганизмов. Без пастеризации не обходится ни одна хозяйка при домашнем консервировании овощей и фруктов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з этого процесса не сможет работать пищевая промышленность и виноделы во всем мире. Благодаря открытию ученого, стало возможным сохранение продуктов на длительный срок и спасение людей от голод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стеризация – это потрясающее открытие Луи Пастер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Научные открытия Пастера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846 — Открыта структура кристаллов винной кислот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861 – Открыт способ сохранения жидких продуктов методом тепловой обработки. В дальнейшем назван пастеризацие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865 – Найдены эффективные методы борьбы с болезнями тутового шелкопряда. Спасено шелководство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876 – Иммунология. В процессе исследований заразных болезней, установил, что болезни вызывают возбудители определенного род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881 – Разработана вакцина против сибирской язв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885 – Вакцина от бешен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двард Энтони Дженнер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49-1823 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0" y="150336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двард Дженнер вошёл в историю благодаря внедрению вакцинации от натуральной оспы. Его даже называют отцом иммунологии и вакцинаци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агодаря исследованиям Дженнера, подтверждёнными опытным путём, были спасены буквально тысячи жизней. А спустя годы повсеместная вакцинация и вовсе остановила волны эпидемии, которая ранее захлёстывала целые континенты, собирая внушительный урожай человеческих жизне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удивительно, что Эдварда Дженнера история запомнила, как человека открывшего эффективный способ борьбы с натуральной оспой. Однако это не единственные его заслуги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.Дженнер интересовался абсолютно всем: занимался классификацией новых видов, которые привез в Англию легендарный капитан Джеймс Кук, экспериментировал с человеческой кровью, изучал геологию и воздухоплавание (и даже сам построил воздушный шар на водороде и пролетел на нем 12 миль), интересовался поведением кукушек, миграцией птиц и зимней спячкой ежей. На протяжении своей жизни Дженнер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учил повадки кукушки; написал труд по исследованию коровьей оспы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яснил, что грудная жаба связана с заболеванием коронарных артерий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исал работу о миграции птиц; доказал, что на заре первой поёт малиновка, а не жаворонок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37908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х Роберт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43-1910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0" y="155736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берт Кох — немецкий микробиолог, один из основоположников современной бактериологии и эпидемиологии. Впервые выделил чистую культуру возбудителя сибирской язвы, доказал ее способность к спорообразованию. Предложил способы дезинфекции.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агодаря микроскопу и красителям Коху открылся удивительный мир невероятно маленьких живых существ — микробов. Пользуясь разработанным им методом культивирования бактерий, открытых ранее в крови больных сибирской язвой, Кох доказал, что они являются возбудителями сибирской язвы и способны к образованию устойчивых спор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1882 году, проявляя адское терпение, Кох, пользуясь изобретенным им способом окраски и культивирования микробов, открыл возбудителя туберкулеза. 24 марта 1882 года на заседании общества врачей в Берлине Кох сообщил об открытии возбудителя туберкулеза («палочка Коха»)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берт Кох разработал метод выделения чистых культур микробов путем посева смеси на пластинках желатина и с его помощью выделил в 1883 году вибрион холеры, по форме напоминающий запятую и названный поэтому «холерной запятой»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чников Илья Ильич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45 – 1916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чников Илья Ильич одним из первых установил, что защита организма от патогенных микробов и их вредоносного воздействия представляет собой сложную биологическую реакцию, которая обусловливается в первую очередь фагоцитарным процессом. В 1892 г. Мечников опубликовал свои лекции «О сравнительной патологии воспалений», а в 1901 г. – классическую монографию «Невосприимчивость в инфекционных болезнях», ставшую настольной книгой для микробиологов, медиков и биологов. В этих работах он со свойственной ему простатой и талантом изложил исследования о воспалении, защитных средствах организма и роли фагоцит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ноградский Сергей Николаевич 1856 – 1953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108000" y="1628640"/>
            <a:ext cx="892800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ектом его исследования стали обитающие в воде бактерии Beggiatoa и Cladothrix, работая с которыми Виноградский открыл новый принцип хемиосинтетического получения энергии и синтеза автотрофных бактерий. Первый выдающийся вклад ученого в бактериологию связан с тремя важнейшими представителями групп этих бактерий: окисляющими серу микроорганизмами, железобактериями и нитрифицирующими бактериями. В 1895 г. выделил первую азотфиксирующую бактерию - Clostridium pasterianum и дал первое описание созданного им метода элективных культур, ставшего методической основой всей современной микробиологии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бричевский Георгий Норбертович 1860 - 1907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50920" y="5805360"/>
            <a:ext cx="3732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работы Габричевского посвящены изучению скарлатины, дифтерии, возвратного тифа, маляри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мы и общим вопросам бактериолог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 с Н. Ф. Филатовым ввёл сывороточное лечение дифтерии. Габричевский предложил для специфической профилактики скарлатины использование созданной им убитой стрептококковой вакцины — действие её испытал на себе. Совместно с Левенталем предложил серологическую пробу для диагностики возвратного тифа. Предложил способ культивирования анаэробов в чашках, новый способ определения активной подвижности бактерий; получил антитоксин дизентерии и противодизентерийную сыворо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02:58:18Z</dcterms:created>
  <dc:creator>AVN</dc:creator>
  <dc:description/>
  <dc:language>en-US</dc:language>
  <cp:lastModifiedBy>hp</cp:lastModifiedBy>
  <dcterms:modified xsi:type="dcterms:W3CDTF">2019-01-10T15:24:10Z</dcterms:modified>
  <cp:revision>9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plications">
    <vt:lpwstr>55;#PowerPoint - Design Templt 12;#-1;#TBD;#-1;#TBD;#-1;#TBD;#-1;#TBD</vt:lpwstr>
  </property>
  <property fmtid="{D5CDD505-2E9C-101B-9397-08002B2CF9AE}" pid="5" name="AssetId">
    <vt:lpwstr>TS001140826</vt:lpwstr>
  </property>
  <property fmtid="{D5CDD505-2E9C-101B-9397-08002B2CF9AE}" pid="6" name="AssetType">
    <vt:lpwstr>TP</vt:lpwstr>
  </property>
  <property fmtid="{D5CDD505-2E9C-101B-9397-08002B2CF9AE}" pid="7" name="AuthoringAssetId">
    <vt:lpwstr>TP001140826</vt:lpwstr>
  </property>
  <property fmtid="{D5CDD505-2E9C-101B-9397-08002B2CF9AE}" pid="8" name="CHMName">
    <vt:lpwstr/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1F9DE411C1B38343BE78B0080F632418</vt:lpwstr>
  </property>
  <property fmtid="{D5CDD505-2E9C-101B-9397-08002B2CF9AE}" pid="11" name="DirectSourceMarket">
    <vt:lpwstr>english</vt:lpwstr>
  </property>
  <property fmtid="{D5CDD505-2E9C-101B-9397-08002B2CF9AE}" pid="12" name="EditorialStatus">
    <vt:lpwstr/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LCID">
    <vt:lpwstr>1049</vt:lpwstr>
  </property>
  <property fmtid="{D5CDD505-2E9C-101B-9397-08002B2CF9AE}" pid="16" name="Markets">
    <vt:lpwstr/>
  </property>
  <property fmtid="{D5CDD505-2E9C-101B-9397-08002B2CF9AE}" pid="17" name="Milestone">
    <vt:lpwstr>Continuous</vt:lpwstr>
  </property>
  <property fmtid="{D5CDD505-2E9C-101B-9397-08002B2CF9AE}" pid="18" name="NumericId">
    <vt:lpwstr>-1.00000000000000</vt:lpwstr>
  </property>
  <property fmtid="{D5CDD505-2E9C-101B-9397-08002B2CF9AE}" pid="19" name="OpenTemplate">
    <vt:lpwstr>1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ublishTargets">
    <vt:lpwstr>OfficeOnline</vt:lpwstr>
  </property>
  <property fmtid="{D5CDD505-2E9C-101B-9397-08002B2CF9AE}" pid="24" name="ShowIn">
    <vt:lpwstr>Show everywhere</vt:lpwstr>
  </property>
  <property fmtid="{D5CDD505-2E9C-101B-9397-08002B2CF9AE}" pid="25" name="SourceTitle">
    <vt:lpwstr>Medical design template (lab)</vt:lpwstr>
  </property>
  <property fmtid="{D5CDD505-2E9C-101B-9397-08002B2CF9AE}" pid="26" name="TPAppVersion">
    <vt:lpwstr>11</vt:lpwstr>
  </property>
  <property fmtid="{D5CDD505-2E9C-101B-9397-08002B2CF9AE}" pid="27" name="TPApplication">
    <vt:lpwstr>PowerPoint</vt:lpwstr>
  </property>
  <property fmtid="{D5CDD505-2E9C-101B-9397-08002B2CF9AE}" pid="28" name="TPCommandLine">
    <vt:lpwstr>{PP} {FilePath}</vt:lpwstr>
  </property>
  <property fmtid="{D5CDD505-2E9C-101B-9397-08002B2CF9AE}" pid="29" name="TPFriendlyName">
    <vt:lpwstr>{Document Themes}</vt:lpwstr>
  </property>
  <property fmtid="{D5CDD505-2E9C-101B-9397-08002B2CF9AE}" pid="30" name="TPInstallLocation">
    <vt:lpwstr>{Document Themes}</vt:lpwstr>
  </property>
  <property fmtid="{D5CDD505-2E9C-101B-9397-08002B2CF9AE}" pid="31" name="TPLaunchHelpLink">
    <vt:lpwstr/>
  </property>
  <property fmtid="{D5CDD505-2E9C-101B-9397-08002B2CF9AE}" pid="32" name="TPLaunchHelpLinkType">
    <vt:lpwstr/>
  </property>
  <property fmtid="{D5CDD505-2E9C-101B-9397-08002B2CF9AE}" pid="33" name="UACurrentWords">
    <vt:lpwstr>0</vt:lpwstr>
  </property>
  <property fmtid="{D5CDD505-2E9C-101B-9397-08002B2CF9AE}" pid="34" name="UALocComments">
    <vt:lpwstr/>
  </property>
  <property fmtid="{D5CDD505-2E9C-101B-9397-08002B2CF9AE}" pid="35" name="UALocRecommendation">
    <vt:lpwstr>Localize</vt:lpwstr>
  </property>
  <property fmtid="{D5CDD505-2E9C-101B-9397-08002B2CF9AE}" pid="36" name="UANotes">
    <vt:lpwstr>Text is visible in high contrast mode, but graphics are not. </vt:lpwstr>
  </property>
  <property fmtid="{D5CDD505-2E9C-101B-9397-08002B2CF9AE}" pid="37" name="display_urn:schemas-microsoft-com:office:office#APAuthor">
    <vt:lpwstr>REDMOND\cynvey</vt:lpwstr>
  </property>
  <property fmtid="{D5CDD505-2E9C-101B-9397-08002B2CF9AE}" pid="38" name="display_urn:schemas-microsoft-com:office:office#APEditor">
    <vt:lpwstr>REDMOND\v-luannv</vt:lpwstr>
  </property>
</Properties>
</file>