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2B16-D376-41D1-93D8-F80190B619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87F3-8FDB-4A99-B6A3-7AE56F6615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9571-6C7F-40FC-9B51-01C65CEF525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9935-39C9-4841-B249-CC87CC66B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8762-D76D-4FD5-9877-BB2B7BCB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A7C0-203F-461B-9C8F-20267AA09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92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24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92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24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2B9F-E18A-4732-87DE-F751E6072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286C-1802-427C-AF3D-EFBE40635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0425-CA29-476B-98BB-A49CCB4B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17D4-EF1C-4766-8810-FA9409C7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64B5-D2DA-4857-93AC-010F54D9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DF0E-998D-40A3-8F81-84BFE67E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4674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CA9D-BE12-486E-8BED-691426FE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5AB1-66F0-4106-8455-430B2DD1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3E1C-18BE-49AD-B021-AE11D1B0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BAD2-5072-4BA3-8DDD-60BC959C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82FB-835E-4B7A-B701-CFF4D33A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00E6-9862-49EF-BC0D-469C6571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DDEC-5341-4F37-8FD1-B7AC7B295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3992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124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3992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124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4174-ADAF-4B5A-85D1-09F2FE249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FCF8-EE45-4C30-B0AB-F78EA888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FE06-60AA-4B1F-AB9A-6D9A9AE1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2460-6170-4EDF-AD25-81E1D80D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4674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45FB-8997-4F35-BE79-67AD5658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0004-F741-47DF-8860-7220E4EA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77FE-D3D6-4ABD-A0C4-BED340F5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2AE0-6609-45CC-9717-19C63FB5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38E7-3132-41C6-86CD-27BE1E0148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4A50-AB97-4E9E-A94C-808B1B784C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lyceum87.nnov.ru/" TargetMode="External"/><Relationship Id="rId2" Type="http://schemas.openxmlformats.org/officeDocument/2006/relationships/hyperlink" Target="http://lyceum87.nnov.ru/" TargetMode="External"/><Relationship Id="rId3" Type="http://schemas.openxmlformats.org/officeDocument/2006/relationships/hyperlink" Target="http://lyceum87.nnov.ru/" TargetMode="External"/><Relationship Id="rId4" Type="http://schemas.openxmlformats.org/officeDocument/2006/relationships/hyperlink" Target="http://lyceum87.nnov.ru/" TargetMode="External"/><Relationship Id="rId5" Type="http://schemas.openxmlformats.org/officeDocument/2006/relationships/hyperlink" Target="http://lyceum87.nnov.ru/" TargetMode="External"/><Relationship Id="rId6" Type="http://schemas.openxmlformats.org/officeDocument/2006/relationships/hyperlink" Target="http://lyceum87.nnov.ru/" TargetMode="External"/><Relationship Id="rId7" Type="http://schemas.openxmlformats.org/officeDocument/2006/relationships/hyperlink" Target="http://lyceum87.nnov.ru/" TargetMode="External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97708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ицей № 87 имени Л.И. Новиковой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. Красных Зорь, 14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Нижний Новгород, 603047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/факс (831) 224- 03- 82, </a:t>
            </a:r>
            <a:r>
              <a:rPr b="1" lang="en-US" sz="2000" spc="-1" strike="noStrike" u="sng">
                <a:solidFill>
                  <a:srgbClr val="2660b6"/>
                </a:solidFill>
                <a:uFillTx/>
                <a:latin typeface="Times New Roman"/>
                <a:ea typeface="Times New Roman"/>
                <a:hlinkClick r:id="rId1"/>
              </a:rPr>
              <a:t>http</a:t>
            </a:r>
            <a:r>
              <a:rPr b="1" lang="ru-RU" sz="2000" spc="-1" strike="noStrike" u="sng">
                <a:solidFill>
                  <a:srgbClr val="2660b6"/>
                </a:solidFill>
                <a:uFillTx/>
                <a:latin typeface="Times New Roman"/>
                <a:ea typeface="Times New Roman"/>
                <a:hlinkClick r:id="rId2"/>
              </a:rPr>
              <a:t>://</a:t>
            </a:r>
            <a:r>
              <a:rPr b="1" lang="en-US" sz="2000" spc="-1" strike="noStrike" u="sng">
                <a:solidFill>
                  <a:srgbClr val="2660b6"/>
                </a:solidFill>
                <a:uFillTx/>
                <a:latin typeface="Times New Roman"/>
                <a:ea typeface="Times New Roman"/>
                <a:hlinkClick r:id="rId3"/>
              </a:rPr>
              <a:t>lyceum</a:t>
            </a:r>
            <a:r>
              <a:rPr b="1" lang="ru-RU" sz="2000" spc="-1" strike="noStrike" u="sng">
                <a:solidFill>
                  <a:srgbClr val="2660b6"/>
                </a:solidFill>
                <a:uFillTx/>
                <a:latin typeface="Times New Roman"/>
                <a:ea typeface="Times New Roman"/>
                <a:hlinkClick r:id="rId4"/>
              </a:rPr>
              <a:t>87.</a:t>
            </a:r>
            <a:r>
              <a:rPr b="1" lang="en-US" sz="2000" spc="-1" strike="noStrike" u="sng">
                <a:solidFill>
                  <a:srgbClr val="2660b6"/>
                </a:solidFill>
                <a:uFillTx/>
                <a:latin typeface="Times New Roman"/>
                <a:ea typeface="Times New Roman"/>
                <a:hlinkClick r:id="rId5"/>
              </a:rPr>
              <a:t>nnov</a:t>
            </a:r>
            <a:r>
              <a:rPr b="1" lang="ru-RU" sz="2000" spc="-1" strike="noStrike" u="sng">
                <a:solidFill>
                  <a:srgbClr val="2660b6"/>
                </a:solidFill>
                <a:uFillTx/>
                <a:latin typeface="Times New Roman"/>
                <a:ea typeface="Times New Roman"/>
                <a:hlinkClick r:id="rId6"/>
              </a:rPr>
              <a:t>.</a:t>
            </a:r>
            <a:r>
              <a:rPr b="1" lang="en-US" sz="2000" spc="-1" strike="noStrike" u="sng">
                <a:solidFill>
                  <a:srgbClr val="2660b6"/>
                </a:solidFill>
                <a:uFillTx/>
                <a:latin typeface="Times New Roman"/>
                <a:ea typeface="Times New Roman"/>
                <a:hlinkClick r:id="rId7"/>
              </a:rPr>
              <a:t>ru</a:t>
            </a:r>
            <a:br>
              <a:rPr sz="2000"/>
            </a:br>
            <a:r>
              <a:rPr b="1" lang="ru-RU" sz="1800" spc="-1" strike="noStrike">
                <a:solidFill>
                  <a:srgbClr val="0000d4"/>
                </a:solidFill>
                <a:latin typeface="Arial"/>
              </a:rPr>
              <a:t>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14400" y="1916280"/>
            <a:ext cx="5565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бластной командный турнир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юных микробиологов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«Вселенная микробов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еликие открытия микромир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0" y="3860640"/>
            <a:ext cx="9159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d4"/>
                </a:solidFill>
                <a:latin typeface="Times New Roman"/>
              </a:rPr>
              <a:t>Авторы работы: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икифорова Светлана Алексеевна 22.12.2004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именко Пётр Николаевич 23.06.2004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ехова Анастасия Владиславовна 11.01.2004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идяева Веста Евгеньевна 13.08.2004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ударагина Людмила Романовна 19.02.2004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узнецова Наталия Денисовна 14.02.2004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d4"/>
                </a:solidFill>
                <a:latin typeface="Times New Roman"/>
              </a:rPr>
              <a:t>                                   </a:t>
            </a:r>
            <a:r>
              <a:rPr b="1" lang="ru-RU" sz="1800" spc="-1" strike="noStrike">
                <a:solidFill>
                  <a:srgbClr val="0000d4"/>
                </a:solidFill>
                <a:latin typeface="Times New Roman"/>
              </a:rPr>
              <a:t>Руководитель: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ирюкова Светлана Валерьевна, учитель биолог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664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ановский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митрий Иосифович 1864 - 1920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179280" y="5734080"/>
            <a:ext cx="37324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Прямоугольник 2"/>
          <p:cNvSpPr/>
          <p:nvPr/>
        </p:nvSpPr>
        <p:spPr>
          <a:xfrm>
            <a:off x="108000" y="1554120"/>
            <a:ext cx="892800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учал физиологию растений и микробиологию. Уже в первый год своих исследований Ивановский установил, что табак поражён двумя болезнями различной природы. Одна из них вызывается мельчайшим паразитическим грибком и её распространение связано с климатическими условиями, за другой он сохранил название «мозаичной болезни»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4 февраля 1892 г. в Академии наук он сделал доклад «О двух болезнях табака». Эта дата и считается в мировой науке началом учения о фильтрующихся вирусах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оими исследованиями Дмитрий Иосифович заложил основы ряда научных направлений вирусологии: изучение природы вирусов, цитопатология вирусных инфекций, фильтрующихся форм микроорганизмов, хронического и латентного вирусоносительства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ие открытия микромира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8000" y="1557360"/>
            <a:ext cx="1655640" cy="237024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>
            <a:off x="176400" y="3927600"/>
            <a:ext cx="125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Луи Пастер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822-189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108000" y="4478400"/>
            <a:ext cx="1519200" cy="1681200"/>
          </a:xfrm>
          <a:prstGeom prst="rect">
            <a:avLst/>
          </a:prstGeom>
          <a:ln w="0">
            <a:noFill/>
          </a:ln>
        </p:spPr>
      </p:pic>
      <p:sp>
        <p:nvSpPr>
          <p:cNvPr id="96" name="Управляющая кнопка: фильм 5"/>
          <p:cNvSpPr/>
          <p:nvPr/>
        </p:nvSpPr>
        <p:spPr>
          <a:xfrm>
            <a:off x="934920" y="6186600"/>
            <a:ext cx="552600" cy="531720"/>
          </a:xfrm>
          <a:custGeom>
            <a:avLst/>
            <a:gdLst>
              <a:gd name="textAreaLeft" fmla="*/ 34200 w 552600"/>
              <a:gd name="textAreaRight" fmla="*/ 518400 w 552600"/>
              <a:gd name="textAreaTop" fmla="*/ 34200 h 531720"/>
              <a:gd name="textAreaBottom" fmla="*/ 497520 h 531720"/>
            </a:gdLst>
            <a:ahLst/>
            <a:rect l="textAreaLeft" t="textAreaTop" r="textAreaRight" b="textAreaBottom"/>
            <a:pathLst>
              <a:path w="22448" h="21600">
                <a:moveTo>
                  <a:pt x="0" y="0"/>
                </a:moveTo>
                <a:lnTo>
                  <a:pt x="22448" y="0"/>
                </a:lnTo>
                <a:lnTo>
                  <a:pt x="22448" y="21600"/>
                </a:lnTo>
                <a:lnTo>
                  <a:pt x="0" y="21600"/>
                </a:lnTo>
                <a:close/>
              </a:path>
              <a:path fill="lightenLess" w="22448" h="21600">
                <a:moveTo>
                  <a:pt x="0" y="0"/>
                </a:moveTo>
                <a:lnTo>
                  <a:pt x="22448" y="0"/>
                </a:lnTo>
                <a:lnTo>
                  <a:pt x="21048" y="1400"/>
                </a:lnTo>
                <a:lnTo>
                  <a:pt x="1400" y="1400"/>
                </a:lnTo>
                <a:close/>
              </a:path>
              <a:path fill="darken" w="22448" h="21600">
                <a:moveTo>
                  <a:pt x="22448" y="0"/>
                </a:moveTo>
                <a:lnTo>
                  <a:pt x="22448" y="21600"/>
                </a:lnTo>
                <a:lnTo>
                  <a:pt x="21048" y="20200"/>
                </a:lnTo>
                <a:lnTo>
                  <a:pt x="21048" y="1400"/>
                </a:lnTo>
                <a:close/>
              </a:path>
              <a:path fill="darkenLess" w="22448" h="21600">
                <a:moveTo>
                  <a:pt x="224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48" y="20200"/>
                </a:lnTo>
                <a:close/>
              </a:path>
              <a:path fill="lighten" w="224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48" h="21600">
                <a:moveTo>
                  <a:pt x="4217" y="7301"/>
                </a:moveTo>
                <a:lnTo>
                  <a:pt x="5131" y="7301"/>
                </a:lnTo>
                <a:lnTo>
                  <a:pt x="5514" y="7667"/>
                </a:lnTo>
                <a:lnTo>
                  <a:pt x="14723" y="7667"/>
                </a:lnTo>
                <a:lnTo>
                  <a:pt x="15280" y="8224"/>
                </a:lnTo>
                <a:lnTo>
                  <a:pt x="15280" y="8772"/>
                </a:lnTo>
                <a:lnTo>
                  <a:pt x="17125" y="8772"/>
                </a:lnTo>
                <a:lnTo>
                  <a:pt x="17490" y="8224"/>
                </a:lnTo>
                <a:lnTo>
                  <a:pt x="18230" y="8224"/>
                </a:lnTo>
                <a:lnTo>
                  <a:pt x="18230" y="13376"/>
                </a:lnTo>
                <a:lnTo>
                  <a:pt x="17490" y="13376"/>
                </a:lnTo>
                <a:lnTo>
                  <a:pt x="17125" y="12828"/>
                </a:lnTo>
                <a:lnTo>
                  <a:pt x="15280" y="12828"/>
                </a:lnTo>
                <a:lnTo>
                  <a:pt x="15280" y="14107"/>
                </a:lnTo>
                <a:lnTo>
                  <a:pt x="5697" y="14107"/>
                </a:lnTo>
                <a:lnTo>
                  <a:pt x="5697" y="9877"/>
                </a:lnTo>
                <a:lnTo>
                  <a:pt x="5514" y="9877"/>
                </a:lnTo>
                <a:lnTo>
                  <a:pt x="5131" y="10243"/>
                </a:lnTo>
                <a:lnTo>
                  <a:pt x="4217" y="10243"/>
                </a:lnTo>
                <a:close/>
              </a:path>
            </a:pathLst>
          </a:custGeom>
          <a:solidFill>
            <a:srgbClr val="000066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454176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3"/>
          <a:stretch/>
        </p:blipFill>
        <p:spPr>
          <a:xfrm>
            <a:off x="3157560" y="1557360"/>
            <a:ext cx="2111400" cy="24256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7"/>
          <p:cNvSpPr/>
          <p:nvPr/>
        </p:nvSpPr>
        <p:spPr>
          <a:xfrm>
            <a:off x="2970720" y="4035600"/>
            <a:ext cx="245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двард Энтони Дженнер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749-1823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4"/>
          <a:stretch/>
        </p:blipFill>
        <p:spPr>
          <a:xfrm>
            <a:off x="2457360" y="4780080"/>
            <a:ext cx="3024360" cy="170172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8"/>
          <p:cNvSpPr/>
          <p:nvPr/>
        </p:nvSpPr>
        <p:spPr>
          <a:xfrm>
            <a:off x="6469200" y="4008600"/>
            <a:ext cx="2433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х Робер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843-191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9" descr=""/>
          <p:cNvPicPr/>
          <p:nvPr/>
        </p:nvPicPr>
        <p:blipFill>
          <a:blip r:embed="rId5"/>
          <a:stretch/>
        </p:blipFill>
        <p:spPr>
          <a:xfrm>
            <a:off x="6681960" y="1557360"/>
            <a:ext cx="1726920" cy="2467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"/>
          <p:cNvPicPr/>
          <p:nvPr/>
        </p:nvPicPr>
        <p:blipFill>
          <a:blip r:embed="rId6"/>
          <a:stretch/>
        </p:blipFill>
        <p:spPr>
          <a:xfrm>
            <a:off x="6280200" y="4578480"/>
            <a:ext cx="2811240" cy="1581120"/>
          </a:xfrm>
          <a:prstGeom prst="rect">
            <a:avLst/>
          </a:prstGeom>
          <a:ln w="0">
            <a:noFill/>
          </a:ln>
        </p:spPr>
      </p:pic>
      <p:sp>
        <p:nvSpPr>
          <p:cNvPr id="104" name="Управляющая кнопка: фильм 10"/>
          <p:cNvSpPr/>
          <p:nvPr/>
        </p:nvSpPr>
        <p:spPr>
          <a:xfrm>
            <a:off x="7986600" y="6138720"/>
            <a:ext cx="452520" cy="619200"/>
          </a:xfrm>
          <a:custGeom>
            <a:avLst/>
            <a:gdLst>
              <a:gd name="textAreaLeft" fmla="*/ 29160 w 452520"/>
              <a:gd name="textAreaRight" fmla="*/ 423360 w 452520"/>
              <a:gd name="textAreaTop" fmla="*/ 29160 h 619200"/>
              <a:gd name="textAreaBottom" fmla="*/ 590040 h 619200"/>
            </a:gdLst>
            <a:ahLst/>
            <a:rect l="textAreaLeft" t="textAreaTop" r="textAreaRight" b="textAreaBottom"/>
            <a:pathLst>
              <a:path w="21600" h="29550">
                <a:moveTo>
                  <a:pt x="0" y="0"/>
                </a:moveTo>
                <a:lnTo>
                  <a:pt x="21600" y="0"/>
                </a:lnTo>
                <a:lnTo>
                  <a:pt x="21600" y="29550"/>
                </a:lnTo>
                <a:lnTo>
                  <a:pt x="0" y="29550"/>
                </a:lnTo>
                <a:close/>
              </a:path>
              <a:path fill="lightenLess" w="21600" h="295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550">
                <a:moveTo>
                  <a:pt x="21600" y="0"/>
                </a:moveTo>
                <a:lnTo>
                  <a:pt x="21600" y="29550"/>
                </a:lnTo>
                <a:lnTo>
                  <a:pt x="20200" y="28150"/>
                </a:lnTo>
                <a:lnTo>
                  <a:pt x="20200" y="1400"/>
                </a:lnTo>
                <a:close/>
              </a:path>
              <a:path fill="darkenLess" w="21600" h="29550">
                <a:moveTo>
                  <a:pt x="21600" y="29550"/>
                </a:moveTo>
                <a:lnTo>
                  <a:pt x="0" y="29550"/>
                </a:lnTo>
                <a:lnTo>
                  <a:pt x="1400" y="28150"/>
                </a:lnTo>
                <a:lnTo>
                  <a:pt x="20200" y="28150"/>
                </a:lnTo>
                <a:close/>
              </a:path>
              <a:path fill="lighten" w="21600" h="29550">
                <a:moveTo>
                  <a:pt x="0" y="295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150"/>
                </a:lnTo>
                <a:close/>
              </a:path>
              <a:path fill="darken" w="21600" h="29550">
                <a:moveTo>
                  <a:pt x="3794" y="11276"/>
                </a:moveTo>
                <a:lnTo>
                  <a:pt x="4707" y="11276"/>
                </a:lnTo>
                <a:lnTo>
                  <a:pt x="5090" y="11642"/>
                </a:lnTo>
                <a:lnTo>
                  <a:pt x="14299" y="11642"/>
                </a:lnTo>
                <a:lnTo>
                  <a:pt x="14856" y="12199"/>
                </a:lnTo>
                <a:lnTo>
                  <a:pt x="14856" y="12747"/>
                </a:lnTo>
                <a:lnTo>
                  <a:pt x="16701" y="12747"/>
                </a:lnTo>
                <a:lnTo>
                  <a:pt x="17067" y="12199"/>
                </a:lnTo>
                <a:lnTo>
                  <a:pt x="17806" y="12199"/>
                </a:lnTo>
                <a:lnTo>
                  <a:pt x="17806" y="17351"/>
                </a:lnTo>
                <a:lnTo>
                  <a:pt x="17067" y="17351"/>
                </a:lnTo>
                <a:lnTo>
                  <a:pt x="16701" y="16803"/>
                </a:lnTo>
                <a:lnTo>
                  <a:pt x="14856" y="16803"/>
                </a:lnTo>
                <a:lnTo>
                  <a:pt x="14856" y="18082"/>
                </a:lnTo>
                <a:lnTo>
                  <a:pt x="5273" y="18082"/>
                </a:lnTo>
                <a:lnTo>
                  <a:pt x="5273" y="13852"/>
                </a:lnTo>
                <a:lnTo>
                  <a:pt x="5090" y="13852"/>
                </a:lnTo>
                <a:lnTo>
                  <a:pt x="4707" y="14218"/>
                </a:lnTo>
                <a:lnTo>
                  <a:pt x="3794" y="14218"/>
                </a:lnTo>
                <a:close/>
              </a:path>
            </a:pathLst>
          </a:custGeom>
          <a:solidFill>
            <a:srgbClr val="000066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Опыт Пастера.mp4" descr=""/>
          <p:cNvPicPr/>
          <p:nvPr/>
        </p:nvPicPr>
        <p:blipFill>
          <a:blip r:embed="rId7"/>
          <a:stretch/>
        </p:blipFill>
        <p:spPr>
          <a:xfrm>
            <a:off x="217440" y="6186600"/>
            <a:ext cx="725400" cy="544320"/>
          </a:xfrm>
          <a:prstGeom prst="rect">
            <a:avLst/>
          </a:prstGeom>
          <a:ln w="0">
            <a:noFill/>
          </a:ln>
        </p:spPr>
      </p:pic>
      <p:pic>
        <p:nvPicPr>
          <p:cNvPr id="106" name="Туберкулез и его история.mp4" descr=""/>
          <p:cNvPicPr/>
          <p:nvPr/>
        </p:nvPicPr>
        <p:blipFill>
          <a:blip r:embed="rId8"/>
          <a:stretch/>
        </p:blipFill>
        <p:spPr>
          <a:xfrm>
            <a:off x="7164360" y="6138720"/>
            <a:ext cx="82548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ие открытия микромира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2268360" y="1592280"/>
            <a:ext cx="2062440" cy="2714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108000" y="1557360"/>
            <a:ext cx="1884240" cy="2735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https://upload.wikimedia.org/wikipedia/ru/thumb/a/a2/Gabrichevsky_GN.jpg/160px-Gabrichevsky_GN.jpg"/>
          <p:cNvPicPr/>
          <p:nvPr/>
        </p:nvPicPr>
        <p:blipFill>
          <a:blip r:embed="rId3"/>
          <a:stretch/>
        </p:blipFill>
        <p:spPr>
          <a:xfrm>
            <a:off x="4643280" y="1581120"/>
            <a:ext cx="1946520" cy="2735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портет"/>
          <p:cNvPicPr/>
          <p:nvPr/>
        </p:nvPicPr>
        <p:blipFill>
          <a:blip r:embed="rId4"/>
          <a:stretch/>
        </p:blipFill>
        <p:spPr>
          <a:xfrm>
            <a:off x="6804000" y="1557360"/>
            <a:ext cx="2244600" cy="275904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3"/>
          <p:cNvSpPr/>
          <p:nvPr/>
        </p:nvSpPr>
        <p:spPr>
          <a:xfrm>
            <a:off x="111240" y="4437000"/>
            <a:ext cx="1881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ечников Илья Ильич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845 – 1916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рямоугольник 4"/>
          <p:cNvSpPr/>
          <p:nvPr/>
        </p:nvSpPr>
        <p:spPr>
          <a:xfrm>
            <a:off x="2232000" y="4437000"/>
            <a:ext cx="212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оградский Сергей Николаевич 1856 – 1953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Прямоугольник 6"/>
          <p:cNvSpPr/>
          <p:nvPr/>
        </p:nvSpPr>
        <p:spPr>
          <a:xfrm>
            <a:off x="4643280" y="4437000"/>
            <a:ext cx="1946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бричевский Георгий Норбертович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60 - 1907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Прямоугольник 8"/>
          <p:cNvSpPr/>
          <p:nvPr/>
        </p:nvSpPr>
        <p:spPr>
          <a:xfrm>
            <a:off x="6804000" y="4437000"/>
            <a:ext cx="2244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овский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митрий Иосифович 1864 - 1920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1" descr=""/>
          <p:cNvPicPr/>
          <p:nvPr/>
        </p:nvPicPr>
        <p:blipFill>
          <a:blip r:embed="rId5"/>
          <a:stretch/>
        </p:blipFill>
        <p:spPr>
          <a:xfrm>
            <a:off x="-11160" y="5240160"/>
            <a:ext cx="2003400" cy="1501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ÐÐ°ÑÑÐ¸Ð½ÐºÐ¸ Ð¿Ð¾ Ð·Ð°Ð¿ÑÐ¾ÑÑ Ð°Ð·Ð¾ÑÑÐ¸ÐºÑÐ¸ÑÑÑÑÐ¸Ðµ Ð±Ð°ÐºÑÐµÑÐ¸Ð¸"/>
          <p:cNvPicPr/>
          <p:nvPr/>
        </p:nvPicPr>
        <p:blipFill>
          <a:blip r:embed="rId6"/>
          <a:stretch/>
        </p:blipFill>
        <p:spPr>
          <a:xfrm>
            <a:off x="2805120" y="5240160"/>
            <a:ext cx="977760" cy="1474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ÐÐ°ÑÑÐ¸Ð½ÐºÐ¸ Ð¿Ð¾ Ð·Ð°Ð¿ÑÐ¾ÑÑ Ð°Ð½ÑÐ¸ÑÐ¾ÐºÑÐ¸Ð½ Ð´Ð¸Ð·ÐµÐ½ÑÐµÑÐ¸Ð¸"/>
          <p:cNvPicPr/>
          <p:nvPr/>
        </p:nvPicPr>
        <p:blipFill>
          <a:blip r:embed="rId7"/>
          <a:stretch/>
        </p:blipFill>
        <p:spPr>
          <a:xfrm>
            <a:off x="5173560" y="5470560"/>
            <a:ext cx="885960" cy="1297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"/>
          <p:cNvPicPr/>
          <p:nvPr/>
        </p:nvPicPr>
        <p:blipFill>
          <a:blip r:embed="rId8"/>
          <a:stretch/>
        </p:blipFill>
        <p:spPr>
          <a:xfrm>
            <a:off x="6804000" y="5398920"/>
            <a:ext cx="2238480" cy="1130400"/>
          </a:xfrm>
          <a:prstGeom prst="rect">
            <a:avLst/>
          </a:prstGeom>
          <a:ln w="0">
            <a:noFill/>
          </a:ln>
        </p:spPr>
      </p:pic>
      <p:pic>
        <p:nvPicPr>
          <p:cNvPr id="120" name="фагоцитоз.mp4" descr=""/>
          <p:cNvPicPr/>
          <p:nvPr/>
        </p:nvPicPr>
        <p:blipFill>
          <a:blip r:embed="rId9"/>
          <a:stretch/>
        </p:blipFill>
        <p:spPr>
          <a:xfrm>
            <a:off x="1692360" y="6046920"/>
            <a:ext cx="922320" cy="691920"/>
          </a:xfrm>
          <a:prstGeom prst="rect">
            <a:avLst/>
          </a:prstGeom>
          <a:ln w="0">
            <a:noFill/>
          </a:ln>
        </p:spPr>
      </p:pic>
      <p:sp>
        <p:nvSpPr>
          <p:cNvPr id="121" name="Управляющая кнопка: фильм 3"/>
          <p:cNvSpPr/>
          <p:nvPr/>
        </p:nvSpPr>
        <p:spPr>
          <a:xfrm>
            <a:off x="2092320" y="6046920"/>
            <a:ext cx="522360" cy="668160"/>
          </a:xfrm>
          <a:custGeom>
            <a:avLst/>
            <a:gdLst>
              <a:gd name="textAreaLeft" fmla="*/ 33840 w 522360"/>
              <a:gd name="textAreaRight" fmla="*/ 488520 w 522360"/>
              <a:gd name="textAreaTop" fmla="*/ 33840 h 668160"/>
              <a:gd name="textAreaBottom" fmla="*/ 634320 h 668160"/>
            </a:gdLst>
            <a:ahLst/>
            <a:rect l="textAreaLeft" t="textAreaTop" r="textAreaRight" b="textAreaBottom"/>
            <a:pathLst>
              <a:path w="21600" h="27625">
                <a:moveTo>
                  <a:pt x="0" y="0"/>
                </a:moveTo>
                <a:lnTo>
                  <a:pt x="21600" y="0"/>
                </a:lnTo>
                <a:lnTo>
                  <a:pt x="21600" y="27625"/>
                </a:lnTo>
                <a:lnTo>
                  <a:pt x="0" y="27625"/>
                </a:lnTo>
                <a:close/>
              </a:path>
              <a:path fill="lightenLess" w="21600" h="276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25">
                <a:moveTo>
                  <a:pt x="21600" y="0"/>
                </a:moveTo>
                <a:lnTo>
                  <a:pt x="21600" y="27625"/>
                </a:lnTo>
                <a:lnTo>
                  <a:pt x="20200" y="26225"/>
                </a:lnTo>
                <a:lnTo>
                  <a:pt x="20200" y="1400"/>
                </a:lnTo>
                <a:close/>
              </a:path>
              <a:path fill="darkenLess" w="21600" h="27625">
                <a:moveTo>
                  <a:pt x="21600" y="27625"/>
                </a:moveTo>
                <a:lnTo>
                  <a:pt x="0" y="27625"/>
                </a:lnTo>
                <a:lnTo>
                  <a:pt x="1400" y="26225"/>
                </a:lnTo>
                <a:lnTo>
                  <a:pt x="20200" y="26225"/>
                </a:lnTo>
                <a:close/>
              </a:path>
              <a:path fill="lighten" w="21600" h="27625">
                <a:moveTo>
                  <a:pt x="0" y="27625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25"/>
                </a:lnTo>
                <a:close/>
              </a:path>
              <a:path fill="darken" w="21600" h="27625">
                <a:moveTo>
                  <a:pt x="3794" y="10314"/>
                </a:moveTo>
                <a:lnTo>
                  <a:pt x="4707" y="10314"/>
                </a:lnTo>
                <a:lnTo>
                  <a:pt x="5090" y="10679"/>
                </a:lnTo>
                <a:lnTo>
                  <a:pt x="14299" y="10679"/>
                </a:lnTo>
                <a:lnTo>
                  <a:pt x="14856" y="11236"/>
                </a:lnTo>
                <a:lnTo>
                  <a:pt x="14856" y="11784"/>
                </a:lnTo>
                <a:lnTo>
                  <a:pt x="16701" y="11784"/>
                </a:lnTo>
                <a:lnTo>
                  <a:pt x="17067" y="11236"/>
                </a:lnTo>
                <a:lnTo>
                  <a:pt x="17806" y="11236"/>
                </a:lnTo>
                <a:lnTo>
                  <a:pt x="17806" y="16389"/>
                </a:lnTo>
                <a:lnTo>
                  <a:pt x="17067" y="16389"/>
                </a:lnTo>
                <a:lnTo>
                  <a:pt x="16701" y="15840"/>
                </a:lnTo>
                <a:lnTo>
                  <a:pt x="14856" y="15840"/>
                </a:lnTo>
                <a:lnTo>
                  <a:pt x="14856" y="17120"/>
                </a:lnTo>
                <a:lnTo>
                  <a:pt x="5273" y="17120"/>
                </a:lnTo>
                <a:lnTo>
                  <a:pt x="5273" y="12890"/>
                </a:lnTo>
                <a:lnTo>
                  <a:pt x="5090" y="12890"/>
                </a:lnTo>
                <a:lnTo>
                  <a:pt x="4707" y="13255"/>
                </a:lnTo>
                <a:lnTo>
                  <a:pt x="3794" y="13255"/>
                </a:lnTo>
                <a:close/>
              </a:path>
            </a:pathLst>
          </a:custGeom>
          <a:solidFill>
            <a:srgbClr val="000066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03280" y="404280"/>
            <a:ext cx="74678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и Пастер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22-1895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ик 3"/>
          <p:cNvSpPr/>
          <p:nvPr/>
        </p:nvSpPr>
        <p:spPr>
          <a:xfrm>
            <a:off x="6480" y="150336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сем известно слово «пастеризация». Это процесс контролируемой тепловой обработки продуктов для уничтожения бактерий и других микроорганизмов. Без пастеризации не обходится ни одна хозяйка при домашнем консервировании овощей и фруктов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ез этого процесса не сможет работать пищевая промышленность и виноделы во всем мире. Благодаря открытию ученого, стало возможным сохранение продуктов на длительный срок и спасение людей от голода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астеризация – это потрясающее открытие Луи Пастера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Научные открытия Пастера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846 — Открыта структура кристаллов винной кислоты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861 – Открыт способ сохранения жидких продуктов методом тепловой обработки. В дальнейшем назван пастеризацией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865 – Найдены эффективные методы борьбы с болезнями тутового шелкопряда. Спасено шелководство!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876 – Иммунология. В процессе исследований заразных болезней, установил, что болезни вызывают возбудители определенного рода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881 – Разработана вакцина против сибирской язвы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885 – Вакцина от бешенства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03280" y="404280"/>
            <a:ext cx="74678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двард Энтони Дженнер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49-1823 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0" y="1503360"/>
            <a:ext cx="914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двард Дженнер вошёл в историю благодаря внедрению вакцинации от натуральной оспы. Его даже называют отцом иммунологии и вакцинаци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лагодаря исследованиям Дженнера, подтверждёнными опытным путём, были спасены буквально тысячи жизней. А спустя годы повсеместная вакцинация и вовсе остановила волны эпидемии, которая ранее захлёстывала целые континенты, собирая внушительный урожай человеческих жизней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 удивительно, что Эдварда Дженнера история запомнила, как человека открывшего эффективный способ борьбы с натуральной оспой. Однако это не единственные его заслуги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.Дженнер интересовался абсолютно всем: занимался классификацией новых видов, которые привез в Англию легендарный капитан Джеймс Кук, экспериментировал с человеческой кровью, изучал геологию и воздухоплавание (и даже сам построил воздушный шар на водороде и пролетел на нем 12 миль), интересовался поведением кукушек, миграцией птиц и зимней спячкой ежей. На протяжении своей жизни Дженнер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зучил повадки кукушки; написал труд по исследованию коровьей оспы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яснил, что грудная жаба связана с заболеванием коронарных артерий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писал работу о миграции птиц; доказал, что на заре первой поёт малиновка, а не жаворонок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379080"/>
            <a:ext cx="74678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х Роберт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43-1910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2"/>
          <p:cNvSpPr/>
          <p:nvPr/>
        </p:nvSpPr>
        <p:spPr>
          <a:xfrm>
            <a:off x="0" y="1557360"/>
            <a:ext cx="914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берт Кох — немецкий микробиолог, один из основоположников современной бактериологии и эпидемиологии. Впервые выделил чистую культуру возбудителя сибирской язвы, доказал ее способность к спорообразованию. Предложил способы дезинфекции.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лагодаря микроскопу и красителям Коху открылся удивительный мир невероятно маленьких живых существ — микробов. Пользуясь разработанным им методом культивирования бактерий, открытых ранее в крови больных сибирской язвой, Кох доказал, что они являются возбудителями сибирской язвы и способны к образованию устойчивых спор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1882 году, проявляя адское терпение, Кох, пользуясь изобретенным им способом окраски и культивирования микробов, открыл возбудителя туберкулеза. 24 марта 1882 года на заседании общества врачей в Берлине Кох сообщил об открытии возбудителя туберкулеза («палочка Коха»)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берт Кох разработал метод выделения чистых культур микробов путем посева смеси на пластинках желатина и с его помощью выделил в 1883 году вибрион холеры, по форме напоминающий запятую и названный поэтому «холерной запятой»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4678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чников Илья Ильич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45 – 1916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чников Илья Ильич одним из первых установил, что защита организма от патогенных микробов и их вредоносного воздействия представляет собой сложную биологическую реакцию, которая обусловливается в первую очередь фагоцитарным процессом. В 1892 г. Мечников опубликовал свои лекции «О сравнительной патологии воспалений», а в 1901 г. – классическую монографию «Невосприимчивость в инфекционных болезнях», ставшую настольной книгой для микробиологов, медиков и биологов. В этих работах он со свойственной ему простатой и талантом изложил исследования о воспалении, защитных средствах организма и роли фагоцито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4678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ноградский Сергей Николаевич 1856 – 1953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рямоугольник 2"/>
          <p:cNvSpPr/>
          <p:nvPr/>
        </p:nvSpPr>
        <p:spPr>
          <a:xfrm>
            <a:off x="108000" y="1628640"/>
            <a:ext cx="8928000" cy="43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ъектом его исследования стали обитающие в воде бактерии Beggiatoa и Cladothrix, работая с которыми Виноградский открыл новый принцип хемиосинтетического получения энергии и синтеза автотрофных бактерий. Первый выдающийся вклад ученого в бактериологию связан с тремя важнейшими представителями групп этих бактерий: окисляющими серу микроорганизмами, железобактериями и нитрифицирующими бактериями. В 1895 г. выделил первую азотфиксирующую бактерию - Clostridium pasterianum и дал первое описание созданного им метода элективных культур, ставшего методической основой всей современной микробиологии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4678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бричевский Георгий Норбертович 1860 - 1907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250920" y="5805360"/>
            <a:ext cx="37321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работы Габричевского посвящены изучению скарлатины, дифтерии, возвратного тифа, маляри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мы и общим вопросам бактериолог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 с Н. Ф. Филатовым ввёл сывороточное лечение дифтерии. Габричевский предложил для специфической профилактики скарлатины использование созданной им убитой стрептококковой вакцины — действие её испытал на себе. Совместно с Левенталем предложил серологическую пробу для диагностики возвратного тифа. Предложил способ культивирования анаэробов в чашках, новый способ определения активной подвижности бактерий; получил антитоксин дизентерии и противодизентерийную сыворот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3T02:58:18Z</dcterms:created>
  <dc:creator>AVN</dc:creator>
  <dc:description/>
  <dc:language>en-US</dc:language>
  <cp:lastModifiedBy>hp</cp:lastModifiedBy>
  <dcterms:modified xsi:type="dcterms:W3CDTF">2019-01-10T15:24:10Z</dcterms:modified>
  <cp:revision>9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241</vt:lpwstr>
  </property>
  <property fmtid="{D5CDD505-2E9C-101B-9397-08002B2CF9AE}" pid="3" name="APEditor">
    <vt:lpwstr>103</vt:lpwstr>
  </property>
  <property fmtid="{D5CDD505-2E9C-101B-9397-08002B2CF9AE}" pid="4" name="Applications">
    <vt:lpwstr>55;#PowerPoint - Design Templt 12;#-1;#TBD;#-1;#TBD;#-1;#TBD;#-1;#TBD</vt:lpwstr>
  </property>
  <property fmtid="{D5CDD505-2E9C-101B-9397-08002B2CF9AE}" pid="5" name="AssetId">
    <vt:lpwstr>TS001140826</vt:lpwstr>
  </property>
  <property fmtid="{D5CDD505-2E9C-101B-9397-08002B2CF9AE}" pid="6" name="AssetType">
    <vt:lpwstr>TP</vt:lpwstr>
  </property>
  <property fmtid="{D5CDD505-2E9C-101B-9397-08002B2CF9AE}" pid="7" name="AuthoringAssetId">
    <vt:lpwstr>TP001140826</vt:lpwstr>
  </property>
  <property fmtid="{D5CDD505-2E9C-101B-9397-08002B2CF9AE}" pid="8" name="CHMName">
    <vt:lpwstr/>
  </property>
  <property fmtid="{D5CDD505-2E9C-101B-9397-08002B2CF9AE}" pid="9" name="Content Type">
    <vt:lpwstr>OOFile</vt:lpwstr>
  </property>
  <property fmtid="{D5CDD505-2E9C-101B-9397-08002B2CF9AE}" pid="10" name="ContentTypeId">
    <vt:lpwstr>0x0101006025706CF4CD034688BEBAE97A2E701D0202001F9DE411C1B38343BE78B0080F632418</vt:lpwstr>
  </property>
  <property fmtid="{D5CDD505-2E9C-101B-9397-08002B2CF9AE}" pid="11" name="DirectSourceMarket">
    <vt:lpwstr>english</vt:lpwstr>
  </property>
  <property fmtid="{D5CDD505-2E9C-101B-9397-08002B2CF9AE}" pid="12" name="EditorialStatus">
    <vt:lpwstr/>
  </property>
  <property fmtid="{D5CDD505-2E9C-101B-9397-08002B2CF9AE}" pid="13" name="IsDeleted">
    <vt:lpwstr>0</vt:lpwstr>
  </property>
  <property fmtid="{D5CDD505-2E9C-101B-9397-08002B2CF9AE}" pid="14" name="IsSearchable">
    <vt:lpwstr>0</vt:lpwstr>
  </property>
  <property fmtid="{D5CDD505-2E9C-101B-9397-08002B2CF9AE}" pid="15" name="LCID">
    <vt:lpwstr>1049</vt:lpwstr>
  </property>
  <property fmtid="{D5CDD505-2E9C-101B-9397-08002B2CF9AE}" pid="16" name="Markets">
    <vt:lpwstr/>
  </property>
  <property fmtid="{D5CDD505-2E9C-101B-9397-08002B2CF9AE}" pid="17" name="Milestone">
    <vt:lpwstr>Continuous</vt:lpwstr>
  </property>
  <property fmtid="{D5CDD505-2E9C-101B-9397-08002B2CF9AE}" pid="18" name="NumericId">
    <vt:lpwstr>-1.00000000000000</vt:lpwstr>
  </property>
  <property fmtid="{D5CDD505-2E9C-101B-9397-08002B2CF9AE}" pid="19" name="OpenTemplate">
    <vt:lpwstr>1</vt:lpwstr>
  </property>
  <property fmtid="{D5CDD505-2E9C-101B-9397-08002B2CF9AE}" pid="20" name="OriginalSourceMarket">
    <vt:lpwstr>english</vt:lpwstr>
  </property>
  <property fmtid="{D5CDD505-2E9C-101B-9397-08002B2CF9AE}" pid="21" name="ParentAssetId">
    <vt:lpwstr/>
  </property>
  <property fmtid="{D5CDD505-2E9C-101B-9397-08002B2CF9AE}" pid="22" name="PrimaryImageGen">
    <vt:lpwstr>1</vt:lpwstr>
  </property>
  <property fmtid="{D5CDD505-2E9C-101B-9397-08002B2CF9AE}" pid="23" name="PublishTargets">
    <vt:lpwstr>OfficeOnline</vt:lpwstr>
  </property>
  <property fmtid="{D5CDD505-2E9C-101B-9397-08002B2CF9AE}" pid="24" name="ShowIn">
    <vt:lpwstr>Show everywhere</vt:lpwstr>
  </property>
  <property fmtid="{D5CDD505-2E9C-101B-9397-08002B2CF9AE}" pid="25" name="SourceTitle">
    <vt:lpwstr>Medical design template (lab)</vt:lpwstr>
  </property>
  <property fmtid="{D5CDD505-2E9C-101B-9397-08002B2CF9AE}" pid="26" name="TPAppVersion">
    <vt:lpwstr>11</vt:lpwstr>
  </property>
  <property fmtid="{D5CDD505-2E9C-101B-9397-08002B2CF9AE}" pid="27" name="TPApplication">
    <vt:lpwstr>PowerPoint</vt:lpwstr>
  </property>
  <property fmtid="{D5CDD505-2E9C-101B-9397-08002B2CF9AE}" pid="28" name="TPCommandLine">
    <vt:lpwstr>{PP} {FilePath}</vt:lpwstr>
  </property>
  <property fmtid="{D5CDD505-2E9C-101B-9397-08002B2CF9AE}" pid="29" name="TPFriendlyName">
    <vt:lpwstr>{Document Themes}</vt:lpwstr>
  </property>
  <property fmtid="{D5CDD505-2E9C-101B-9397-08002B2CF9AE}" pid="30" name="TPInstallLocation">
    <vt:lpwstr>{Document Themes}</vt:lpwstr>
  </property>
  <property fmtid="{D5CDD505-2E9C-101B-9397-08002B2CF9AE}" pid="31" name="TPLaunchHelpLink">
    <vt:lpwstr/>
  </property>
  <property fmtid="{D5CDD505-2E9C-101B-9397-08002B2CF9AE}" pid="32" name="TPLaunchHelpLinkType">
    <vt:lpwstr/>
  </property>
  <property fmtid="{D5CDD505-2E9C-101B-9397-08002B2CF9AE}" pid="33" name="UACurrentWords">
    <vt:lpwstr>0</vt:lpwstr>
  </property>
  <property fmtid="{D5CDD505-2E9C-101B-9397-08002B2CF9AE}" pid="34" name="UALocComments">
    <vt:lpwstr/>
  </property>
  <property fmtid="{D5CDD505-2E9C-101B-9397-08002B2CF9AE}" pid="35" name="UALocRecommendation">
    <vt:lpwstr>Localize</vt:lpwstr>
  </property>
  <property fmtid="{D5CDD505-2E9C-101B-9397-08002B2CF9AE}" pid="36" name="UANotes">
    <vt:lpwstr>Text is visible in high contrast mode, but graphics are not. </vt:lpwstr>
  </property>
  <property fmtid="{D5CDD505-2E9C-101B-9397-08002B2CF9AE}" pid="37" name="display_urn:schemas-microsoft-com:office:office#APAuthor">
    <vt:lpwstr>REDMOND\cynvey</vt:lpwstr>
  </property>
  <property fmtid="{D5CDD505-2E9C-101B-9397-08002B2CF9AE}" pid="38" name="display_urn:schemas-microsoft-com:office:office#APEditor">
    <vt:lpwstr>REDMOND\v-luannv</vt:lpwstr>
  </property>
</Properties>
</file>