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598-412B-4F44-9442-035A75B0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282-C37A-4175-8F5F-9EC0D824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2EC-515F-4695-99E0-84D6429C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016-4FA6-41D0-9111-17DA036A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D15C-219A-4E02-8448-2B63F0E8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6E00-371E-4FFB-BB79-0D75DB3D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F54A-6B86-4C30-A094-E296DF61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4782-B2BA-4A4C-8310-094F5A3B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BED2-B279-475C-9B1B-7564E618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A6AF-EDAC-47E9-8B27-40031F74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4F18-4ABB-43E9-9457-F5050B6F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033-D65F-44FD-8871-FE05AB8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3D20-924A-4C3F-9F2A-00B114C2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E3B0-03EA-47A6-B799-321B4AC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3E7F-0721-4330-81B2-F5D95AFB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E4EB-E088-4899-B6B1-2ACAC62F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8B28-760D-4151-8B44-0740BE7F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B89-8E20-41A4-AADD-B2A7A621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EE8-AAA2-4B89-BC28-3B93D015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58A-ED27-4012-88BF-E69906D1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C6F-890B-4A9A-856E-61EFA9E0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97A-F388-4478-8385-4540CA8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61B-141D-43F2-898F-B0B5B5A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7D2-71C4-436E-B488-1916ECF9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C945-A6B2-46E7-8087-0AF28A29FF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8AF6-DB69-4185-9579-39A5B3DC3C0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Овощи и фрукты на нашем стол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Подготовила: Кузнецова М.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бор овощей и фруктов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на школьном участке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ставь рассказ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1"/>
          <a:stretch/>
        </p:blipFill>
        <p:spPr>
          <a:xfrm>
            <a:off x="609480" y="2039760"/>
            <a:ext cx="7162920" cy="477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О в о щ 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то одежек и все без застёжек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пуст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7" descr="Image1"/>
          <p:cNvPicPr/>
          <p:nvPr/>
        </p:nvPicPr>
        <p:blipFill>
          <a:blip r:embed="rId1"/>
          <a:stretch/>
        </p:blipFill>
        <p:spPr>
          <a:xfrm>
            <a:off x="2666880" y="2133720"/>
            <a:ext cx="457200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аклаж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9" descr="Image3"/>
          <p:cNvPicPr/>
          <p:nvPr/>
        </p:nvPicPr>
        <p:blipFill>
          <a:blip r:embed="rId1"/>
          <a:stretch/>
        </p:blipFill>
        <p:spPr>
          <a:xfrm>
            <a:off x="3765600" y="457200"/>
            <a:ext cx="430992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гуре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фел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рков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6" descr="Image7"/>
          <p:cNvPicPr/>
          <p:nvPr/>
        </p:nvPicPr>
        <p:blipFill>
          <a:blip r:embed="rId1"/>
          <a:stretch/>
        </p:blipFill>
        <p:spPr>
          <a:xfrm>
            <a:off x="3657600" y="679320"/>
            <a:ext cx="5029200" cy="3702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Морковь"/>
          <p:cNvPicPr/>
          <p:nvPr/>
        </p:nvPicPr>
        <p:blipFill>
          <a:blip r:embed="rId2"/>
          <a:stretch/>
        </p:blipFill>
        <p:spPr>
          <a:xfrm rot="21380400">
            <a:off x="3047760" y="4190760"/>
            <a:ext cx="4743360" cy="20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Ф р у к т 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Ябло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Image4"/>
          <p:cNvPicPr/>
          <p:nvPr/>
        </p:nvPicPr>
        <p:blipFill>
          <a:blip r:embed="rId1"/>
          <a:stretch/>
        </p:blipFill>
        <p:spPr>
          <a:xfrm>
            <a:off x="2514600" y="2286000"/>
            <a:ext cx="400212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           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Verdana"/>
              </a:rPr>
              <a:t>Лимон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Verdana"/>
              </a:rPr>
              <a:t>Апельсин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Verdana"/>
              </a:rPr>
              <a:t>Банан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Verdana"/>
              </a:rPr>
              <a:t>Груш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Verdana"/>
              </a:rPr>
              <a:t>Перси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11" descr="Клубника_2"/>
          <p:cNvPicPr/>
          <p:nvPr/>
        </p:nvPicPr>
        <p:blipFill>
          <a:blip r:embed="rId1"/>
          <a:stretch/>
        </p:blipFill>
        <p:spPr>
          <a:xfrm rot="20973000">
            <a:off x="3809520" y="456840"/>
            <a:ext cx="4442040" cy="1930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Бананы"/>
          <p:cNvPicPr/>
          <p:nvPr/>
        </p:nvPicPr>
        <p:blipFill>
          <a:blip r:embed="rId2"/>
          <a:stretch/>
        </p:blipFill>
        <p:spPr>
          <a:xfrm rot="20926200">
            <a:off x="5028840" y="3886200"/>
            <a:ext cx="3733920" cy="2595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sm_f_473e173ae2b5f"/>
          <p:cNvPicPr/>
          <p:nvPr/>
        </p:nvPicPr>
        <p:blipFill>
          <a:blip r:embed="rId3"/>
          <a:stretch/>
        </p:blipFill>
        <p:spPr>
          <a:xfrm>
            <a:off x="3124080" y="27432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 № 1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дбери слова к основному понятию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мидор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вощ: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кусный, деревянный, красный, зеленый, высокий, круглый, тёплый, сладкий, растет на грядк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Груша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Ягода, фрук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 вкусная, горькая, желтая, травянистая, мягкая, твердая, растёт в саду на дерев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Баклажан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вощ: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кусный, полезный, горький, вредный, древесный, продолговатый, растёт на огород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дание№2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, что можно приготовить из перечисленных     овощей фрукт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2133720"/>
          <a:ext cx="8686800" cy="38973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звание овощей,фрукто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Что делают, готовят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18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ртофел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уку, крахмал, полуфабрикаты, супы, пирог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пуст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?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113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орков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ок, маринад, приправу, заготовку на зиму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762120" y="1828800"/>
          <a:ext cx="207720" cy="517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 Сиделева</cp:lastModifiedBy>
  <dcterms:modified xsi:type="dcterms:W3CDTF">2021-05-21T15:14:5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