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FB9-BBF4-46C4-B15E-6A7A0E77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AD6-9911-4273-9140-01DF68E1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2A9-6922-48D6-9AEA-7E49D981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FBF-4434-4CE4-9302-6524900A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0577-76AE-4DD5-89E9-D30A8A82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B153-7E79-4635-BF0F-0942E0AD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B0C-458A-48B8-9585-19425E10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1C00-64DF-4629-ADA5-9DD0A64A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1F0-783A-4C2C-A6D9-83051459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6AE7-48AE-45CB-8D06-08C83777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8757-EBA7-4DE9-BEA5-CDE6E36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EC3-8282-43A1-A3A0-3B74EF5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E8BC-A66C-4610-96B3-8CBFFE5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2574-B271-40D5-9EF1-60EFDBB9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5211-CD03-46AB-B661-B31FBA8F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6BB1-9872-44D7-9049-203F7BAA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12FD-5A12-4A13-90E1-0F26DBF1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296-6486-4E32-8247-2C6BCDC9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B3E-F1B0-44F5-B785-3B6B68A3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B5E-76C1-4BDF-9041-E72916BD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1B2-BE13-47AD-AABD-2A2D6F6D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5C6-5DB3-4A49-AD16-6C57063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2C0-4D63-482A-AA90-461E615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8D7-B8AC-48F4-86F0-EA867960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F784-C678-42F0-8CD9-01DE6D6249F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2F6F-6238-4683-8C89-C129D915308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Овощи и фрукты на нашем стол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Подготовила: Кузнецова М.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бор овощей и фруктов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на школьном участк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ставь рассказ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1"/>
          <a:stretch/>
        </p:blipFill>
        <p:spPr>
          <a:xfrm>
            <a:off x="609480" y="2039760"/>
            <a:ext cx="7162920" cy="47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О в о щ 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о одежек и все без застёжек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пус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7" descr="Image1"/>
          <p:cNvPicPr/>
          <p:nvPr/>
        </p:nvPicPr>
        <p:blipFill>
          <a:blip r:embed="rId1"/>
          <a:stretch/>
        </p:blipFill>
        <p:spPr>
          <a:xfrm>
            <a:off x="2666880" y="2133720"/>
            <a:ext cx="457200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аклаж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9" descr="Image3"/>
          <p:cNvPicPr/>
          <p:nvPr/>
        </p:nvPicPr>
        <p:blipFill>
          <a:blip r:embed="rId1"/>
          <a:stretch/>
        </p:blipFill>
        <p:spPr>
          <a:xfrm>
            <a:off x="3765600" y="457200"/>
            <a:ext cx="430992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гуре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фел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рков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6" descr="Image7"/>
          <p:cNvPicPr/>
          <p:nvPr/>
        </p:nvPicPr>
        <p:blipFill>
          <a:blip r:embed="rId1"/>
          <a:stretch/>
        </p:blipFill>
        <p:spPr>
          <a:xfrm>
            <a:off x="3657600" y="679320"/>
            <a:ext cx="5029200" cy="3702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Морковь"/>
          <p:cNvPicPr/>
          <p:nvPr/>
        </p:nvPicPr>
        <p:blipFill>
          <a:blip r:embed="rId2"/>
          <a:stretch/>
        </p:blipFill>
        <p:spPr>
          <a:xfrm rot="21380400">
            <a:off x="3047760" y="4190760"/>
            <a:ext cx="4743360" cy="20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Ф р у к т 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Ябло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Image4"/>
          <p:cNvPicPr/>
          <p:nvPr/>
        </p:nvPicPr>
        <p:blipFill>
          <a:blip r:embed="rId1"/>
          <a:stretch/>
        </p:blipFill>
        <p:spPr>
          <a:xfrm>
            <a:off x="2514600" y="2286000"/>
            <a:ext cx="400212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Лимон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Апельсин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Банан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Груш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Verdana"/>
              </a:rPr>
              <a:t>Перси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11" descr="Клубника_2"/>
          <p:cNvPicPr/>
          <p:nvPr/>
        </p:nvPicPr>
        <p:blipFill>
          <a:blip r:embed="rId1"/>
          <a:stretch/>
        </p:blipFill>
        <p:spPr>
          <a:xfrm rot="20973000">
            <a:off x="3809520" y="456840"/>
            <a:ext cx="4442040" cy="1930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Бананы"/>
          <p:cNvPicPr/>
          <p:nvPr/>
        </p:nvPicPr>
        <p:blipFill>
          <a:blip r:embed="rId2"/>
          <a:stretch/>
        </p:blipFill>
        <p:spPr>
          <a:xfrm rot="20926200">
            <a:off x="5028840" y="3886200"/>
            <a:ext cx="3733920" cy="2595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sm_f_473e173ae2b5f"/>
          <p:cNvPicPr/>
          <p:nvPr/>
        </p:nvPicPr>
        <p:blipFill>
          <a:blip r:embed="rId3"/>
          <a:stretch/>
        </p:blipFill>
        <p:spPr>
          <a:xfrm>
            <a:off x="3124080" y="27432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№ 1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дбери слова к основному понятию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мидор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вощ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кусный, деревянный, красный, зеленый, высокий, круглый, тёплый, сладкий, растет на грядк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Груша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Ягода, фрук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 вкусная, горькая, желтая, травянистая, мягкая, твердая, растёт в саду на дерев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Баклажан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вощ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кусный, полезный, горький, вредный, древесный, продолговатый, растёт на огород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ние№2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, что можно приготовить из перечисленных     овощей фрукт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2133720"/>
          <a:ext cx="8686800" cy="38973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звание овощей,фрукто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Что делают, готовят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18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ртофел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уку, крахмал, полуфабрикаты, супы, пирог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пус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?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113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орков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ок, маринад, приправу, заготовку на зиму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62120" y="1828800"/>
          <a:ext cx="207720" cy="517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 Сиделева</cp:lastModifiedBy>
  <dcterms:modified xsi:type="dcterms:W3CDTF">2021-05-21T15:14:5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