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1105-1113-45FE-A94B-1F15CBE6E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C975-0871-40DE-B8D0-A2B404BC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7864-57B4-4ADC-965C-5AF2D9BA4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ADD1-2DDC-47B2-B128-07C4466D4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0D14-FF36-4975-9580-8AF34A59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F242-D01A-4225-9C3D-97B33516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6411-DD1D-4428-861E-8CFB9800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658E-9362-49C6-8083-238A0F30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C830-05D7-4409-B248-2BC99AE0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CC02-B656-4950-A712-C1AD5D34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B440-FF98-4E7A-B2C8-B9C12B5B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4AE4-93A1-485C-8B76-E91D95CB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9416-D52D-459B-842E-0E11AB4BED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ПР – вариант 8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Ясная Поляна </a:t>
            </a:r>
            <a:r>
              <a:rPr b="0" lang="ru-RU" sz="2500" spc="-1" strike="noStrike">
                <a:solidFill>
                  <a:srgbClr val="ff0000"/>
                </a:solidFill>
                <a:latin typeface="Calibri"/>
              </a:rPr>
              <a:t>–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это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один из самых знаменитых уголков России. Нет усадьбы</a:t>
            </a:r>
            <a:r>
              <a:rPr b="0" lang="ru-RU" sz="2500" spc="-1" strike="noStrike">
                <a:solidFill>
                  <a:srgbClr val="ff0000"/>
                </a:solidFill>
                <a:latin typeface="Calibri"/>
              </a:rPr>
              <a:t>, которая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евосходила бы её славой. В этой усадьбе</a:t>
            </a: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, принадлежавшей ранее его матери,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олстой поселился после женитьбы в 1862 год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начале Толстой</a:t>
            </a: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, по-видимому,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ытался энергично наладить усадебное хозяйство. Он ставил различные </a:t>
            </a: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эксперименты: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зводил неизвестные в России сорта капусты, устроил свиноводческую ферму. Он много времени проводил на пасеке, на скотном дворе, в поле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, пропадая на пешне и на сенокосе целыми днями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 До конца своих дней великий писатель любил физический труд. Свою долгую жизнь он сам объяснял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тем, что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чти три четверти её пробыл на деревенском воздухе в Ясной Полян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десь у него гостили крупнейшие </a:t>
            </a: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писатели: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.С. Тургенев, А.А. Фет, Н.С. Лесков, В.Г. Короленко, М.Горький, Л.Н. Андреев, И.А. Бунин. Из художников следует прежде всего назвать И.Е. Репина, Н.Н. Ге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, а также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.Н. Крамского,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написавшего здесь по заказу П.М. Третьякова два портрета Толстого.   </a:t>
            </a:r>
            <a:r>
              <a:rPr b="1" lang="ru-RU" sz="2500" spc="-1" strike="noStrike">
                <a:solidFill>
                  <a:srgbClr val="00b0f0"/>
                </a:solidFill>
                <a:latin typeface="Calibri"/>
              </a:rPr>
              <a:t>9 из 9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5. Поставьте знак ударения в слов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о́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ерху, принят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а́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, ц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е́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нтнер, нач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а́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ший. 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2из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Наж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и́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ший, д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о́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низу, там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о́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жня, ободрен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а́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2 из 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2968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6.Найдите и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исправьте грамматические ошибки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. ЗАПИШИТЕ 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ИСПРАВЛЕННЫЙ вариан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). По завершени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фильма мы пошли в каф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) Ответивший на первый вопрос школьник получил 10 балл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2из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298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7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.Выпишите предложени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,в котором нужна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запятая.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НАПИШИТЕ, на каком основании вы сделали свой выбор.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Здесь два задания!!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Полезные растения всегда привлекали внимание человека и порождали фантастические сказания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00b050"/>
                </a:solidFill>
                <a:uFillTx/>
                <a:latin typeface="Calibri"/>
              </a:rPr>
              <a:t>сохранившиеся до нашего времени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В этом предложении есть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ричастный оборот.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2из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.7, задание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. Бульдоги сунули морды между прутьев решётки и жадно зарычали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разглядывая девочку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. В этом предложении есть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деепричастный оборот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2 из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24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8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.Выпишите предложени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,в котором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нужны 2 запятые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НАПИШИТЕ, на каком основании вы сделали свой выбор.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Здесь два задания!!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928960"/>
            <a:ext cx="86868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Коля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е трать время зря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следя за муравьями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. В начале предложения стоит </a:t>
            </a: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обращение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, в конце есть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еепричастный оборот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, который обособляется.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3 из 3 б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.7, задание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57120" y="1428840"/>
            <a:ext cx="878688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.Рекс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ы потерялся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сорвавшись с поводка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. В начале предложения стоит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бращение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, в конце есть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еепричастный оборот, который обособляется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 из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9.Определи и запиши основную мысль текст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сновная мысль текста заключается в том, что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до беречь природу, «не писать, не долбить, не резать» деревья, леса, рощи, пещеры. В жизни есть много других способов утвердить своё имя.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2из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0.Определи тип речи в предложениях 24-2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Рассуждение*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1 из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ассуждение – тезис, доказательство, выв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исание-како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вествование-кто, что, где, ког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1зад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1 часть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Какие эмоции вызывает у автора Гаврилов? </a:t>
            </a: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2 часть.ВЫПИШИТЕ не менее 3-х ключевых словосочетаний, подтверждающих ваш отве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2785680"/>
            <a:ext cx="86868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аврилов у автора текста вызывает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егативные эмоции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потому что не умеет утвердить себя делом: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жуткая штука – тщеславие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»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,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а известность Гаврилова – известность стыдная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»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,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попытались его пристыдить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»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Пишите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цитаты в кавычках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5 баллов из 5!!!!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.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1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ма рассказчика относится к ежедневной мойке посуды плохо. Она очень устала это делать и надеется на помощь сына и мужа: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проклятую мойку», «посуда, посуда, три раза в день посуда», «бедствие какое-то», «целая гора тарелок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 из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.Выполни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морфемный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словообразовательны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й разбо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-видимому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по – приставка, вид– корень, им– суффикс, ому– суффикс,  по- видимому– основ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видим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ому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иди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ый  (приставочно-суффиксальный способ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6 из 6 баллов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Прямая со стрелкой 4"/>
          <p:cNvCxnSpPr/>
          <p:nvPr/>
        </p:nvCxnSpPr>
        <p:spPr>
          <a:xfrm flipH="1" flipV="1">
            <a:off x="3714120" y="3499560"/>
            <a:ext cx="7866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2. Определи и запиши лексическое значени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6600" spc="-1" strike="noStrike">
                <a:solidFill>
                  <a:srgbClr val="00b050"/>
                </a:solidFill>
                <a:latin typeface="Calibri"/>
              </a:rPr>
              <a:t>Аршинный – большо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1 из 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26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3.Найди 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стилистически окрашенное слово  предложении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…,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ыпиши это слово , подбери и запиши синоним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 нем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0" y="3000240"/>
            <a:ext cx="9144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Calibri"/>
              </a:rPr>
              <a:t>Письмена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, синоним – </a:t>
            </a:r>
            <a:r>
              <a:rPr b="0" lang="ru-RU" sz="6000" spc="-1" strike="noStrike">
                <a:solidFill>
                  <a:srgbClr val="00b050"/>
                </a:solidFill>
                <a:latin typeface="Calibri"/>
              </a:rPr>
              <a:t>надпис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2из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4.Объясни значение пословицы: Нет земли краше, чем Родина наш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а пословица означает, что нужно беречь Родину, заботиться о природе, не губить её, различными способами помогать и оберегать, ведь родная земля – самое ценное место на свете для каждого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2из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47=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.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4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Пословиц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Любишь кататься, люби и саночки возить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значает: если хочешь получить радостный и хороший результат, то нужно потрудиться и иногда выполнять дела, которые тебе неприятны, но необходи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2 из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ариант 7, 2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чтательно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мечт – корень, а – суффикс, тельн – суффикс, ом – окончание,  мечтательн – основ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чта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тельн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м      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еч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ь (суффиксальный способ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6 из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Прямая со стрелкой 4"/>
          <p:cNvCxnSpPr/>
          <p:nvPr/>
        </p:nvCxnSpPr>
        <p:spPr>
          <a:xfrm flipH="1" flipV="1">
            <a:off x="3571560" y="3499560"/>
            <a:ext cx="714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3.Выполни морфологический разбор части ре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надлежавшей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ричаст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в усадьбе (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то делавшей?)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адлежавш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I.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.ф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– принадлежавший (принадлежать)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ст. призн.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йств., прош.вр., несов. в., невозвр.;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пост. призн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в ед.ч., в ж.р., в П.п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II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усадьбе(какой?)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инадлежавшей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3 из 3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бал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.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13840" y="1285560"/>
            <a:ext cx="8472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I.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остоянно</a:t>
            </a:r>
            <a:r>
              <a:rPr b="1" lang="ru-RU" sz="4000" spc="-1" strike="noStrike" baseline="30000">
                <a:solidFill>
                  <a:srgbClr val="ff0000"/>
                </a:solidFill>
                <a:latin typeface="Calibri"/>
              </a:rPr>
              <a:t>3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- наречие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, тянуло (как? каким образом?) постоянн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II.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Н.ф.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– постоянно,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неизменяемое,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знак действия, наречие образа действ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II.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януло (как?)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постоянно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3 из 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Синтаксический разбор предлож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42884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До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(пр.)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 конца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(сущ.)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 своих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(мест.)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 дней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(сущ.)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великий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(прилаг.)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писатель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(сущ.)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любил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(глаг.)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физический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(прилаг.)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труд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(сущ.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).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вествовательное, невосклицательное, простое, двусоставное, распространённое, полное, не осложнено)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.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[ - =].     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3 из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.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213920"/>
            <a:ext cx="91440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Навсегда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(наречие)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ему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(мест.)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запомнились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(глагол)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тенистые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(прилагательное)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уголки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(существительное)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лутовиновского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(прилагательное)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парка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(существительное).</a:t>
            </a:r>
            <a:r>
              <a:rPr b="1" lang="ru-RU" sz="40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овеств., невоск., простое, двусост., распр.. полное, не осложнено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[ =-].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3 из 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3адание 3. Выпиши предложени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Я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, в которых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ыделенные слова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являются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редлогами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 заключени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кции профессор рассказал случай из собственного опы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Иногда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мест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лов хватает одного взгля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из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3адание 4. Выпиши предложени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Я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, в которых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ыделенные слова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являются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союзами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1). Взрослые 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тоже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любят шоколад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3). Завтра 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также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будет идти дождь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2из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12T14:43:10Z</dcterms:created>
  <dc:creator>123</dc:creator>
  <dc:description/>
  <dc:language>en-US</dc:language>
  <cp:lastModifiedBy>123</cp:lastModifiedBy>
  <dcterms:modified xsi:type="dcterms:W3CDTF">2021-05-23T16:47:18Z</dcterms:modified>
  <cp:revision>12</cp:revision>
  <dc:subject/>
  <dc:title>Слайд 1</dc:title>
</cp:coreProperties>
</file>