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6588000" y="4508640"/>
            <a:ext cx="25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Автор: воспитатель старшей группы Денега Н. 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!!!!!!!!!!!!!!!!!!!!!!!!!!!!!!!!!!!!!!!!!!!!1274446c4c35 (391x700, 303Kb)"/>
          <p:cNvPicPr/>
          <p:nvPr/>
        </p:nvPicPr>
        <p:blipFill>
          <a:blip r:embed="rId1"/>
          <a:stretch/>
        </p:blipFill>
        <p:spPr>
          <a:xfrm>
            <a:off x="0" y="2349360"/>
            <a:ext cx="2771640" cy="38214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855800" y="728640"/>
            <a:ext cx="58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срочный проект по теме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накомство с народной культурой и традициями.  Русский фольклор »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ая групп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4291920" y="57690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122256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3419640" y="1328760"/>
            <a:ext cx="39607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42920" y="0"/>
            <a:ext cx="378144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детей сформированы элементарные представления о русском фолькл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школьники знают названия различных промы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гащен словарный запас по теме «Русский фолькло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школьники знают особенности, характерные для каждого вида росписи и умеют самостоятельно выбирать соответствующую цветовую гам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 приняли активное участие в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овое мероприятие (продукт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авка дет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зделия декоративно-прикладного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3719520" y="1440"/>
            <a:ext cx="5424480" cy="363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50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395280" y="74448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атрализация народных сказок – совместное творчество детей, воспитателей и родителей воспит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C:\Users\User\Desktop\фото и видео\101MSDCF\DSC08210.JPG"/>
          <p:cNvPicPr/>
          <p:nvPr/>
        </p:nvPicPr>
        <p:blipFill>
          <a:blip r:embed="rId1"/>
          <a:stretch/>
        </p:blipFill>
        <p:spPr>
          <a:xfrm>
            <a:off x="0" y="1895400"/>
            <a:ext cx="4386240" cy="377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5940360" y="379440"/>
            <a:ext cx="2889360" cy="2762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3"/>
          <a:stretch/>
        </p:blipFill>
        <p:spPr>
          <a:xfrm>
            <a:off x="4390920" y="2673360"/>
            <a:ext cx="4573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0" y="6480"/>
            <a:ext cx="5427720" cy="4070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2"/>
          <a:stretch/>
        </p:blipFill>
        <p:spPr>
          <a:xfrm>
            <a:off x="4464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накомство с русскими 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родными танцами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2" name="Рисунок 5" descr="F:\101MSDCF\DSC08450.JPG"/>
          <p:cNvPicPr/>
          <p:nvPr/>
        </p:nvPicPr>
        <p:blipFill>
          <a:blip r:embed="rId1"/>
          <a:stretch/>
        </p:blipFill>
        <p:spPr>
          <a:xfrm>
            <a:off x="196920" y="1881360"/>
            <a:ext cx="3645000" cy="2946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3841920" y="2235240"/>
            <a:ext cx="529272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480" y="66312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Уголок патриотического воспитания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5" name="Рисунок 3" descr="C:\Users\User\Desktop\фото и видео\101MSDCF\DSC08187.JPG"/>
          <p:cNvPicPr/>
          <p:nvPr/>
        </p:nvPicPr>
        <p:blipFill>
          <a:blip r:embed="rId1"/>
          <a:stretch/>
        </p:blipFill>
        <p:spPr>
          <a:xfrm>
            <a:off x="250920" y="2889360"/>
            <a:ext cx="3987720" cy="3297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C:\Users\User\AppData\Local\Microsoft\Windows\Temporary Internet Files\Content.Word\DSC08186.jpg"/>
          <p:cNvPicPr/>
          <p:nvPr/>
        </p:nvPicPr>
        <p:blipFill>
          <a:blip r:embed="rId2"/>
          <a:stretch/>
        </p:blipFill>
        <p:spPr>
          <a:xfrm>
            <a:off x="4707000" y="1233360"/>
            <a:ext cx="4083120" cy="4953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135000" y="1233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ликая, славная, матушка - Р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 выжила в жёсткой борь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Родиной милой с детства горжу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ланяюсь низко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SKP</cp:lastModifiedBy>
  <cp:lastPrinted>2016-01-18T14:26:05Z</cp:lastPrinted>
  <dcterms:modified xsi:type="dcterms:W3CDTF">2021-05-23T15:27:16Z</dcterms:modified>
  <cp:revision>59</cp:revision>
  <dc:subject/>
  <dc:title>Слайд 1</dc:title>
</cp:coreProperties>
</file>