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090-8771-486C-9469-1079595A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BF0-06F2-4D93-B9B3-6F61D82C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82A-5F74-4F72-BE89-FE0C5084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CA3-96E9-4184-B4A1-C8434D54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919B-62C7-4D5D-B584-BD2E0E2F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61BA-DCAD-403D-99F5-FDF0086C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EBF9-52F5-4C98-82A8-B78196D5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1AD6-7B77-49E4-BBFE-770B5458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2CD-E899-4F7A-B6BB-5BD2EFB9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48C1-8CD7-40FB-B5D9-9C78F8DF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7073-BDE8-4FBA-B5A1-84C076F5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22A-3ED2-4D60-B3AE-DA4DECD0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DCFE-0CA0-413E-A5DF-DDE1145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5B2F-C666-40D7-8394-E9294AFD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9B86-3E10-4E78-BE4D-13321F00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F27D-D29C-4B07-8D7D-9E2A63B9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6A77-82AF-43DA-8154-D37F930D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511-9456-426D-B4DE-1CC6B741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758-605A-4D25-9D83-6876A6E9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F52-193D-48A0-86FF-CCC5FC9A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3F4-66B1-459D-B0C8-BEAE8379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926-9E33-4243-9B8E-8B24186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767-2E0E-41F7-8BA3-38327E3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4D9-D08F-41AA-85C9-9EA4718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64C3-F7BB-4786-93FB-56C1E1E992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DC84-B02B-42F2-92D6-F46297CC2F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0033"/>
                </a:solidFill>
                <a:latin typeface="Iskoola Pota"/>
              </a:rPr>
              <a:t>Папоротникообразные растения </a:t>
            </a:r>
            <a:br>
              <a:rPr sz="4000"/>
            </a:br>
            <a:r>
              <a:rPr b="0" i="1" lang="ru-RU" sz="4000" spc="-1" strike="noStrike">
                <a:solidFill>
                  <a:srgbClr val="330033"/>
                </a:solidFill>
                <a:latin typeface="Iskoola Pota"/>
              </a:rPr>
              <a:t>Красной книги Саратовской област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8 «А» класса МОУ «ООШ № 78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ьченко На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учитель биологии МОУ «ООШ № 78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ельянова Валент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зделы текстового описания вид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0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з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тегория и 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аспространение и местооб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Лимитирующи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инятые и необходимые меры ох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сточник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Автор - состав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76560" y="1599840"/>
            <a:ext cx="408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тегория и ста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раткая характе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спрост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собенности экологии и фитоце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Состояние локальных популя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Лимитирующ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ринятые меры ох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Необходимые меры ох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Возможность культив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Состав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Используемая литература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ая книга Сарат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Грибы. Лишайники. Растения. Животные/ Комитет охраны окружающей среды и природопользования Саратовской области; - Саратов: Издательство Торгово-промышленной палаты Саратовской области, 2006. -528 с.: ил.; 16 с. ил. (вклад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асная книга Сарат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Грибы. Лишайники. Растения. Животные/ Министерство природных ресурсов и экологии Саратовской области - Саратов: Папирус, 2021. -496 с.: ил.; 16 с. ил. (вклад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Видов всего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06 год -  13 ви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21 год - 13 ви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2"/>
          <p:cNvSpPr/>
          <p:nvPr/>
        </p:nvSpPr>
        <p:spPr>
          <a:xfrm>
            <a:off x="1274760" y="115920"/>
            <a:ext cx="66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поротникообраз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Кочедыжнико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Голокучник обыкновен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Кочедыжник ж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Гроздовнико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оздовник полулу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Щитовнико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Щитовник гребенчат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Щитовник Картузиуса (игольчатый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Щитовник муж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Плаунов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Дифизиаструм сплюсну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Плаун булавовид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Плаун год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Марсилее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Марсилея четырехлистн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Марсилея щети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Оноклее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Страусник обыкновенны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Телиптерисов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Телиптерис болотны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пределение семейств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599840"/>
            <a:ext cx="46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6 г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оротникообраз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Плауновид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емейство Плау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Папоротниковид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Семейство Кочедыж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Семейство Гроздов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емейство Щитовни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емейство Марсилее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емейство Оноклее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емейство Телиптери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76560" y="1599840"/>
            <a:ext cx="394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21 г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оротникообраз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ство Кочедыж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емейство Гроздов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емейство Щитовник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емейство Плау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емейство Марсилее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емейство Оноклее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емейство Телиптерисовы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Распределение по категориям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1640" y="1557360"/>
          <a:ext cx="7488000" cy="4249800"/>
        </p:xfrm>
        <a:graphic>
          <a:graphicData uri="http://schemas.openxmlformats.org/drawingml/2006/table">
            <a:tbl>
              <a:tblPr/>
              <a:tblGrid>
                <a:gridCol w="833400"/>
                <a:gridCol w="973080"/>
                <a:gridCol w="903240"/>
                <a:gridCol w="746280"/>
                <a:gridCol w="863640"/>
                <a:gridCol w="865080"/>
                <a:gridCol w="863640"/>
                <a:gridCol w="718920"/>
                <a:gridCol w="720720"/>
              </a:tblGrid>
              <a:tr h="11523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ятн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счезнувш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ходящиес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д угрозой исчезнов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ающиес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ис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ки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463760">
                <a:tc gridSpan="9"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 – численность сокращается в результате изменений существования или разрушения местообит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 – численность сокращается в результате чрезмерного использования их человеком и может быть стабилизорована специальными мерами ох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55640" y="549360"/>
          <a:ext cx="7993080" cy="5460840"/>
        </p:xfrm>
        <a:graphic>
          <a:graphicData uri="http://schemas.openxmlformats.org/drawingml/2006/table">
            <a:tbl>
              <a:tblPr/>
              <a:tblGrid>
                <a:gridCol w="4073400"/>
                <a:gridCol w="1974960"/>
                <a:gridCol w="194472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Голокучник обыкно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очедыжник же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Гроздовник полулу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Щитовник гребенча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Щитовник Картузиуса (игольчат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Щитовник мужс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Дифизиаструм сплюсну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Плаун булавовид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Плаун годи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Марсилея четырехлис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Марсилея щети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Страусник обыкно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68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Телиптерис боло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Гроздовник полулунный</a:t>
            </a:r>
            <a:br>
              <a:rPr sz="3600"/>
            </a:b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Botrychium lunaria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(L.) Sw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628640"/>
            <a:ext cx="43783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митирующие фак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ырубка лесов и рекре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ые меры охран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яется на территории национального парка «Хвалын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ые меры охран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особо охраняемых природных территорий в местах обитания вида. Выращивание в искусственных условиях с целью реинтродукции на охраняемые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3" descr="C:\Users\acer\Desktop\p0044.png"/>
          <p:cNvPicPr/>
          <p:nvPr/>
        </p:nvPicPr>
        <p:blipFill>
          <a:blip r:embed="rId1"/>
          <a:stretch/>
        </p:blipFill>
        <p:spPr>
          <a:xfrm>
            <a:off x="5940360" y="2349360"/>
            <a:ext cx="26989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Марсилея щетинистая</a:t>
            </a:r>
            <a:br>
              <a:rPr sz="3600"/>
            </a:b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Marsilea strigosa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Willd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599840"/>
            <a:ext cx="446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митирующие фактор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воды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аптывание мелководных озёр при выпасе ск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ые меры ох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 , хранение и уничтожение запрещены на всей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ые меры охран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новых местонахождений, охрана их и организация в этих местах особо охраняемых природных террит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acer\Desktop\p15.jpg"/>
          <p:cNvPicPr/>
          <p:nvPr/>
        </p:nvPicPr>
        <p:blipFill>
          <a:blip r:embed="rId1"/>
          <a:stretch/>
        </p:blipFill>
        <p:spPr>
          <a:xfrm>
            <a:off x="5003640" y="1557360"/>
            <a:ext cx="374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Телиптерис болотный</a:t>
            </a:r>
            <a:br>
              <a:rPr sz="3600"/>
            </a:b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Thelypteris palustris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chot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915920"/>
            <a:ext cx="41623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митирующие фактор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режима увлажнения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ые методы охра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яется на территории национального парка "Хвалынски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ые методы охра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ы поиск новых местонахождений и изучение биологии и экономики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acer\Desktop\telipt.jpg"/>
          <p:cNvPicPr/>
          <p:nvPr/>
        </p:nvPicPr>
        <p:blipFill>
          <a:blip r:embed="rId1"/>
          <a:stretch/>
        </p:blipFill>
        <p:spPr>
          <a:xfrm>
            <a:off x="5364000" y="1557360"/>
            <a:ext cx="352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23:23:56Z</dcterms:created>
  <dc:creator>ольга</dc:creator>
  <dc:description/>
  <dc:language>en-US</dc:language>
  <cp:lastModifiedBy>acer</cp:lastModifiedBy>
  <dcterms:modified xsi:type="dcterms:W3CDTF">2021-05-09T15:20:55Z</dcterms:modified>
  <cp:revision>40</cp:revision>
  <dc:subject/>
  <dc:title>Анализ демо-версии 2015 г ОГЭ и ЕГЭ</dc:title>
</cp:coreProperties>
</file>