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21F0-607C-420D-A7DF-467F2356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D0E4-8F96-4F00-B5FE-D502DBF7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61F2-7B18-474A-BF69-B009B131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5C4B-E95A-4B1A-BFCC-9DD4020A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C504-DC07-4EA8-8C41-234A9A24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7BEC-E0A5-493A-8A83-74C9FA27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8705-7242-4148-BBE2-75408009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1DB1-48DF-4749-BEF8-CA0B9E5F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808B-DE2F-4271-9ED4-3E125CFB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FBFE-1D6B-4153-9F92-C9A48245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24DC-8B52-4BA3-914B-BCD3FA88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3258-0EBF-4402-9235-36BA81D5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9BB0-95FA-43A8-A8D8-49384A6B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ACAE-482D-4781-A069-6D46D1D2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46F3-7BC2-4102-BE5D-B1EE79B6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B726-3E9B-4BD7-A69C-AAB05C37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AC9E-3505-4D82-BA10-8122ADD0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052A-16B1-4BB4-80A3-8D23EA4C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BD26-6EF1-4A39-905D-5968FEEC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8F88-1EDF-40A2-989B-49BE65DF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747A-CCC5-46A3-AFE7-6F869912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4B50-9134-4DE4-B68E-842CB89F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390-E5A3-42DB-8C5D-A79B5470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16F-E727-4EF2-91B9-66310BDA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FB65-295A-4095-BD1F-E0C0A61CE8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E76D-F591-450A-81C7-D5883C90254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0033"/>
                </a:solidFill>
                <a:latin typeface="Iskoola Pota"/>
              </a:rPr>
              <a:t>Папоротникообразные растения </a:t>
            </a:r>
            <a:br>
              <a:rPr sz="4000"/>
            </a:br>
            <a:r>
              <a:rPr b="0" i="1" lang="ru-RU" sz="4000" spc="-1" strike="noStrike">
                <a:solidFill>
                  <a:srgbClr val="330033"/>
                </a:solidFill>
                <a:latin typeface="Iskoola Pota"/>
              </a:rPr>
              <a:t>Красной книги Саратовской области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7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8 «А» класса МОУ «ООШ № 78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ьченко Надеж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: учитель биологии МОУ «ООШ № 78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мельянова Валент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Разделы текстового описания вид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06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Наз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атегория и стат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пис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Распространение и местооб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Лимитирующие 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ринятые и необходимые меры ох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Источники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Автор - состав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876560" y="1599840"/>
            <a:ext cx="4087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2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аз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атегория и стат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Краткая характер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Распростра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Особенности экологии и фитоце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Состояние локальных популя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Лимитирующие 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Принятые меры ох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Необходимые меры ох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Возможность культив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Источники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 Состав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0033"/>
                </a:solidFill>
                <a:latin typeface="Times New Roman"/>
              </a:rPr>
              <a:t>Используемая литература: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сная книга Саратовской обла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Грибы. Лишайники. Растения. Животные/ Комитет охраны окружающей среды и природопользования Саратовской области; - Саратов: Издательство Торгово-промышленной палаты Саратовской области, 2006. -528 с.: ил.; 16 с. ил. (вклад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Красная книга Саратовской обла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Грибы. Лишайники. Растения. Животные/ Министерство природных ресурсов и экологии Саратовской области - Саратов: Папирус, 2021. -496 с.: ил.; 16 с. ил. (вклад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Times New Roman"/>
              </a:rPr>
              <a:t>Видов всего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425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006 год -  13 вид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021 год - 13 вид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2"/>
          <p:cNvSpPr/>
          <p:nvPr/>
        </p:nvSpPr>
        <p:spPr>
          <a:xfrm>
            <a:off x="1274760" y="115920"/>
            <a:ext cx="6697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поротникообраз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ство Кочедыжников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Голокучник обыкновенны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Кочедыжник же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ство Гроздовников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Гроздовник полулу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ство Щитовников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Щитовник гребенчаты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Щитовник Картузиуса (игольчатый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Щитовник муж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ство Плаунов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Дифизиаструм сплюсну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Плаун булавовидны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Плаун годи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ство Марсилеев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Марсилея четырехлистна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Марсилея щетини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ство Оноклеев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Страусник обыкновенны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ство Телиптерисов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Телиптерис болотный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спределение семейств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0560" y="1599840"/>
            <a:ext cx="460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6 г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поротникообраз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дел Плауновид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Семейство Плаун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дел Папоротниковид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Семейство Кочедыжников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Семейство Гроздовников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емейство Щитовник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Семейство Марсилеев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Семейство Оноклеев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Семейство Телиптерис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876560" y="1599840"/>
            <a:ext cx="394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21 г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поротникообраз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йство Кочедыжников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емейство Гроздовников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емейство Щитовников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Семейство Плаун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Семейство Марсилеев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Семейство Оноклеев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Семейство Телиптерисовы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748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Распределение по категориям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71640" y="1557360"/>
          <a:ext cx="7488000" cy="4249800"/>
        </p:xfrm>
        <a:graphic>
          <a:graphicData uri="http://schemas.openxmlformats.org/drawingml/2006/table">
            <a:tbl>
              <a:tblPr/>
              <a:tblGrid>
                <a:gridCol w="833400"/>
                <a:gridCol w="973080"/>
                <a:gridCol w="903240"/>
                <a:gridCol w="746280"/>
                <a:gridCol w="863640"/>
                <a:gridCol w="865080"/>
                <a:gridCol w="863640"/>
                <a:gridCol w="718920"/>
                <a:gridCol w="720720"/>
              </a:tblGrid>
              <a:tr h="115236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оятно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счезнувш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ходящиес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д угрозой исчезнов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ающиес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числ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дки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 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1463760">
                <a:tc gridSpan="9"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а – численность сокращается в результате изменений существования или разрушения местообит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б – численность сокращается в результате чрезмерного использования их человеком и может быть стабилизорована специальными мерами охр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755640" y="549360"/>
          <a:ext cx="7993080" cy="5460840"/>
        </p:xfrm>
        <a:graphic>
          <a:graphicData uri="http://schemas.openxmlformats.org/drawingml/2006/table">
            <a:tbl>
              <a:tblPr/>
              <a:tblGrid>
                <a:gridCol w="4073400"/>
                <a:gridCol w="1974960"/>
                <a:gridCol w="1944720"/>
              </a:tblGrid>
              <a:tr h="371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и 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и 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Голокучник обыкно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очедыжник жен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Гроздовник полулу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Щитовник гребенча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Щитовник Картузиуса (игольчаты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Щитовник мужск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Дифизиаструм сплюсну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Плаун булавовид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Плаун годич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Марсилея четырехлис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Марсилея щетинис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Страусник обыкно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686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Телиптерис болот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Гроздовник полулунный</a:t>
            </a:r>
            <a:br>
              <a:rPr sz="3600"/>
            </a:br>
            <a:r>
              <a:rPr b="0" i="1" lang="en-US" sz="2800" spc="-1" strike="noStrike">
                <a:solidFill>
                  <a:srgbClr val="330033"/>
                </a:solidFill>
                <a:latin typeface="Times New Roman"/>
              </a:rPr>
              <a:t>Botrychium lunaria</a:t>
            </a:r>
            <a:r>
              <a:rPr b="0" i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(L.) Sw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1628640"/>
            <a:ext cx="437832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митирующие факто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ырубка лесов и рекре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ятые меры охран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раняется на территории национального парка «Хвалынск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ые меры охран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особо охраняемых природных территорий в местах обитания вида. Выращивание в искусственных условиях с целью реинтродукции на охраняемые терри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3" descr="C:\Users\acer\Desktop\p0044.png"/>
          <p:cNvPicPr/>
          <p:nvPr/>
        </p:nvPicPr>
        <p:blipFill>
          <a:blip r:embed="rId1"/>
          <a:stretch/>
        </p:blipFill>
        <p:spPr>
          <a:xfrm>
            <a:off x="5940360" y="2349360"/>
            <a:ext cx="26989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Марсилея щетинистая</a:t>
            </a:r>
            <a:br>
              <a:rPr sz="3600"/>
            </a:br>
            <a:r>
              <a:rPr b="0" i="1" lang="en-US" sz="2800" spc="-1" strike="noStrike">
                <a:solidFill>
                  <a:srgbClr val="330033"/>
                </a:solidFill>
                <a:latin typeface="Times New Roman"/>
              </a:rPr>
              <a:t>Marsilea strigosa</a:t>
            </a:r>
            <a:r>
              <a:rPr b="0" i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Willd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11280" y="1599840"/>
            <a:ext cx="4465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митирующие факторы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рязнение воды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таптывание мелководных озёр при выпасе ск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ятые меры охра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ор , хранение и уничтожение запрещены на всей территории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ые меры охран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новых местонахождений, охрана их и организация в этих местах особо охраняемых природных территор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Users\acer\Desktop\p15.jpg"/>
          <p:cNvPicPr/>
          <p:nvPr/>
        </p:nvPicPr>
        <p:blipFill>
          <a:blip r:embed="rId1"/>
          <a:stretch/>
        </p:blipFill>
        <p:spPr>
          <a:xfrm>
            <a:off x="5003640" y="1557360"/>
            <a:ext cx="3745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Телиптерис болотный</a:t>
            </a:r>
            <a:br>
              <a:rPr sz="3600"/>
            </a:br>
            <a:r>
              <a:rPr b="0" i="1" lang="en-US" sz="3200" spc="-1" strike="noStrike">
                <a:solidFill>
                  <a:srgbClr val="330033"/>
                </a:solidFill>
                <a:latin typeface="Times New Roman"/>
              </a:rPr>
              <a:t>Thelypteris palustris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chot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1915920"/>
            <a:ext cx="416232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митирующие факторы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е режима увлажнения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ятые методы охраны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раняется на территории национального парка "Хвалынский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ые методы охраны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ы поиск новых местонахождений и изучение биологии и экономики в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Users\acer\Desktop\telipt.jpg"/>
          <p:cNvPicPr/>
          <p:nvPr/>
        </p:nvPicPr>
        <p:blipFill>
          <a:blip r:embed="rId1"/>
          <a:stretch/>
        </p:blipFill>
        <p:spPr>
          <a:xfrm>
            <a:off x="5364000" y="1557360"/>
            <a:ext cx="3529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7T23:23:56Z</dcterms:created>
  <dc:creator>ольга</dc:creator>
  <dc:description/>
  <dc:language>en-US</dc:language>
  <cp:lastModifiedBy>acer</cp:lastModifiedBy>
  <dcterms:modified xsi:type="dcterms:W3CDTF">2021-05-09T15:20:55Z</dcterms:modified>
  <cp:revision>40</cp:revision>
  <dc:subject/>
  <dc:title>Анализ демо-версии 2015 г ОГЭ и ЕГЭ</dc:title>
</cp:coreProperties>
</file>