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D0C-649F-48A7-9B54-857ABB1A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BCF-ED14-44A3-994E-78760D8C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3AC-37C4-455E-838A-018AE2D8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514-6FC7-4636-B346-E366C4DC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5D4A-6448-47E7-9AD5-56CF1924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E225-71DA-4A97-B7C9-ABD9F26F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1A5F-5868-4083-AC9F-529BE1BE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4A08-922E-4AFB-A23A-03D4B20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EF93-692B-4A6D-8EF3-17E31739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C1F6-CAF4-4A7B-A52D-393EFCE9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289B-AF89-491A-AD51-C675915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723-BC04-4755-94B3-BEBAD21C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524D-5594-42F6-BDC4-9D34F66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DA34-5B6F-4E34-8252-823298AC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C8BB-77CD-4682-92DF-084B68F3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C5C5-3336-4CA1-87A0-3462FA98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D454-8F14-4BAE-A25B-F182718E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BD35-AFC7-4D48-9A9F-1BA0FFC4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160B-F43B-4FE1-A281-325290FB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33CA-A9CC-4B6F-9A37-ED0FA9C6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B633-BA6F-4651-822A-85A73A8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A8531-166C-4C4F-9424-563B379B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190-8882-4A3D-BC6E-ACA4A75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5FFBE-D768-4901-8768-A221EF01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907A-7AB2-4AEE-8BF3-854FBCF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A384-BBEA-4443-AB5F-45F28317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C49A-58B2-426E-B847-0B782FB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2BC3-92C2-4119-BB78-82840CB2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0CBE-7F4D-4937-B1A3-1556B587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01A9-EB78-44C5-847C-EE0DC7B4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8BC6A-4528-4155-A17C-6A0E7239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56C5-A5BC-4B6B-833E-AD2B9D1A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8A3B-7E18-4503-9DCE-30B44420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C5E-5592-4722-8796-0D0F4BB7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75FD-1C12-43B7-B99C-274E6A0F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B2B0-70A2-45B1-817A-BEA23682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0A3F-1842-4FF2-B7C0-25434FB8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1D10-6C3B-455C-8E15-8CEDB8F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6599-59E6-4332-B8AB-EAB6C99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E9BAE-2F69-4C2E-BF42-45F2BCF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6C6E0-FC89-4602-AE65-68A3A7EC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269FE-483E-4416-A48F-54873D59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C5C9-9EB5-4022-927D-347EFE8B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47B-180F-4B0A-82AA-4551E0D1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B4A-6D65-4645-A6DD-8710FBFE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20F-4A00-4193-9049-42E85B60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C44-C712-4A06-996B-7D81347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820-266B-41CE-956E-6C17E1C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465D-EDFD-48AA-A69C-B7693649BD7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DCBC-A641-4988-891C-4C3387F0FBB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31C1-8665-4302-8514-DA408D14CF4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0F24-51E2-47DC-8002-5D5FDAC937C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дготовили и провели воспитатели и дети группы № 2 «Цыплята» детского сада «Теремок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(совместно с родителям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 мы любим лакомиться так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Содержимое 3" descr="C:\Users\Аня\Desktop\все для презентации\11. любим лакомиться так.jpg"/>
          <p:cNvPicPr/>
          <p:nvPr/>
        </p:nvPicPr>
        <p:blipFill>
          <a:blip r:embed="rId1"/>
          <a:stretch/>
        </p:blipFill>
        <p:spPr>
          <a:xfrm>
            <a:off x="2925720" y="1935000"/>
            <a:ext cx="3292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ход в парк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3" descr="C:\Users\Аня\Desktop\все для презентации\12. выход в парк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вешивание кормуш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Содержимое 4" descr="C:\Users\Аня\Desktop\все для презентации\14. развешиваем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5" descr="C:\Users\Аня\Desktop\все для презентации\15.разв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ед готов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4" descr="C:\Users\Аня\Desktop\работа\презентация покормите птиц 2019\парк птицы\DSCN4516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5" descr="C:\Users\Аня\Desktop\все для презентации\16.обед готов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здаем листовки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Покормите птиц зимой!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7" descr="C:\Users\Аня\Desktop\все для презентации\19.листовки.jpg"/>
          <p:cNvPicPr/>
          <p:nvPr/>
        </p:nvPicPr>
        <p:blipFill>
          <a:blip r:embed="rId1"/>
          <a:stretch/>
        </p:blipFill>
        <p:spPr>
          <a:xfrm>
            <a:off x="1214280" y="2286000"/>
            <a:ext cx="2476800" cy="400068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5" descr="C:\Users\Аня\Desktop\презентация покормите птиц 2019\парк птицы\IMG-20191204-WA0024.jpg"/>
          <p:cNvPicPr/>
          <p:nvPr/>
        </p:nvPicPr>
        <p:blipFill>
          <a:blip r:embed="rId2"/>
          <a:stretch/>
        </p:blipFill>
        <p:spPr>
          <a:xfrm>
            <a:off x="5645160" y="1920960"/>
            <a:ext cx="20448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ссказываем, почему важно кормить птиц зимой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Содержимое 4" descr="C:\Users\Аня\Desktop\все для презентации\18. рассказ.дети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5" descr="C:\Users\Аня\Desktop\все для презентации\17. раздаем листовки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ссматривание видов кормушек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одержимое 4" descr="C:\Users\Аня\Desktop\все для презентации\1. рассматривание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C:\Users\Аня\Desktop\работа\презентация покормите птиц 2019\проект покорми птиц свет.петров\кормушки\DSC08246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родителям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5" descr="C:\Users\Аня\Desktop\все для презентации\2. изготовление.JPG"/>
          <p:cNvPicPr/>
          <p:nvPr/>
        </p:nvPicPr>
        <p:blipFill>
          <a:blip r:embed="rId1"/>
          <a:stretch/>
        </p:blipFill>
        <p:spPr>
          <a:xfrm>
            <a:off x="814320" y="1920960"/>
            <a:ext cx="3324240" cy="443376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4" descr="C:\Users\Аня\Desktop\работа\презентация покормите птиц 2019\проект покорми птиц свет.петров\Кормушки родители\DSC08302.JPG"/>
          <p:cNvPicPr/>
          <p:nvPr/>
        </p:nvPicPr>
        <p:blipFill>
          <a:blip r:embed="rId2"/>
          <a:stretch/>
        </p:blipFill>
        <p:spPr>
          <a:xfrm>
            <a:off x="4286160" y="1857240"/>
            <a:ext cx="4400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ем покормим?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водим беседы с детьм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C:\Users\Аня\Desktop\работа\презентация покормите птиц 2019\проект покорми птиц свет.петров\кормушки\DSC08248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5" descr="C:\Users\Аня\Desktop\работа\презентация покормите птиц 2019\проект покорми птиц свет.петров\Кормушки родители\DSC08299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дуктивная деятельность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4" descr="C:\Users\Аня\Desktop\все для презентации\4. прд.деят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5" descr="C:\Users\Аня\Desktop\работа\презентация покормите птиц 2019\проект покорми птиц свет.петров\птицы\DSC08233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ы готовы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3" descr="C:\Users\Аня\Desktop\все для презентации\5. готовые 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дём гостей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4" descr="C:\Users\Аня\Desktop\все для презентации\7.кормим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5" descr="C:\Users\Аня\Desktop\все для презентации\6.участок.JPG"/>
          <p:cNvPicPr/>
          <p:nvPr/>
        </p:nvPicPr>
        <p:blipFill>
          <a:blip r:embed="rId2"/>
          <a:stretch/>
        </p:blipFill>
        <p:spPr>
          <a:xfrm>
            <a:off x="5005440" y="1920960"/>
            <a:ext cx="33242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ости и такие к нам прилетают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C:\Users\Аня\Desktop\все для презентации\9.и даже такие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ервый снег!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 столовая работает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4" descr="C:\Users\Аня\Desktop\все для презентации\10.разведчик.jpg"/>
          <p:cNvPicPr/>
          <p:nvPr/>
        </p:nvPicPr>
        <p:blipFill>
          <a:blip r:embed="rId1"/>
          <a:stretch/>
        </p:blipFill>
        <p:spPr>
          <a:xfrm>
            <a:off x="814320" y="1920960"/>
            <a:ext cx="3324240" cy="443376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5" descr="C:\Users\Аня\Desktop\все для презентации\8.первые гости.jpg"/>
          <p:cNvPicPr/>
          <p:nvPr/>
        </p:nvPicPr>
        <p:blipFill>
          <a:blip r:embed="rId2"/>
          <a:stretch/>
        </p:blipFill>
        <p:spPr>
          <a:xfrm>
            <a:off x="5005440" y="1920960"/>
            <a:ext cx="33242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3T15:04:04Z</dcterms:created>
  <dc:creator>Алла</dc:creator>
  <dc:description/>
  <dc:language>en-US</dc:language>
  <cp:lastModifiedBy>Аня</cp:lastModifiedBy>
  <dcterms:modified xsi:type="dcterms:W3CDTF">2021-05-23T04:04:54Z</dcterms:modified>
  <cp:revision>8</cp:revision>
  <dc:subject/>
  <dc:title>Акция «Покормите птиц!»</dc:title>
</cp:coreProperties>
</file>