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6.png" ContentType="image/png"/>
  <Override PartName="/ppt/media/image31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EAC7-465F-4B72-AF89-FCD6509A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BE48-4646-4A9F-B8E7-00ADA577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EF31-C6BF-4880-AF0C-D124DF3C7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034D-8FF1-4169-9845-FDFD862B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7E58-CEF0-4DB5-BEA4-FF3761D9C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6C12-9325-47CE-9DAC-B95736D7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20BF-3341-41C8-9FE8-FF38F4EF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6555-1106-48F5-87D6-867B8654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2425-5F89-4EE4-98F8-BBE94E19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650A-8649-4880-997F-0BD0F55E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9760-74EC-4286-A414-AFA50C2E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5983-DC12-4863-8427-8AAB994E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FC31-8268-4C36-931B-1311324A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5B2D-8F1A-4117-A79C-3F718089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9524-AE21-43B4-9346-BFCAAF95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268A-3919-41FB-9109-BA30ABF13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37D8-DB86-47DE-A21E-75083ABE2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DFEC8-1D24-4775-9CFC-9EBA04CB9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743DC-FCC2-4E80-A941-0D265370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6F7BD-BEC8-426A-AC7A-DF39FD99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F3695-3C07-4BB3-B844-F8627A0C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3C26E-F71D-4289-9A3E-976738D1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EDBD-A9D1-4256-9D9A-B001F0A1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027B3-9036-461C-937A-52DE6BF1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761C3-2393-4E1E-BA9B-5AA41E83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60960-B67B-4341-AA8E-CB6ED3C0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34F5A-FB28-4E06-AC64-76CBDB47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3E269-4973-4E56-8DB8-C267C1D8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B8EB0-2723-488E-8D67-CB2E8264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9D31F-7788-4845-846D-668F5CB0F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6EA9E-A8E9-4CB9-A5C7-439ED964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5D512-D239-4298-BA5E-4E751E4E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F3391-8BBD-48B9-80B5-AA20A3AE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BA9E-CFA2-42D9-AC8D-563BA97A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15A07-B5A9-4882-94E2-A9C8A658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E52E9-40EC-4FF0-950D-8CC28BF1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505F6-6E2B-4140-84E4-F4F642F1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EA01D-2E3C-4ADA-B95A-9BC0686E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A793D-9BB9-4E3A-9B9B-586B172C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AAF03-FB15-4C7E-9398-35B9F785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7522C-0583-43D1-85AD-FD54D3B1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E745F-1077-4878-B544-457AB5F7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8FD94-D313-4AD5-8404-FF40CFF8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9B44-2907-4E71-A3AA-DD94567D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7175-37C4-4AF8-B644-2484C411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AAD9-AD35-4875-8D66-D4DE90F5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03B4-734C-4C2A-88D8-18C622D0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BC56-E475-4863-BCCC-7C3BD012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AEB2-EDA7-4F3C-A00D-B75EB35C47D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0795-D45B-41A9-85CB-EB4C894BEBC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5A86-BB29-4E13-8D7B-20CF4D51B9F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16BC-8374-432B-9793-436B022228D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549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дготовили и провели воспитатели и дети группы № 2 «Цыплята» детского сада «Теремок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(совместно с родителями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 мы любим лакомиться так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Содержимое 3" descr="C:\Users\Аня\Desktop\все для презентации\11. любим лакомиться так.jpg"/>
          <p:cNvPicPr/>
          <p:nvPr/>
        </p:nvPicPr>
        <p:blipFill>
          <a:blip r:embed="rId1"/>
          <a:stretch/>
        </p:blipFill>
        <p:spPr>
          <a:xfrm>
            <a:off x="2925720" y="1935000"/>
            <a:ext cx="32925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ыход в парк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Содержимое 3" descr="C:\Users\Аня\Desktop\все для презентации\12. выход в парк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азвешивание кормушек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Содержимое 4" descr="C:\Users\Аня\Desktop\все для презентации\14. развешиваем.JPG"/>
          <p:cNvPicPr/>
          <p:nvPr/>
        </p:nvPicPr>
        <p:blipFill>
          <a:blip r:embed="rId1"/>
          <a:stretch/>
        </p:blipFill>
        <p:spPr>
          <a:xfrm>
            <a:off x="457200" y="26240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25" name="Содержимое 5" descr="C:\Users\Аня\Desktop\все для презентации\15.разв.JPG"/>
          <p:cNvPicPr/>
          <p:nvPr/>
        </p:nvPicPr>
        <p:blipFill>
          <a:blip r:embed="rId2"/>
          <a:stretch/>
        </p:blipFill>
        <p:spPr>
          <a:xfrm>
            <a:off x="4648320" y="26240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ед готов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Содержимое 4" descr="C:\Users\Аня\Desktop\работа\презентация покормите птиц 2019\парк птицы\DSCN4516.JPG"/>
          <p:cNvPicPr/>
          <p:nvPr/>
        </p:nvPicPr>
        <p:blipFill>
          <a:blip r:embed="rId1"/>
          <a:stretch/>
        </p:blipFill>
        <p:spPr>
          <a:xfrm>
            <a:off x="457200" y="26240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28" name="Содержимое 5" descr="C:\Users\Аня\Desktop\все для презентации\16.обед готов.JPG"/>
          <p:cNvPicPr/>
          <p:nvPr/>
        </p:nvPicPr>
        <p:blipFill>
          <a:blip r:embed="rId2"/>
          <a:stretch/>
        </p:blipFill>
        <p:spPr>
          <a:xfrm>
            <a:off x="4648320" y="26240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Раздаем листовки 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«Покормите птиц зимой!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Содержимое 7" descr="C:\Users\Аня\Desktop\все для презентации\19.листовки.jpg"/>
          <p:cNvPicPr/>
          <p:nvPr/>
        </p:nvPicPr>
        <p:blipFill>
          <a:blip r:embed="rId1"/>
          <a:stretch/>
        </p:blipFill>
        <p:spPr>
          <a:xfrm>
            <a:off x="1214280" y="2286000"/>
            <a:ext cx="2476800" cy="4000680"/>
          </a:xfrm>
          <a:prstGeom prst="rect">
            <a:avLst/>
          </a:prstGeom>
          <a:ln w="0">
            <a:noFill/>
          </a:ln>
        </p:spPr>
      </p:pic>
      <p:pic>
        <p:nvPicPr>
          <p:cNvPr id="231" name="Содержимое 5" descr="C:\Users\Аня\Desktop\презентация покормите птиц 2019\парк птицы\IMG-20191204-WA0024.jpg"/>
          <p:cNvPicPr/>
          <p:nvPr/>
        </p:nvPicPr>
        <p:blipFill>
          <a:blip r:embed="rId2"/>
          <a:stretch/>
        </p:blipFill>
        <p:spPr>
          <a:xfrm>
            <a:off x="5645160" y="1920960"/>
            <a:ext cx="204480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Рассказываем, почему важно кормить птиц зимой!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3" name="Содержимое 4" descr="C:\Users\Аня\Desktop\все для презентации\18. рассказ.дети.jpg"/>
          <p:cNvPicPr/>
          <p:nvPr/>
        </p:nvPicPr>
        <p:blipFill>
          <a:blip r:embed="rId1"/>
          <a:stretch/>
        </p:blipFill>
        <p:spPr>
          <a:xfrm>
            <a:off x="457200" y="26240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34" name="Содержимое 5" descr="C:\Users\Аня\Desktop\все для презентации\17. раздаем листовки.JPG"/>
          <p:cNvPicPr/>
          <p:nvPr/>
        </p:nvPicPr>
        <p:blipFill>
          <a:blip r:embed="rId2"/>
          <a:stretch/>
        </p:blipFill>
        <p:spPr>
          <a:xfrm>
            <a:off x="4648320" y="26240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2680" cy="19018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Рассматривание видов кормушек.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Содержимое 4" descr="C:\Users\Аня\Desktop\все для презентации\1. рассматривание.JPG"/>
          <p:cNvPicPr/>
          <p:nvPr/>
        </p:nvPicPr>
        <p:blipFill>
          <a:blip r:embed="rId1"/>
          <a:stretch/>
        </p:blipFill>
        <p:spPr>
          <a:xfrm>
            <a:off x="457200" y="26240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99" name="Содержимое 5" descr="C:\Users\Аня\Desktop\работа\презентация покормите птиц 2019\проект покорми птиц свет.петров\кормушки\DSC08246.JPG"/>
          <p:cNvPicPr/>
          <p:nvPr/>
        </p:nvPicPr>
        <p:blipFill>
          <a:blip r:embed="rId2"/>
          <a:stretch/>
        </p:blipFill>
        <p:spPr>
          <a:xfrm>
            <a:off x="4648320" y="26240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пасибо родителям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Содержимое 5" descr="C:\Users\Аня\Desktop\все для презентации\2. изготовление.JPG"/>
          <p:cNvPicPr/>
          <p:nvPr/>
        </p:nvPicPr>
        <p:blipFill>
          <a:blip r:embed="rId1"/>
          <a:stretch/>
        </p:blipFill>
        <p:spPr>
          <a:xfrm>
            <a:off x="814320" y="1920960"/>
            <a:ext cx="3324240" cy="4433760"/>
          </a:xfrm>
          <a:prstGeom prst="rect">
            <a:avLst/>
          </a:prstGeom>
          <a:ln w="0">
            <a:noFill/>
          </a:ln>
        </p:spPr>
      </p:pic>
      <p:pic>
        <p:nvPicPr>
          <p:cNvPr id="202" name="Содержимое 4" descr="C:\Users\Аня\Desktop\работа\презентация покормите птиц 2019\проект покорми птиц свет.петров\Кормушки родители\DSC08302.JPG"/>
          <p:cNvPicPr/>
          <p:nvPr/>
        </p:nvPicPr>
        <p:blipFill>
          <a:blip r:embed="rId2"/>
          <a:stretch/>
        </p:blipFill>
        <p:spPr>
          <a:xfrm>
            <a:off x="4286160" y="1857240"/>
            <a:ext cx="44006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Чем покормим?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роводим беседы с детьми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Содержимое 4" descr="C:\Users\Аня\Desktop\работа\презентация покормите птиц 2019\проект покорми птиц свет.петров\кормушки\DSC08248.JPG"/>
          <p:cNvPicPr/>
          <p:nvPr/>
        </p:nvPicPr>
        <p:blipFill>
          <a:blip r:embed="rId1"/>
          <a:stretch/>
        </p:blipFill>
        <p:spPr>
          <a:xfrm>
            <a:off x="457200" y="26240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05" name="Содержимое 5" descr="C:\Users\Аня\Desktop\работа\презентация покормите птиц 2019\проект покорми птиц свет.петров\Кормушки родители\DSC08299.JPG"/>
          <p:cNvPicPr/>
          <p:nvPr/>
        </p:nvPicPr>
        <p:blipFill>
          <a:blip r:embed="rId2"/>
          <a:stretch/>
        </p:blipFill>
        <p:spPr>
          <a:xfrm>
            <a:off x="4648320" y="26240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дуктивная деятельность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Содержимое 4" descr="C:\Users\Аня\Desktop\все для презентации\4. прд.деят.JPG"/>
          <p:cNvPicPr/>
          <p:nvPr/>
        </p:nvPicPr>
        <p:blipFill>
          <a:blip r:embed="rId1"/>
          <a:stretch/>
        </p:blipFill>
        <p:spPr>
          <a:xfrm>
            <a:off x="457200" y="26240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08" name="Содержимое 5" descr="C:\Users\Аня\Desktop\работа\презентация покормите птиц 2019\проект покорми птиц свет.петров\птицы\DSC08233.JPG"/>
          <p:cNvPicPr/>
          <p:nvPr/>
        </p:nvPicPr>
        <p:blipFill>
          <a:blip r:embed="rId2"/>
          <a:stretch/>
        </p:blipFill>
        <p:spPr>
          <a:xfrm>
            <a:off x="4648320" y="26240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ы готовы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Содержимое 3" descr="C:\Users\Аня\Desktop\все для презентации\5. готовые 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Ждём гостей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Содержимое 4" descr="C:\Users\Аня\Desktop\все для презентации\7.кормим.JPG"/>
          <p:cNvPicPr/>
          <p:nvPr/>
        </p:nvPicPr>
        <p:blipFill>
          <a:blip r:embed="rId1"/>
          <a:stretch/>
        </p:blipFill>
        <p:spPr>
          <a:xfrm>
            <a:off x="457200" y="26240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13" name="Содержимое 5" descr="C:\Users\Аня\Desktop\все для презентации\6.участок.JPG"/>
          <p:cNvPicPr/>
          <p:nvPr/>
        </p:nvPicPr>
        <p:blipFill>
          <a:blip r:embed="rId2"/>
          <a:stretch/>
        </p:blipFill>
        <p:spPr>
          <a:xfrm>
            <a:off x="5005440" y="1920960"/>
            <a:ext cx="332424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Гости и такие к нам прилетают!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Содержимое 3" descr="C:\Users\Аня\Desktop\все для презентации\9.и даже такие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ервый снег! 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И столовая работает!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Содержимое 4" descr="C:\Users\Аня\Desktop\все для презентации\10.разведчик.jpg"/>
          <p:cNvPicPr/>
          <p:nvPr/>
        </p:nvPicPr>
        <p:blipFill>
          <a:blip r:embed="rId1"/>
          <a:stretch/>
        </p:blipFill>
        <p:spPr>
          <a:xfrm>
            <a:off x="814320" y="1920960"/>
            <a:ext cx="3324240" cy="4433760"/>
          </a:xfrm>
          <a:prstGeom prst="rect">
            <a:avLst/>
          </a:prstGeom>
          <a:ln w="0">
            <a:noFill/>
          </a:ln>
        </p:spPr>
      </p:pic>
      <p:pic>
        <p:nvPicPr>
          <p:cNvPr id="218" name="Содержимое 5" descr="C:\Users\Аня\Desktop\все для презентации\8.первые гости.jpg"/>
          <p:cNvPicPr/>
          <p:nvPr/>
        </p:nvPicPr>
        <p:blipFill>
          <a:blip r:embed="rId2"/>
          <a:stretch/>
        </p:blipFill>
        <p:spPr>
          <a:xfrm>
            <a:off x="5005440" y="1920960"/>
            <a:ext cx="332424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13T15:04:04Z</dcterms:created>
  <dc:creator>Алла</dc:creator>
  <dc:description/>
  <dc:language>en-US</dc:language>
  <cp:lastModifiedBy>Аня</cp:lastModifiedBy>
  <dcterms:modified xsi:type="dcterms:W3CDTF">2021-05-23T04:04:54Z</dcterms:modified>
  <cp:revision>8</cp:revision>
  <dc:subject/>
  <dc:title>Акция «Покормите птиц!»</dc:title>
</cp:coreProperties>
</file>