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C49-9B72-4B48-B322-6698ADAC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6D6-0989-413B-9544-9512CF25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B92-F809-49F2-80EC-80EB0F4A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2C6-4FA3-495D-BEBE-4EA559A5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2E81-9526-4133-88D7-393670D4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0CE-697B-423A-8D1C-B7954D85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90CC-F87B-4FC7-B709-AC26498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B175-0303-4421-AD9D-7C3CB6BA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1332-1010-495B-95D4-4755372E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7566-025C-4714-841C-6948365A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CF6A-507C-4CAF-ADC7-FE58970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935-654D-4B76-B380-0F25A477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B73B-4C69-42F3-93A3-18638EF8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8057-3F62-4159-988F-D07BB8ED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CFF8-A83A-4AFD-8F79-CC2B0BA3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D8E-E568-410D-AC2F-483F2D3D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2B17-19DC-45A3-BFDB-755FA1AA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1FF-2524-4C5F-9012-1F627466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4F8-1E74-4AD3-BE79-16831DCB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5BD-97E9-4B5E-BA2C-842F3CC4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DDC-2B02-425F-AE04-A55DFD77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543-8E1C-4AD8-8EE1-2240A09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1D3-7E13-485A-AB47-A38AD4B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113-CD08-423D-97D1-A622302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C2BA-84C1-44C7-A19B-08547726A0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3360"/>
              <a:ext cx="3622320" cy="6129000"/>
              <a:chOff x="5408280" y="63360"/>
              <a:chExt cx="362232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000" cy="235728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920"/>
                <a:ext cx="905760" cy="843480"/>
              </a:xfrm>
              <a:custGeom>
                <a:avLst/>
                <a:gdLst>
                  <a:gd name="textAreaLeft" fmla="*/ 0 w 905760"/>
                  <a:gd name="textAreaRight" fmla="*/ 906120 w 90576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40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56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608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68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92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>
                <a:gd name="textAreaLeft" fmla="*/ 0 w 1997640"/>
                <a:gd name="textAreaRight" fmla="*/ 1998000 w 19976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>
                <a:gd name="textAreaLeft" fmla="*/ 0 w 1270800"/>
                <a:gd name="textAreaRight" fmla="*/ 1271160 w 12708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>
                <a:gd name="textAreaLeft" fmla="*/ 0 w 1758240"/>
                <a:gd name="textAreaRight" fmla="*/ 1758600 w 17582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59840"/>
                  <a:gd name="textAreaBottom" fmla="*/ 159840 h 1598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080" y="293040"/>
              <a:ext cx="889200" cy="834120"/>
              <a:chOff x="565308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468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920" y="5253480"/>
              <a:ext cx="1062720" cy="834840"/>
              <a:chOff x="96192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784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088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328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50000"/>
              <a:ext cx="1689840" cy="1146600"/>
              <a:chOff x="375480" y="45000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8480"/>
                <a:ext cx="355320" cy="53028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364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70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840" y="3712320"/>
              <a:ext cx="1155600" cy="1607760"/>
              <a:chOff x="73778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5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32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>
                <a:gd name="textAreaLeft" fmla="*/ 0 w 1367640"/>
                <a:gd name="textAreaRight" fmla="*/ 1368000 w 13676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D14-AAF9-4BAC-9F9A-C9DC5AE5AE5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581960" cy="26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 </a:t>
            </a:r>
            <a:r>
              <a:rPr b="1" i="1" lang="ru-RU" sz="4000" spc="-1" strike="noStrike">
                <a:solidFill>
                  <a:srgbClr val="ff33cc"/>
                </a:solidFill>
                <a:latin typeface="Verdana"/>
              </a:rPr>
              <a:t>«Развитие мышления у детей с ЗПР старшего дошкольного возраста посредством дидактических игр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920" y="5638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c8"/>
                </a:solidFill>
                <a:latin typeface="Verdana"/>
              </a:rPr>
              <a:t>Погребная В.И, учитель-дефектолог</a:t>
            </a:r>
            <a:r>
              <a:rPr b="1" lang="ru-RU" sz="2400" spc="-1" strike="noStrike">
                <a:solidFill>
                  <a:srgbClr val="1a1ac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Сложи по образцу</a:t>
            </a: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«Колумбово яйцо», «Танграм» и т.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4191120" cy="3790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"/>
          <p:cNvPicPr/>
          <p:nvPr/>
        </p:nvPicPr>
        <p:blipFill>
          <a:blip r:embed="rId2"/>
          <a:stretch/>
        </p:blipFill>
        <p:spPr>
          <a:xfrm>
            <a:off x="380880" y="2612880"/>
            <a:ext cx="4114800" cy="37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Словесно-логическое мышление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даёт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возможность</a:t>
            </a: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отражать не только внешние, но и внутренние связи между предметами и явлениями, познавать их сущность и закономерность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401560"/>
            <a:ext cx="82296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«Что перепутал художник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Рисунок 1" descr=""/>
          <p:cNvPicPr/>
          <p:nvPr/>
        </p:nvPicPr>
        <p:blipFill>
          <a:blip r:embed="rId1"/>
          <a:stretch/>
        </p:blipFill>
        <p:spPr>
          <a:xfrm>
            <a:off x="1341360" y="3124080"/>
            <a:ext cx="6477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Заполнение таблиц.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 должно быть в свободной ячейке?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4" descr="рисунок5"/>
          <p:cNvPicPr/>
          <p:nvPr/>
        </p:nvPicPr>
        <p:blipFill>
          <a:blip r:embed="rId1"/>
          <a:stretch/>
        </p:blipFill>
        <p:spPr>
          <a:xfrm>
            <a:off x="533520" y="2209680"/>
            <a:ext cx="7772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Лабиринты</a:t>
            </a: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Рисунок 2" descr=""/>
          <p:cNvPicPr/>
          <p:nvPr/>
        </p:nvPicPr>
        <p:blipFill>
          <a:blip r:embed="rId1"/>
          <a:srcRect l="0" t="-7560" r="0" b="0"/>
          <a:stretch/>
        </p:blipFill>
        <p:spPr>
          <a:xfrm>
            <a:off x="609480" y="1143000"/>
            <a:ext cx="762012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«Четвёртый лишний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rcRect l="0" t="-9295" r="-7445" b="0"/>
          <a:stretch/>
        </p:blipFill>
        <p:spPr>
          <a:xfrm>
            <a:off x="609480" y="808200"/>
            <a:ext cx="8267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Раскрась ракеты, которые летят вверх, красным цветом, вниз – синим, налево – зелёным,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направо - жёлтым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Объект 2" descr=""/>
          <p:cNvPicPr/>
          <p:nvPr/>
        </p:nvPicPr>
        <p:blipFill>
          <a:blip r:embed="rId1"/>
          <a:stretch/>
        </p:blipFill>
        <p:spPr>
          <a:xfrm>
            <a:off x="617400" y="1828800"/>
            <a:ext cx="792324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Дидактическая игр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это важное средство развития мышления дошкольни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C </a:t>
            </a: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помощью специально подобранных дидактических игр можно скорректировать мышление дошкольников с ЗПР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Для детей независимо от их возраста важно не торопиться, проходить с ребенком все три этапа развития мышлени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20000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СПАСИБО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                 </a:t>
            </a: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З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           </a:t>
            </a: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ВНИМАНИЕ!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становлено, что умственное развитие детей в дошкольном возрасте происходит намного интенсивне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Если не создать условий для развития умственных способностей, то мышление человека окажется ограниченным узкими рамками, не сформируются интеллектуальная гибкость, желание и умение мыслить самостоятельно, выходить за пределы конкретной практической задач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Увлекательные дидактические игры создают у дошкольников интерес к решению умственных задач: успешный результат умственного усилия, преодоление трудностей приносит им удовлетворени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Дидактическая игра позволяе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Приобщать детей к текущей жизни в доступных им формах интеллектуальной и актуальной деятельности, нравственных и эстетических представлени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Создаются такие условия, в которых каждый ребенок получает возможность самостоятельно действовать в определенной ситуации и с определенными предметами, приобретая собственный действительный и чувствительный опыт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ff33cc"/>
                </a:solidFill>
                <a:latin typeface="Verdana"/>
              </a:rPr>
              <a:t>Это особенно важно для детей с ЗПР, у которых опыт действий с предметами значительно обеднен, не зафиксирован и не обобщен.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Виды мышле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3" name="Diagram 16"/>
          <p:cNvGrpSpPr/>
          <p:nvPr/>
        </p:nvGrpSpPr>
        <p:grpSpPr>
          <a:xfrm>
            <a:off x="2231640" y="1931760"/>
            <a:ext cx="4682520" cy="4055040"/>
            <a:chOff x="2231640" y="1931760"/>
            <a:chExt cx="4682520" cy="4055040"/>
          </a:xfrm>
        </p:grpSpPr>
        <p:sp>
          <p:nvSpPr>
            <p:cNvPr id="174" name="_s1028"/>
            <p:cNvSpPr/>
            <p:nvPr/>
          </p:nvSpPr>
          <p:spPr>
            <a:xfrm>
              <a:off x="3144960" y="1931760"/>
              <a:ext cx="2855880" cy="2855880"/>
            </a:xfrm>
            <a:custGeom>
              <a:avLst/>
              <a:gdLst>
                <a:gd name="textAreaLeft" fmla="*/ 0 w 2855880"/>
                <a:gd name="textAreaRight" fmla="*/ 2856240 w 2855880"/>
                <a:gd name="textAreaTop" fmla="*/ 0 h 2855880"/>
                <a:gd name="textAreaBottom" fmla="*/ 2856240 h 28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5" name="_s1029"/>
            <p:cNvSpPr/>
            <p:nvPr/>
          </p:nvSpPr>
          <p:spPr>
            <a:xfrm rot="7200000">
              <a:off x="3535200" y="2607840"/>
              <a:ext cx="2855880" cy="2856240"/>
            </a:xfrm>
            <a:custGeom>
              <a:avLst/>
              <a:gdLst>
                <a:gd name="textAreaLeft" fmla="*/ 0 w 2855880"/>
                <a:gd name="textAreaRight" fmla="*/ 2856240 w 2855880"/>
                <a:gd name="textAreaTop" fmla="*/ 0 h 2856240"/>
                <a:gd name="textAreaBottom" fmla="*/ 2856600 h 285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6" name="_s1030"/>
            <p:cNvSpPr/>
            <p:nvPr/>
          </p:nvSpPr>
          <p:spPr>
            <a:xfrm rot="14400000">
              <a:off x="2754000" y="2607840"/>
              <a:ext cx="2855880" cy="2855880"/>
            </a:xfrm>
            <a:custGeom>
              <a:avLst/>
              <a:gdLst>
                <a:gd name="textAreaLeft" fmla="*/ 0 w 2855880"/>
                <a:gd name="textAreaRight" fmla="*/ 2856240 w 2855880"/>
                <a:gd name="textAreaTop" fmla="*/ 0 h 2855880"/>
                <a:gd name="textAreaBottom" fmla="*/ 2856240 h 28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" name="_s1031"/>
            <p:cNvSpPr/>
            <p:nvPr/>
          </p:nvSpPr>
          <p:spPr>
            <a:xfrm>
              <a:off x="5353200" y="2454120"/>
              <a:ext cx="11458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Наглядно-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действенное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" name="_s1032"/>
            <p:cNvSpPr/>
            <p:nvPr/>
          </p:nvSpPr>
          <p:spPr>
            <a:xfrm>
              <a:off x="3998880" y="4800600"/>
              <a:ext cx="11462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Образное</a:t>
              </a:r>
              <a:r>
                <a:rPr b="1" lang="en-US" sz="16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2643120" y="2454120"/>
              <a:ext cx="114624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Словесно-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логическое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Наглядно-действенное мышлени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(даёт возможность познавать связи и отношения между воспринимаемыми предметами при решении практических задач посредством осуществления разнообразных движений и действий)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Дети строят сооружения из песка, лепят фигурки, делают куклы и т. 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" descr=""/>
          <p:cNvPicPr/>
          <p:nvPr/>
        </p:nvPicPr>
        <p:blipFill>
          <a:blip r:embed="rId2"/>
          <a:stretch/>
        </p:blipFill>
        <p:spPr>
          <a:xfrm>
            <a:off x="4664160" y="3352680"/>
            <a:ext cx="40989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Образное мышлени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(Научившись практически действовать с предметами человек может действовать с ними в уме, оперируя их образами. «Прежде чем что-то сделать, сначала подумай». Подумать - это значит представить, что и как надо сделать и какие результаты будут получены)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зложи картинки по порядку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4953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Ребенку предлагается продолжить в определенном порядке последовательность предметов, имеющих различные признаки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Рисунок 1" descr=""/>
          <p:cNvPicPr/>
          <p:nvPr/>
        </p:nvPicPr>
        <p:blipFill>
          <a:blip r:embed="rId1"/>
          <a:stretch/>
        </p:blipFill>
        <p:spPr>
          <a:xfrm>
            <a:off x="1608120" y="2057400"/>
            <a:ext cx="5943600" cy="45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                             </a:t>
            </a:r>
            <a:r>
              <a:rPr b="1" lang="ru-RU" sz="2400" spc="-1" strike="noStrike">
                <a:solidFill>
                  <a:srgbClr val="cc0099"/>
                </a:solidFill>
                <a:latin typeface="Verdana"/>
              </a:rPr>
              <a:t>Загадки.</a:t>
            </a: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тичник повадится- жди беды!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ыжим хвостом заметает следы.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Выгнул спину он дугой. Замяукал.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                       Кто такой? Потянулся сладко-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                       Вот и вся зарядка!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Объект 2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81024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11-08T18:37:1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