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4153-30F8-4B0F-B937-00FFA6C1C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E2CB-697C-4751-BD7F-A8C3BC89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6C58-612D-4C13-8EA4-6083600B2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63CA-1AEB-4357-8546-900DF471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E2FD-0BBD-43CC-8564-742F7A03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D6AF-CAF1-404E-8F65-7DE35A26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1BB8-BACF-4E76-9069-25921E3E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2543-B539-42B5-9E50-2EC32FF3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57F7-D68F-4363-A58F-61876FA6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9828-FFEB-4D74-A853-D12497EC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47A8-5975-4966-B766-F5628B28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51C0-6919-48F2-BC12-15FB839A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29A1-34F1-4555-97EE-3E788F9B7F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9A95-85AD-4FC5-BFB6-C49BB2F75A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1"/>
          <a:stretch/>
        </p:blipFill>
        <p:spPr>
          <a:xfrm>
            <a:off x="-12600" y="334800"/>
            <a:ext cx="9169200" cy="2122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Прямоугольник 1" descr=""/>
          <p:cNvPicPr/>
          <p:nvPr/>
        </p:nvPicPr>
        <p:blipFill>
          <a:blip r:embed="rId1"/>
          <a:stretch/>
        </p:blipFill>
        <p:spPr>
          <a:xfrm>
            <a:off x="96840" y="476280"/>
            <a:ext cx="8943840" cy="1938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303280" cy="396072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2627280" y="189000"/>
            <a:ext cx="6516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Пока маленькие дети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Знаем правила все эт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Это дядя светофор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Он сигналом нам помож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Как продолжить дальше пут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Овал 2"/>
          <p:cNvSpPr/>
          <p:nvPr/>
        </p:nvSpPr>
        <p:spPr>
          <a:xfrm>
            <a:off x="179280" y="189000"/>
            <a:ext cx="3097440" cy="324000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3276720" y="692280"/>
            <a:ext cx="6186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Если свет зажегся красный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Значит двигаться ОПАСНО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Овал 1"/>
          <p:cNvSpPr/>
          <p:nvPr/>
        </p:nvSpPr>
        <p:spPr>
          <a:xfrm>
            <a:off x="108000" y="189000"/>
            <a:ext cx="3240000" cy="3168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3098880" y="495360"/>
            <a:ext cx="6045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Monotype Corsiva"/>
              </a:rPr>
              <a:t>Желтым подожд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Monotype Corsiva"/>
              </a:rPr>
              <a:t>чуть-чуть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Monotype Corsiva"/>
              </a:rPr>
              <a:t>Будь готов продолжить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Monotype Corsiva"/>
              </a:rPr>
              <a:t>пут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Овал 1"/>
          <p:cNvSpPr/>
          <p:nvPr/>
        </p:nvSpPr>
        <p:spPr>
          <a:xfrm>
            <a:off x="179280" y="189000"/>
            <a:ext cx="3168720" cy="31687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3132000" y="620640"/>
            <a:ext cx="601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Monotype Corsiva"/>
              </a:rPr>
              <a:t>А зеленый загорит-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Monotype Corsiva"/>
              </a:rPr>
              <a:t>В путь отправиться велит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0" y="189000"/>
            <a:ext cx="4067280" cy="3887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4067280" y="189000"/>
            <a:ext cx="5257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Зебра-это не лошадка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Пешеходный переход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Он дает возможность людям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Безопасности проход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0" y="20520"/>
            <a:ext cx="4067280" cy="398484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3846600" y="20520"/>
            <a:ext cx="511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На дороге не играй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ПРАВИЛА ТЫ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СОБЛЮДА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8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2"/>
          <p:cNvSpPr/>
          <p:nvPr/>
        </p:nvSpPr>
        <p:spPr>
          <a:xfrm>
            <a:off x="395280" y="809640"/>
            <a:ext cx="8399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Monotype Corsiva"/>
              </a:rPr>
              <a:t>Спасибо за внимание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14:28:28Z</dcterms:created>
  <dc:creator>Светочек</dc:creator>
  <dc:description/>
  <dc:language>en-US</dc:language>
  <cp:lastModifiedBy>DetSad</cp:lastModifiedBy>
  <dcterms:modified xsi:type="dcterms:W3CDTF">2021-05-24T01:42:48Z</dcterms:modified>
  <cp:revision>13</cp:revision>
  <dc:subject/>
  <dc:title>Презентация PowerPoint</dc:title>
</cp:coreProperties>
</file>