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479-1BE0-4804-AC2D-480764EB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9BF-D38C-4AC8-A2A4-649F8685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656-C48D-4E8D-A3E8-D5D8591A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398-B9A5-428E-B7A7-F9D3FDA0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FFC-E341-41A7-9BFF-81CDE96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8DF-CFB4-480D-BD08-726FF4DB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58A-16C6-4A63-BCDE-9C20EDF9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216-1AC4-4391-8413-33B193A5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A04-0880-44AF-925F-395EF8CD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E1A-52F3-4073-BBB0-1647F523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38F-DD76-4482-8176-EE606F4E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884-9CCA-46E4-881F-DF7CFCF7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11EF-F480-4871-AE55-6E95760CC8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C970-3152-444F-9688-90436F14C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334800"/>
            <a:ext cx="9169200" cy="2122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96840" y="476280"/>
            <a:ext cx="8943840" cy="1938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03280" cy="39607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627280" y="189000"/>
            <a:ext cx="651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ока маленькие дет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Знаем правила все э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Это дядя светофор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н сигналом нам помож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ак продолжить дальше пу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вал 2"/>
          <p:cNvSpPr/>
          <p:nvPr/>
        </p:nvSpPr>
        <p:spPr>
          <a:xfrm>
            <a:off x="179280" y="189000"/>
            <a:ext cx="3097440" cy="324000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3276720" y="692280"/>
            <a:ext cx="6186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Если свет зажегся красный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Значит двигаться ОПАС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Овал 1"/>
          <p:cNvSpPr/>
          <p:nvPr/>
        </p:nvSpPr>
        <p:spPr>
          <a:xfrm>
            <a:off x="108000" y="189000"/>
            <a:ext cx="3240000" cy="3168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098880" y="495360"/>
            <a:ext cx="604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Monotype Corsiva"/>
              </a:rPr>
              <a:t>Желтым подожд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Monotype Corsiva"/>
              </a:rPr>
              <a:t>чуть-чуть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Monotype Corsiva"/>
              </a:rPr>
              <a:t>Будь готов продолжит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Monotype Corsiva"/>
              </a:rPr>
              <a:t>пу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Овал 1"/>
          <p:cNvSpPr/>
          <p:nvPr/>
        </p:nvSpPr>
        <p:spPr>
          <a:xfrm>
            <a:off x="179280" y="189000"/>
            <a:ext cx="3168720" cy="3168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132000" y="620640"/>
            <a:ext cx="60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А зеленый загорит-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В путь отправиться велит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189000"/>
            <a:ext cx="4067280" cy="388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4067280" y="189000"/>
            <a:ext cx="525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Зебра-это не лошадк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Пешеходный перехо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Он дает возможность людям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Безопасности проход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20520"/>
            <a:ext cx="4067280" cy="3984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846600" y="20520"/>
            <a:ext cx="51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На дороге не играй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РАВИЛА ТЫ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ОБЛЮДА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395280" y="809640"/>
            <a:ext cx="8399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Спасибо за внима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4:28:28Z</dcterms:created>
  <dc:creator>Светочек</dc:creator>
  <dc:description/>
  <dc:language>en-US</dc:language>
  <cp:lastModifiedBy>DetSad</cp:lastModifiedBy>
  <dcterms:modified xsi:type="dcterms:W3CDTF">2021-05-24T01:42:48Z</dcterms:modified>
  <cp:revision>13</cp:revision>
  <dc:subject/>
  <dc:title>Презентация PowerPoint</dc:title>
</cp:coreProperties>
</file>