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27.jpeg" ContentType="image/jpeg"/>
  <Override PartName="/ppt/media/image33.jpeg" ContentType="image/jpeg"/>
  <Override PartName="/ppt/media/image5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6.png" ContentType="image/png"/>
  <Override PartName="/ppt/media/image8.png" ContentType="image/png"/>
  <Override PartName="/ppt/media/image9.jpeg" ContentType="image/jpeg"/>
  <Override PartName="/ppt/media/image18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14D-0699-44AE-9B40-B6768B52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F91-7AF6-4F71-881E-72B22312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12E-5CC8-4916-9AD8-CCB55019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073-28E0-4722-BD02-5D7946DD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F22-0C8C-44AD-9216-4CE1CD54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CE5-8EFC-4776-804D-A509138C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C8F-91CC-4732-9C62-FCBFE5FA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019-54BB-40F8-9E45-5C011891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09B-2BF2-4A8C-8C6A-0B82C429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EDB-B3EA-4519-BC53-B898F3E2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7BC-51C7-4D6E-98A9-46B73891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D0C-A7A5-4E62-B79C-C01AB35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FE0-6523-4382-AA64-BAF24E2B6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Безимени-м с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2357280" y="907920"/>
            <a:ext cx="5500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витие комбинаторного мышления 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у  дошкольников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2916360" y="3284640"/>
            <a:ext cx="4680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воспитатели 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Высшей квалификационной категории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ФилатоваТатьяна Александровна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Баташова Марина Александровна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МБДОУ детский сад №16 «Голосок»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комбинированного вида»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Г.Вязники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2021г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905120" y="99972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«Тангра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лумбово яйц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метрическая моза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 rot="15913800">
            <a:off x="6436080" y="2638800"/>
            <a:ext cx="2202120" cy="146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1\Desktop\танграм.jpeg"/>
          <p:cNvPicPr/>
          <p:nvPr/>
        </p:nvPicPr>
        <p:blipFill>
          <a:blip r:embed="rId2"/>
          <a:stretch/>
        </p:blipFill>
        <p:spPr>
          <a:xfrm>
            <a:off x="4643280" y="1071720"/>
            <a:ext cx="1892520" cy="1742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3" name="Picture 3" descr="C:\Users\1\Desktop\1011686686.jpg"/>
          <p:cNvPicPr/>
          <p:nvPr/>
        </p:nvPicPr>
        <p:blipFill>
          <a:blip r:embed="rId3"/>
          <a:stretch/>
        </p:blipFill>
        <p:spPr>
          <a:xfrm>
            <a:off x="3071880" y="4714920"/>
            <a:ext cx="2143080" cy="1844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1\Desktop\Screenshot_20190217-213005.jpeg"/>
          <p:cNvPicPr/>
          <p:nvPr/>
        </p:nvPicPr>
        <p:blipFill>
          <a:blip r:embed="rId4"/>
          <a:stretch/>
        </p:blipFill>
        <p:spPr>
          <a:xfrm>
            <a:off x="5929200" y="4427640"/>
            <a:ext cx="2786040" cy="20016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9" descr=""/>
          <p:cNvPicPr/>
          <p:nvPr/>
        </p:nvPicPr>
        <p:blipFill>
          <a:blip r:embed="rId5"/>
          <a:stretch/>
        </p:blipFill>
        <p:spPr>
          <a:xfrm>
            <a:off x="1359000" y="-146160"/>
            <a:ext cx="7907400" cy="160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643040" y="785520"/>
            <a:ext cx="72388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Мнемотаблиц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фики, пиктограммы,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ые подбираются и создаются в зависимости от задач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6" descr=""/>
          <p:cNvPicPr/>
          <p:nvPr/>
        </p:nvPicPr>
        <p:blipFill>
          <a:blip r:embed="rId1"/>
          <a:stretch/>
        </p:blipFill>
        <p:spPr>
          <a:xfrm>
            <a:off x="2494080" y="-165240"/>
            <a:ext cx="4583160" cy="9874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9"/>
          <p:cNvSpPr/>
          <p:nvPr/>
        </p:nvSpPr>
        <p:spPr>
          <a:xfrm>
            <a:off x="2000160" y="2214720"/>
            <a:ext cx="407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1658520" y="2143080"/>
            <a:ext cx="45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знакомлению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ческими фигу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2" descr="C:\Users\1\Desktop\моделирование и ФЭМП\Screenshot_20190217-195134.jpeg"/>
          <p:cNvPicPr/>
          <p:nvPr/>
        </p:nvPicPr>
        <p:blipFill>
          <a:blip r:embed="rId2"/>
          <a:srcRect l="0" t="0" r="-1684" b="0"/>
          <a:stretch/>
        </p:blipFill>
        <p:spPr>
          <a:xfrm>
            <a:off x="1714680" y="3071880"/>
            <a:ext cx="3168360" cy="22143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57520" y="3142800"/>
            <a:ext cx="378612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знакомлению со време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4" descr="C:\Users\1\Desktop\моделирование и ФЭМП\Screenshot_20190217-201357.jpeg"/>
          <p:cNvPicPr/>
          <p:nvPr/>
        </p:nvPicPr>
        <p:blipFill>
          <a:blip r:embed="rId3"/>
          <a:stretch/>
        </p:blipFill>
        <p:spPr>
          <a:xfrm>
            <a:off x="5143680" y="4071960"/>
            <a:ext cx="3132000" cy="20718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99760" y="142920"/>
            <a:ext cx="43102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C:\Users\1\Desktop\числовые домики\4.jpg"/>
          <p:cNvPicPr/>
          <p:nvPr/>
        </p:nvPicPr>
        <p:blipFill>
          <a:blip r:embed="rId1"/>
          <a:stretch/>
        </p:blipFill>
        <p:spPr>
          <a:xfrm>
            <a:off x="1500120" y="1214280"/>
            <a:ext cx="2838600" cy="20750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2571840" y="1714680"/>
            <a:ext cx="242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71680" y="713880"/>
            <a:ext cx="4971960" cy="83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ение и реше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атемат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3" descr="C:\Users\1\Desktop\моделирование и ФЭМП\Screenshot_20190217-195740.jpeg"/>
          <p:cNvPicPr/>
          <p:nvPr/>
        </p:nvPicPr>
        <p:blipFill>
          <a:blip r:embed="rId2"/>
          <a:srcRect l="0" t="0" r="-1543" b="0"/>
          <a:stretch/>
        </p:blipFill>
        <p:spPr>
          <a:xfrm>
            <a:off x="4786200" y="1571760"/>
            <a:ext cx="2579760" cy="17190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88" name="Заголовок 3"/>
          <p:cNvSpPr/>
          <p:nvPr/>
        </p:nvSpPr>
        <p:spPr>
          <a:xfrm>
            <a:off x="2928960" y="3431160"/>
            <a:ext cx="3571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лог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4" descr="C:\Users\1\Desktop\моделирование и ФЭМП\Screenshot_20190217-195954.jpeg"/>
          <p:cNvPicPr/>
          <p:nvPr/>
        </p:nvPicPr>
        <p:blipFill>
          <a:blip r:embed="rId3"/>
          <a:stretch/>
        </p:blipFill>
        <p:spPr>
          <a:xfrm>
            <a:off x="4143240" y="4311720"/>
            <a:ext cx="2714760" cy="1965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Users\1\Desktop\Screenshot_20190217-220752.jpeg"/>
          <p:cNvPicPr/>
          <p:nvPr/>
        </p:nvPicPr>
        <p:blipFill>
          <a:blip r:embed="rId1"/>
          <a:srcRect l="0" t="0" r="-1556" b="0"/>
          <a:stretch/>
        </p:blipFill>
        <p:spPr>
          <a:xfrm>
            <a:off x="2643120" y="1785960"/>
            <a:ext cx="4603680" cy="41432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2286000" y="42876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928880" y="500040"/>
            <a:ext cx="6286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бинатор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здел математики, изучающий вопрос о числе возможных способов распределения предложенных предметов в определённом порядке (перестановки, размещения, сочетания) Комбинаторика составляет основу детск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3" descr="http://planetadetstva.net/wp-content/uploads/2011/08/%D0%94%D0%BE%D0%BC%D0%B8%D0%BA%D0%B8-300x175.png"/>
          <p:cNvPicPr/>
          <p:nvPr/>
        </p:nvPicPr>
        <p:blipFill>
          <a:blip r:embed="rId1"/>
          <a:stretch/>
        </p:blipFill>
        <p:spPr>
          <a:xfrm>
            <a:off x="2928960" y="4572000"/>
            <a:ext cx="2428920" cy="1571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http://planetadetstva.net/wp-content/uploads/2011/08/%D0%9A%D1%83%D0%B1%D0%B8%D0%BA%D0%B8-%D1%86%D0%B2%D0%B5%D1%82%D0%BD%D1%8B%D0%B5-2-145x300.png"/>
          <p:cNvPicPr/>
          <p:nvPr/>
        </p:nvPicPr>
        <p:blipFill>
          <a:blip r:embed="rId2"/>
          <a:stretch/>
        </p:blipFill>
        <p:spPr>
          <a:xfrm>
            <a:off x="6858000" y="3214800"/>
            <a:ext cx="18511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857240" y="1357200"/>
            <a:ext cx="61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инцип замещен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еальный предмет ребенок замещает другим предметом, его изображением, каким-либо условным знаком. Первоначально способность к замещению формируется у детей в игре (камешек становится конфеткой, песок - кашкой для куклы, а он сам - папой, шофером, космонав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-165240"/>
            <a:ext cx="7371000" cy="165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User\Desktop\соловушки\фэмп\IMG_20210323_160328.jpg"/>
          <p:cNvPicPr/>
          <p:nvPr/>
        </p:nvPicPr>
        <p:blipFill>
          <a:blip r:embed="rId2"/>
          <a:stretch/>
        </p:blipFill>
        <p:spPr>
          <a:xfrm>
            <a:off x="6000840" y="4078440"/>
            <a:ext cx="242892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14320" y="928440"/>
            <a:ext cx="742932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дме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одели, которые воспроизводят конструктивные особенности, пропорции, взаимосвязь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дметно-схема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одели, в которых существенные признаки и связи выражены с помощью предметов - замест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лоскос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построение различных моделей на плоскости из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афические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дели, в которых существенные признаки и связи выражены с помощью предметов- заместителей, графических 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6" descr=""/>
          <p:cNvPicPr/>
          <p:nvPr/>
        </p:nvPicPr>
        <p:blipFill>
          <a:blip r:embed="rId1"/>
          <a:stretch/>
        </p:blipFill>
        <p:spPr>
          <a:xfrm>
            <a:off x="1994040" y="-165240"/>
            <a:ext cx="6583320" cy="987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00160" y="274680"/>
            <a:ext cx="66866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гры с блоками Дьене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857240" y="1143000"/>
            <a:ext cx="6357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я с блоками Дьенеша, ребенок выполняет разнообразные предметные действия: группирует по признаку, выкладывает ряды по заданному алгоритму. Такие игры развивают  творческие способности,  восприятие, память, внимание и во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C:\Users\User\Desktop\соловушки\фэмп\IMG_20210323_155143.jpg"/>
          <p:cNvPicPr/>
          <p:nvPr/>
        </p:nvPicPr>
        <p:blipFill>
          <a:blip r:embed="rId1"/>
          <a:stretch/>
        </p:blipFill>
        <p:spPr>
          <a:xfrm>
            <a:off x="4000680" y="2786040"/>
            <a:ext cx="352260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xtBox 5" descr=""/>
          <p:cNvPicPr/>
          <p:nvPr/>
        </p:nvPicPr>
        <p:blipFill>
          <a:blip r:embed="rId1"/>
          <a:stretch/>
        </p:blipFill>
        <p:spPr>
          <a:xfrm>
            <a:off x="1139760" y="139680"/>
            <a:ext cx="8053560" cy="9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Users\User\Desktop\соловушки\фэмп\IMG_20210323_160328.jpg"/>
          <p:cNvPicPr/>
          <p:nvPr/>
        </p:nvPicPr>
        <p:blipFill>
          <a:blip r:embed="rId2"/>
          <a:stretch/>
        </p:blipFill>
        <p:spPr>
          <a:xfrm>
            <a:off x="-7429680" y="-13215960"/>
            <a:ext cx="5400720" cy="719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User\Desktop\соловушки\фэмп\IMG_20210323_160328.jpg"/>
          <p:cNvPicPr/>
          <p:nvPr/>
        </p:nvPicPr>
        <p:blipFill>
          <a:blip r:embed="rId3"/>
          <a:stretch/>
        </p:blipFill>
        <p:spPr>
          <a:xfrm>
            <a:off x="3286080" y="1785960"/>
            <a:ext cx="4000680" cy="399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1\Desktop\фото игр с детьми\palochki-kyuizenera2.jpg"/>
          <p:cNvPicPr/>
          <p:nvPr/>
        </p:nvPicPr>
        <p:blipFill>
          <a:blip r:embed="rId1"/>
          <a:stretch/>
        </p:blipFill>
        <p:spPr>
          <a:xfrm>
            <a:off x="1714680" y="785880"/>
            <a:ext cx="2428560" cy="18255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2"/>
          <a:stretch/>
        </p:blipFill>
        <p:spPr>
          <a:xfrm>
            <a:off x="1779480" y="-73080"/>
            <a:ext cx="7083360" cy="92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1\Desktop\shemy-palochki-kyuizenera_6.jpg"/>
          <p:cNvPicPr/>
          <p:nvPr/>
        </p:nvPicPr>
        <p:blipFill>
          <a:blip r:embed="rId3"/>
          <a:stretch/>
        </p:blipFill>
        <p:spPr>
          <a:xfrm>
            <a:off x="6500880" y="714240"/>
            <a:ext cx="2071800" cy="234180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4" descr=""/>
          <p:cNvPicPr/>
          <p:nvPr/>
        </p:nvPicPr>
        <p:blipFill>
          <a:blip r:embed="rId4"/>
          <a:stretch/>
        </p:blipFill>
        <p:spPr>
          <a:xfrm>
            <a:off x="1712880" y="2786040"/>
            <a:ext cx="5291280" cy="55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1\Desktop\фото игр с детьми\IMG_20190904_185957.jpg"/>
          <p:cNvPicPr/>
          <p:nvPr/>
        </p:nvPicPr>
        <p:blipFill>
          <a:blip r:embed="rId5"/>
          <a:stretch/>
        </p:blipFill>
        <p:spPr>
          <a:xfrm>
            <a:off x="1928880" y="3359160"/>
            <a:ext cx="3500280" cy="270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extBox 3" descr=""/>
          <p:cNvPicPr/>
          <p:nvPr/>
        </p:nvPicPr>
        <p:blipFill>
          <a:blip r:embed="rId1"/>
          <a:stretch/>
        </p:blipFill>
        <p:spPr>
          <a:xfrm>
            <a:off x="1542960" y="-146160"/>
            <a:ext cx="7693200" cy="151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esktop\соловушки\фэмп\IMG_20210316_101238.jpg"/>
          <p:cNvPicPr/>
          <p:nvPr/>
        </p:nvPicPr>
        <p:blipFill>
          <a:blip r:embed="rId2"/>
          <a:stretch/>
        </p:blipFill>
        <p:spPr>
          <a:xfrm>
            <a:off x="2357280" y="1643040"/>
            <a:ext cx="5214960" cy="39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Users\1\Desktop\Screenshot_20190217-210313.jpeg"/>
          <p:cNvPicPr/>
          <p:nvPr/>
        </p:nvPicPr>
        <p:blipFill>
          <a:blip r:embed="rId1"/>
          <a:stretch/>
        </p:blipFill>
        <p:spPr>
          <a:xfrm>
            <a:off x="1857240" y="1928880"/>
            <a:ext cx="2786040" cy="4138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1\Desktop\Screenshot_20190217-210327.jpeg"/>
          <p:cNvPicPr/>
          <p:nvPr/>
        </p:nvPicPr>
        <p:blipFill>
          <a:blip r:embed="rId2"/>
          <a:stretch/>
        </p:blipFill>
        <p:spPr>
          <a:xfrm>
            <a:off x="5072040" y="1571760"/>
            <a:ext cx="2825640" cy="207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1\Desktop\poloska-s-dvumya-limonami-ostalnye-zakryty-specialnym-dvizhkom-600x450.jpg"/>
          <p:cNvPicPr/>
          <p:nvPr/>
        </p:nvPicPr>
        <p:blipFill>
          <a:blip r:embed="rId3"/>
          <a:stretch/>
        </p:blipFill>
        <p:spPr>
          <a:xfrm rot="19689000">
            <a:off x="4998600" y="4601880"/>
            <a:ext cx="3573720" cy="741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7"/>
          <p:cNvSpPr/>
          <p:nvPr/>
        </p:nvSpPr>
        <p:spPr>
          <a:xfrm>
            <a:off x="1571760" y="57168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, в которых существенные признаки и связи выражены с помощью предметов - заместител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7" descr=""/>
          <p:cNvPicPr/>
          <p:nvPr/>
        </p:nvPicPr>
        <p:blipFill>
          <a:blip r:embed="rId4"/>
          <a:stretch/>
        </p:blipFill>
        <p:spPr>
          <a:xfrm>
            <a:off x="1566720" y="-146160"/>
            <a:ext cx="7583760" cy="908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53:23Z</dcterms:created>
  <dc:creator>Администратор</dc:creator>
  <dc:description/>
  <dc:language>en-US</dc:language>
  <cp:lastModifiedBy>Пользователь</cp:lastModifiedBy>
  <dcterms:modified xsi:type="dcterms:W3CDTF">2021-05-24T18:21:20Z</dcterms:modified>
  <cp:revision>180</cp:revision>
  <dc:subject/>
  <dc:title>Слайд 1</dc:title>
</cp:coreProperties>
</file>