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C31-44D1-4676-9E05-6F221E82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EED-AB28-41C8-8CDB-6B105AD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83D-1E6D-4D97-BD4C-D61B851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5DD-270A-4517-8CF3-E065296E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7A35-13BA-4603-939D-EABA886A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415C-6129-483A-A080-6AF96491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382-1883-4C2C-AE42-3837AB7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4D84-988F-4BAA-8282-6D61106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F408-6172-40B4-8A3D-9DA425C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51E4-0096-4887-B571-5CF3AB8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2938-7CCC-42D8-BCA3-1BC1274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32E-CD5A-4C67-A567-C5E0AC3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8DD-075D-4606-94D0-C5CCC2A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7FB3-DDE0-48F7-A6E5-44F7A56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0A95-B24B-4FFA-A15A-CB2D6E9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3AD-0E42-46D2-B800-4127AC7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2456-6D1F-458C-881A-7B470A5B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BB8-73DF-4A09-8C4F-F881BB6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D7A-C322-45B8-BD21-ED962582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0F8-9C8B-48B8-B472-C7BF17E9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937-5E99-458D-BC92-F3966752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998-5959-4B14-A7D7-6D093D6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405-1245-4263-9531-EC84271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D26-023E-4E77-95BF-0F1FC76D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2B0-16A8-463C-BC01-3FB38F32E2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E2D-EB95-4840-9889-58C7D424B2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«Поиграем 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о звуком «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гопедическая иг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627280" y="260280"/>
            <a:ext cx="6121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5054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403280" y="620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ь задания – выполнение упраж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развитие воздушной стру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268360" y="692280"/>
            <a:ext cx="50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дание «На что похож звук «С». Произнесение изолированного звука «С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6383160" y="2716200"/>
            <a:ext cx="2356200" cy="314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3280" y="1981080"/>
            <a:ext cx="3292560" cy="329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3213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ие звука «С» в сло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201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79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753080" y="1987560"/>
            <a:ext cx="3743280" cy="2797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74328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4716360" y="6206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ие местоположения звука «С» в сло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3951360" cy="296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857400" cy="2894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643280" y="3679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395280" y="76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матизация звука «С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800440" y="326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 «Четвертый лишний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476360" y="1204920"/>
            <a:ext cx="6659640" cy="5013360"/>
          </a:xfrm>
          <a:prstGeom prst="rect">
            <a:avLst/>
          </a:prstGeom>
          <a:ln w="0">
            <a:noFill/>
          </a:ln>
        </p:spPr>
      </p:pic>
      <p:sp>
        <p:nvSpPr>
          <p:cNvPr id="177" name="Line 8"/>
          <p:cNvSpPr/>
          <p:nvPr/>
        </p:nvSpPr>
        <p:spPr>
          <a:xfrm>
            <a:off x="6300720" y="400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771640" y="4365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2771640" y="566100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29:49Z</dcterms:created>
  <dc:creator>Дмитрий</dc:creator>
  <dc:description/>
  <dc:language>en-US</dc:language>
  <cp:lastModifiedBy>KisUle4ka</cp:lastModifiedBy>
  <dcterms:modified xsi:type="dcterms:W3CDTF">2021-05-24T18:39:07Z</dcterms:modified>
  <cp:revision>6</cp:revision>
  <dc:subject/>
  <dc:title>«Поиграем  со звуком «С»</dc:title>
</cp:coreProperties>
</file>