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5E9B-DE94-44E3-A3BA-5235944EA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0059-1BA9-40B2-87FE-179813AC7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57C2-6A91-4CB2-AC02-96C1AD72D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2BCB-0AD7-4F37-8FAE-BA6CEA171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C8211-4CF7-4A93-8985-10B7B2AC4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DBA00-9507-4B25-BEB5-9D11766ED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753B9-D40B-4A21-9281-08407ECFB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5CAAB-3123-4FE3-A6D2-0EC1AB9BE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3BEDB-B9D3-46F2-ADF7-833FAFE75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6F797-FDB3-4CCE-A98A-DF1471874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458FE-EA57-436C-B96A-80B8E97F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D8DE-F3B4-4CF6-A966-DA4535F98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90471-7BDE-427E-8961-3386E91A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97B9D-A511-4093-8F1A-EFF15DA6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0C0C8-99E9-4AB5-8A98-87C3DD12B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D9C45-A52A-46DD-B5F6-E52DA5B18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7411B-7BEA-46FF-86DB-5DC6981AC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FDE2-D77D-445A-8C85-1BF096F2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DCEF-0DEB-44C7-AFD4-FF60FF5D9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1DB5-B198-420C-BD75-57FFEACE2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0178-9A1B-4F17-BE2B-335721300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C46B-538D-458A-98D1-29B2F02D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DBD8-65B1-4C01-87AB-4E9E80E5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9753-D08C-435B-B2E6-F9E4ADB5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F687E-C485-4FBF-980D-9D3B4DC6819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334CB-E5CD-46B1-AFE4-E107DF5BB3E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7082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«Поиграем </a:t>
            </a:r>
            <a:br>
              <a:rPr sz="5400"/>
            </a:b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со звуком «С»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162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огопедическая игр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2627280" y="260280"/>
            <a:ext cx="61214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840360" cy="50544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7"/>
          <p:cNvSpPr/>
          <p:nvPr/>
        </p:nvSpPr>
        <p:spPr>
          <a:xfrm>
            <a:off x="1403280" y="620640"/>
            <a:ext cx="719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Цель задания – выполнение упражнения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 развитие воздушной стру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5"/>
          <p:cNvSpPr/>
          <p:nvPr/>
        </p:nvSpPr>
        <p:spPr>
          <a:xfrm>
            <a:off x="2268360" y="692280"/>
            <a:ext cx="503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адание «На что похож звук «С». Произнесение изолированного звука «С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Picture 10" descr=""/>
          <p:cNvPicPr/>
          <p:nvPr/>
        </p:nvPicPr>
        <p:blipFill>
          <a:blip r:embed="rId1"/>
          <a:stretch/>
        </p:blipFill>
        <p:spPr>
          <a:xfrm>
            <a:off x="6383160" y="2716200"/>
            <a:ext cx="2356200" cy="3141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" descr=""/>
          <p:cNvPicPr/>
          <p:nvPr/>
        </p:nvPicPr>
        <p:blipFill>
          <a:blip r:embed="rId2"/>
          <a:stretch/>
        </p:blipFill>
        <p:spPr>
          <a:xfrm>
            <a:off x="2843280" y="1981080"/>
            <a:ext cx="3292560" cy="32925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4" descr=""/>
          <p:cNvPicPr/>
          <p:nvPr/>
        </p:nvPicPr>
        <p:blipFill>
          <a:blip r:embed="rId3"/>
          <a:stretch/>
        </p:blipFill>
        <p:spPr>
          <a:xfrm>
            <a:off x="250920" y="2708280"/>
            <a:ext cx="321300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4"/>
          <p:cNvSpPr/>
          <p:nvPr/>
        </p:nvSpPr>
        <p:spPr>
          <a:xfrm>
            <a:off x="0" y="476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пределение звука «С» в словах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1"/>
          <a:stretch/>
        </p:blipFill>
        <p:spPr>
          <a:xfrm>
            <a:off x="1042920" y="907920"/>
            <a:ext cx="720108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3743280" cy="27954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"/>
          <p:cNvPicPr/>
          <p:nvPr/>
        </p:nvPicPr>
        <p:blipFill>
          <a:blip r:embed="rId2"/>
          <a:stretch/>
        </p:blipFill>
        <p:spPr>
          <a:xfrm>
            <a:off x="4753080" y="1987560"/>
            <a:ext cx="3743280" cy="27972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"/>
          <p:cNvPicPr/>
          <p:nvPr/>
        </p:nvPicPr>
        <p:blipFill>
          <a:blip r:embed="rId3"/>
          <a:stretch/>
        </p:blipFill>
        <p:spPr>
          <a:xfrm>
            <a:off x="611280" y="3500280"/>
            <a:ext cx="3743280" cy="278928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8"/>
          <p:cNvSpPr/>
          <p:nvPr/>
        </p:nvSpPr>
        <p:spPr>
          <a:xfrm>
            <a:off x="4716360" y="620640"/>
            <a:ext cx="35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пределение местоположения звука «С» в словах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4572000" y="549360"/>
            <a:ext cx="3951360" cy="2963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3857400" cy="28940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"/>
          <p:cNvPicPr/>
          <p:nvPr/>
        </p:nvPicPr>
        <p:blipFill>
          <a:blip r:embed="rId3"/>
          <a:stretch/>
        </p:blipFill>
        <p:spPr>
          <a:xfrm>
            <a:off x="4643280" y="3679920"/>
            <a:ext cx="3889440" cy="29178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7"/>
          <p:cNvSpPr/>
          <p:nvPr/>
        </p:nvSpPr>
        <p:spPr>
          <a:xfrm>
            <a:off x="395280" y="7650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Автоматизация звука «С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4"/>
          <p:cNvSpPr/>
          <p:nvPr/>
        </p:nvSpPr>
        <p:spPr>
          <a:xfrm>
            <a:off x="2800440" y="32688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гра «Четвертый лишний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Picture 7" descr=""/>
          <p:cNvPicPr/>
          <p:nvPr/>
        </p:nvPicPr>
        <p:blipFill>
          <a:blip r:embed="rId1"/>
          <a:stretch/>
        </p:blipFill>
        <p:spPr>
          <a:xfrm>
            <a:off x="1476360" y="1204920"/>
            <a:ext cx="6659640" cy="5013360"/>
          </a:xfrm>
          <a:prstGeom prst="rect">
            <a:avLst/>
          </a:prstGeom>
          <a:ln w="0">
            <a:noFill/>
          </a:ln>
        </p:spPr>
      </p:pic>
      <p:sp>
        <p:nvSpPr>
          <p:cNvPr id="177" name="Line 8"/>
          <p:cNvSpPr/>
          <p:nvPr/>
        </p:nvSpPr>
        <p:spPr>
          <a:xfrm>
            <a:off x="6300720" y="400536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Line 9"/>
          <p:cNvSpPr/>
          <p:nvPr/>
        </p:nvSpPr>
        <p:spPr>
          <a:xfrm>
            <a:off x="2771640" y="436572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Line 11"/>
          <p:cNvSpPr/>
          <p:nvPr/>
        </p:nvSpPr>
        <p:spPr>
          <a:xfrm>
            <a:off x="2771640" y="5661000"/>
            <a:ext cx="4321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5T16:29:49Z</dcterms:created>
  <dc:creator>Дмитрий</dc:creator>
  <dc:description/>
  <dc:language>en-US</dc:language>
  <cp:lastModifiedBy>KisUle4ka</cp:lastModifiedBy>
  <dcterms:modified xsi:type="dcterms:W3CDTF">2021-05-24T18:39:07Z</dcterms:modified>
  <cp:revision>6</cp:revision>
  <dc:subject/>
  <dc:title>«Поиграем  со звуком «С»</dc:title>
</cp:coreProperties>
</file>