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C9E-63A3-4E9A-B956-3A87382A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C0C-378D-4897-86C8-AC722E54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E62-8C35-4845-9D3E-1C71B07E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BCA-719D-4857-AFAD-616AD61F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D654-6277-43B9-AED0-A544E1F3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9A65-58E5-4399-AF53-63177AAC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3B82-04A8-4BA3-BBA2-736C2393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0F7-B910-4108-BD7B-12491B9C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311F-B2AB-4F56-B13A-C9997AA0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40B5-BDAA-42E9-9C6C-F7A7192D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0445-201E-4847-8513-F45A3E5D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5A9-962E-41F5-931A-658DF1D3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C03-E932-4376-B516-B7EE677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DB8B-831D-44C0-9E50-EF6362A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F415-975C-4822-9B2B-DF02C384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A1F-B2E9-42AC-9939-73F37286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4A80-2C5E-4035-BD7C-CCBE5897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AC7-997B-4613-BB4E-EF3778F6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DAB-A8B3-40DB-92F7-70238774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CD0-5D56-45C2-969D-9435256D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24E-6960-43EE-8E14-DECE5B74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AB9-30C8-418E-B323-6B15EC2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A24-D153-46C0-AEFD-6EB357F1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B4A-E572-48A2-B23C-68E4508F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ADA0-C316-4534-ABFB-88F853DCD6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262080" cy="264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8413920" y="6237360"/>
            <a:ext cx="261720" cy="26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1180800" cy="1199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32B3-9834-4347-BC36-254AF500AE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Arial"/>
              </a:rPr>
              <a:t>Механизмы-эксцентрики.</a:t>
            </a:r>
            <a:br>
              <a:rPr sz="4400"/>
            </a:b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Times New Roman"/>
              </a:rPr>
              <a:t>Разработала учитель 441 гимназии Прищепёнок О.Б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44544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302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Задание 3. Ярмарочное чучелко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90544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Картинки по запросу вентилятор поворотный"/>
          <p:cNvPicPr/>
          <p:nvPr/>
        </p:nvPicPr>
        <p:blipFill>
          <a:blip r:embed="rId1"/>
          <a:stretch/>
        </p:blipFill>
        <p:spPr>
          <a:xfrm>
            <a:off x="5565600" y="2492280"/>
            <a:ext cx="3578400" cy="3578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а) Периодическое движение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600360" cy="2200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539640" y="306864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б) Колебательное движе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37450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в) Возвратно-поступательное движение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00000"/>
                </a:solidFill>
                <a:latin typeface="Arial"/>
              </a:rPr>
              <a:t>Это движение вперёд-наза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00000"/>
                </a:solidFill>
                <a:latin typeface="Arial"/>
              </a:rPr>
              <a:t>(вдоль отрезка прямой)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200"/>
                </a:solidFill>
                <a:latin typeface="Times New Roman"/>
              </a:rPr>
              <a:t>Получается 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200"/>
                </a:solidFill>
                <a:latin typeface="Times New Roman"/>
              </a:rPr>
              <a:t>1) Кривошипно-шатунном мех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200"/>
                </a:solidFill>
                <a:latin typeface="Times New Roman"/>
              </a:rPr>
              <a:t>2) Кулачковом мех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2360" y="2060640"/>
            <a:ext cx="1584360" cy="431640"/>
          </a:xfrm>
          <a:prstGeom prst="leftRightArrow">
            <a:avLst>
              <a:gd name="adj1" fmla="val 50000"/>
              <a:gd name="adj2" fmla="val 730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1) Кривошипно-шатунный механиз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4708440" cy="2109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4105080" cy="3075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755640" y="4724280"/>
            <a:ext cx="28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Times New Roman"/>
              </a:rPr>
              <a:t>1 – кривош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Times New Roman"/>
              </a:rPr>
              <a:t>2 – шат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219640" y="2133720"/>
            <a:ext cx="287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Times New Roman"/>
              </a:rPr>
              <a:t>Поступательное движение поршня превращается во вращательное движение ко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9308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95280" y="33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ffff"/>
              </a:buClr>
              <a:buSzPct val="65000"/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Двигатель внутреннего с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96116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322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3311280" cy="2076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2) Кулачковый механиз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Картинки по запросу кулачковый механизм"/>
          <p:cNvPicPr/>
          <p:nvPr/>
        </p:nvPicPr>
        <p:blipFill>
          <a:blip r:embed="rId2"/>
          <a:stretch/>
        </p:blipFill>
        <p:spPr>
          <a:xfrm>
            <a:off x="684360" y="2781360"/>
            <a:ext cx="2630520" cy="26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и по запросу кулачковый механизм"/>
          <p:cNvPicPr/>
          <p:nvPr/>
        </p:nvPicPr>
        <p:blipFill>
          <a:blip r:embed="rId3"/>
          <a:stretch/>
        </p:blipFill>
        <p:spPr>
          <a:xfrm>
            <a:off x="3851280" y="3068640"/>
            <a:ext cx="40147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Задание 1. Периодическое движение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960480"/>
            <a:ext cx="583236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Задание 2. Молот для забивания свай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3236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0:03:13Z</dcterms:created>
  <dc:creator>Sergey Filippov</dc:creator>
  <dc:description/>
  <dc:language>en-US</dc:language>
  <cp:lastModifiedBy>Alisa v strane chudes</cp:lastModifiedBy>
  <dcterms:modified xsi:type="dcterms:W3CDTF">2021-05-24T12:06:29Z</dcterms:modified>
  <cp:revision>60</cp:revision>
  <dc:subject/>
  <dc:title>Просто о сложном или «Трудная радость»</dc:title>
</cp:coreProperties>
</file>