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D9C-5848-49CA-BCA5-A9F9E2E5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2C0-DB29-4BFD-A429-2D49439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63D-D91B-4266-BF66-1D139B2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371-5D90-4A17-A322-535354B8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69B9-6543-41BB-A315-7C18AAC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DBC5-CA90-42E3-94BD-081CE426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2467-03EB-46FF-A68E-0726E11F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9A2-B2B5-4EFF-8949-11FEC97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0A5F-2C17-4C8E-AB23-C282A11A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D72-61D7-4493-AB72-70408B3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E24E-4E5B-4DBE-82C6-2118DE2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0A4-527E-4FA8-AAB3-87852B63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F5CD-0A0E-4ECB-8C08-BB89B5F6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CF2-901E-424A-962A-8E47405B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D27-EB3C-4B57-9A18-9970EE0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00D-B745-49E2-BDB7-02F02B2A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48F9-7AA7-42BF-B8B0-3C3C3A8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E18-C623-425E-AD9C-096B249A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82F-995F-4976-8529-BDBE1500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A06-C986-4DF7-8760-607760D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583-EB93-4E2E-B6FC-5C4D615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64F-0CBB-4D9C-A912-7E5B2A5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79D-A307-46A0-809B-1572F96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C88-6C64-490F-A639-7F6F0FB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D3C8-CDA2-4097-8B20-8ADE3FEAD2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413920" y="6237360"/>
            <a:ext cx="261720" cy="26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180800" cy="119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C102-8F1C-408C-90DC-4F5AE22176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Arial"/>
              </a:rPr>
              <a:t>Механизмы-эксцентрики.</a:t>
            </a:r>
            <a:br>
              <a:rPr sz="44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Times New Roman"/>
              </a:rPr>
              <a:t>Разработала учитель 441 гимназии Прищепёнок О.Б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44544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302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3. Ярмарочное чучелко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0544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и по запросу вентилятор поворотный"/>
          <p:cNvPicPr/>
          <p:nvPr/>
        </p:nvPicPr>
        <p:blipFill>
          <a:blip r:embed="rId1"/>
          <a:stretch/>
        </p:blipFill>
        <p:spPr>
          <a:xfrm>
            <a:off x="55656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а) Периодическое движение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600360" cy="2200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39640" y="306864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б) Колебательное движ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7450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в) Возвратно-поступательное движение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Это движение вперёд-наза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(вдоль отрезка прямой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Получае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1) Кривошипно-шатунном мех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2) Кулачковом мех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2060640"/>
            <a:ext cx="1584360" cy="431640"/>
          </a:xfrm>
          <a:prstGeom prst="leftRightArrow">
            <a:avLst>
              <a:gd name="adj1" fmla="val 50000"/>
              <a:gd name="adj2" fmla="val 730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1) Кривошипно-шатунный механиз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4708440" cy="210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105080" cy="3075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755640" y="47242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1 – кривош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2 – ша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219640" y="2133720"/>
            <a:ext cx="287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Поступательное движение поршня превращается во вращательное движение ко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30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9528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Двигатель внутреннего с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96116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22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3311280" cy="2076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2) Кулачковый механиз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Картинки по запросу кулачковый механизм"/>
          <p:cNvPicPr/>
          <p:nvPr/>
        </p:nvPicPr>
        <p:blipFill>
          <a:blip r:embed="rId2"/>
          <a:stretch/>
        </p:blipFill>
        <p:spPr>
          <a:xfrm>
            <a:off x="684360" y="2781360"/>
            <a:ext cx="263052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и по запросу кулачковый механизм"/>
          <p:cNvPicPr/>
          <p:nvPr/>
        </p:nvPicPr>
        <p:blipFill>
          <a:blip r:embed="rId3"/>
          <a:stretch/>
        </p:blipFill>
        <p:spPr>
          <a:xfrm>
            <a:off x="3851280" y="3068640"/>
            <a:ext cx="4014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1. Периодическое движение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960480"/>
            <a:ext cx="583236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2. Молот для забивания свай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3236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0:03:13Z</dcterms:created>
  <dc:creator>Sergey Filippov</dc:creator>
  <dc:description/>
  <dc:language>en-US</dc:language>
  <cp:lastModifiedBy>Alisa v strane chudes</cp:lastModifiedBy>
  <dcterms:modified xsi:type="dcterms:W3CDTF">2021-05-24T12:06:29Z</dcterms:modified>
  <cp:revision>60</cp:revision>
  <dc:subject/>
  <dc:title>Просто о сложном или «Трудная радость»</dc:title>
</cp:coreProperties>
</file>