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EE2-B8B1-4A81-8D5A-6C0774F5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30C-362B-46AB-BDEF-138C8D2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E40-376C-464A-86E0-7475BFD4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CB4-5678-43D1-A040-7BB006DC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3CC-656B-406D-B3A1-EED2C40B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6F4-B62E-43A0-96BD-6060C6FA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ABE-2565-4116-8BC0-E9F0C06D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F3F-3596-42B7-ABF5-60D2C54E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4C2-B595-4684-8990-C29A27D7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ABC-1FCB-483F-B99D-1289560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CDA-4125-4CA6-A7A0-305B7254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977-AC9C-4DF6-B7FC-0D96062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AD2D-A410-433B-B014-36E130580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43135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16000" y="2349360"/>
            <a:ext cx="8677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e0122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Образ 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e0122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e0122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Наташи Ростовой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e0122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e0122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в романе Л.Толстого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e0122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e0122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"Война и мир"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e0122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2920" y="4437000"/>
            <a:ext cx="3970440" cy="312084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ак это не правда, что он жена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ет, это прав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227280" y="4365360"/>
            <a:ext cx="2529000" cy="338364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 постели умирающего князя Андр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84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Преображение Наташи В эпилоге романа мы вдруг открываем для себя совершенно н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5796000" y="5950080"/>
            <a:ext cx="3168720" cy="119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ети Ростов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54165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29600" cy="64116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стреча в Отра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69840" y="144360"/>
            <a:ext cx="88599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3295440" cy="6408720"/>
          </a:xfrm>
          <a:prstGeom prst="rect">
            <a:avLst/>
          </a:prstGeom>
          <a:ln w="177840">
            <a:solidFill>
              <a:srgbClr val="ffc285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" name="Text Box 6"/>
          <p:cNvSpPr/>
          <p:nvPr/>
        </p:nvSpPr>
        <p:spPr>
          <a:xfrm>
            <a:off x="5580000" y="6021360"/>
            <a:ext cx="3527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очь в Отра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ethoven_-_Lunnaya_Sonata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50004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22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64152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ох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95640" y="5956200"/>
            <a:ext cx="2529000" cy="118908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 дядю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546444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5867280" y="5950080"/>
            <a:ext cx="3276720" cy="119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ляска Ната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0" y="22320"/>
            <a:ext cx="59990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0" t="0" r="1866" b="0"/>
          <a:stretch/>
        </p:blipFill>
        <p:spPr>
          <a:xfrm>
            <a:off x="250920" y="189000"/>
            <a:ext cx="3956040" cy="6480000"/>
          </a:xfrm>
          <a:prstGeom prst="rect">
            <a:avLst/>
          </a:prstGeom>
          <a:ln w="177840">
            <a:solidFill>
              <a:srgbClr val="ffc285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00" y="5373360"/>
            <a:ext cx="3311640" cy="173772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ервый взрослый бал Ната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rokof'ev-Val's-VoiynaIMir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630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866920" y="5300280"/>
            <a:ext cx="2529000" cy="228636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влечение Кураги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42840"/>
            <a:ext cx="57024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9:33:10Z</dcterms:created>
  <dc:creator>serv</dc:creator>
  <dc:description/>
  <dc:language>en-US</dc:language>
  <cp:lastModifiedBy>Пушкарёва</cp:lastModifiedBy>
  <dcterms:modified xsi:type="dcterms:W3CDTF">2021-05-24T13:23:44Z</dcterms:modified>
  <cp:revision>12</cp:revision>
  <dc:subject/>
  <dc:title>Слайд 1</dc:title>
</cp:coreProperties>
</file>