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2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28.jpeg" ContentType="image/jpeg"/>
  <Override PartName="/ppt/media/image18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0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17.jpeg" ContentType="image/jpeg"/>
  <Override PartName="/ppt/media/image3.png" ContentType="image/png"/>
  <Override PartName="/ppt/media/image37.jpeg" ContentType="image/jpeg"/>
  <Override PartName="/ppt/media/image7.png" ContentType="image/png"/>
  <Override PartName="/ppt/media/image9.png" ContentType="image/png"/>
  <Override PartName="/ppt/media/image35.jpeg" ContentType="image/jpeg"/>
  <Override PartName="/ppt/media/image40.png" ContentType="image/png"/>
  <Override PartName="/ppt/media/image41.png" ContentType="image/png"/>
  <Override PartName="/ppt/media/image43.jpeg" ContentType="image/jpeg"/>
  <Override PartName="/ppt/media/image48.png" ContentType="image/png"/>
  <Override PartName="/ppt/media/image11.png" ContentType="image/png"/>
  <Override PartName="/ppt/media/image45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12.jpeg" ContentType="image/jpeg"/>
  <Override PartName="/ppt/media/image34.png" ContentType="image/png"/>
  <Override PartName="/ppt/media/image4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jpeg" ContentType="image/jpeg"/>
  <Override PartName="/ppt/media/image26.jpeg" ContentType="image/jpeg"/>
  <Override PartName="/ppt/media/image42.png" ContentType="image/png"/>
  <Override PartName="/ppt/media/image44.png" ContentType="image/png"/>
  <Override PartName="/ppt/media/image13.jpeg" ContentType="image/jpeg"/>
  <Override PartName="/ppt/media/image27.png" ContentType="image/png"/>
  <Override PartName="/ppt/media/image33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0F41-2F94-4744-BDB4-EF1C5CC9B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8B48-9B9F-4213-A48B-41EDA2F92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2BB0-62C3-46DA-929B-E80F31F99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7A97-5913-4442-BFC0-7AF76BAEA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AA1A2-29B7-47A4-9E8D-3E264386C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1F66E-0317-48F9-8F13-5E9BCDE15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E44C5-82F4-49D3-A061-25E837D9D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F9F8D-CBB3-492F-AD51-1D3878D65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6D6A1-3243-4A25-B1C2-8B909B52E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F58CF-1CBD-4E04-B72E-07979A33F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EA965-1F2D-40D1-A044-002AF040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D9DC-BC51-4B6C-B612-E348DCA32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7EF98-D7F1-4A09-8977-81B8B10B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17281-E165-4B44-B4B4-CADD2497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3ABD2-9D7E-4E12-AD51-1027BF1DF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3A4D5-33CC-4101-999F-A40419CFF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7F1CE-FBBF-489F-93CF-64E6FC924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291B6-6E22-41B9-B46D-C4C893D42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E320B-4418-4B0F-830E-14CD03262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6216C-1EF1-4412-9AAA-10FFCE660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5E667-0845-4BB9-9626-97A5B1459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824F2-FDE7-4A77-A90A-ECACBC65C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A75F-F78E-4036-AD26-AD0E39E57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C5D40-64D2-4AD9-B940-740BA084E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529A7-E6FE-4917-B63F-D08A2231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6DEA4-51FD-4C3E-8A7F-1FE0C7C9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675FE-CDE2-4841-A35D-E5A4DC55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733E6-DF71-46FB-8966-DD1AC86EF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6A2E5-4C5D-4EA7-AEA1-4EC2B3200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AF6A0-6CC7-4BEC-8292-CB8145A73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F3AD1-D6DB-4D79-A94B-1DF97E23D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0C874-7A68-4280-9BD7-F5C4D4E68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42017-52AC-41DB-94A4-0A0610B26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AC28-1E94-4E54-8D09-DFB757935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6C607-D1E6-46AD-BBAA-8A5B9B5F2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126E7-336E-4C03-A341-C1BAF883A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B6615-83AF-4965-B546-CDF7CD4E0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30493-F8BC-4EF4-BD52-FF726DD4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62354-35D6-4C84-9747-C7AF2D45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A4F4C-DDAD-41C0-9E8A-71B6355D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CE336-E315-4F50-A3C0-20D353545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885A8-021F-4A3D-855B-A578F0928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30790-6002-457A-8BCB-0E698C0F0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4A159-87D0-457B-AC0F-432FEEEA4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789D-DDFC-4518-AEA5-A68D28528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E1851-97C3-4633-A442-88845731F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7D276-849F-452A-B537-550A586A4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44C84-DCB8-40A2-862C-718FAB942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DB386-9E91-4546-874A-207F4E4C7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E75A7-59A4-4D13-B85B-A25AC8D82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F7D83-BC14-4414-86DC-0CD16A4A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5D8F8-AC2A-4B17-8608-82FAF67B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CDFBD-5D02-49E3-87D1-CE6E2D4B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33A1B6-1E6C-4D61-993E-898B6A019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75DFF-B447-44F3-B69F-6DA76CE01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10C9-74AB-401D-BE4F-15ACE6001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E7AFE-72D4-46D8-A389-5340DDE93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3ACC4-BD40-428B-8C62-34459848D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78B527-82BA-4820-BE78-E99ECB42A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42E825-3CE8-4DF8-83D9-1ACB4C326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AEC869-9688-4B15-9653-D56E3C48E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86B75-1E62-4363-B7F8-7B2C47EEE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AE0E3-ED1B-41E3-BCB1-A5ACD227B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3428BF-A3BF-483A-9A1E-F646B61B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6007A-40E3-4978-A488-C01CB540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80C87-0740-4E3A-8591-73453ADF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E728-BFB0-4863-9CB0-DFE2FFB0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A3A66-653A-4A13-9A47-D9539229E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1D552B-88F9-4D1C-8A70-C9FA942A6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BD5E1-3983-4E70-9D61-F48759CD3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01C5-1A1F-48FA-8409-EA1345B7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9E88-8221-4846-B42A-DC1CB1B3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66B18-F729-4091-8F70-EBB0E22A89B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5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Text Box 12"/>
              <p:cNvSpPr/>
              <p:nvPr/>
            </p:nvSpPr>
            <p:spPr>
              <a:xfrm>
                <a:off x="8280" y="50000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1452C-1249-43FA-8F44-4E4644525AD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FB000-DE35-462B-893A-C1288F44D11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DDDDB-D128-4EA9-A096-BB8B984EDB3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C0519-EBDB-4B6F-8A9A-2135952C386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Прямоугольный треугольник 15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0" name="Прямоугольный треугольник 15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2" name="Прямая соединительная линия 16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3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84E0A-EF13-4EBE-837A-CD56CE1E623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Рисунок 8" descr="D6747.jpg"/>
          <p:cNvPicPr/>
          <p:nvPr/>
        </p:nvPicPr>
        <p:blipFill>
          <a:blip r:embed="rId1"/>
          <a:stretch/>
        </p:blipFill>
        <p:spPr>
          <a:xfrm rot="21117600">
            <a:off x="442440" y="760320"/>
            <a:ext cx="3500640" cy="4594320"/>
          </a:xfrm>
          <a:prstGeom prst="rect">
            <a:avLst/>
          </a:prstGeom>
          <a:ln w="0">
            <a:noFill/>
          </a:ln>
        </p:spPr>
      </p:pic>
      <p:pic>
        <p:nvPicPr>
          <p:cNvPr id="277" name="Прямоугольник 3" descr=""/>
          <p:cNvPicPr/>
          <p:nvPr/>
        </p:nvPicPr>
        <p:blipFill>
          <a:blip r:embed="rId2"/>
          <a:stretch/>
        </p:blipFill>
        <p:spPr>
          <a:xfrm>
            <a:off x="3833640" y="506520"/>
            <a:ext cx="5383440" cy="2706480"/>
          </a:xfrm>
          <a:prstGeom prst="rect">
            <a:avLst/>
          </a:prstGeom>
          <a:ln w="0">
            <a:noFill/>
          </a:ln>
        </p:spPr>
      </p:pic>
      <p:sp>
        <p:nvSpPr>
          <p:cNvPr id="278" name="TextBox 4"/>
          <p:cNvSpPr/>
          <p:nvPr/>
        </p:nvSpPr>
        <p:spPr>
          <a:xfrm>
            <a:off x="4643280" y="3714840"/>
            <a:ext cx="400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итатель высшей категории Филатова Татьяна 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456840" y="1857240"/>
            <a:ext cx="4614840" cy="414360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е общайтесь с ребенк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ощряйте его желание высказывать свою точку зрения, уважительно относитесь к 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Заголовок 2" descr=""/>
          <p:cNvPicPr/>
          <p:nvPr/>
        </p:nvPicPr>
        <p:blipFill>
          <a:blip r:embed="rId1"/>
          <a:stretch/>
        </p:blipFill>
        <p:spPr>
          <a:xfrm>
            <a:off x="390600" y="212760"/>
            <a:ext cx="8362800" cy="1311120"/>
          </a:xfrm>
          <a:prstGeom prst="rect">
            <a:avLst/>
          </a:prstGeom>
          <a:ln w="0">
            <a:noFill/>
          </a:ln>
        </p:spPr>
      </p:pic>
      <p:pic>
        <p:nvPicPr>
          <p:cNvPr id="309" name="Рисунок 4" descr="8499e1aa980e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5357880" y="1785960"/>
            <a:ext cx="328608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428400" y="1642680"/>
            <a:ext cx="4143240" cy="4786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репляйте с ребенком состав числа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8 – это 4 +4, 3+5, 2+6 и т.д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ение ориентироваться в числовом ряду (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соседи» числа 5 – это 4 и 6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ершенствование пространственно-временных представлений (верх-низ, раньше-позже, право-лево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Заголовок 2" descr=""/>
          <p:cNvPicPr/>
          <p:nvPr/>
        </p:nvPicPr>
        <p:blipFill>
          <a:blip r:embed="rId1"/>
          <a:stretch/>
        </p:blipFill>
        <p:spPr>
          <a:xfrm>
            <a:off x="365040" y="219240"/>
            <a:ext cx="8413920" cy="1328400"/>
          </a:xfrm>
          <a:prstGeom prst="rect">
            <a:avLst/>
          </a:prstGeom>
          <a:ln w="0">
            <a:noFill/>
          </a:ln>
        </p:spPr>
      </p:pic>
      <p:pic>
        <p:nvPicPr>
          <p:cNvPr id="312" name="Рисунок 3" descr="8-37_G8egDQh5WT.jpg"/>
          <p:cNvPicPr/>
          <p:nvPr/>
        </p:nvPicPr>
        <p:blipFill>
          <a:blip r:embed="rId2"/>
          <a:stretch/>
        </p:blipFill>
        <p:spPr>
          <a:xfrm>
            <a:off x="4786200" y="2571840"/>
            <a:ext cx="4000680" cy="3857400"/>
          </a:xfrm>
          <a:prstGeom prst="rect">
            <a:avLst/>
          </a:prstGeom>
          <a:ln w="0">
            <a:noFill/>
          </a:ln>
        </p:spPr>
      </p:pic>
      <p:pic>
        <p:nvPicPr>
          <p:cNvPr id="313" name="Рисунок 5" descr="sch_tr.gif"/>
          <p:cNvPicPr/>
          <p:nvPr/>
        </p:nvPicPr>
        <p:blipFill>
          <a:blip r:embed="rId3"/>
          <a:stretch/>
        </p:blipFill>
        <p:spPr>
          <a:xfrm>
            <a:off x="5500800" y="214200"/>
            <a:ext cx="292896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457200" y="1643040"/>
            <a:ext cx="4829040" cy="4572000"/>
          </a:xfrm>
          <a:prstGeom prst="rect">
            <a:avLst/>
          </a:prstGeom>
          <a:solidFill>
            <a:srgbClr val="fce9b2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Развивайте мелкую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моторику ру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месте с ребен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суйт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крашивайте (стараясь не залезать за границы рисунк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пит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ирайте мозаи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Заголовок 2" descr=""/>
          <p:cNvPicPr/>
          <p:nvPr/>
        </p:nvPicPr>
        <p:blipFill>
          <a:blip r:embed="rId1"/>
          <a:stretch/>
        </p:blipFill>
        <p:spPr>
          <a:xfrm>
            <a:off x="360360" y="255600"/>
            <a:ext cx="8362800" cy="1274760"/>
          </a:xfrm>
          <a:prstGeom prst="rect">
            <a:avLst/>
          </a:prstGeom>
          <a:ln w="0">
            <a:noFill/>
          </a:ln>
        </p:spPr>
      </p:pic>
      <p:pic>
        <p:nvPicPr>
          <p:cNvPr id="316" name="Рисунок 3" descr="shkola.jpg"/>
          <p:cNvPicPr/>
          <p:nvPr/>
        </p:nvPicPr>
        <p:blipFill>
          <a:blip r:embed="rId2"/>
          <a:stretch/>
        </p:blipFill>
        <p:spPr>
          <a:xfrm>
            <a:off x="5643720" y="1785960"/>
            <a:ext cx="314316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456840" y="1999800"/>
            <a:ext cx="8186760" cy="4286520"/>
          </a:xfrm>
          <a:prstGeom prst="rect">
            <a:avLst/>
          </a:prstGeom>
          <a:solidFill>
            <a:srgbClr val="cef8fe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репляйте представления ребенка о звуках, слогах, словах и предложения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едложите ребенку назвать звук, с которого начинается слово. Именно звук, а не букву. В противном случае у детей возникают трудности при слиянии зву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комить с буквами желательно тогда, когда ребенок уже начнет читать по слог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имание того, что буквы и звуки – это вовсе не одно и то же, поможет ребенку в овладении письм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чень важно уметь делить слово на сло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Заголовок 2" descr=""/>
          <p:cNvPicPr/>
          <p:nvPr/>
        </p:nvPicPr>
        <p:blipFill>
          <a:blip r:embed="rId1"/>
          <a:stretch/>
        </p:blipFill>
        <p:spPr>
          <a:xfrm>
            <a:off x="390600" y="244440"/>
            <a:ext cx="8362800" cy="1279440"/>
          </a:xfrm>
          <a:prstGeom prst="rect">
            <a:avLst/>
          </a:prstGeom>
          <a:ln w="0">
            <a:noFill/>
          </a:ln>
        </p:spPr>
      </p:pic>
      <p:pic>
        <p:nvPicPr>
          <p:cNvPr id="319" name="Рисунок 3" descr="6.jpg"/>
          <p:cNvPicPr/>
          <p:nvPr/>
        </p:nvPicPr>
        <p:blipFill>
          <a:blip r:embed="rId2"/>
          <a:stretch/>
        </p:blipFill>
        <p:spPr>
          <a:xfrm>
            <a:off x="5572080" y="214200"/>
            <a:ext cx="250020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57120" y="1643040"/>
            <a:ext cx="4929120" cy="485784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При общении с ребенком называйте его друзей по им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Не критикуйте сверстников ребенк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Если возникнет необходимость, лучше проанализировать сложную (иногда конфликтную) ситуацию вместе с ребен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Приглашайте друзей ребенка в гости, участвуйте в игр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Заголовок 2" descr=""/>
          <p:cNvPicPr/>
          <p:nvPr/>
        </p:nvPicPr>
        <p:blipFill>
          <a:blip r:embed="rId1"/>
          <a:stretch/>
        </p:blipFill>
        <p:spPr>
          <a:xfrm>
            <a:off x="378000" y="231840"/>
            <a:ext cx="8381880" cy="1305000"/>
          </a:xfrm>
          <a:prstGeom prst="rect">
            <a:avLst/>
          </a:prstGeom>
          <a:ln w="0">
            <a:noFill/>
          </a:ln>
        </p:spPr>
      </p:pic>
      <p:pic>
        <p:nvPicPr>
          <p:cNvPr id="322" name="Рисунок 3" descr="big5f1xo1.jpg"/>
          <p:cNvPicPr/>
          <p:nvPr/>
        </p:nvPicPr>
        <p:blipFill>
          <a:blip r:embed="rId2"/>
          <a:stretch/>
        </p:blipFill>
        <p:spPr>
          <a:xfrm rot="472800">
            <a:off x="5429160" y="2286000"/>
            <a:ext cx="3357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457200" y="1643040"/>
            <a:ext cx="4757760" cy="4572000"/>
          </a:xfrm>
          <a:prstGeom prst="rect">
            <a:avLst/>
          </a:prstGeom>
          <a:solidFill>
            <a:srgbClr val="fbe0d1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овывайте с ребенком совместную дея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обсуждайте при нем взросл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ясняйте ему правила общения с учителем и другими взрослыми людь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Заголовок 2" descr=""/>
          <p:cNvPicPr/>
          <p:nvPr/>
        </p:nvPicPr>
        <p:blipFill>
          <a:blip r:embed="rId1"/>
          <a:stretch/>
        </p:blipFill>
        <p:spPr>
          <a:xfrm>
            <a:off x="390600" y="244440"/>
            <a:ext cx="8362800" cy="1146240"/>
          </a:xfrm>
          <a:prstGeom prst="rect">
            <a:avLst/>
          </a:prstGeom>
          <a:ln w="0">
            <a:noFill/>
          </a:ln>
        </p:spPr>
      </p:pic>
      <p:pic>
        <p:nvPicPr>
          <p:cNvPr id="325" name="Рисунок 4" descr="ipoteca.jpg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5429160" y="1714680"/>
            <a:ext cx="34290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57120" y="1785960"/>
            <a:ext cx="4857840" cy="4857840"/>
          </a:xfrm>
          <a:prstGeom prst="rect">
            <a:avLst/>
          </a:prstGeom>
          <a:solidFill>
            <a:srgbClr val="fce9b2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казывайте ребенку о правилах поведения в обществе и закрепляйте их своим пример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важайте права ребенка, предъявляйте разумные требования, чаще отмечайте его хорошие поступки и успех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бований и запретов не должно быть много, но те, что вы установили, должны соблюдатьс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се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членами семь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гда и вез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бования должны быть обоснованными и понят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Заголовок 2" descr=""/>
          <p:cNvPicPr/>
          <p:nvPr/>
        </p:nvPicPr>
        <p:blipFill>
          <a:blip r:embed="rId1"/>
          <a:stretch/>
        </p:blipFill>
        <p:spPr>
          <a:xfrm>
            <a:off x="646200" y="152280"/>
            <a:ext cx="7991280" cy="1311480"/>
          </a:xfrm>
          <a:prstGeom prst="rect">
            <a:avLst/>
          </a:prstGeom>
          <a:ln w="0">
            <a:noFill/>
          </a:ln>
        </p:spPr>
      </p:pic>
      <p:pic>
        <p:nvPicPr>
          <p:cNvPr id="328" name="Рисунок 6" descr="blackboard.gif"/>
          <p:cNvPicPr/>
          <p:nvPr/>
        </p:nvPicPr>
        <p:blipFill>
          <a:blip r:embed="rId2"/>
          <a:stretch/>
        </p:blipFill>
        <p:spPr>
          <a:xfrm>
            <a:off x="5429160" y="1500120"/>
            <a:ext cx="32860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56840" y="1571400"/>
            <a:ext cx="4543560" cy="4714920"/>
          </a:xfrm>
          <a:prstGeom prst="rect">
            <a:avLst/>
          </a:prstGeom>
          <a:solidFill>
            <a:srgbClr val="fbe0d1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Научитесь понимать своего ребенка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Не забывайте, что у ребенка могут быть свои проблемы и свое мнение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Не стоит торопить время, желая, чтобы ваш малыш повзрослел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Научитесь радоваться каждому дню его детства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Заголовок 2" descr=""/>
          <p:cNvPicPr/>
          <p:nvPr/>
        </p:nvPicPr>
        <p:blipFill>
          <a:blip r:embed="rId1"/>
          <a:stretch/>
        </p:blipFill>
        <p:spPr>
          <a:xfrm>
            <a:off x="165240" y="231840"/>
            <a:ext cx="8594640" cy="1305000"/>
          </a:xfrm>
          <a:prstGeom prst="rect">
            <a:avLst/>
          </a:prstGeom>
          <a:ln w="0">
            <a:noFill/>
          </a:ln>
        </p:spPr>
      </p:pic>
      <p:pic>
        <p:nvPicPr>
          <p:cNvPr id="331" name="Рисунок 5" descr="a1a595594bddt.jpg"/>
          <p:cNvPicPr/>
          <p:nvPr/>
        </p:nvPicPr>
        <p:blipFill>
          <a:blip r:embed="rId2"/>
          <a:stretch/>
        </p:blipFill>
        <p:spPr>
          <a:xfrm>
            <a:off x="5334120" y="2000160"/>
            <a:ext cx="359568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456840" y="2071800"/>
            <a:ext cx="5186520" cy="435744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забывайте о физических упражнен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тренняя гимнастика должна стать привыч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ключайте музыку, под которую приятно потанцевать и порезви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гры на свежем воздухе, плаванье, лыжи, коньки, велосипед помогут будущему ученику окрепнуть и разовьют координацию движ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Заголовок 3" descr=""/>
          <p:cNvPicPr/>
          <p:nvPr/>
        </p:nvPicPr>
        <p:blipFill>
          <a:blip r:embed="rId1"/>
          <a:stretch/>
        </p:blipFill>
        <p:spPr>
          <a:xfrm>
            <a:off x="390600" y="360360"/>
            <a:ext cx="8246880" cy="1455840"/>
          </a:xfrm>
          <a:prstGeom prst="rect">
            <a:avLst/>
          </a:prstGeom>
          <a:ln w="0">
            <a:noFill/>
          </a:ln>
        </p:spPr>
      </p:pic>
      <p:pic>
        <p:nvPicPr>
          <p:cNvPr id="334" name="Рисунок 6" descr="1211949034_11.jpg"/>
          <p:cNvPicPr/>
          <p:nvPr/>
        </p:nvPicPr>
        <p:blipFill>
          <a:blip r:embed="rId2"/>
          <a:stretch/>
        </p:blipFill>
        <p:spPr>
          <a:xfrm rot="429600">
            <a:off x="6257520" y="313920"/>
            <a:ext cx="1714680" cy="1928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335" name="Рисунок 7" descr="8c2e29e827a6t.jpg"/>
          <p:cNvPicPr/>
          <p:nvPr/>
        </p:nvPicPr>
        <p:blipFill>
          <a:blip r:embed="rId3"/>
          <a:stretch/>
        </p:blipFill>
        <p:spPr>
          <a:xfrm>
            <a:off x="5786280" y="2786040"/>
            <a:ext cx="28576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Содержимое 3" descr="1217822913_0lik_ru_12.jpg"/>
          <p:cNvPicPr/>
          <p:nvPr/>
        </p:nvPicPr>
        <p:blipFill>
          <a:blip r:embed="rId1"/>
          <a:stretch/>
        </p:blipFill>
        <p:spPr>
          <a:xfrm>
            <a:off x="3151080" y="1138320"/>
            <a:ext cx="5278680" cy="5148360"/>
          </a:xfrm>
          <a:prstGeom prst="rect">
            <a:avLst/>
          </a:prstGeom>
          <a:ln w="0">
            <a:noFill/>
          </a:ln>
        </p:spPr>
      </p:pic>
      <p:pic>
        <p:nvPicPr>
          <p:cNvPr id="337" name="Заголовок 2" descr=""/>
          <p:cNvPicPr/>
          <p:nvPr/>
        </p:nvPicPr>
        <p:blipFill>
          <a:blip r:embed="rId2"/>
          <a:stretch/>
        </p:blipFill>
        <p:spPr>
          <a:xfrm>
            <a:off x="426960" y="828720"/>
            <a:ext cx="8296200" cy="12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499680" y="1857240"/>
            <a:ext cx="4714920" cy="4572000"/>
          </a:xfrm>
          <a:prstGeom prst="rect">
            <a:avLst/>
          </a:prstGeom>
          <a:solidFill>
            <a:srgbClr val="d7d8e7"/>
          </a:solidFill>
          <a:ln w="9360">
            <a:solidFill>
              <a:srgbClr val="7acbe0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Я» (имя, фамилия, пол, возраст, место проживан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я семья (Ф. И. О. родителей, состав семьи, професси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ружающий мир (животные и растения, времена года и явления природы, люди и техника и т. д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Заголовок 8" descr=""/>
          <p:cNvPicPr/>
          <p:nvPr/>
        </p:nvPicPr>
        <p:blipFill>
          <a:blip r:embed="rId1"/>
          <a:stretch/>
        </p:blipFill>
        <p:spPr>
          <a:xfrm>
            <a:off x="420840" y="244440"/>
            <a:ext cx="8223120" cy="144468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7" descr="65662.jpg"/>
          <p:cNvPicPr/>
          <p:nvPr/>
        </p:nvPicPr>
        <p:blipFill>
          <a:blip r:embed="rId2"/>
          <a:stretch/>
        </p:blipFill>
        <p:spPr>
          <a:xfrm>
            <a:off x="5643720" y="2071800"/>
            <a:ext cx="278604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178920" y="1480680"/>
            <a:ext cx="5472360" cy="4805640"/>
          </a:xfrm>
          <a:prstGeom prst="rect">
            <a:avLst/>
          </a:prstGeom>
          <a:solidFill>
            <a:srgbClr val="fbe0d1"/>
          </a:soli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вая последовательность в пределах 2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жение и вычитание в пределах 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ятие «больше – меньш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геометрические фиг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иентировка в простран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рение предметов при помощи линей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вета и их оттен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Заголовок 2" descr=""/>
          <p:cNvPicPr/>
          <p:nvPr/>
        </p:nvPicPr>
        <p:blipFill>
          <a:blip r:embed="rId1"/>
          <a:stretch/>
        </p:blipFill>
        <p:spPr>
          <a:xfrm>
            <a:off x="390600" y="244440"/>
            <a:ext cx="8393040" cy="1071720"/>
          </a:xfrm>
          <a:prstGeom prst="rect">
            <a:avLst/>
          </a:prstGeom>
          <a:ln w="0">
            <a:noFill/>
          </a:ln>
        </p:spPr>
      </p:pic>
      <p:pic>
        <p:nvPicPr>
          <p:cNvPr id="284" name="Рисунок 3" descr="9785947433432.jpg"/>
          <p:cNvPicPr/>
          <p:nvPr/>
        </p:nvPicPr>
        <p:blipFill>
          <a:blip r:embed="rId2"/>
          <a:stretch/>
        </p:blipFill>
        <p:spPr>
          <a:xfrm>
            <a:off x="5715000" y="1500120"/>
            <a:ext cx="292896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457200" y="1785600"/>
            <a:ext cx="4829040" cy="4429080"/>
          </a:xfrm>
          <a:prstGeom prst="rect">
            <a:avLst/>
          </a:prstGeom>
          <a:gradFill rotWithShape="0">
            <a:gsLst>
              <a:gs pos="0">
                <a:srgbClr val="95d4ee"/>
              </a:gs>
              <a:gs pos="100000">
                <a:srgbClr val="d6f3ff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ение составлять рассказ по картин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сказывать содержание известной сказ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казывать связные истории из своей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ужд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вот  умение бегло читать или писать письменными буквами – совершенно не обязательно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Заголовок 2" descr=""/>
          <p:cNvPicPr/>
          <p:nvPr/>
        </p:nvPicPr>
        <p:blipFill>
          <a:blip r:embed="rId1"/>
          <a:stretch/>
        </p:blipFill>
        <p:spPr>
          <a:xfrm>
            <a:off x="378000" y="231840"/>
            <a:ext cx="8553240" cy="1305000"/>
          </a:xfrm>
          <a:prstGeom prst="rect">
            <a:avLst/>
          </a:prstGeom>
          <a:ln w="0">
            <a:noFill/>
          </a:ln>
        </p:spPr>
      </p:pic>
      <p:pic>
        <p:nvPicPr>
          <p:cNvPr id="287" name="Рисунок 3" descr="9785947433449.jpg"/>
          <p:cNvPicPr/>
          <p:nvPr/>
        </p:nvPicPr>
        <p:blipFill>
          <a:blip r:embed="rId2"/>
          <a:stretch/>
        </p:blipFill>
        <p:spPr>
          <a:xfrm>
            <a:off x="5857920" y="2428920"/>
            <a:ext cx="3071880" cy="4197240"/>
          </a:xfrm>
          <a:prstGeom prst="rect">
            <a:avLst/>
          </a:prstGeom>
          <a:ln w="0">
            <a:noFill/>
          </a:ln>
        </p:spPr>
      </p:pic>
      <p:pic>
        <p:nvPicPr>
          <p:cNvPr id="288" name="Рисунок 5" descr="3532_russian_schools_02.jpg"/>
          <p:cNvPicPr/>
          <p:nvPr/>
        </p:nvPicPr>
        <p:blipFill>
          <a:blip r:embed="rId3"/>
          <a:stretch/>
        </p:blipFill>
        <p:spPr>
          <a:xfrm rot="559200">
            <a:off x="5722920" y="431280"/>
            <a:ext cx="285768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457200" y="1642680"/>
            <a:ext cx="4829040" cy="4786200"/>
          </a:xfrm>
          <a:prstGeom prst="rect">
            <a:avLst/>
          </a:prstGeom>
          <a:solidFill>
            <a:srgbClr val="def5fa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интеллектуальные функции </a:t>
            </a:r>
            <a:r>
              <a:rPr b="1" i="1" lang="ru-RU" sz="2000" spc="-1" strike="noStrike">
                <a:solidFill>
                  <a:srgbClr val="a3171e"/>
                </a:solidFill>
                <a:latin typeface="Arial"/>
              </a:rPr>
              <a:t>(внимание, память и мышление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лжны достичь определенного уровня развития – стать произвольными, т. е. сознательно управляем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дущему школьнику необходимо уметь определенное время работать, сосредоточившись на зад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Заголовок 2" descr=""/>
          <p:cNvPicPr/>
          <p:nvPr/>
        </p:nvPicPr>
        <p:blipFill>
          <a:blip r:embed="rId1"/>
          <a:stretch/>
        </p:blipFill>
        <p:spPr>
          <a:xfrm>
            <a:off x="378000" y="231840"/>
            <a:ext cx="8412120" cy="1243080"/>
          </a:xfrm>
          <a:prstGeom prst="rect">
            <a:avLst/>
          </a:prstGeom>
          <a:ln w="0">
            <a:noFill/>
          </a:ln>
        </p:spPr>
      </p:pic>
      <p:pic>
        <p:nvPicPr>
          <p:cNvPr id="291" name="Рисунок 4" descr="b661.jpg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5500800" y="1785960"/>
            <a:ext cx="348120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356760" y="1785960"/>
            <a:ext cx="5357880" cy="4643280"/>
          </a:xfrm>
          <a:prstGeom prst="rect">
            <a:avLst/>
          </a:prstGeom>
          <a:solidFill>
            <a:srgbClr val="d4dfef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3171e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a3171e"/>
                </a:solidFill>
                <a:latin typeface="Arial"/>
              </a:rPr>
              <a:t>Ребенку важно научиться владеть собственными пальчиками – ведь теперь он будет учиться пис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этому ему нужно уме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о держать ручк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зоваться ножниц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совать и лепи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водить контуры и заштриховывать фиг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Заголовок 2" descr=""/>
          <p:cNvPicPr/>
          <p:nvPr/>
        </p:nvPicPr>
        <p:blipFill>
          <a:blip r:embed="rId1"/>
          <a:stretch/>
        </p:blipFill>
        <p:spPr>
          <a:xfrm>
            <a:off x="360360" y="255600"/>
            <a:ext cx="8393040" cy="1274760"/>
          </a:xfrm>
          <a:prstGeom prst="rect">
            <a:avLst/>
          </a:prstGeom>
          <a:ln w="0">
            <a:noFill/>
          </a:ln>
        </p:spPr>
      </p:pic>
      <p:pic>
        <p:nvPicPr>
          <p:cNvPr id="294" name="Рисунок 3" descr="1232699973_1_2.jpg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5929200" y="2286000"/>
            <a:ext cx="2928960" cy="4143240"/>
          </a:xfrm>
          <a:prstGeom prst="rect">
            <a:avLst/>
          </a:prstGeom>
          <a:ln w="0">
            <a:noFill/>
          </a:ln>
        </p:spPr>
      </p:pic>
      <p:pic>
        <p:nvPicPr>
          <p:cNvPr id="295" name="Рисунок 4" descr="big_school.gif"/>
          <p:cNvPicPr/>
          <p:nvPr/>
        </p:nvPicPr>
        <p:blipFill>
          <a:blip r:embed="rId3"/>
          <a:stretch/>
        </p:blipFill>
        <p:spPr>
          <a:xfrm>
            <a:off x="6215040" y="0"/>
            <a:ext cx="183852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713880" y="2071800"/>
            <a:ext cx="4929480" cy="428616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Желание учиться, идти в шко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Стремление узнавать нов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репляйте положительное отношение ребенка к шк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когда не запугивайте ребенка, рассказывая о шк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Заголовок 2" descr=""/>
          <p:cNvPicPr/>
          <p:nvPr/>
        </p:nvPicPr>
        <p:blipFill>
          <a:blip r:embed="rId1"/>
          <a:stretch/>
        </p:blipFill>
        <p:spPr>
          <a:xfrm>
            <a:off x="378000" y="317520"/>
            <a:ext cx="8650080" cy="1584360"/>
          </a:xfrm>
          <a:prstGeom prst="rect">
            <a:avLst/>
          </a:prstGeom>
          <a:ln w="0">
            <a:noFill/>
          </a:ln>
        </p:spPr>
      </p:pic>
      <p:pic>
        <p:nvPicPr>
          <p:cNvPr id="298" name="Рисунок 3" descr="93dbcc2d26c0t.jpg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5659560" y="2071800"/>
            <a:ext cx="3319200" cy="4286160"/>
          </a:xfrm>
          <a:prstGeom prst="rect">
            <a:avLst/>
          </a:prstGeom>
          <a:ln w="0">
            <a:noFill/>
          </a:ln>
        </p:spPr>
      </p:pic>
      <p:pic>
        <p:nvPicPr>
          <p:cNvPr id="299" name="Рисунок 4" descr="deti0000.gif"/>
          <p:cNvPicPr/>
          <p:nvPr/>
        </p:nvPicPr>
        <p:blipFill>
          <a:blip r:embed="rId3">
            <a:lum contrast="20000"/>
          </a:blip>
          <a:stretch/>
        </p:blipFill>
        <p:spPr>
          <a:xfrm>
            <a:off x="285840" y="0"/>
            <a:ext cx="200016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456840" y="2142720"/>
            <a:ext cx="4329000" cy="4357800"/>
          </a:xfrm>
          <a:prstGeom prst="rect">
            <a:avLst/>
          </a:prstGeom>
          <a:solidFill>
            <a:srgbClr val="fbe0d1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грая с ребенком, используйте игры с правилами (домино, лото, шашки, подвижные игры и т. д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едите за тем</a:t>
            </a: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, что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ребенок выполнял правила иг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Заголовок 10" descr=""/>
          <p:cNvPicPr/>
          <p:nvPr/>
        </p:nvPicPr>
        <p:blipFill>
          <a:blip r:embed="rId1"/>
          <a:stretch/>
        </p:blipFill>
        <p:spPr>
          <a:xfrm>
            <a:off x="285840" y="244440"/>
            <a:ext cx="8589960" cy="1644840"/>
          </a:xfrm>
          <a:prstGeom prst="rect">
            <a:avLst/>
          </a:prstGeom>
          <a:ln w="0">
            <a:noFill/>
          </a:ln>
        </p:spPr>
      </p:pic>
      <p:pic>
        <p:nvPicPr>
          <p:cNvPr id="302" name="Рисунок 9" descr="object_5_1099054865_27794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5357880" y="2143080"/>
            <a:ext cx="337500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428400" y="1856880"/>
            <a:ext cx="4214520" cy="435780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  ребенка устанавливать причинно-следственные связ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айте вместе с ним логические задачи: загадки, ребусы, кроссвор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Заголовок 2" descr=""/>
          <p:cNvPicPr/>
          <p:nvPr/>
        </p:nvPicPr>
        <p:blipFill>
          <a:blip r:embed="rId1"/>
          <a:stretch/>
        </p:blipFill>
        <p:spPr>
          <a:xfrm>
            <a:off x="390600" y="396720"/>
            <a:ext cx="8246880" cy="1279800"/>
          </a:xfrm>
          <a:prstGeom prst="rect">
            <a:avLst/>
          </a:prstGeom>
          <a:ln w="0">
            <a:noFill/>
          </a:ln>
        </p:spPr>
      </p:pic>
      <p:pic>
        <p:nvPicPr>
          <p:cNvPr id="305" name="Рисунок 4" descr="school.jpg"/>
          <p:cNvPicPr/>
          <p:nvPr/>
        </p:nvPicPr>
        <p:blipFill>
          <a:blip r:embed="rId2">
            <a:lum contrast="40000"/>
          </a:blip>
          <a:stretch/>
        </p:blipFill>
        <p:spPr>
          <a:xfrm>
            <a:off x="4929120" y="2928960"/>
            <a:ext cx="3857760" cy="3286080"/>
          </a:xfrm>
          <a:prstGeom prst="rect">
            <a:avLst/>
          </a:prstGeom>
          <a:ln w="0">
            <a:noFill/>
          </a:ln>
        </p:spPr>
      </p:pic>
      <p:pic>
        <p:nvPicPr>
          <p:cNvPr id="306" name="Рисунок 5" descr="logo_white_3.jpg"/>
          <p:cNvPicPr/>
          <p:nvPr/>
        </p:nvPicPr>
        <p:blipFill>
          <a:blip r:embed="rId3">
            <a:lum contrast="40000"/>
          </a:blip>
          <a:stretch/>
        </p:blipFill>
        <p:spPr>
          <a:xfrm rot="1275600">
            <a:off x="6214680" y="500040"/>
            <a:ext cx="185724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6T03:10:02Z</dcterms:created>
  <dc:creator>User</dc:creator>
  <dc:description/>
  <dc:language>en-US</dc:language>
  <cp:lastModifiedBy>Пользователь</cp:lastModifiedBy>
  <dcterms:modified xsi:type="dcterms:W3CDTF">2021-05-24T17:29:55Z</dcterms:modified>
  <cp:revision>51</cp:revision>
  <dc:subject/>
  <dc:title>Что должен знать и уметь ребенок при поступлении в школу</dc:title>
</cp:coreProperties>
</file>