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7.jpeg" ContentType="image/jpeg"/>
  <Override PartName="/ppt/media/image7.png" ContentType="image/png"/>
  <Override PartName="/ppt/media/image9.png" ContentType="image/png"/>
  <Override PartName="/ppt/media/image35.jpeg" ContentType="image/jpeg"/>
  <Override PartName="/ppt/media/image40.png" ContentType="image/png"/>
  <Override PartName="/ppt/media/image41.png" ContentType="image/png"/>
  <Override PartName="/ppt/media/image43.jpeg" ContentType="image/jpeg"/>
  <Override PartName="/ppt/media/image48.png" ContentType="image/png"/>
  <Override PartName="/ppt/media/image11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27.png" ContentType="image/png"/>
  <Override PartName="/ppt/media/image3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688-CC73-4C12-8EBF-A8E9FF94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A98-12D5-4228-A58C-ABC61F92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749-C9D1-4159-B8B0-620843E3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245-7B77-42E6-A272-7A023F6F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4C1E-68EC-48E2-8928-C10DE80B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10E3-4304-4D22-9BBF-B1F40C27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D07D-CCE1-4257-910E-703842A7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7209-FC88-4BC2-BB10-6514E3AC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8594-9337-45DE-AE7A-2DB2489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F86B-B113-4D91-949D-B6DE0C80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14C8-A3A9-45DA-B387-F8A97D23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0FE-2575-404B-8387-DDF3AEF2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8594-3A76-44F1-8064-E6FCE40D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B0B0-C29E-4BF5-A87D-6D1D273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40D9-53FE-45F3-AC59-624CAAF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C7C-4D41-4820-A59D-1D3D1257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315-A049-4F37-ABE3-C9DAE1E9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9C85-62A0-4F9F-93BE-9D34C689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1C55-ED5D-4F1F-BE43-FC90BEA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353D-7AD9-4707-BAD1-2A200C7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8B85-582B-4E98-8A10-D4EDD512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F047-AFCE-4BB5-B732-6F8E3D7C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D43-7812-4130-A86C-8651C8C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C02B-F6D3-4DB5-B9E1-11949724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A804-3167-4B6A-998B-D457215A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BD91-899C-4558-ADA5-C155470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6C79-3612-49C7-9E6C-8EEE70C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41CF-B100-497F-9AA2-4711D2F4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A9C04-6600-4A54-AFD4-C803FE3C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6ECF-FA73-4C17-B40A-C13A2A7D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9688-1E0E-423F-B0B6-9581E3FA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4789-7C06-4BBD-AFA4-D373690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536D-5933-4CD7-A5F2-426D2865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465-CE6D-459E-AA77-6A85DEEE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8753-24BE-4DF3-B4C6-4A875468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0D5A-4D35-40B9-AE95-3206A6E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8A37-49A3-4153-9561-543AC327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7576-D0CF-41F1-8301-E8572E02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0A17-1F3D-456B-AC4D-763D3D1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603C-FF74-4DF8-B7F6-AEA88651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84D8-5DC3-4110-A9DE-8499AC86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7434D-36D5-47E3-9595-CC750B73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87A11-886A-4050-BE9D-109E011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B2957-E5B5-4F54-A347-E0711AD5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E82-1AD8-4145-AE20-3E9A00FB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E5EB-5AC5-4297-8555-0BA66B9B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F3AD-FCD0-4F0B-8D0A-E70E34B3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18B2-BA43-4B9F-AFEB-4BCD9385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CE95-5C41-4405-AA1A-299D758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1D8E7-1A50-444A-B3CF-C9C0396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CCF8-EAA9-4342-A906-ECCCB76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C07FE-1BCA-4B5F-BFE7-88BC306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97A0-D596-4EC0-BF13-9F384F67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C2C7-67EB-42DD-9E6C-D3A9957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7DDB-BFA6-476F-8E88-5B8A1F96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E2B-6F67-4A63-A6AD-250B4E4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258D-8212-4A10-855E-F3A778C5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9D532-31F5-428E-BB78-B0A41E86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88D1-7B27-437B-AEC5-B536AFA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81D4F-B6EA-4C4C-B31D-0D97F67A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DCF57-D442-432D-85BC-E640D74F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51B2C-1C26-4FF8-81B6-E1E763C3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CA42-D70B-41A2-B2C4-520CD1DC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8B7ED-D136-4CC4-AEA5-4E6219D2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9760-2B48-4B87-B63B-1011655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ACBE-3950-4451-BBF0-9BFE748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42B-6210-4773-96AC-C005250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3A644-24C9-49BB-B499-7EF3AF76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18FD9-150F-4D84-B848-72732980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DC74-898E-4771-B6C1-B4812F07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BEF-32B3-4A81-9EBC-6ACDFC83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85D-0043-4585-BE52-B52AAF65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E481-3505-4A50-8FF2-043A1DA537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8280" y="5000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1159-B2D4-4EA3-86C7-CE4DF41628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DD5-E88E-48F2-9851-F357B59C32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EC5C-0293-4F6A-9FC9-8C5C529614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ACA-D12F-4455-B25F-1F7EC39EF8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DBD-368E-4A61-BAD8-0E6BE722F4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8" descr="D6747.jpg"/>
          <p:cNvPicPr/>
          <p:nvPr/>
        </p:nvPicPr>
        <p:blipFill>
          <a:blip r:embed="rId1"/>
          <a:stretch/>
        </p:blipFill>
        <p:spPr>
          <a:xfrm rot="21117600">
            <a:off x="442440" y="760320"/>
            <a:ext cx="3500640" cy="459432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3" descr=""/>
          <p:cNvPicPr/>
          <p:nvPr/>
        </p:nvPicPr>
        <p:blipFill>
          <a:blip r:embed="rId2"/>
          <a:stretch/>
        </p:blipFill>
        <p:spPr>
          <a:xfrm>
            <a:off x="3833640" y="506520"/>
            <a:ext cx="5383440" cy="2706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4643280" y="371484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высшей категории Филат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6840" y="1857240"/>
            <a:ext cx="4614840" cy="41436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общайтесь с ребен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его желание высказывать свою точку зрения, уважительно относитесь к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Заголовок 2" descr=""/>
          <p:cNvPicPr/>
          <p:nvPr/>
        </p:nvPicPr>
        <p:blipFill>
          <a:blip r:embed="rId1"/>
          <a:stretch/>
        </p:blipFill>
        <p:spPr>
          <a:xfrm>
            <a:off x="390600" y="212760"/>
            <a:ext cx="8362800" cy="13111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8499e1aa980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17859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28400" y="1642680"/>
            <a:ext cx="4143240" cy="47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йте с ребенком состав числа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8 – это 4 +4, 3+5, 2+6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ориентироваться в числовом ряду (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оседи» числа 5 – это 4 и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пространственно-временных представлений (верх-низ, раньше-позже, право-ле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Заголовок 2" descr=""/>
          <p:cNvPicPr/>
          <p:nvPr/>
        </p:nvPicPr>
        <p:blipFill>
          <a:blip r:embed="rId1"/>
          <a:stretch/>
        </p:blipFill>
        <p:spPr>
          <a:xfrm>
            <a:off x="365040" y="219240"/>
            <a:ext cx="8413920" cy="1328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3" descr="8-37_G8egDQh5WT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00680" cy="38574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5" descr="sch_tr.gif"/>
          <p:cNvPicPr/>
          <p:nvPr/>
        </p:nvPicPr>
        <p:blipFill>
          <a:blip r:embed="rId3"/>
          <a:stretch/>
        </p:blipFill>
        <p:spPr>
          <a:xfrm>
            <a:off x="5500800" y="214200"/>
            <a:ext cx="2928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43040"/>
            <a:ext cx="4829040" cy="457200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звивайте мелкую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торику ру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ашивайте (стараясь не залезать за границы рису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ирайте моза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62800" cy="127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3" descr="shkola.jpg"/>
          <p:cNvPicPr/>
          <p:nvPr/>
        </p:nvPicPr>
        <p:blipFill>
          <a:blip r:embed="rId2"/>
          <a:stretch/>
        </p:blipFill>
        <p:spPr>
          <a:xfrm>
            <a:off x="5643720" y="178596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6840" y="1999800"/>
            <a:ext cx="8186760" cy="4286520"/>
          </a:xfrm>
          <a:prstGeom prst="rect">
            <a:avLst/>
          </a:prstGeom>
          <a:solidFill>
            <a:srgbClr val="cef8fe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йте представления ребенка о звуках, слогах, словах и предло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ожите ребенку назвать звук, с которого начинается слово. Именно звук, а не букву. В противном случае у детей возникают трудности при слиянии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ить с буквами желательно тогда, когда ребенок уже начнет читать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того, что буквы и звуки – это вовсе не одно и то же, поможет ребенку в овладении пись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важно уметь делить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6.jpg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и общении с ребенком называйте его друзей по и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е критикуйте сверстников ребен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иглашайте друзей ребенка в гости, участвуйте в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ывайте с ребенком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при нем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йте ему правила общения с учителем и другими взрослыми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57120" y="1785960"/>
            <a:ext cx="4857840" cy="485784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ывайте ребенку о правилах поведения в обществе и закрепляйте их своим прим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айте права ребенка, предъявляйте разумные требования, чаще отмечайте его хорошие поступки и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й и запретов не должно быть много, но те, что вы установили, должны соблюдать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ленами семь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да и в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должны быть обоснованными и поня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Заголовок 2" descr=""/>
          <p:cNvPicPr/>
          <p:nvPr/>
        </p:nvPicPr>
        <p:blipFill>
          <a:blip r:embed="rId1"/>
          <a:stretch/>
        </p:blipFill>
        <p:spPr>
          <a:xfrm>
            <a:off x="646200" y="152280"/>
            <a:ext cx="7991280" cy="13114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blackboard.gif"/>
          <p:cNvPicPr/>
          <p:nvPr/>
        </p:nvPicPr>
        <p:blipFill>
          <a:blip r:embed="rId2"/>
          <a:stretch/>
        </p:blipFill>
        <p:spPr>
          <a:xfrm>
            <a:off x="542916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6840" y="1571400"/>
            <a:ext cx="4543560" cy="471492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учитесь понимать своего ребен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 забывайте, что у ребенка могут быть свои проблемы и свое мн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 стоит торопить время, желая, чтобы ваш малыш повзросле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учитесь радоваться каждому дню его дет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594640" cy="13050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" descr="a1a595594bddt.jpg"/>
          <p:cNvPicPr/>
          <p:nvPr/>
        </p:nvPicPr>
        <p:blipFill>
          <a:blip r:embed="rId2"/>
          <a:stretch/>
        </p:blipFill>
        <p:spPr>
          <a:xfrm>
            <a:off x="5334120" y="2000160"/>
            <a:ext cx="359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5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одержимое 3" descr="1217822913_0lik_ru_12.jpg"/>
          <p:cNvPicPr/>
          <p:nvPr/>
        </p:nvPicPr>
        <p:blipFill>
          <a:blip r:embed="rId1"/>
          <a:stretch/>
        </p:blipFill>
        <p:spPr>
          <a:xfrm>
            <a:off x="3151080" y="1138320"/>
            <a:ext cx="5278680" cy="5148360"/>
          </a:xfrm>
          <a:prstGeom prst="rect">
            <a:avLst/>
          </a:prstGeom>
          <a:ln w="0">
            <a:noFill/>
          </a:ln>
        </p:spPr>
      </p:pic>
      <p:pic>
        <p:nvPicPr>
          <p:cNvPr id="337" name="Заголовок 2" descr=""/>
          <p:cNvPicPr/>
          <p:nvPr/>
        </p:nvPicPr>
        <p:blipFill>
          <a:blip r:embed="rId2"/>
          <a:stretch/>
        </p:blipFill>
        <p:spPr>
          <a:xfrm>
            <a:off x="426960" y="828720"/>
            <a:ext cx="8296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d7d8e7"/>
          </a:solidFill>
          <a:ln w="9360">
            <a:solidFill>
              <a:srgbClr val="7acbe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» (имя, фамилия, пол, возраст, место прож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семья (Ф. И. О. родителей, состав семьи, профе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Заголовок 8" descr=""/>
          <p:cNvPicPr/>
          <p:nvPr/>
        </p:nvPicPr>
        <p:blipFill>
          <a:blip r:embed="rId1"/>
          <a:stretch/>
        </p:blipFill>
        <p:spPr>
          <a:xfrm>
            <a:off x="420840" y="244440"/>
            <a:ext cx="8223120" cy="14446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78920" y="1480680"/>
            <a:ext cx="5472360" cy="4805640"/>
          </a:xfrm>
          <a:prstGeom prst="rect">
            <a:avLst/>
          </a:prstGeom>
          <a:solidFill>
            <a:srgbClr val="fbe0d1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ая последовательность в пределах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и вычитание в пределах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больше – меньш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геометрически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ение предметов при помощи лине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а и их отт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93040" cy="1071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9785947433432.jpg"/>
          <p:cNvPicPr/>
          <p:nvPr/>
        </p:nvPicPr>
        <p:blipFill>
          <a:blip r:embed="rId2"/>
          <a:stretch/>
        </p:blipFill>
        <p:spPr>
          <a:xfrm>
            <a:off x="5715000" y="1500120"/>
            <a:ext cx="2928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553240" cy="13050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42680"/>
            <a:ext cx="4829040" cy="47862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интеллектуальные функции </a:t>
            </a:r>
            <a:r>
              <a:rPr b="1" i="1" lang="ru-RU" sz="2000" spc="-1" strike="noStrike">
                <a:solidFill>
                  <a:srgbClr val="a3171e"/>
                </a:solidFill>
                <a:latin typeface="Arial"/>
              </a:rPr>
              <a:t>(внимание, память и мышление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достичь определенного уровня развития – стать произвольными, т. е. сознательно управляе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щему школьнику необходимо уметь определенное время работать, сосредоточившись на за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412120" cy="12430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4" descr="b661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1785960"/>
            <a:ext cx="34812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d4dfe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171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a3171e"/>
                </a:solidFill>
                <a:latin typeface="Arial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елание учиться, идти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ремление 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йте положительное отношение ребе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запугивайте ребенка, рассказывая о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ите за тем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ебенок выполнял правил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  ребенка устанавливать причинно-следствен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йте вместе с ним логические задачи: загадки, ребусы, кроссво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3:10:02Z</dcterms:created>
  <dc:creator>User</dc:creator>
  <dc:description/>
  <dc:language>en-US</dc:language>
  <cp:lastModifiedBy>Пользователь</cp:lastModifiedBy>
  <dcterms:modified xsi:type="dcterms:W3CDTF">2021-05-24T17:29:55Z</dcterms:modified>
  <cp:revision>51</cp:revision>
  <dc:subject/>
  <dc:title>Что должен знать и уметь ребенок при поступлении в школу</dc:title>
</cp:coreProperties>
</file>