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DAE-3807-48C3-A4FF-11408735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948-F4EF-4E6D-99E7-FF055EC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CEA-BF12-48F3-A69C-B75A87BC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D47-0EAF-4627-AE27-7881EA25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9F87-47D9-4E88-8F3D-E7F4B98F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F77-4F31-4BFA-A4FC-99ECDC1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5D91-B088-46EA-BA57-7D1C4150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3A1-3422-4740-BE8C-9CF1B4B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132-C8E7-4C85-8B1C-571007B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EEA1-BA9D-453D-8877-7A393439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D5FC-9972-43A8-B090-4EE8D80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6A9-ADCA-4649-96C6-582C115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62A-6D66-4D5C-9357-93C1F4A0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60B4-6A6E-4936-974D-84393EB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A58C-2322-4CA7-8C2D-A93D2F73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EED-8157-4BE5-A3EB-7E9D3558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B40-90BC-486E-AFB3-EFAB4238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B2D-E0B3-4587-A010-0B71D0C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EBC-20A3-49F7-B0C4-A2084F87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922-8F1B-42FA-AB91-2E455D3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407-48AD-4DCD-9E16-24891ABD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CC3-1344-4A86-8386-6CDF05E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DBB-7740-4B4F-A675-A51E004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EAD-3FA0-4A1B-A098-9461895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D48-3A29-4728-8863-45C6E64490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335-3D2D-42B5-B632-BCA5301B35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" Target="slide24.xml"/><Relationship Id="rId16" Type="http://schemas.openxmlformats.org/officeDocument/2006/relationships/slide" Target="slide25.xml"/><Relationship Id="rId17" Type="http://schemas.openxmlformats.org/officeDocument/2006/relationships/slide" Target="slide26.xml"/><Relationship Id="rId18" Type="http://schemas.openxmlformats.org/officeDocument/2006/relationships/slide" Target="slide27.xml"/><Relationship Id="rId19" Type="http://schemas.openxmlformats.org/officeDocument/2006/relationships/slide" Target="slide28.xml"/><Relationship Id="rId20" Type="http://schemas.openxmlformats.org/officeDocument/2006/relationships/slide" Target="slide29.xml"/><Relationship Id="rId21" Type="http://schemas.openxmlformats.org/officeDocument/2006/relationships/slide" Target="slide30.xml"/><Relationship Id="rId22" Type="http://schemas.openxmlformats.org/officeDocument/2006/relationships/slide" Target="slide31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4.xml"/><Relationship Id="rId26" Type="http://schemas.openxmlformats.org/officeDocument/2006/relationships/slide" Target="slide35.xml"/><Relationship Id="rId27" Type="http://schemas.openxmlformats.org/officeDocument/2006/relationships/slide" Target="slide36.xml"/><Relationship Id="rId28" Type="http://schemas.openxmlformats.org/officeDocument/2006/relationships/slide" Target="slide37.xml"/><Relationship Id="rId29" Type="http://schemas.openxmlformats.org/officeDocument/2006/relationships/slide" Target="slide38.xml"/><Relationship Id="rId30" Type="http://schemas.openxmlformats.org/officeDocument/2006/relationships/slide" Target="slide39.xml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6633"/>
                </a:solidFill>
                <a:latin typeface="Monotype Corsiva"/>
              </a:rPr>
              <a:t>"Умелые хозяюшки</a:t>
            </a:r>
            <a:r>
              <a:rPr b="1" lang="ru-RU" sz="7400" spc="-1" strike="noStrike">
                <a:solidFill>
                  <a:srgbClr val="006633"/>
                </a:solidFill>
                <a:latin typeface="Garamond"/>
              </a:rPr>
              <a:t>"</a:t>
            </a:r>
            <a:br>
              <a:rPr sz="7400"/>
            </a:br>
            <a:endParaRPr b="0" lang="en-US" sz="7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по теме «Кулин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полезные и вредные воздействия оказывают микроорганизмы на пищевые продукты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8172360" y="566244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748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источники и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пути проникновения болезнетворных микроорганизмов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организм человек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824400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избежать пищевых отравлений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8172360" y="57340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признаки пищевых отравлений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previousslide"/>
          </p:cNvPr>
          <p:cNvSpPr/>
          <p:nvPr/>
        </p:nvSpPr>
        <p:spPr>
          <a:xfrm>
            <a:off x="81709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авильно оказать первую медицинскую помощь при отравлениях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мяса используются для приготовления пищи?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признаки доброкачественности мяс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previousslide"/>
          </p:cNvPr>
          <p:cNvSpPr/>
          <p:nvPr/>
        </p:nvSpPr>
        <p:spPr>
          <a:xfrm>
            <a:off x="8101080" y="566244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отличается мясо по термическому состоянию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этапы включает в себя первичная обработка мяс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фарша Вы знаете, что из него можно приготовить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Цели:</a:t>
            </a:r>
            <a:r>
              <a:rPr b="1" lang="ru-RU" sz="3800" spc="-1" strike="noStrike">
                <a:solidFill>
                  <a:srgbClr val="006633"/>
                </a:solidFill>
                <a:latin typeface="Monotype Corsiv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ить и закрепить знания, полученные на уроках “Кулинария”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йствовать сплочению коллектива учащихся, созданию благоприятного психологического микроклимат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питание эстетического вкуса, ответственности перед коллективом, критического отношения к достигнутому результа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о значение кисломолочных продуктов в питании человек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 какие группы по характеру брожения делятся кисломолочные продукты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иготовить в домашних условиях простоквашу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иготовить в домашних условиях творог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8028000" y="5661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Для чего творог перетирают через сито перед приготовлением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авильно хранить муку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previousslide"/>
          </p:cNvPr>
          <p:cNvSpPr/>
          <p:nvPr/>
        </p:nvSpPr>
        <p:spPr>
          <a:xfrm>
            <a:off x="8101080" y="566244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разрыхлители и для чего их применяют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первичная обработка сливочного масла перед приготовлением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Значение яйца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(желтка и белка)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мучных изделиях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Значение соли в мучных изделиях</a:t>
            </a: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Оборудование: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ьютер со слайдами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рточки с заданиям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оловая посу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оловые прибор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теста Вы знает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дрожжев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бисквит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слое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песоч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особенность приготовления компота из сухофруктов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разновидности киселя, в чем их отличи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мусс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суфл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обработка желатина при приготовлении жел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800" spc="-1" strike="noStrike">
                <a:solidFill>
                  <a:srgbClr val="ff3300"/>
                </a:solidFill>
                <a:latin typeface="Monotype Corsiva"/>
              </a:rPr>
              <a:t>Пусть ум и руки Ваши родят лишь чудеса,</a:t>
            </a:r>
            <a:br>
              <a:rPr sz="6800"/>
            </a:br>
            <a:r>
              <a:rPr b="1" i="1" lang="ru-RU" sz="6800" spc="-1" strike="noStrike">
                <a:solidFill>
                  <a:srgbClr val="ff3300"/>
                </a:solidFill>
                <a:latin typeface="Monotype Corsiva"/>
              </a:rPr>
              <a:t>И мир станет прекрасней от мудрости творца</a:t>
            </a:r>
            <a:r>
              <a:rPr b="1" i="1" lang="ru-RU" sz="5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2 ЭТАП – ПРАКТИЧЕСКИЙ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200" spc="-1" strike="noStrike">
                <a:solidFill>
                  <a:srgbClr val="cc9900"/>
                </a:solidFill>
                <a:latin typeface="Monotype Corsiva"/>
              </a:rPr>
              <a:t>“</a:t>
            </a:r>
            <a:r>
              <a:rPr b="0" lang="ru-RU" sz="8200" spc="-1" strike="noStrike">
                <a:solidFill>
                  <a:srgbClr val="cc9900"/>
                </a:solidFill>
                <a:latin typeface="Monotype Corsiva"/>
              </a:rPr>
              <a:t>Встречаем гостей”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Кто в гости не ездит, к себе не зовет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тот недобрым слывет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 Древних времен на Руси традиция гостеприимства была в почет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остеприимство и хлебосольство предполагает особый ритуал угощения. Поэтому не лишним будет вспомнить о правилах сервировки стола и правилах пользования столовыми прибор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ервировка стола – это подготовка и оформление стола для приема пищи. Сервировка создает не только приятную обстановку, но и определенный порядок на стол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Вы как молодые хозяйки должны уметь сервировать стол, а как вы это умеете делать - мы сейчас посмотр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Для этого от каждой команды приглашается по одному участнику. Ваша задача правильно выполнить сервировку праздничного стола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6633"/>
                </a:solidFill>
                <a:latin typeface="Monotype Corsiva"/>
              </a:rPr>
              <a:t>Сервировка стола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90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 ЗАВТРАК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ша пшенн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терброд (с сыром, маслом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8000" y="3362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 УЖИН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тофельное пюре с сосиск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лат капуст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а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3 ЭТАП – </a:t>
            </a: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ТВОРЧЕСКИЙ</a:t>
            </a: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cc9900"/>
                </a:solidFill>
                <a:latin typeface="Monotype Corsiva"/>
              </a:rPr>
              <a:t>“</a:t>
            </a: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Не красна изба углами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           </a:t>
            </a: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а красна пирогами</a:t>
            </a:r>
            <a:r>
              <a:rPr b="0" lang="ru-RU" sz="7400" spc="-1" strike="noStrike">
                <a:solidFill>
                  <a:srgbClr val="cc9900"/>
                </a:solidFill>
                <a:latin typeface="Monotype Corsiva"/>
              </a:rPr>
              <a:t>“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4 ЭТАП – ЭСТЕТИЧЕСКИЙ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Monotype Corsiva"/>
              </a:rPr>
              <a:t>ПРОДОЛЖИ ФРАЗУ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ри сервировке стола ножи обычно лежат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Вместо рыбного прибора иногда кладу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Бокал, который используют первым, стои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ложечка уже побывала в кофе, ее клад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ковой сахар берут щипчиками и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 солонке нет ложечки, соль бер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чего начинается прием пищ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лфетку разворачивают только тогда, 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гда подают такие мясные блюда, как гуляш, рагу, котлеты, лучше пользовать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пот из фруктов пода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rcRect l="0" t="0" r="101" b="101"/>
          <a:stretch/>
        </p:blipFill>
        <p:spPr>
          <a:xfrm>
            <a:off x="900000" y="260280"/>
            <a:ext cx="7272360" cy="5905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556000" y="306864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87640" y="198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13080" y="134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651640" y="162864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72360" y="2924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580000" y="429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211640" y="47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059280" y="39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8174160" y="566100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19120" y="123156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молодой человек берется за солонку, не прикоснувшись к еде, другой – только после того, как попроб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ем из них вам легче общ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раз, когда приходят гости, жена еще возится на кухне, а стол не накры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говорите жене? Гос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пригласил вас на обед. Его жена разогревает блюдо и, пробуя, откусила от большого куска. Затем по невнимательности положила этот кусок вам. Что вы сдел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скажете, если вас угощают молочным супом с селед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Вступительное слово учителя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ый день! Сегодня мы с вами собрались в этом классе, чтобы попробовать свои силы в роли молодых хозяюш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зяюшка – это женщина, которая умеет все. Она должна владеть знаниями, умениями и навыками, например, повара-кулинара, официанта. От хозяйки требуется высокая квалификация по многим профессиям. Умение ведения домашнего хозяйства – это целое искусство – это профессия каждого человека. Но где получить такую профессию? Ей нигде не обучаю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ша сегодняшняя игра поможет вам закрепить знания, которые вы получили на уроках по теме «Кулинария». За триместр 7 класса и предшествующие года  мы научились с вами вкусно готовить, красиво сервировать стол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ак, мы начинаем нашу иг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е ли вы общаться с девушкой, которая вам крайне неприятна, если окажетесь с ней рядом за праздничным ст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окомнатной квартире живут мама, папа, семилетний мальчик и большая колли. Вы оказались здесь в гостях. Хозяева не очень требовательны к чистоте: шерсть собаки не только на диване, креслах, но и на вазочке с медом. Будете ли вы есть приготовленные хозяйкой сал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а вашего друга хорошо готовит и печет. Ваша жена говорит, что не любит этого делать. Как вы поступите: будете есть супы из пакетиков и макароны? Заставите жену готовить? Научитесь 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хорошая хозяйка, любите возиться с приготовлением сложных и вкусных блюд. Одно из них вы как раз готовите, чтобы горячим подать гостям. Один из гостей, придя на кухню, открывает крышки кастрюль и сковородок, начинает сыпать советы, хотя сам в этом деле далеко не дока, как вы прореагир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Домашнее задание:</a:t>
            </a:r>
            <a:br>
              <a:rPr sz="4200"/>
            </a:br>
            <a:r>
              <a:rPr b="0" lang="ru-RU" sz="2000" spc="-1" strike="noStrike">
                <a:solidFill>
                  <a:srgbClr val="006633"/>
                </a:solidFill>
                <a:latin typeface="Monotype Corsiva"/>
              </a:rPr>
              <a:t>разгадайте кроссворд, приготовьте блюдо (ключевое слово), определите вид теста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56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6348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олочнокислое + спиртовое брож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Блюдо готовят как и простоквашу, но из топленного мол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пособ хранения мяс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Часть муки способная набухать, слипаться и образовывать упругую эластичную масс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лово из болгарского языка, которое означает «скотина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азновидность сладкого блю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вокупность явлений, возникающих и развивающихся в организме при внедрении и размножении в нем болезнетворных микроорганизм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азрыхлитель в слоеном те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Monotype Corsiva"/>
              </a:rPr>
              <a:t>ПРОДОЛЖИ ФРАЗУ: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годня на занятии 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вым для меня был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довольна собой, потому чт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не довольна собой, потому чт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надеюс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хотела б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я с занятия, я хочу сказать (пожелать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33"/>
                </a:solidFill>
                <a:latin typeface="Monotype Corsiva"/>
              </a:rPr>
              <a:t>Ход урока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ОРГАНИЗАЦИОННЫЙ МОМЕНТ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ОТБОРОЧНЫЙ ТУ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1 ЭТАП – ТЕОРЕ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2 ЭТАП – ПРАК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3 ЭТАП – ТВОР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4 ЭТАП – ЭСТЕ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ПОДВЕДЕНИЕ ИТОГ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ДОМАШНЕЕ ЗАД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ОТБОРОЧНЫЙ ТУР</a:t>
            </a:r>
            <a:r>
              <a:rPr b="0" lang="ru-RU" sz="5600" spc="-1" strike="noStrike">
                <a:solidFill>
                  <a:srgbClr val="006633"/>
                </a:solidFill>
                <a:latin typeface="Monotype Corsiva"/>
              </a:rPr>
              <a:t> 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Назовите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пословицы и поговорки </a:t>
            </a:r>
            <a:r>
              <a:rPr b="0" lang="ru-RU" sz="7400" spc="-1" strike="noStrike" u="sng">
                <a:solidFill>
                  <a:srgbClr val="000000"/>
                </a:solidFill>
                <a:uFillTx/>
                <a:latin typeface="Monotype Corsiva"/>
              </a:rPr>
              <a:t>о кулинарии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1 ЭТАП – ТЕОРЕТИЧЕСКИЙ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 вами экран, который разделен на сектора, по изученным нами темам. Каждая тема включает в себя 5 вопросов различной степени сложност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легкий вопрос “стоит” - 10 баллов, самый трудный – 5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дан неверный ответ, право хода переходит другой команд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а соперников может заработать баллы, дополнив отв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68360" y="981000"/>
          <a:ext cx="8351640" cy="4248360"/>
        </p:xfrm>
        <a:graphic>
          <a:graphicData uri="http://schemas.openxmlformats.org/drawingml/2006/table">
            <a:tbl>
              <a:tblPr/>
              <a:tblGrid>
                <a:gridCol w="2658960"/>
                <a:gridCol w="1168560"/>
                <a:gridCol w="1195200"/>
                <a:gridCol w="1211400"/>
                <a:gridCol w="1046160"/>
                <a:gridCol w="1071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я 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и блюда из мя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ч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дкие блю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93"/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8:43Z</dcterms:created>
  <dc:creator>biblio</dc:creator>
  <dc:description/>
  <dc:language>en-US</dc:language>
  <cp:lastModifiedBy>Владислав Кравчук</cp:lastModifiedBy>
  <dcterms:modified xsi:type="dcterms:W3CDTF">2021-01-08T19:46:41Z</dcterms:modified>
  <cp:revision>16</cp:revision>
  <dc:subject/>
  <dc:title>"Умелые хозяюшки"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3100207f6000400038000</vt:lpwstr>
  </property>
</Properties>
</file>