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27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2F8D-74CD-4FB4-B879-78CA5826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84A3-97A3-4BC7-A891-D1957A8C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8563-F78C-4C9C-858B-F3D38812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7AC2-80E2-4A7A-B851-DE68C2EC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8938-29A1-4D36-B207-92D26D6A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902C-DBE2-41E1-8524-9A9275BE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D878-67E5-4885-AE1B-577773BF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4D13-9D02-4409-A301-557AB1AF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7D67-E80D-42D9-B6DF-C899C80B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3217-679F-49D6-8A85-BA848D33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985D-C9EF-4F5A-AD0A-95B3A8B3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D06-FDB5-4F99-99C0-6E5A4B0F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67D8-CF48-47B2-9163-36069476BA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1579680" y="609480"/>
            <a:ext cx="6242040" cy="1554120"/>
          </a:xfrm>
          <a:prstGeom prst="rect">
            <a:avLst/>
          </a:prstGeom>
          <a:ln w="0">
            <a:noFill/>
          </a:ln>
        </p:spPr>
      </p:pic>
      <p:sp>
        <p:nvSpPr>
          <p:cNvPr id="42" name="Управляющая кнопка: настраиваемая 6">
            <a:hlinkClick r:id="" action="ppaction://hlinkshowjump?jump=nextslide"/>
          </p:cNvPr>
          <p:cNvSpPr/>
          <p:nvPr/>
        </p:nvSpPr>
        <p:spPr>
          <a:xfrm>
            <a:off x="7020000" y="6021360"/>
            <a:ext cx="1800000" cy="647640"/>
          </a:xfrm>
          <a:custGeom>
            <a:avLst/>
            <a:gdLst>
              <a:gd name="textAreaLeft" fmla="*/ 41760 w 1800000"/>
              <a:gd name="textAreaRight" fmla="*/ 1758240 w 1800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12" h="21600">
                <a:moveTo>
                  <a:pt x="0" y="0"/>
                </a:moveTo>
                <a:lnTo>
                  <a:pt x="60012" y="0"/>
                </a:lnTo>
                <a:lnTo>
                  <a:pt x="60012" y="21600"/>
                </a:lnTo>
                <a:lnTo>
                  <a:pt x="0" y="21600"/>
                </a:lnTo>
                <a:close/>
              </a:path>
              <a:path fill="lightenLess" w="60012" h="21600">
                <a:moveTo>
                  <a:pt x="0" y="0"/>
                </a:moveTo>
                <a:lnTo>
                  <a:pt x="60012" y="0"/>
                </a:lnTo>
                <a:lnTo>
                  <a:pt x="58612" y="1400"/>
                </a:lnTo>
                <a:lnTo>
                  <a:pt x="1400" y="1400"/>
                </a:lnTo>
                <a:close/>
              </a:path>
              <a:path fill="darken" w="60012" h="21600">
                <a:moveTo>
                  <a:pt x="60012" y="0"/>
                </a:moveTo>
                <a:lnTo>
                  <a:pt x="60012" y="21600"/>
                </a:lnTo>
                <a:lnTo>
                  <a:pt x="58612" y="20200"/>
                </a:lnTo>
                <a:lnTo>
                  <a:pt x="58612" y="1400"/>
                </a:lnTo>
                <a:close/>
              </a:path>
              <a:path fill="darkenLess" w="60012" h="21600">
                <a:moveTo>
                  <a:pt x="60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12" y="20200"/>
                </a:lnTo>
                <a:close/>
              </a:path>
              <a:path fill="lighten" w="60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E:\Документы для переработки\новости и на сайт\kniga2-1.jpg"/>
          <p:cNvPicPr/>
          <p:nvPr/>
        </p:nvPicPr>
        <p:blipFill>
          <a:blip r:embed="rId2"/>
          <a:stretch/>
        </p:blipFill>
        <p:spPr>
          <a:xfrm>
            <a:off x="469800" y="2023920"/>
            <a:ext cx="539460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Овал 1"/>
          <p:cNvSpPr/>
          <p:nvPr/>
        </p:nvSpPr>
        <p:spPr>
          <a:xfrm>
            <a:off x="4284720" y="6021360"/>
            <a:ext cx="625320" cy="554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3"/>
          <p:cNvSpPr/>
          <p:nvPr/>
        </p:nvSpPr>
        <p:spPr>
          <a:xfrm>
            <a:off x="4211640" y="3357720"/>
            <a:ext cx="627120" cy="554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4"/>
          <p:cNvSpPr/>
          <p:nvPr/>
        </p:nvSpPr>
        <p:spPr>
          <a:xfrm>
            <a:off x="1116000" y="3357720"/>
            <a:ext cx="625320" cy="554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5"/>
          <p:cNvSpPr/>
          <p:nvPr/>
        </p:nvSpPr>
        <p:spPr>
          <a:xfrm>
            <a:off x="7308720" y="3357720"/>
            <a:ext cx="625680" cy="554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332000" y="26028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ой предмет лишн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7" descr="9647cf5c861953e421db14914fe334d4.jpg"/>
          <p:cNvPicPr/>
          <p:nvPr/>
        </p:nvPicPr>
        <p:blipFill>
          <a:blip r:embed="rId1"/>
          <a:stretch/>
        </p:blipFill>
        <p:spPr>
          <a:xfrm>
            <a:off x="539640" y="1484280"/>
            <a:ext cx="1843200" cy="15606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95139-4.jpg"/>
          <p:cNvPicPr/>
          <p:nvPr/>
        </p:nvPicPr>
        <p:blipFill>
          <a:blip r:embed="rId2"/>
          <a:stretch/>
        </p:blipFill>
        <p:spPr>
          <a:xfrm>
            <a:off x="6516720" y="1413000"/>
            <a:ext cx="1955880" cy="16556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9" descr="k4_2_2.jpg"/>
          <p:cNvPicPr/>
          <p:nvPr/>
        </p:nvPicPr>
        <p:blipFill>
          <a:blip r:embed="rId3"/>
          <a:stretch/>
        </p:blipFill>
        <p:spPr>
          <a:xfrm>
            <a:off x="3492360" y="4076640"/>
            <a:ext cx="2040120" cy="17287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1" descr="mini_3.jpg"/>
          <p:cNvPicPr/>
          <p:nvPr/>
        </p:nvPicPr>
        <p:blipFill>
          <a:blip r:embed="rId4"/>
          <a:stretch/>
        </p:blipFill>
        <p:spPr>
          <a:xfrm>
            <a:off x="3492360" y="1413000"/>
            <a:ext cx="2043360" cy="1596960"/>
          </a:xfrm>
          <a:prstGeom prst="rect">
            <a:avLst/>
          </a:prstGeom>
          <a:ln w="0">
            <a:noFill/>
          </a:ln>
        </p:spPr>
      </p:pic>
      <p:sp>
        <p:nvSpPr>
          <p:cNvPr id="53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838836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3794"/>
                </a:moveTo>
                <a:lnTo>
                  <a:pt x="23126" y="10800"/>
                </a:lnTo>
                <a:lnTo>
                  <a:pt x="9113" y="17806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Управляющая кнопка: назад 11">
            <a:hlinkClick r:id="" action="ppaction://hlinkshowjump?jump=previousslide"/>
          </p:cNvPr>
          <p:cNvSpPr/>
          <p:nvPr/>
        </p:nvSpPr>
        <p:spPr>
          <a:xfrm>
            <a:off x="395280" y="333360"/>
            <a:ext cx="504720" cy="216000"/>
          </a:xfrm>
          <a:custGeom>
            <a:avLst/>
            <a:gdLst>
              <a:gd name="textAreaLeft" fmla="*/ 13680 w 504720"/>
              <a:gd name="textAreaRight" fmla="*/ 491040 w 504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424" h="21600">
                <a:moveTo>
                  <a:pt x="0" y="0"/>
                </a:moveTo>
                <a:lnTo>
                  <a:pt x="50424" y="0"/>
                </a:lnTo>
                <a:lnTo>
                  <a:pt x="50424" y="21600"/>
                </a:lnTo>
                <a:lnTo>
                  <a:pt x="0" y="21600"/>
                </a:lnTo>
                <a:close/>
              </a:path>
              <a:path fill="lightenLess" w="50424" h="21600">
                <a:moveTo>
                  <a:pt x="0" y="0"/>
                </a:moveTo>
                <a:lnTo>
                  <a:pt x="50424" y="0"/>
                </a:lnTo>
                <a:lnTo>
                  <a:pt x="49024" y="1400"/>
                </a:lnTo>
                <a:lnTo>
                  <a:pt x="1400" y="1400"/>
                </a:lnTo>
                <a:close/>
              </a:path>
              <a:path fill="darken" w="50424" h="21600">
                <a:moveTo>
                  <a:pt x="50424" y="0"/>
                </a:moveTo>
                <a:lnTo>
                  <a:pt x="50424" y="21600"/>
                </a:lnTo>
                <a:lnTo>
                  <a:pt x="49024" y="20200"/>
                </a:lnTo>
                <a:lnTo>
                  <a:pt x="49024" y="1400"/>
                </a:lnTo>
                <a:close/>
              </a:path>
              <a:path fill="darkenLess" w="50424" h="21600">
                <a:moveTo>
                  <a:pt x="50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24" y="20200"/>
                </a:lnTo>
                <a:close/>
              </a:path>
              <a:path fill="lighten" w="50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24" h="21600">
                <a:moveTo>
                  <a:pt x="18205" y="10800"/>
                </a:moveTo>
                <a:lnTo>
                  <a:pt x="32218" y="3794"/>
                </a:lnTo>
                <a:lnTo>
                  <a:pt x="32218" y="17806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правляющая кнопка: домой 12">
            <a:hlinkClick r:id="" action="ppaction://hlinkshowjump?jump=firstslide"/>
          </p:cNvPr>
          <p:cNvSpPr/>
          <p:nvPr/>
        </p:nvSpPr>
        <p:spPr>
          <a:xfrm>
            <a:off x="8172360" y="189000"/>
            <a:ext cx="609840" cy="476280"/>
          </a:xfrm>
          <a:custGeom>
            <a:avLst/>
            <a:gdLst>
              <a:gd name="textAreaLeft" fmla="*/ 30600 w 609840"/>
              <a:gd name="textAreaRight" fmla="*/ 579240 w 6098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653" h="21600">
                <a:moveTo>
                  <a:pt x="0" y="0"/>
                </a:moveTo>
                <a:lnTo>
                  <a:pt x="27653" y="0"/>
                </a:lnTo>
                <a:lnTo>
                  <a:pt x="27653" y="21600"/>
                </a:lnTo>
                <a:lnTo>
                  <a:pt x="0" y="21600"/>
                </a:lnTo>
                <a:close/>
              </a:path>
              <a:path fill="lightenLess" w="27653" h="21600">
                <a:moveTo>
                  <a:pt x="0" y="0"/>
                </a:moveTo>
                <a:lnTo>
                  <a:pt x="27653" y="0"/>
                </a:lnTo>
                <a:lnTo>
                  <a:pt x="26253" y="1400"/>
                </a:lnTo>
                <a:lnTo>
                  <a:pt x="1400" y="1400"/>
                </a:lnTo>
                <a:close/>
              </a:path>
              <a:path fill="darken" w="27653" h="21600">
                <a:moveTo>
                  <a:pt x="27653" y="0"/>
                </a:moveTo>
                <a:lnTo>
                  <a:pt x="27653" y="21600"/>
                </a:lnTo>
                <a:lnTo>
                  <a:pt x="26253" y="20200"/>
                </a:lnTo>
                <a:lnTo>
                  <a:pt x="26253" y="1400"/>
                </a:lnTo>
                <a:close/>
              </a:path>
              <a:path fill="darkenLess" w="27653" h="21600">
                <a:moveTo>
                  <a:pt x="276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53" y="20200"/>
                </a:lnTo>
                <a:close/>
              </a:path>
              <a:path fill="lighten" w="276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53" h="21600">
                <a:moveTo>
                  <a:pt x="13826" y="3837"/>
                </a:moveTo>
                <a:lnTo>
                  <a:pt x="16403" y="6448"/>
                </a:lnTo>
                <a:lnTo>
                  <a:pt x="16403" y="4707"/>
                </a:lnTo>
                <a:lnTo>
                  <a:pt x="18178" y="4707"/>
                </a:lnTo>
                <a:lnTo>
                  <a:pt x="18178" y="8224"/>
                </a:lnTo>
                <a:lnTo>
                  <a:pt x="20789" y="10800"/>
                </a:lnTo>
                <a:lnTo>
                  <a:pt x="19136" y="10800"/>
                </a:lnTo>
                <a:lnTo>
                  <a:pt x="19136" y="17989"/>
                </a:lnTo>
                <a:lnTo>
                  <a:pt x="8517" y="17989"/>
                </a:lnTo>
                <a:lnTo>
                  <a:pt x="8517" y="10800"/>
                </a:lnTo>
                <a:lnTo>
                  <a:pt x="6863" y="10800"/>
                </a:lnTo>
                <a:close/>
              </a:path>
              <a:path fill="darkenLess" w="27653" h="21600">
                <a:moveTo>
                  <a:pt x="16403" y="6448"/>
                </a:moveTo>
                <a:lnTo>
                  <a:pt x="16403" y="4707"/>
                </a:lnTo>
                <a:lnTo>
                  <a:pt x="18178" y="4707"/>
                </a:lnTo>
                <a:lnTo>
                  <a:pt x="18178" y="8224"/>
                </a:lnTo>
                <a:close/>
              </a:path>
              <a:path fill="darkenLess" w="27653" h="21600">
                <a:moveTo>
                  <a:pt x="12904" y="14299"/>
                </a:moveTo>
                <a:lnTo>
                  <a:pt x="14749" y="14299"/>
                </a:lnTo>
                <a:lnTo>
                  <a:pt x="14749" y="17989"/>
                </a:lnTo>
                <a:lnTo>
                  <a:pt x="19136" y="17989"/>
                </a:lnTo>
                <a:lnTo>
                  <a:pt x="19136" y="10800"/>
                </a:lnTo>
                <a:lnTo>
                  <a:pt x="8517" y="10800"/>
                </a:lnTo>
                <a:lnTo>
                  <a:pt x="8517" y="17989"/>
                </a:lnTo>
                <a:lnTo>
                  <a:pt x="12904" y="17989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1332000" y="26028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бери цвета флага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"/>
          <p:cNvSpPr/>
          <p:nvPr/>
        </p:nvSpPr>
        <p:spPr>
          <a:xfrm>
            <a:off x="2050920" y="126828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3"/>
          <p:cNvSpPr/>
          <p:nvPr/>
        </p:nvSpPr>
        <p:spPr>
          <a:xfrm>
            <a:off x="539640" y="2349360"/>
            <a:ext cx="914400" cy="9144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4"/>
          <p:cNvSpPr/>
          <p:nvPr/>
        </p:nvSpPr>
        <p:spPr>
          <a:xfrm>
            <a:off x="6156360" y="1197000"/>
            <a:ext cx="914400" cy="914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5"/>
          <p:cNvSpPr/>
          <p:nvPr/>
        </p:nvSpPr>
        <p:spPr>
          <a:xfrm>
            <a:off x="4067280" y="105264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6"/>
          <p:cNvSpPr/>
          <p:nvPr/>
        </p:nvSpPr>
        <p:spPr>
          <a:xfrm>
            <a:off x="7812000" y="2421000"/>
            <a:ext cx="91440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7"/>
          <p:cNvSpPr/>
          <p:nvPr/>
        </p:nvSpPr>
        <p:spPr>
          <a:xfrm>
            <a:off x="2771640" y="3068640"/>
            <a:ext cx="381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8"/>
          <p:cNvSpPr/>
          <p:nvPr/>
        </p:nvSpPr>
        <p:spPr>
          <a:xfrm>
            <a:off x="2771640" y="3860640"/>
            <a:ext cx="3816360" cy="79236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9"/>
          <p:cNvSpPr/>
          <p:nvPr/>
        </p:nvSpPr>
        <p:spPr>
          <a:xfrm>
            <a:off x="2771640" y="4653000"/>
            <a:ext cx="3816360" cy="7920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83170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3794"/>
                </a:moveTo>
                <a:lnTo>
                  <a:pt x="23126" y="10800"/>
                </a:lnTo>
                <a:lnTo>
                  <a:pt x="9113" y="17806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Управляющая кнопка: назад 11">
            <a:hlinkClick r:id="" action="ppaction://hlinkshowjump?jump=previousslide"/>
          </p:cNvPr>
          <p:cNvSpPr/>
          <p:nvPr/>
        </p:nvSpPr>
        <p:spPr>
          <a:xfrm>
            <a:off x="324000" y="26028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Управляющая кнопка: домой 12">
            <a:hlinkClick r:id="" action="ppaction://hlinkshowjump?jump=firstslide"/>
          </p:cNvPr>
          <p:cNvSpPr/>
          <p:nvPr/>
        </p:nvSpPr>
        <p:spPr>
          <a:xfrm>
            <a:off x="8172360" y="189000"/>
            <a:ext cx="609840" cy="476280"/>
          </a:xfrm>
          <a:custGeom>
            <a:avLst/>
            <a:gdLst>
              <a:gd name="textAreaLeft" fmla="*/ 30600 w 609840"/>
              <a:gd name="textAreaRight" fmla="*/ 579240 w 6098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653" h="21600">
                <a:moveTo>
                  <a:pt x="0" y="0"/>
                </a:moveTo>
                <a:lnTo>
                  <a:pt x="27653" y="0"/>
                </a:lnTo>
                <a:lnTo>
                  <a:pt x="27653" y="21600"/>
                </a:lnTo>
                <a:lnTo>
                  <a:pt x="0" y="21600"/>
                </a:lnTo>
                <a:close/>
              </a:path>
              <a:path fill="lightenLess" w="27653" h="21600">
                <a:moveTo>
                  <a:pt x="0" y="0"/>
                </a:moveTo>
                <a:lnTo>
                  <a:pt x="27653" y="0"/>
                </a:lnTo>
                <a:lnTo>
                  <a:pt x="26253" y="1400"/>
                </a:lnTo>
                <a:lnTo>
                  <a:pt x="1400" y="1400"/>
                </a:lnTo>
                <a:close/>
              </a:path>
              <a:path fill="darken" w="27653" h="21600">
                <a:moveTo>
                  <a:pt x="27653" y="0"/>
                </a:moveTo>
                <a:lnTo>
                  <a:pt x="27653" y="21600"/>
                </a:lnTo>
                <a:lnTo>
                  <a:pt x="26253" y="20200"/>
                </a:lnTo>
                <a:lnTo>
                  <a:pt x="26253" y="1400"/>
                </a:lnTo>
                <a:close/>
              </a:path>
              <a:path fill="darkenLess" w="27653" h="21600">
                <a:moveTo>
                  <a:pt x="276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53" y="20200"/>
                </a:lnTo>
                <a:close/>
              </a:path>
              <a:path fill="lighten" w="276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53" h="21600">
                <a:moveTo>
                  <a:pt x="13826" y="3837"/>
                </a:moveTo>
                <a:lnTo>
                  <a:pt x="16403" y="6448"/>
                </a:lnTo>
                <a:lnTo>
                  <a:pt x="16403" y="4707"/>
                </a:lnTo>
                <a:lnTo>
                  <a:pt x="18178" y="4707"/>
                </a:lnTo>
                <a:lnTo>
                  <a:pt x="18178" y="8224"/>
                </a:lnTo>
                <a:lnTo>
                  <a:pt x="20789" y="10800"/>
                </a:lnTo>
                <a:lnTo>
                  <a:pt x="19136" y="10800"/>
                </a:lnTo>
                <a:lnTo>
                  <a:pt x="19136" y="17989"/>
                </a:lnTo>
                <a:lnTo>
                  <a:pt x="8517" y="17989"/>
                </a:lnTo>
                <a:lnTo>
                  <a:pt x="8517" y="10800"/>
                </a:lnTo>
                <a:lnTo>
                  <a:pt x="6863" y="10800"/>
                </a:lnTo>
                <a:close/>
              </a:path>
              <a:path fill="darkenLess" w="27653" h="21600">
                <a:moveTo>
                  <a:pt x="16403" y="6448"/>
                </a:moveTo>
                <a:lnTo>
                  <a:pt x="16403" y="4707"/>
                </a:lnTo>
                <a:lnTo>
                  <a:pt x="18178" y="4707"/>
                </a:lnTo>
                <a:lnTo>
                  <a:pt x="18178" y="8224"/>
                </a:lnTo>
                <a:close/>
              </a:path>
              <a:path fill="darkenLess" w="27653" h="21600">
                <a:moveTo>
                  <a:pt x="12904" y="14299"/>
                </a:moveTo>
                <a:lnTo>
                  <a:pt x="14749" y="14299"/>
                </a:lnTo>
                <a:lnTo>
                  <a:pt x="14749" y="17989"/>
                </a:lnTo>
                <a:lnTo>
                  <a:pt x="19136" y="17989"/>
                </a:lnTo>
                <a:lnTo>
                  <a:pt x="19136" y="10800"/>
                </a:lnTo>
                <a:lnTo>
                  <a:pt x="8517" y="10800"/>
                </a:lnTo>
                <a:lnTo>
                  <a:pt x="8517" y="17989"/>
                </a:lnTo>
                <a:lnTo>
                  <a:pt x="12904" y="17989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1332000" y="26028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гадай время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" descr="1.jpg"/>
          <p:cNvPicPr/>
          <p:nvPr/>
        </p:nvPicPr>
        <p:blipFill>
          <a:blip r:embed="rId1"/>
          <a:stretch/>
        </p:blipFill>
        <p:spPr>
          <a:xfrm>
            <a:off x="208080" y="3743280"/>
            <a:ext cx="2090520" cy="2108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3.jpg"/>
          <p:cNvPicPr/>
          <p:nvPr/>
        </p:nvPicPr>
        <p:blipFill>
          <a:blip r:embed="rId2"/>
          <a:stretch/>
        </p:blipFill>
        <p:spPr>
          <a:xfrm>
            <a:off x="6827760" y="3670200"/>
            <a:ext cx="2103480" cy="21081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4а.jpg"/>
          <p:cNvPicPr/>
          <p:nvPr/>
        </p:nvPicPr>
        <p:blipFill>
          <a:blip r:embed="rId3"/>
          <a:stretch/>
        </p:blipFill>
        <p:spPr>
          <a:xfrm>
            <a:off x="6754680" y="1079640"/>
            <a:ext cx="2078280" cy="21081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2.jpg"/>
          <p:cNvPicPr/>
          <p:nvPr/>
        </p:nvPicPr>
        <p:blipFill>
          <a:blip r:embed="rId4"/>
          <a:stretch/>
        </p:blipFill>
        <p:spPr>
          <a:xfrm>
            <a:off x="133200" y="1152360"/>
            <a:ext cx="2165400" cy="2108520"/>
          </a:xfrm>
          <a:prstGeom prst="rect">
            <a:avLst/>
          </a:prstGeom>
          <a:ln w="0">
            <a:noFill/>
          </a:ln>
        </p:spPr>
      </p:pic>
      <p:sp>
        <p:nvSpPr>
          <p:cNvPr id="73" name="зима"/>
          <p:cNvSpPr/>
          <p:nvPr/>
        </p:nvSpPr>
        <p:spPr>
          <a:xfrm>
            <a:off x="179280" y="1341360"/>
            <a:ext cx="2305080" cy="179856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весна"/>
          <p:cNvSpPr/>
          <p:nvPr/>
        </p:nvSpPr>
        <p:spPr>
          <a:xfrm>
            <a:off x="6588000" y="1197000"/>
            <a:ext cx="2376720" cy="187164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лето"/>
          <p:cNvSpPr/>
          <p:nvPr/>
        </p:nvSpPr>
        <p:spPr>
          <a:xfrm>
            <a:off x="179280" y="3860640"/>
            <a:ext cx="2305080" cy="180036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сень"/>
          <p:cNvSpPr/>
          <p:nvPr/>
        </p:nvSpPr>
        <p:spPr>
          <a:xfrm>
            <a:off x="6516720" y="3789360"/>
            <a:ext cx="2448000" cy="180036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12"/>
          <p:cNvSpPr/>
          <p:nvPr/>
        </p:nvSpPr>
        <p:spPr>
          <a:xfrm>
            <a:off x="2916360" y="1413000"/>
            <a:ext cx="1079280" cy="1728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13"/>
          <p:cNvSpPr/>
          <p:nvPr/>
        </p:nvSpPr>
        <p:spPr>
          <a:xfrm>
            <a:off x="2843280" y="3860640"/>
            <a:ext cx="1081080" cy="17290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14"/>
          <p:cNvSpPr/>
          <p:nvPr/>
        </p:nvSpPr>
        <p:spPr>
          <a:xfrm>
            <a:off x="5076720" y="3860640"/>
            <a:ext cx="1079640" cy="172908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15"/>
          <p:cNvSpPr/>
          <p:nvPr/>
        </p:nvSpPr>
        <p:spPr>
          <a:xfrm>
            <a:off x="5076720" y="1413000"/>
            <a:ext cx="1079640" cy="18000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правляющая кнопка: далее 16">
            <a:hlinkClick r:id="" action="ppaction://hlinkshowjump?jump=nextslide"/>
          </p:cNvPr>
          <p:cNvSpPr/>
          <p:nvPr/>
        </p:nvSpPr>
        <p:spPr>
          <a:xfrm>
            <a:off x="8388360" y="638172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Управляющая кнопка: назад 17">
            <a:hlinkClick r:id="" action="ppaction://hlinkshowjump?jump=previousslide"/>
          </p:cNvPr>
          <p:cNvSpPr/>
          <p:nvPr/>
        </p:nvSpPr>
        <p:spPr>
          <a:xfrm>
            <a:off x="324000" y="260280"/>
            <a:ext cx="502920" cy="216000"/>
          </a:xfrm>
          <a:custGeom>
            <a:avLst/>
            <a:gdLst>
              <a:gd name="textAreaLeft" fmla="*/ 13680 w 502920"/>
              <a:gd name="textAreaRight" fmla="*/ 489240 w 502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244" h="21600">
                <a:moveTo>
                  <a:pt x="0" y="0"/>
                </a:moveTo>
                <a:lnTo>
                  <a:pt x="50244" y="0"/>
                </a:lnTo>
                <a:lnTo>
                  <a:pt x="50244" y="21600"/>
                </a:lnTo>
                <a:lnTo>
                  <a:pt x="0" y="21600"/>
                </a:lnTo>
                <a:close/>
              </a:path>
              <a:path fill="lightenLess" w="50244" h="21600">
                <a:moveTo>
                  <a:pt x="0" y="0"/>
                </a:moveTo>
                <a:lnTo>
                  <a:pt x="50244" y="0"/>
                </a:lnTo>
                <a:lnTo>
                  <a:pt x="48844" y="1400"/>
                </a:lnTo>
                <a:lnTo>
                  <a:pt x="1400" y="1400"/>
                </a:lnTo>
                <a:close/>
              </a:path>
              <a:path fill="darken" w="50244" h="21600">
                <a:moveTo>
                  <a:pt x="50244" y="0"/>
                </a:moveTo>
                <a:lnTo>
                  <a:pt x="50244" y="21600"/>
                </a:lnTo>
                <a:lnTo>
                  <a:pt x="48844" y="20200"/>
                </a:lnTo>
                <a:lnTo>
                  <a:pt x="48844" y="1400"/>
                </a:lnTo>
                <a:close/>
              </a:path>
              <a:path fill="darkenLess" w="50244" h="21600">
                <a:moveTo>
                  <a:pt x="5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44" y="20200"/>
                </a:lnTo>
                <a:close/>
              </a:path>
              <a:path fill="lighten" w="5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44" h="21600">
                <a:moveTo>
                  <a:pt x="18116" y="10800"/>
                </a:moveTo>
                <a:lnTo>
                  <a:pt x="32129" y="3794"/>
                </a:lnTo>
                <a:lnTo>
                  <a:pt x="32129" y="17806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Управляющая кнопка: домой 18">
            <a:hlinkClick r:id="" action="ppaction://hlinkshowjump?jump=firstslide"/>
          </p:cNvPr>
          <p:cNvSpPr/>
          <p:nvPr/>
        </p:nvSpPr>
        <p:spPr>
          <a:xfrm>
            <a:off x="8172360" y="189000"/>
            <a:ext cx="609840" cy="476280"/>
          </a:xfrm>
          <a:custGeom>
            <a:avLst/>
            <a:gdLst>
              <a:gd name="textAreaLeft" fmla="*/ 30600 w 609840"/>
              <a:gd name="textAreaRight" fmla="*/ 579240 w 6098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653" h="21600">
                <a:moveTo>
                  <a:pt x="0" y="0"/>
                </a:moveTo>
                <a:lnTo>
                  <a:pt x="27653" y="0"/>
                </a:lnTo>
                <a:lnTo>
                  <a:pt x="27653" y="21600"/>
                </a:lnTo>
                <a:lnTo>
                  <a:pt x="0" y="21600"/>
                </a:lnTo>
                <a:close/>
              </a:path>
              <a:path fill="lightenLess" w="27653" h="21600">
                <a:moveTo>
                  <a:pt x="0" y="0"/>
                </a:moveTo>
                <a:lnTo>
                  <a:pt x="27653" y="0"/>
                </a:lnTo>
                <a:lnTo>
                  <a:pt x="26253" y="1400"/>
                </a:lnTo>
                <a:lnTo>
                  <a:pt x="1400" y="1400"/>
                </a:lnTo>
                <a:close/>
              </a:path>
              <a:path fill="darken" w="27653" h="21600">
                <a:moveTo>
                  <a:pt x="27653" y="0"/>
                </a:moveTo>
                <a:lnTo>
                  <a:pt x="27653" y="21600"/>
                </a:lnTo>
                <a:lnTo>
                  <a:pt x="26253" y="20200"/>
                </a:lnTo>
                <a:lnTo>
                  <a:pt x="26253" y="1400"/>
                </a:lnTo>
                <a:close/>
              </a:path>
              <a:path fill="darkenLess" w="27653" h="21600">
                <a:moveTo>
                  <a:pt x="276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53" y="20200"/>
                </a:lnTo>
                <a:close/>
              </a:path>
              <a:path fill="lighten" w="276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53" h="21600">
                <a:moveTo>
                  <a:pt x="13826" y="3837"/>
                </a:moveTo>
                <a:lnTo>
                  <a:pt x="16403" y="6448"/>
                </a:lnTo>
                <a:lnTo>
                  <a:pt x="16403" y="4707"/>
                </a:lnTo>
                <a:lnTo>
                  <a:pt x="18178" y="4707"/>
                </a:lnTo>
                <a:lnTo>
                  <a:pt x="18178" y="8224"/>
                </a:lnTo>
                <a:lnTo>
                  <a:pt x="20789" y="10800"/>
                </a:lnTo>
                <a:lnTo>
                  <a:pt x="19136" y="10800"/>
                </a:lnTo>
                <a:lnTo>
                  <a:pt x="19136" y="17989"/>
                </a:lnTo>
                <a:lnTo>
                  <a:pt x="8517" y="17989"/>
                </a:lnTo>
                <a:lnTo>
                  <a:pt x="8517" y="10800"/>
                </a:lnTo>
                <a:lnTo>
                  <a:pt x="6863" y="10800"/>
                </a:lnTo>
                <a:close/>
              </a:path>
              <a:path fill="darkenLess" w="27653" h="21600">
                <a:moveTo>
                  <a:pt x="16403" y="6448"/>
                </a:moveTo>
                <a:lnTo>
                  <a:pt x="16403" y="4707"/>
                </a:lnTo>
                <a:lnTo>
                  <a:pt x="18178" y="4707"/>
                </a:lnTo>
                <a:lnTo>
                  <a:pt x="18178" y="8224"/>
                </a:lnTo>
                <a:close/>
              </a:path>
              <a:path fill="darkenLess" w="27653" h="21600">
                <a:moveTo>
                  <a:pt x="12904" y="14299"/>
                </a:moveTo>
                <a:lnTo>
                  <a:pt x="14749" y="14299"/>
                </a:lnTo>
                <a:lnTo>
                  <a:pt x="14749" y="17989"/>
                </a:lnTo>
                <a:lnTo>
                  <a:pt x="19136" y="17989"/>
                </a:lnTo>
                <a:lnTo>
                  <a:pt x="19136" y="10800"/>
                </a:lnTo>
                <a:lnTo>
                  <a:pt x="8517" y="10800"/>
                </a:lnTo>
                <a:lnTo>
                  <a:pt x="8517" y="17989"/>
                </a:lnTo>
                <a:lnTo>
                  <a:pt x="12904" y="17989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1332000" y="26028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игналы светоф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2" descr="светофор.jpg"/>
          <p:cNvPicPr/>
          <p:nvPr/>
        </p:nvPicPr>
        <p:blipFill>
          <a:blip r:embed="rId1"/>
          <a:stretch/>
        </p:blipFill>
        <p:spPr>
          <a:xfrm>
            <a:off x="2411280" y="1268280"/>
            <a:ext cx="3961080" cy="4537080"/>
          </a:xfrm>
          <a:prstGeom prst="rect">
            <a:avLst/>
          </a:prstGeom>
          <a:ln w="0">
            <a:noFill/>
          </a:ln>
        </p:spPr>
      </p:pic>
      <p:sp>
        <p:nvSpPr>
          <p:cNvPr id="86" name="Овал 3"/>
          <p:cNvSpPr/>
          <p:nvPr/>
        </p:nvSpPr>
        <p:spPr>
          <a:xfrm>
            <a:off x="755640" y="134136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4"/>
          <p:cNvSpPr/>
          <p:nvPr/>
        </p:nvSpPr>
        <p:spPr>
          <a:xfrm>
            <a:off x="755640" y="2997360"/>
            <a:ext cx="914400" cy="91440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5"/>
          <p:cNvSpPr/>
          <p:nvPr/>
        </p:nvSpPr>
        <p:spPr>
          <a:xfrm>
            <a:off x="755640" y="4653000"/>
            <a:ext cx="914400" cy="91440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6"/>
          <p:cNvSpPr/>
          <p:nvPr/>
        </p:nvSpPr>
        <p:spPr>
          <a:xfrm>
            <a:off x="7524720" y="4653000"/>
            <a:ext cx="914400" cy="914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7"/>
          <p:cNvSpPr/>
          <p:nvPr/>
        </p:nvSpPr>
        <p:spPr>
          <a:xfrm>
            <a:off x="7451640" y="2924280"/>
            <a:ext cx="914400" cy="9144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8"/>
          <p:cNvSpPr/>
          <p:nvPr/>
        </p:nvSpPr>
        <p:spPr>
          <a:xfrm>
            <a:off x="7451640" y="126828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9"/>
          <p:cNvSpPr/>
          <p:nvPr/>
        </p:nvSpPr>
        <p:spPr>
          <a:xfrm>
            <a:off x="3851280" y="3357720"/>
            <a:ext cx="914400" cy="9856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0"/>
          <p:cNvSpPr/>
          <p:nvPr/>
        </p:nvSpPr>
        <p:spPr>
          <a:xfrm>
            <a:off x="3851280" y="2276640"/>
            <a:ext cx="914400" cy="987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11"/>
          <p:cNvSpPr/>
          <p:nvPr/>
        </p:nvSpPr>
        <p:spPr>
          <a:xfrm>
            <a:off x="3851280" y="4437000"/>
            <a:ext cx="914400" cy="986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317080" y="6308640"/>
            <a:ext cx="502920" cy="289080"/>
          </a:xfrm>
          <a:custGeom>
            <a:avLst/>
            <a:gdLst>
              <a:gd name="textAreaLeft" fmla="*/ 18720 w 502920"/>
              <a:gd name="textAreaRight" fmla="*/ 484200 w 5029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558" h="21600">
                <a:moveTo>
                  <a:pt x="0" y="0"/>
                </a:moveTo>
                <a:lnTo>
                  <a:pt x="37558" y="0"/>
                </a:lnTo>
                <a:lnTo>
                  <a:pt x="37558" y="21600"/>
                </a:lnTo>
                <a:lnTo>
                  <a:pt x="0" y="21600"/>
                </a:lnTo>
                <a:close/>
              </a:path>
              <a:path fill="lightenLess" w="37558" h="21600">
                <a:moveTo>
                  <a:pt x="0" y="0"/>
                </a:moveTo>
                <a:lnTo>
                  <a:pt x="37558" y="0"/>
                </a:lnTo>
                <a:lnTo>
                  <a:pt x="36158" y="1400"/>
                </a:lnTo>
                <a:lnTo>
                  <a:pt x="1400" y="1400"/>
                </a:lnTo>
                <a:close/>
              </a:path>
              <a:path fill="darken" w="37558" h="21600">
                <a:moveTo>
                  <a:pt x="37558" y="0"/>
                </a:moveTo>
                <a:lnTo>
                  <a:pt x="37558" y="21600"/>
                </a:lnTo>
                <a:lnTo>
                  <a:pt x="36158" y="20200"/>
                </a:lnTo>
                <a:lnTo>
                  <a:pt x="36158" y="1400"/>
                </a:lnTo>
                <a:close/>
              </a:path>
              <a:path fill="darkenLess" w="37558" h="21600">
                <a:moveTo>
                  <a:pt x="37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58" y="20200"/>
                </a:lnTo>
                <a:close/>
              </a:path>
              <a:path fill="lighten" w="37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58" h="21600">
                <a:moveTo>
                  <a:pt x="11773" y="3794"/>
                </a:moveTo>
                <a:lnTo>
                  <a:pt x="25786" y="10800"/>
                </a:lnTo>
                <a:lnTo>
                  <a:pt x="11773" y="17806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правляющая кнопка: назад 13">
            <a:hlinkClick r:id="" action="ppaction://hlinkshowjump?jump=previousslide"/>
          </p:cNvPr>
          <p:cNvSpPr/>
          <p:nvPr/>
        </p:nvSpPr>
        <p:spPr>
          <a:xfrm>
            <a:off x="468360" y="404640"/>
            <a:ext cx="431640" cy="28764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правляющая кнопка: домой 14">
            <a:hlinkClick r:id="" action="ppaction://hlinkshowjump?jump=firstslide"/>
          </p:cNvPr>
          <p:cNvSpPr/>
          <p:nvPr/>
        </p:nvSpPr>
        <p:spPr>
          <a:xfrm>
            <a:off x="8172360" y="189000"/>
            <a:ext cx="609840" cy="476280"/>
          </a:xfrm>
          <a:custGeom>
            <a:avLst/>
            <a:gdLst>
              <a:gd name="textAreaLeft" fmla="*/ 30600 w 609840"/>
              <a:gd name="textAreaRight" fmla="*/ 579240 w 6098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653" h="21600">
                <a:moveTo>
                  <a:pt x="0" y="0"/>
                </a:moveTo>
                <a:lnTo>
                  <a:pt x="27653" y="0"/>
                </a:lnTo>
                <a:lnTo>
                  <a:pt x="27653" y="21600"/>
                </a:lnTo>
                <a:lnTo>
                  <a:pt x="0" y="21600"/>
                </a:lnTo>
                <a:close/>
              </a:path>
              <a:path fill="lightenLess" w="27653" h="21600">
                <a:moveTo>
                  <a:pt x="0" y="0"/>
                </a:moveTo>
                <a:lnTo>
                  <a:pt x="27653" y="0"/>
                </a:lnTo>
                <a:lnTo>
                  <a:pt x="26253" y="1400"/>
                </a:lnTo>
                <a:lnTo>
                  <a:pt x="1400" y="1400"/>
                </a:lnTo>
                <a:close/>
              </a:path>
              <a:path fill="darken" w="27653" h="21600">
                <a:moveTo>
                  <a:pt x="27653" y="0"/>
                </a:moveTo>
                <a:lnTo>
                  <a:pt x="27653" y="21600"/>
                </a:lnTo>
                <a:lnTo>
                  <a:pt x="26253" y="20200"/>
                </a:lnTo>
                <a:lnTo>
                  <a:pt x="26253" y="1400"/>
                </a:lnTo>
                <a:close/>
              </a:path>
              <a:path fill="darkenLess" w="27653" h="21600">
                <a:moveTo>
                  <a:pt x="276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53" y="20200"/>
                </a:lnTo>
                <a:close/>
              </a:path>
              <a:path fill="lighten" w="276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53" h="21600">
                <a:moveTo>
                  <a:pt x="13826" y="3837"/>
                </a:moveTo>
                <a:lnTo>
                  <a:pt x="16403" y="6448"/>
                </a:lnTo>
                <a:lnTo>
                  <a:pt x="16403" y="4707"/>
                </a:lnTo>
                <a:lnTo>
                  <a:pt x="18178" y="4707"/>
                </a:lnTo>
                <a:lnTo>
                  <a:pt x="18178" y="8224"/>
                </a:lnTo>
                <a:lnTo>
                  <a:pt x="20789" y="10800"/>
                </a:lnTo>
                <a:lnTo>
                  <a:pt x="19136" y="10800"/>
                </a:lnTo>
                <a:lnTo>
                  <a:pt x="19136" y="17989"/>
                </a:lnTo>
                <a:lnTo>
                  <a:pt x="8517" y="17989"/>
                </a:lnTo>
                <a:lnTo>
                  <a:pt x="8517" y="10800"/>
                </a:lnTo>
                <a:lnTo>
                  <a:pt x="6863" y="10800"/>
                </a:lnTo>
                <a:close/>
              </a:path>
              <a:path fill="darkenLess" w="27653" h="21600">
                <a:moveTo>
                  <a:pt x="16403" y="6448"/>
                </a:moveTo>
                <a:lnTo>
                  <a:pt x="16403" y="4707"/>
                </a:lnTo>
                <a:lnTo>
                  <a:pt x="18178" y="4707"/>
                </a:lnTo>
                <a:lnTo>
                  <a:pt x="18178" y="8224"/>
                </a:lnTo>
                <a:close/>
              </a:path>
              <a:path fill="darkenLess" w="27653" h="21600">
                <a:moveTo>
                  <a:pt x="12904" y="14299"/>
                </a:moveTo>
                <a:lnTo>
                  <a:pt x="14749" y="14299"/>
                </a:lnTo>
                <a:lnTo>
                  <a:pt x="14749" y="17989"/>
                </a:lnTo>
                <a:lnTo>
                  <a:pt x="19136" y="17989"/>
                </a:lnTo>
                <a:lnTo>
                  <a:pt x="19136" y="10800"/>
                </a:lnTo>
                <a:lnTo>
                  <a:pt x="8517" y="10800"/>
                </a:lnTo>
                <a:lnTo>
                  <a:pt x="8517" y="17989"/>
                </a:lnTo>
                <a:lnTo>
                  <a:pt x="12904" y="17989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1332000" y="26028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Где чей доми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аквариум" descr="дом рыбки.jpg"/>
          <p:cNvPicPr/>
          <p:nvPr/>
        </p:nvPicPr>
        <p:blipFill>
          <a:blip r:embed="rId1"/>
          <a:stretch/>
        </p:blipFill>
        <p:spPr>
          <a:xfrm>
            <a:off x="250920" y="2924280"/>
            <a:ext cx="1895400" cy="1368360"/>
          </a:xfrm>
          <a:prstGeom prst="rect">
            <a:avLst/>
          </a:prstGeom>
          <a:ln w="0">
            <a:noFill/>
          </a:ln>
        </p:spPr>
      </p:pic>
      <p:pic>
        <p:nvPicPr>
          <p:cNvPr id="100" name="дупло" descr="дом белки.jpg"/>
          <p:cNvPicPr/>
          <p:nvPr/>
        </p:nvPicPr>
        <p:blipFill>
          <a:blip r:embed="rId2"/>
          <a:stretch/>
        </p:blipFill>
        <p:spPr>
          <a:xfrm>
            <a:off x="6875640" y="4797360"/>
            <a:ext cx="1944360" cy="1457280"/>
          </a:xfrm>
          <a:prstGeom prst="rect">
            <a:avLst/>
          </a:prstGeom>
          <a:ln w="0">
            <a:noFill/>
          </a:ln>
        </p:spPr>
      </p:pic>
      <p:pic>
        <p:nvPicPr>
          <p:cNvPr id="101" name="гнездо" descr="дом жаворонка.jpg"/>
          <p:cNvPicPr/>
          <p:nvPr/>
        </p:nvPicPr>
        <p:blipFill>
          <a:blip r:embed="rId3"/>
          <a:stretch/>
        </p:blipFill>
        <p:spPr>
          <a:xfrm>
            <a:off x="7020000" y="2997360"/>
            <a:ext cx="1944720" cy="1344600"/>
          </a:xfrm>
          <a:prstGeom prst="rect">
            <a:avLst/>
          </a:prstGeom>
          <a:ln w="0">
            <a:noFill/>
          </a:ln>
        </p:spPr>
      </p:pic>
      <p:pic>
        <p:nvPicPr>
          <p:cNvPr id="102" name="нора" descr="дом медведя.jpg"/>
          <p:cNvPicPr/>
          <p:nvPr/>
        </p:nvPicPr>
        <p:blipFill>
          <a:blip r:embed="rId4"/>
          <a:stretch/>
        </p:blipFill>
        <p:spPr>
          <a:xfrm>
            <a:off x="395280" y="4724280"/>
            <a:ext cx="2019240" cy="1440000"/>
          </a:xfrm>
          <a:prstGeom prst="rect">
            <a:avLst/>
          </a:prstGeom>
          <a:ln w="0">
            <a:noFill/>
          </a:ln>
        </p:spPr>
      </p:pic>
      <p:pic>
        <p:nvPicPr>
          <p:cNvPr id="103" name="будка" descr="дом собаки.jpg"/>
          <p:cNvPicPr/>
          <p:nvPr/>
        </p:nvPicPr>
        <p:blipFill>
          <a:blip r:embed="rId5"/>
          <a:stretch/>
        </p:blipFill>
        <p:spPr>
          <a:xfrm>
            <a:off x="468360" y="981000"/>
            <a:ext cx="1998720" cy="1440000"/>
          </a:xfrm>
          <a:prstGeom prst="rect">
            <a:avLst/>
          </a:prstGeom>
          <a:ln w="0">
            <a:noFill/>
          </a:ln>
        </p:spPr>
      </p:pic>
      <p:pic>
        <p:nvPicPr>
          <p:cNvPr id="104" name="муравейник" descr="дом муравья.jpg"/>
          <p:cNvPicPr/>
          <p:nvPr/>
        </p:nvPicPr>
        <p:blipFill>
          <a:blip r:embed="rId6"/>
          <a:stretch/>
        </p:blipFill>
        <p:spPr>
          <a:xfrm>
            <a:off x="6804000" y="1125360"/>
            <a:ext cx="2057400" cy="1440000"/>
          </a:xfrm>
          <a:prstGeom prst="rect">
            <a:avLst/>
          </a:prstGeom>
          <a:ln w="0">
            <a:noFill/>
          </a:ln>
        </p:spPr>
      </p:pic>
      <p:sp>
        <p:nvSpPr>
          <p:cNvPr id="105" name="собака"/>
          <p:cNvSpPr/>
          <p:nvPr/>
        </p:nvSpPr>
        <p:spPr>
          <a:xfrm>
            <a:off x="2771640" y="1052640"/>
            <a:ext cx="1440000" cy="14396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рыбка"/>
          <p:cNvSpPr/>
          <p:nvPr/>
        </p:nvSpPr>
        <p:spPr>
          <a:xfrm>
            <a:off x="2700360" y="4653000"/>
            <a:ext cx="1440000" cy="14400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едведь"/>
          <p:cNvSpPr/>
          <p:nvPr/>
        </p:nvSpPr>
        <p:spPr>
          <a:xfrm>
            <a:off x="5076720" y="1197000"/>
            <a:ext cx="1440000" cy="14400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уравей"/>
          <p:cNvSpPr/>
          <p:nvPr/>
        </p:nvSpPr>
        <p:spPr>
          <a:xfrm>
            <a:off x="2771640" y="2781360"/>
            <a:ext cx="1440000" cy="143964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жаворонок"/>
          <p:cNvSpPr/>
          <p:nvPr/>
        </p:nvSpPr>
        <p:spPr>
          <a:xfrm>
            <a:off x="5148360" y="4724280"/>
            <a:ext cx="1368360" cy="144144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белка"/>
          <p:cNvSpPr/>
          <p:nvPr/>
        </p:nvSpPr>
        <p:spPr>
          <a:xfrm>
            <a:off x="5148360" y="2997360"/>
            <a:ext cx="1439640" cy="143964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Управляющая кнопка: домой 19">
            <a:hlinkClick r:id="" action="ppaction://hlinkshowjump?jump=firstslide"/>
          </p:cNvPr>
          <p:cNvSpPr/>
          <p:nvPr/>
        </p:nvSpPr>
        <p:spPr>
          <a:xfrm>
            <a:off x="8172360" y="189000"/>
            <a:ext cx="609840" cy="476280"/>
          </a:xfrm>
          <a:custGeom>
            <a:avLst/>
            <a:gdLst>
              <a:gd name="textAreaLeft" fmla="*/ 30600 w 609840"/>
              <a:gd name="textAreaRight" fmla="*/ 579240 w 6098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653" h="21600">
                <a:moveTo>
                  <a:pt x="0" y="0"/>
                </a:moveTo>
                <a:lnTo>
                  <a:pt x="27653" y="0"/>
                </a:lnTo>
                <a:lnTo>
                  <a:pt x="27653" y="21600"/>
                </a:lnTo>
                <a:lnTo>
                  <a:pt x="0" y="21600"/>
                </a:lnTo>
                <a:close/>
              </a:path>
              <a:path fill="lightenLess" w="27653" h="21600">
                <a:moveTo>
                  <a:pt x="0" y="0"/>
                </a:moveTo>
                <a:lnTo>
                  <a:pt x="27653" y="0"/>
                </a:lnTo>
                <a:lnTo>
                  <a:pt x="26253" y="1400"/>
                </a:lnTo>
                <a:lnTo>
                  <a:pt x="1400" y="1400"/>
                </a:lnTo>
                <a:close/>
              </a:path>
              <a:path fill="darken" w="27653" h="21600">
                <a:moveTo>
                  <a:pt x="27653" y="0"/>
                </a:moveTo>
                <a:lnTo>
                  <a:pt x="27653" y="21600"/>
                </a:lnTo>
                <a:lnTo>
                  <a:pt x="26253" y="20200"/>
                </a:lnTo>
                <a:lnTo>
                  <a:pt x="26253" y="1400"/>
                </a:lnTo>
                <a:close/>
              </a:path>
              <a:path fill="darkenLess" w="27653" h="21600">
                <a:moveTo>
                  <a:pt x="276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53" y="20200"/>
                </a:lnTo>
                <a:close/>
              </a:path>
              <a:path fill="lighten" w="276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53" h="21600">
                <a:moveTo>
                  <a:pt x="13826" y="3837"/>
                </a:moveTo>
                <a:lnTo>
                  <a:pt x="16403" y="6448"/>
                </a:lnTo>
                <a:lnTo>
                  <a:pt x="16403" y="4707"/>
                </a:lnTo>
                <a:lnTo>
                  <a:pt x="18178" y="4707"/>
                </a:lnTo>
                <a:lnTo>
                  <a:pt x="18178" y="8224"/>
                </a:lnTo>
                <a:lnTo>
                  <a:pt x="20789" y="10800"/>
                </a:lnTo>
                <a:lnTo>
                  <a:pt x="19136" y="10800"/>
                </a:lnTo>
                <a:lnTo>
                  <a:pt x="19136" y="17989"/>
                </a:lnTo>
                <a:lnTo>
                  <a:pt x="8517" y="17989"/>
                </a:lnTo>
                <a:lnTo>
                  <a:pt x="8517" y="10800"/>
                </a:lnTo>
                <a:lnTo>
                  <a:pt x="6863" y="10800"/>
                </a:lnTo>
                <a:close/>
              </a:path>
              <a:path fill="darkenLess" w="27653" h="21600">
                <a:moveTo>
                  <a:pt x="16403" y="6448"/>
                </a:moveTo>
                <a:lnTo>
                  <a:pt x="16403" y="4707"/>
                </a:lnTo>
                <a:lnTo>
                  <a:pt x="18178" y="4707"/>
                </a:lnTo>
                <a:lnTo>
                  <a:pt x="18178" y="8224"/>
                </a:lnTo>
                <a:close/>
              </a:path>
              <a:path fill="darkenLess" w="27653" h="21600">
                <a:moveTo>
                  <a:pt x="12904" y="14299"/>
                </a:moveTo>
                <a:lnTo>
                  <a:pt x="14749" y="14299"/>
                </a:lnTo>
                <a:lnTo>
                  <a:pt x="14749" y="17989"/>
                </a:lnTo>
                <a:lnTo>
                  <a:pt x="19136" y="17989"/>
                </a:lnTo>
                <a:lnTo>
                  <a:pt x="19136" y="10800"/>
                </a:lnTo>
                <a:lnTo>
                  <a:pt x="8517" y="10800"/>
                </a:lnTo>
                <a:lnTo>
                  <a:pt x="8517" y="17989"/>
                </a:lnTo>
                <a:lnTo>
                  <a:pt x="12904" y="17989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Управляющая кнопка: назад 20">
            <a:hlinkClick r:id="" action="ppaction://hlinkshowjump?jump=previousslide"/>
          </p:cNvPr>
          <p:cNvSpPr/>
          <p:nvPr/>
        </p:nvSpPr>
        <p:spPr>
          <a:xfrm>
            <a:off x="324000" y="260280"/>
            <a:ext cx="504720" cy="216000"/>
          </a:xfrm>
          <a:custGeom>
            <a:avLst/>
            <a:gdLst>
              <a:gd name="textAreaLeft" fmla="*/ 13680 w 504720"/>
              <a:gd name="textAreaRight" fmla="*/ 491040 w 504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424" h="21600">
                <a:moveTo>
                  <a:pt x="0" y="0"/>
                </a:moveTo>
                <a:lnTo>
                  <a:pt x="50424" y="0"/>
                </a:lnTo>
                <a:lnTo>
                  <a:pt x="50424" y="21600"/>
                </a:lnTo>
                <a:lnTo>
                  <a:pt x="0" y="21600"/>
                </a:lnTo>
                <a:close/>
              </a:path>
              <a:path fill="lightenLess" w="50424" h="21600">
                <a:moveTo>
                  <a:pt x="0" y="0"/>
                </a:moveTo>
                <a:lnTo>
                  <a:pt x="50424" y="0"/>
                </a:lnTo>
                <a:lnTo>
                  <a:pt x="49024" y="1400"/>
                </a:lnTo>
                <a:lnTo>
                  <a:pt x="1400" y="1400"/>
                </a:lnTo>
                <a:close/>
              </a:path>
              <a:path fill="darken" w="50424" h="21600">
                <a:moveTo>
                  <a:pt x="50424" y="0"/>
                </a:moveTo>
                <a:lnTo>
                  <a:pt x="50424" y="21600"/>
                </a:lnTo>
                <a:lnTo>
                  <a:pt x="49024" y="20200"/>
                </a:lnTo>
                <a:lnTo>
                  <a:pt x="49024" y="1400"/>
                </a:lnTo>
                <a:close/>
              </a:path>
              <a:path fill="darkenLess" w="50424" h="21600">
                <a:moveTo>
                  <a:pt x="50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24" y="20200"/>
                </a:lnTo>
                <a:close/>
              </a:path>
              <a:path fill="lighten" w="50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24" h="21600">
                <a:moveTo>
                  <a:pt x="18205" y="10800"/>
                </a:moveTo>
                <a:lnTo>
                  <a:pt x="32218" y="3794"/>
                </a:lnTo>
                <a:lnTo>
                  <a:pt x="32218" y="17806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30T15:32:39Z</dcterms:created>
  <dc:creator>Sveta</dc:creator>
  <dc:description/>
  <dc:language>en-US</dc:language>
  <cp:lastModifiedBy>Sveta</cp:lastModifiedBy>
  <dcterms:modified xsi:type="dcterms:W3CDTF">2021-05-25T18:40:55Z</dcterms:modified>
  <cp:revision>26</cp:revision>
  <dc:subject/>
  <dc:title>Слайд 1</dc:title>
</cp:coreProperties>
</file>