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26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5D1C-8594-450F-ADAC-53A6BCFA26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34BF-6FAF-4A34-8032-C0A06D80BB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F91D-1250-46B8-B7AB-38D08E98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9C5A-F619-4814-BA4C-8CA98C47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4AB-F683-410A-96A7-2BAF628D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D3EC-B7D2-44B3-8E25-5B420A03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F6CA-1D15-46A9-BB58-F51D0420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6A1B-54E2-4E9D-BFB6-500FB6D9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6390-C1FB-445F-B1B4-C16F6AD8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3A54-EF27-4290-ADB5-99CA141E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088E-4C61-4C02-A1E2-F2B9960C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384C-9CFA-4A11-8E36-D4E84316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76CC-6609-4895-BC61-9496083E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E9A6-BDA9-4A04-A813-9B2C2353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958D-5AC6-4F83-8642-44437555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2C54-A6B6-4808-A9C1-3EBD3471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1F2E-ECD6-4576-9A59-F68E1BC9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8C3E-F3D4-4ED2-924A-A46CF360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EA00-F592-4573-B729-7CE31740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AD02-4E85-43B5-B9F5-5ABFD4BD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F83C-7A4B-4DA6-80F0-B77FC249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20B5-53F9-44BC-A325-1B7ACD13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0D4D-1A43-4E40-A976-B32987EE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7068-2F76-4B8C-A41E-86250CBB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2284-09F1-4E89-BED5-C029F788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31EC-E7A9-403E-BDEE-5646C686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0_6129d_c2d0151_XL.jpeg"/>
          <p:cNvPicPr/>
          <p:nvPr/>
        </p:nvPicPr>
        <p:blipFill>
          <a:blip r:embed="rId3"/>
          <a:stretch/>
        </p:blipFill>
        <p:spPr>
          <a:xfrm>
            <a:off x="7143840" y="5475240"/>
            <a:ext cx="185724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" name="Прямоугольник 6"/>
          <p:cNvGrpSpPr/>
          <p:nvPr/>
        </p:nvGrpSpPr>
        <p:grpSpPr>
          <a:xfrm>
            <a:off x="-195120" y="-195120"/>
            <a:ext cx="9540720" cy="7254720"/>
            <a:chOff x="-195120" y="-195120"/>
            <a:chExt cx="9540720" cy="7254720"/>
          </a:xfrm>
        </p:grpSpPr>
        <p:pic>
          <p:nvPicPr>
            <p:cNvPr id="2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195120" y="-195120"/>
              <a:ext cx="9540720" cy="72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71280" y="71280"/>
              <a:ext cx="9001440" cy="67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8049-93BF-415C-981D-0B69E99716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7" descr="0_6129d_c2d0151_XL.jpeg"/>
          <p:cNvPicPr/>
          <p:nvPr/>
        </p:nvPicPr>
        <p:blipFill>
          <a:blip r:embed="rId3"/>
          <a:stretch/>
        </p:blipFill>
        <p:spPr>
          <a:xfrm>
            <a:off x="7143840" y="5475240"/>
            <a:ext cx="1857240" cy="1181160"/>
          </a:xfrm>
          <a:prstGeom prst="rect">
            <a:avLst/>
          </a:prstGeom>
          <a:ln w="0">
            <a:noFill/>
          </a:ln>
        </p:spPr>
      </p:pic>
      <p:grpSp>
        <p:nvGrpSpPr>
          <p:cNvPr id="46" name="Прямоугольник 6"/>
          <p:cNvGrpSpPr/>
          <p:nvPr/>
        </p:nvGrpSpPr>
        <p:grpSpPr>
          <a:xfrm>
            <a:off x="-195120" y="-195120"/>
            <a:ext cx="9540720" cy="7254720"/>
            <a:chOff x="-195120" y="-195120"/>
            <a:chExt cx="9540720" cy="7254720"/>
          </a:xfrm>
        </p:grpSpPr>
        <p:pic>
          <p:nvPicPr>
            <p:cNvPr id="47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195120" y="-195120"/>
              <a:ext cx="9540720" cy="72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71280" y="71280"/>
              <a:ext cx="9001440" cy="67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" name="Рисунок 8" descr="color1.jpg"/>
          <p:cNvPicPr/>
          <p:nvPr/>
        </p:nvPicPr>
        <p:blipFill>
          <a:blip r:embed="rId5"/>
          <a:stretch/>
        </p:blipFill>
        <p:spPr>
          <a:xfrm>
            <a:off x="142920" y="71280"/>
            <a:ext cx="8786880" cy="2000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FF6D-1AEC-4CE8-BEA5-F1BC7273D6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0920" y="2276640"/>
            <a:ext cx="7345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ad Script"/>
                <a:ea typeface="Amiri Quran"/>
              </a:rPr>
              <a:t>Развитие творческого потенциала дошкольников через нетрадиционные техники рисования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ad Script"/>
                <a:ea typeface="Amiri Quran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Bad Script"/>
                <a:ea typeface="Amiri Quran"/>
              </a:rPr>
              <a:t>МБДОУЦРР д/с 17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ad Script"/>
                <a:ea typeface="Amiri Quran"/>
              </a:rPr>
              <a:t>Солдатова Н.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ad Script"/>
                <a:ea typeface="Amiri Quran"/>
              </a:rPr>
              <a:t>Степанова Н.А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ad Script"/>
              </a:rPr>
              <a:t>Рисование по мокро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ff"/>
                </a:solidFill>
                <a:uFillTx/>
                <a:latin typeface="Calibri"/>
              </a:rPr>
              <a:t>Возраст:</a:t>
            </a:r>
            <a:r>
              <a:rPr b="1" i="1" lang="ru-RU" sz="1500" spc="-1" strike="noStrike">
                <a:solidFill>
                  <a:srgbClr val="0000ff"/>
                </a:solidFill>
                <a:latin typeface="Calibri"/>
              </a:rPr>
              <a:t> от пяти лет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ff"/>
                </a:solidFill>
                <a:uFillTx/>
                <a:latin typeface="Calibri"/>
              </a:rPr>
              <a:t>Средства выразительности:</a:t>
            </a:r>
            <a:r>
              <a:rPr b="1" lang="ru-RU" sz="1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500" spc="-1" strike="noStrike">
                <a:solidFill>
                  <a:srgbClr val="0000ff"/>
                </a:solidFill>
                <a:latin typeface="Calibri"/>
              </a:rPr>
              <a:t>точка, фактур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ff"/>
                </a:solidFill>
                <a:uFillTx/>
                <a:latin typeface="Calibri"/>
              </a:rPr>
              <a:t>Материалы:</a:t>
            </a:r>
            <a:r>
              <a:rPr b="1" lang="ru-RU" sz="1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500" spc="-1" strike="noStrike">
                <a:solidFill>
                  <a:srgbClr val="0000ff"/>
                </a:solidFill>
                <a:latin typeface="Calibri"/>
              </a:rPr>
              <a:t>бумага, гуашь, жесткая кисть, кусочек плотного картона либо пластика (5x5 см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ff"/>
                </a:solidFill>
                <a:uFillTx/>
                <a:latin typeface="Calibri"/>
              </a:rPr>
              <a:t>Способ получения изображения:</a:t>
            </a:r>
            <a:r>
              <a:rPr b="0" lang="ru-RU" sz="15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Calibri"/>
              </a:rPr>
              <a:t>1. рисование на определенную тему: пейзаж, прогулка, животные, цветы и пр., — когда рисунок создается на мокром листе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Calibri"/>
              </a:rPr>
              <a:t>2. рисование фона для будущего рисунка, когда краски растекаются, соединяясь и переливаясь между собой, создают узор, который и определяет тематику дальнейшего рисования «по-сухому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Объект 4" descr=""/>
          <p:cNvPicPr/>
          <p:nvPr/>
        </p:nvPicPr>
        <p:blipFill>
          <a:blip r:embed="rId1"/>
          <a:stretch/>
        </p:blipFill>
        <p:spPr>
          <a:xfrm>
            <a:off x="223920" y="1990800"/>
            <a:ext cx="4525920" cy="354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7000"/>
                            </p:stCondLst>
                            <p:childTnLst>
                              <p:par>
                                <p:cTn id="2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ad Script"/>
              </a:rPr>
              <a:t>Тампонирование ватными палоч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284720" y="1600200"/>
            <a:ext cx="453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Calibri"/>
              </a:rPr>
              <a:t>Возраст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: от 2 ле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Calibri"/>
              </a:rPr>
              <a:t>Средства выразительности: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 пятно, фактура, цве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Calibri"/>
              </a:rPr>
              <a:t>Материалы: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 блюдце либо пластиковая коробочка, в которую вложена штемпельная подушка из тонкого поролона, пропитанного гуашью, плотная бумага любого цвета и размера, смятая бумаг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Calibri"/>
              </a:rPr>
              <a:t>Способ получения изображения: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 ребенок ватными палочками (методом тычка) наносит краску на бумагу</a:t>
            </a:r>
            <a:r>
              <a:rPr b="1" lang="ru-RU" sz="2200" spc="-1" strike="noStrike">
                <a:solidFill>
                  <a:srgbClr val="0000ff"/>
                </a:solidFill>
                <a:latin typeface="Comic Sans MS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Объект 4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ad Script"/>
              </a:rPr>
              <a:t>Граттаж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Bad Script"/>
              </a:rPr>
              <a:t>(грунтованный лист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14000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ff"/>
                </a:solidFill>
                <a:uFillTx/>
                <a:latin typeface="Calibri"/>
              </a:rPr>
              <a:t>Возраст:</a:t>
            </a:r>
            <a:r>
              <a:rPr b="1" lang="ru-RU" sz="1500" spc="-1" strike="noStrike">
                <a:solidFill>
                  <a:srgbClr val="0000ff"/>
                </a:solidFill>
                <a:latin typeface="Calibri"/>
              </a:rPr>
              <a:t> от 5 ле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ff"/>
                </a:solidFill>
                <a:uFillTx/>
                <a:latin typeface="Calibri"/>
              </a:rPr>
              <a:t>Средства выразительности: </a:t>
            </a:r>
            <a:r>
              <a:rPr b="1" lang="ru-RU" sz="1500" spc="-1" strike="noStrike">
                <a:solidFill>
                  <a:srgbClr val="0000ff"/>
                </a:solidFill>
                <a:latin typeface="Calibri"/>
              </a:rPr>
              <a:t>линия, штрих, контраст.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ff"/>
                </a:solidFill>
                <a:uFillTx/>
                <a:latin typeface="Calibri"/>
              </a:rPr>
              <a:t>Материалы: </a:t>
            </a:r>
            <a:r>
              <a:rPr b="1" lang="ru-RU" sz="1500" spc="-1" strike="noStrike">
                <a:solidFill>
                  <a:srgbClr val="0000ff"/>
                </a:solidFill>
                <a:latin typeface="Calibri"/>
              </a:rPr>
              <a:t>полукартон, либо плотная бумага белого цвета, свеча, широкая кисть, чёрная тушь, жидкое мыло (примерно одна капля на столовую ложку туши) или зубной порошок, мисочки для туши, палочка с заточенными концами.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ff"/>
                </a:solidFill>
                <a:uFillTx/>
                <a:latin typeface="Calibri"/>
              </a:rPr>
              <a:t>Способ получения изображения: </a:t>
            </a:r>
            <a:r>
              <a:rPr b="1" lang="ru-RU" sz="1500" spc="-1" strike="noStrike">
                <a:solidFill>
                  <a:srgbClr val="0000ff"/>
                </a:solidFill>
                <a:latin typeface="Calibri"/>
              </a:rPr>
              <a:t>ребёнок натирает свечой лист так, чтобы он весь был покрыт слоем воска. Затем на него наносится тушь с жидким мылом, либо зубной порошок, в этом случае он заливается тушью без добавок. После высыхания палочкой процарапывается рисунок</a:t>
            </a:r>
            <a:r>
              <a:rPr b="1" i="1" lang="ru-RU" sz="15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Объект 4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3941640" cy="2955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ad Script"/>
              </a:rPr>
              <a:t>Рисование крупой (солью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920" y="119664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Возраст: от шести л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Средства выразительности: объе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Материалы: соль, чистый песок или манная крупа, клей ПВА, картон, кисти для клея, простой карандаш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Способ получения: Ребенок готовит картон нужного цвета, простым карандашом наносит необходимый рисунок, потом каждый предмет по очереди намазывает клеем и посыпает 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аккуратно солью(крупой), лишнее ссыпает на подно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Рисунок 3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4079880" cy="305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ad Script"/>
              </a:rPr>
              <a:t>Восковые мелки (свеча) + аквар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11640" y="1599840"/>
            <a:ext cx="4681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ff"/>
                </a:solidFill>
                <a:uFillTx/>
                <a:latin typeface="Calibri"/>
              </a:rPr>
              <a:t>Возраст:</a:t>
            </a:r>
            <a:r>
              <a:rPr b="1" lang="ru-RU" sz="1700" spc="-1" strike="noStrike">
                <a:solidFill>
                  <a:srgbClr val="0000ff"/>
                </a:solidFill>
                <a:latin typeface="Calibri"/>
              </a:rPr>
              <a:t> от четырех лет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ff"/>
                </a:solidFill>
                <a:uFillTx/>
                <a:latin typeface="Calibri"/>
              </a:rPr>
              <a:t>Средства выразительности:</a:t>
            </a:r>
            <a:r>
              <a:rPr b="1" lang="ru-RU" sz="1700" spc="-1" strike="noStrike">
                <a:solidFill>
                  <a:srgbClr val="0000ff"/>
                </a:solidFill>
                <a:latin typeface="Calibri"/>
              </a:rPr>
              <a:t> цвет, линия, пятно, фактура. Материалы: восковые мелки, плотная белая бумага, акварель, кисти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ff"/>
                </a:solidFill>
                <a:uFillTx/>
                <a:latin typeface="Calibri"/>
              </a:rPr>
              <a:t>Способ получения изображения:</a:t>
            </a:r>
            <a:r>
              <a:rPr b="1" lang="ru-RU" sz="1700" spc="-1" strike="noStrike">
                <a:solidFill>
                  <a:srgbClr val="0000ff"/>
                </a:solidFill>
                <a:latin typeface="Calibri"/>
              </a:rPr>
              <a:t> ребенок рисует восковыми мелками на белой бумаге. Затем закрашивает лист акварелью в один или несколько цветов. Рисунок мелками остается незакрашенным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1700" spc="-1" strike="noStrike" u="sng">
                <a:solidFill>
                  <a:srgbClr val="0000ff"/>
                </a:solidFill>
                <a:uFillTx/>
                <a:latin typeface="Calibri"/>
              </a:rPr>
              <a:t>Материалы:</a:t>
            </a:r>
            <a:r>
              <a:rPr b="1" lang="ru-RU" sz="1700" spc="-1" strike="noStrike">
                <a:solidFill>
                  <a:srgbClr val="0000ff"/>
                </a:solidFill>
                <a:latin typeface="Calibri"/>
              </a:rPr>
              <a:t> свеча, плотная бумага, акварель, кисти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ff"/>
                </a:solidFill>
                <a:uFillTx/>
                <a:latin typeface="Calibri"/>
              </a:rPr>
              <a:t>Способ получения изображения</a:t>
            </a:r>
            <a:r>
              <a:rPr b="1" lang="ru-RU" sz="1700" spc="-1" strike="noStrike">
                <a:solidFill>
                  <a:srgbClr val="0000ff"/>
                </a:solidFill>
                <a:latin typeface="Calibri"/>
              </a:rPr>
              <a:t>: ребенок рисует свечой" на бумаге. Затем закрашивает лист акварелью в один или несколько цветов. Рисунок свечой остается белым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Объект 4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6000"/>
                            </p:stCondLst>
                            <p:childTnLst>
                              <p:par>
                                <p:cTn id="4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Bad Script"/>
              </a:rPr>
              <a:t>Наш уголок декоративно-прикладного творч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Объект 6" descr=""/>
          <p:cNvPicPr/>
          <p:nvPr/>
        </p:nvPicPr>
        <p:blipFill>
          <a:blip r:embed="rId1"/>
          <a:stretch/>
        </p:blipFill>
        <p:spPr>
          <a:xfrm>
            <a:off x="3059280" y="1557360"/>
            <a:ext cx="37749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Segoe Script"/>
              </a:rPr>
              <a:t>     </a:t>
            </a:r>
            <a:r>
              <a:rPr b="1" lang="ru-RU" sz="3200" spc="-1" strike="noStrike">
                <a:solidFill>
                  <a:srgbClr val="7030a0"/>
                </a:solidFill>
                <a:latin typeface="Bad Script"/>
              </a:rPr>
              <a:t>Пусть дети рисуют, творят, фантазируют! 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Bad Script"/>
              </a:rPr>
              <a:t>     Не каждый из них станет   художником, но рисование доставит им удовольствие, они познают радость творчества, научаться видеть прекрасное  в обычном.    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Bad Script"/>
              </a:rPr>
              <a:t>     Пусть они растут с душой художник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C:\Users\User\Downloads\изо\Новая папка (4)\1363858098_schastlivye-oboi-17.jpg"/>
          <p:cNvPicPr/>
          <p:nvPr/>
        </p:nvPicPr>
        <p:blipFill>
          <a:blip r:embed="rId1"/>
          <a:stretch/>
        </p:blipFill>
        <p:spPr>
          <a:xfrm>
            <a:off x="1328760" y="3718080"/>
            <a:ext cx="6486480" cy="2738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5" dur="3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135000" y="13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060640"/>
            <a:ext cx="8569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Bad Script"/>
              </a:rPr>
              <a:t>Спасиб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Bad Script"/>
              </a:rPr>
              <a:t>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ad Script"/>
              </a:rPr>
              <a:t>Цель: Развитие художественно творческих способностей дет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Объект 3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433080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ad Script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ad Script"/>
              </a:rPr>
              <a:t>Сформировать у детей интерес к видам художественного творч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ad Script"/>
              </a:rPr>
              <a:t>Помочь детям овладеть приемами и техниками художественного творч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ad Script"/>
              </a:rPr>
              <a:t>Развивать познавательную активность, нестандартное мышление, воображение, креатив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ad Script"/>
              </a:rPr>
              <a:t>Воспитывать умение доводить начатое дело до конца, помогать своим товарищам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Овал 2"/>
          <p:cNvGrpSpPr/>
          <p:nvPr/>
        </p:nvGrpSpPr>
        <p:grpSpPr>
          <a:xfrm>
            <a:off x="3438360" y="3402000"/>
            <a:ext cx="2846520" cy="1687680"/>
            <a:chOff x="3438360" y="3402000"/>
            <a:chExt cx="2846520" cy="1687680"/>
          </a:xfrm>
        </p:grpSpPr>
        <p:pic>
          <p:nvPicPr>
            <p:cNvPr id="104" name="Овал 2" descr=""/>
            <p:cNvPicPr/>
            <p:nvPr/>
          </p:nvPicPr>
          <p:blipFill>
            <a:blip r:embed="rId1"/>
            <a:stretch/>
          </p:blipFill>
          <p:spPr>
            <a:xfrm>
              <a:off x="3438360" y="3402000"/>
              <a:ext cx="2846520" cy="16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892680" y="3660840"/>
              <a:ext cx="193500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mic Sans MS"/>
                </a:rPr>
                <a:t>Способ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mic Sans MS"/>
                </a:rPr>
                <a:t>изображен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Прямоугольник 1"/>
          <p:cNvSpPr/>
          <p:nvPr/>
        </p:nvSpPr>
        <p:spPr>
          <a:xfrm>
            <a:off x="250920" y="260280"/>
            <a:ext cx="8713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Bad Script"/>
              </a:rPr>
              <a:t>Нетрадиционные способы изображен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Bad Script"/>
              </a:rPr>
              <a:t>в рисован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Овал 3"/>
          <p:cNvGrpSpPr/>
          <p:nvPr/>
        </p:nvGrpSpPr>
        <p:grpSpPr>
          <a:xfrm>
            <a:off x="414360" y="1238400"/>
            <a:ext cx="3346560" cy="1333440"/>
            <a:chOff x="414360" y="1238400"/>
            <a:chExt cx="3346560" cy="1333440"/>
          </a:xfrm>
        </p:grpSpPr>
        <p:pic>
          <p:nvPicPr>
            <p:cNvPr id="108" name="Овал 3" descr=""/>
            <p:cNvPicPr/>
            <p:nvPr/>
          </p:nvPicPr>
          <p:blipFill>
            <a:blip r:embed="rId2"/>
            <a:stretch/>
          </p:blipFill>
          <p:spPr>
            <a:xfrm>
              <a:off x="414360" y="1238400"/>
              <a:ext cx="334656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941400" y="1447920"/>
              <a:ext cx="229248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mic Sans MS"/>
                </a:rPr>
                <a:t>Рисунок своими руками (пальцами, ладошкой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Овал 4"/>
          <p:cNvGrpSpPr/>
          <p:nvPr/>
        </p:nvGrpSpPr>
        <p:grpSpPr>
          <a:xfrm>
            <a:off x="341280" y="2535120"/>
            <a:ext cx="3419640" cy="1403640"/>
            <a:chOff x="341280" y="2535120"/>
            <a:chExt cx="3419640" cy="1403640"/>
          </a:xfrm>
        </p:grpSpPr>
        <p:pic>
          <p:nvPicPr>
            <p:cNvPr id="111" name="Овал 4" descr=""/>
            <p:cNvPicPr/>
            <p:nvPr/>
          </p:nvPicPr>
          <p:blipFill>
            <a:blip r:embed="rId3"/>
            <a:stretch/>
          </p:blipFill>
          <p:spPr>
            <a:xfrm>
              <a:off x="341280" y="2535120"/>
              <a:ext cx="3419640" cy="14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880920" y="2754360"/>
              <a:ext cx="234180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mic Sans MS"/>
                </a:rPr>
                <a:t>Рисование штампом(тычковое рисование, оттиск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Овал 5"/>
          <p:cNvGrpSpPr/>
          <p:nvPr/>
        </p:nvGrpSpPr>
        <p:grpSpPr>
          <a:xfrm>
            <a:off x="195120" y="3828960"/>
            <a:ext cx="2127240" cy="1193760"/>
            <a:chOff x="195120" y="3828960"/>
            <a:chExt cx="2127240" cy="1193760"/>
          </a:xfrm>
        </p:grpSpPr>
        <p:pic>
          <p:nvPicPr>
            <p:cNvPr id="114" name="Овал 5" descr=""/>
            <p:cNvPicPr/>
            <p:nvPr/>
          </p:nvPicPr>
          <p:blipFill>
            <a:blip r:embed="rId4"/>
            <a:stretch/>
          </p:blipFill>
          <p:spPr>
            <a:xfrm>
              <a:off x="195120" y="3828960"/>
              <a:ext cx="212724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46120" y="4019400"/>
              <a:ext cx="142704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mic Sans MS"/>
                </a:rPr>
                <a:t>Рисование свечо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Овал 6"/>
          <p:cNvGrpSpPr/>
          <p:nvPr/>
        </p:nvGrpSpPr>
        <p:grpSpPr>
          <a:xfrm>
            <a:off x="195120" y="5052960"/>
            <a:ext cx="2200320" cy="1262160"/>
            <a:chOff x="195120" y="5052960"/>
            <a:chExt cx="2200320" cy="1262160"/>
          </a:xfrm>
        </p:grpSpPr>
        <p:pic>
          <p:nvPicPr>
            <p:cNvPr id="117" name="Овал 6" descr=""/>
            <p:cNvPicPr/>
            <p:nvPr/>
          </p:nvPicPr>
          <p:blipFill>
            <a:blip r:embed="rId5"/>
            <a:stretch/>
          </p:blipFill>
          <p:spPr>
            <a:xfrm>
              <a:off x="195120" y="5052960"/>
              <a:ext cx="220032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57280" y="5254560"/>
              <a:ext cx="14763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mic Sans MS"/>
                </a:rPr>
                <a:t>Раздувание краск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Овал 7"/>
          <p:cNvGrpSpPr/>
          <p:nvPr/>
        </p:nvGrpSpPr>
        <p:grpSpPr>
          <a:xfrm>
            <a:off x="4230720" y="5340240"/>
            <a:ext cx="2987640" cy="1335240"/>
            <a:chOff x="4230720" y="5340240"/>
            <a:chExt cx="2987640" cy="1335240"/>
          </a:xfrm>
        </p:grpSpPr>
        <p:pic>
          <p:nvPicPr>
            <p:cNvPr id="120" name="Овал 7" descr=""/>
            <p:cNvPicPr/>
            <p:nvPr/>
          </p:nvPicPr>
          <p:blipFill>
            <a:blip r:embed="rId6"/>
            <a:stretch/>
          </p:blipFill>
          <p:spPr>
            <a:xfrm>
              <a:off x="4230720" y="5340240"/>
              <a:ext cx="298764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705200" y="5553000"/>
              <a:ext cx="203688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mic Sans MS"/>
                </a:rPr>
                <a:t>Рисование с помощью изолент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Овал 8"/>
          <p:cNvGrpSpPr/>
          <p:nvPr/>
        </p:nvGrpSpPr>
        <p:grpSpPr>
          <a:xfrm>
            <a:off x="3724200" y="1884240"/>
            <a:ext cx="2268720" cy="1047960"/>
            <a:chOff x="3724200" y="1884240"/>
            <a:chExt cx="2268720" cy="1047960"/>
          </a:xfrm>
        </p:grpSpPr>
        <p:pic>
          <p:nvPicPr>
            <p:cNvPr id="123" name="Овал 8" descr=""/>
            <p:cNvPicPr/>
            <p:nvPr/>
          </p:nvPicPr>
          <p:blipFill>
            <a:blip r:embed="rId7"/>
            <a:stretch/>
          </p:blipFill>
          <p:spPr>
            <a:xfrm>
              <a:off x="3724200" y="1884240"/>
              <a:ext cx="226872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095720" y="2054160"/>
              <a:ext cx="152892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mic Sans MS"/>
                </a:rPr>
                <a:t>Монотоп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Овал 9"/>
          <p:cNvGrpSpPr/>
          <p:nvPr/>
        </p:nvGrpSpPr>
        <p:grpSpPr>
          <a:xfrm>
            <a:off x="6388200" y="4406760"/>
            <a:ext cx="2341440" cy="1043280"/>
            <a:chOff x="6388200" y="4406760"/>
            <a:chExt cx="2341440" cy="1043280"/>
          </a:xfrm>
        </p:grpSpPr>
        <p:pic>
          <p:nvPicPr>
            <p:cNvPr id="126" name="Овал 9" descr=""/>
            <p:cNvPicPr/>
            <p:nvPr/>
          </p:nvPicPr>
          <p:blipFill>
            <a:blip r:embed="rId8"/>
            <a:stretch/>
          </p:blipFill>
          <p:spPr>
            <a:xfrm>
              <a:off x="6388200" y="4406760"/>
              <a:ext cx="234144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770520" y="4573440"/>
              <a:ext cx="157968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mic Sans MS"/>
                </a:rPr>
                <a:t>И многое друго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Овал 10"/>
          <p:cNvGrpSpPr/>
          <p:nvPr/>
        </p:nvGrpSpPr>
        <p:grpSpPr>
          <a:xfrm>
            <a:off x="5383080" y="950760"/>
            <a:ext cx="3565800" cy="1043280"/>
            <a:chOff x="5383080" y="950760"/>
            <a:chExt cx="3565800" cy="1043280"/>
          </a:xfrm>
        </p:grpSpPr>
        <p:pic>
          <p:nvPicPr>
            <p:cNvPr id="129" name="Овал 10" descr=""/>
            <p:cNvPicPr/>
            <p:nvPr/>
          </p:nvPicPr>
          <p:blipFill>
            <a:blip r:embed="rId9"/>
            <a:stretch/>
          </p:blipFill>
          <p:spPr>
            <a:xfrm>
              <a:off x="5383080" y="950760"/>
              <a:ext cx="356580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942160" y="1117440"/>
              <a:ext cx="244476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mic Sans MS"/>
                </a:rPr>
                <a:t>Пластилинограф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Овал 11"/>
          <p:cNvGrpSpPr/>
          <p:nvPr/>
        </p:nvGrpSpPr>
        <p:grpSpPr>
          <a:xfrm>
            <a:off x="2359080" y="5273640"/>
            <a:ext cx="1834920" cy="1041480"/>
            <a:chOff x="2359080" y="5273640"/>
            <a:chExt cx="1834920" cy="1041480"/>
          </a:xfrm>
        </p:grpSpPr>
        <p:pic>
          <p:nvPicPr>
            <p:cNvPr id="132" name="Овал 11" descr=""/>
            <p:cNvPicPr/>
            <p:nvPr/>
          </p:nvPicPr>
          <p:blipFill>
            <a:blip r:embed="rId10"/>
            <a:stretch/>
          </p:blipFill>
          <p:spPr>
            <a:xfrm>
              <a:off x="2359080" y="5273640"/>
              <a:ext cx="18349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665440" y="5438880"/>
              <a:ext cx="122076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mic Sans MS"/>
                </a:rPr>
                <a:t>Граттаж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Овал 12"/>
          <p:cNvGrpSpPr/>
          <p:nvPr/>
        </p:nvGrpSpPr>
        <p:grpSpPr>
          <a:xfrm>
            <a:off x="6388200" y="3181320"/>
            <a:ext cx="2560680" cy="927000"/>
            <a:chOff x="6388200" y="3181320"/>
            <a:chExt cx="2560680" cy="927000"/>
          </a:xfrm>
        </p:grpSpPr>
        <p:pic>
          <p:nvPicPr>
            <p:cNvPr id="135" name="Овал 12" descr=""/>
            <p:cNvPicPr/>
            <p:nvPr/>
          </p:nvPicPr>
          <p:blipFill>
            <a:blip r:embed="rId11"/>
            <a:stretch/>
          </p:blipFill>
          <p:spPr>
            <a:xfrm>
              <a:off x="6388200" y="3181320"/>
              <a:ext cx="256068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802560" y="3328920"/>
              <a:ext cx="17319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mic Sans MS"/>
                </a:rPr>
                <a:t>Рисование расчёско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Овал 13"/>
          <p:cNvGrpSpPr/>
          <p:nvPr/>
        </p:nvGrpSpPr>
        <p:grpSpPr>
          <a:xfrm>
            <a:off x="6315120" y="1957320"/>
            <a:ext cx="2633760" cy="974880"/>
            <a:chOff x="6315120" y="1957320"/>
            <a:chExt cx="2633760" cy="974880"/>
          </a:xfrm>
        </p:grpSpPr>
        <p:pic>
          <p:nvPicPr>
            <p:cNvPr id="138" name="Овал 13" descr=""/>
            <p:cNvPicPr/>
            <p:nvPr/>
          </p:nvPicPr>
          <p:blipFill>
            <a:blip r:embed="rId12"/>
            <a:stretch/>
          </p:blipFill>
          <p:spPr>
            <a:xfrm>
              <a:off x="6315120" y="1957320"/>
              <a:ext cx="263376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740640" y="2116080"/>
              <a:ext cx="1782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mic Sans MS"/>
                </a:rPr>
                <a:t>Кляксограф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40" name="Прямая со стрелкой 17"/>
          <p:cNvCxnSpPr/>
          <p:nvPr/>
        </p:nvCxnSpPr>
        <p:spPr>
          <a:xfrm flipH="1" flipV="1">
            <a:off x="3347280" y="2348640"/>
            <a:ext cx="864360" cy="10803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41" name="Прямая со стрелкой 19"/>
          <p:cNvCxnSpPr/>
          <p:nvPr/>
        </p:nvCxnSpPr>
        <p:spPr>
          <a:xfrm flipV="1">
            <a:off x="4858920" y="2851920"/>
            <a:ext cx="1080" cy="5058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42" name="Прямая со стрелкой 23"/>
          <p:cNvCxnSpPr/>
          <p:nvPr/>
        </p:nvCxnSpPr>
        <p:spPr>
          <a:xfrm flipV="1">
            <a:off x="5651280" y="1915920"/>
            <a:ext cx="649800" cy="1584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43" name="Прямая со стрелкой 25"/>
          <p:cNvCxnSpPr/>
          <p:nvPr/>
        </p:nvCxnSpPr>
        <p:spPr>
          <a:xfrm flipV="1">
            <a:off x="5940000" y="2781000"/>
            <a:ext cx="793080" cy="792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44" name="Прямая со стрелкой 27"/>
          <p:cNvCxnSpPr/>
          <p:nvPr/>
        </p:nvCxnSpPr>
        <p:spPr>
          <a:xfrm flipV="1">
            <a:off x="6084360" y="3715560"/>
            <a:ext cx="359640" cy="738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45" name="Прямая со стрелкой 29"/>
          <p:cNvCxnSpPr/>
          <p:nvPr/>
        </p:nvCxnSpPr>
        <p:spPr>
          <a:xfrm>
            <a:off x="6084720" y="4581000"/>
            <a:ext cx="432720" cy="723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46" name="Прямая со стрелкой 31"/>
          <p:cNvCxnSpPr/>
          <p:nvPr/>
        </p:nvCxnSpPr>
        <p:spPr>
          <a:xfrm>
            <a:off x="5363640" y="5013360"/>
            <a:ext cx="72360" cy="2880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47" name="Прямая со стрелкой 33"/>
          <p:cNvCxnSpPr/>
          <p:nvPr/>
        </p:nvCxnSpPr>
        <p:spPr>
          <a:xfrm flipH="1">
            <a:off x="3634560" y="4868640"/>
            <a:ext cx="361080" cy="4323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48" name="Прямая со стрелкой 35"/>
          <p:cNvCxnSpPr/>
          <p:nvPr/>
        </p:nvCxnSpPr>
        <p:spPr>
          <a:xfrm flipH="1">
            <a:off x="2124000" y="4581360"/>
            <a:ext cx="1440360" cy="6483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49" name="Прямая со стрелкой 37"/>
          <p:cNvCxnSpPr/>
          <p:nvPr/>
        </p:nvCxnSpPr>
        <p:spPr>
          <a:xfrm flipH="1">
            <a:off x="2268000" y="4220640"/>
            <a:ext cx="1152000" cy="723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50" name="Прямая со стрелкой 39"/>
          <p:cNvCxnSpPr/>
          <p:nvPr/>
        </p:nvCxnSpPr>
        <p:spPr>
          <a:xfrm flipH="1" flipV="1">
            <a:off x="3492000" y="3499920"/>
            <a:ext cx="216720" cy="216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50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5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95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5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25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45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5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750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85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500"/>
                            </p:stCondLst>
                            <p:childTnLst>
                              <p:par>
                                <p:cTn id="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15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3500"/>
                            </p:stCondLst>
                            <p:childTnLst>
                              <p:par>
                                <p:cTn id="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4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ad Script"/>
              </a:rPr>
              <a:t>Рисунок своими руками (пальцами, ладошкой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284720" y="1412640"/>
            <a:ext cx="4680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2060"/>
                </a:solidFill>
                <a:uFillTx/>
                <a:latin typeface="Calibri"/>
              </a:rPr>
              <a:t>Возраст: </a:t>
            </a:r>
            <a:r>
              <a:rPr b="1" lang="ru-RU" sz="1900" spc="-1" strike="noStrike">
                <a:solidFill>
                  <a:srgbClr val="002060"/>
                </a:solidFill>
                <a:latin typeface="Calibri"/>
              </a:rPr>
              <a:t>от двух лет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2060"/>
                </a:solidFill>
                <a:uFillTx/>
                <a:latin typeface="Calibri"/>
              </a:rPr>
              <a:t>Средства выразительности: </a:t>
            </a:r>
            <a:r>
              <a:rPr b="1" lang="ru-RU" sz="1900" spc="-1" strike="noStrike">
                <a:solidFill>
                  <a:srgbClr val="002060"/>
                </a:solidFill>
                <a:latin typeface="Calibri"/>
              </a:rPr>
              <a:t>пятно, цвет, фантастический силуэт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2060"/>
                </a:solidFill>
                <a:uFillTx/>
                <a:latin typeface="Calibri"/>
              </a:rPr>
              <a:t>Материалы: </a:t>
            </a:r>
            <a:r>
              <a:rPr b="1" lang="ru-RU" sz="1900" spc="-1" strike="noStrike">
                <a:solidFill>
                  <a:srgbClr val="002060"/>
                </a:solidFill>
                <a:latin typeface="Calibri"/>
              </a:rPr>
              <a:t>широкие блюдечки с гуашью, кисть, плотная бумага любого цвета, листы большого формата, салфетк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2060"/>
                </a:solidFill>
                <a:uFillTx/>
                <a:latin typeface="Calibri"/>
              </a:rPr>
              <a:t>Способ получения изображения</a:t>
            </a:r>
            <a:r>
              <a:rPr b="1" lang="ru-RU" sz="1900" spc="-1" strike="noStrike">
                <a:solidFill>
                  <a:srgbClr val="002060"/>
                </a:solidFill>
                <a:latin typeface="Calibri"/>
              </a:rPr>
              <a:t>: ребенок опускает в гуашь ладошку (палец)или окрашивает с помощью кисточки (с пяти лет) и делает отпечаток на бумаге. Рисуют и правой и левой руками, окрашенными разными цветами. После работы руки вытираются салфеткой, затем гуашь легко смываетс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Объект 4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ad Script"/>
              </a:rPr>
              <a:t>Рисование пальчи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Объект 13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341520" cy="4464360"/>
          </a:xfrm>
          <a:prstGeom prst="rect">
            <a:avLst/>
          </a:prstGeom>
          <a:ln w="0">
            <a:noFill/>
          </a:ln>
        </p:spPr>
      </p:pic>
      <p:pic>
        <p:nvPicPr>
          <p:cNvPr id="156" name="Объект 12" descr="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ad Script"/>
              </a:rPr>
              <a:t>Оттиск поролоно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Возраст: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Calibri"/>
              </a:rPr>
              <a:t> от четырех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Средства выразительности: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Calibri"/>
              </a:rPr>
              <a:t> пятно, фактура, цв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Материалы: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Calibri"/>
              </a:rPr>
              <a:t> мисочка или пластиковая коробочка, в которую вложена штемпельная подушка из тонкого поролона, пропитанного гуашью, плотная бумага любого цвета и размера, кусочки пенопла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Способ   получения   изображения: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Calibri"/>
              </a:rPr>
              <a:t>   ребенок  прижимает  пенопласт , поролон  к штемпельной подушке с краской и наносит оттиск на бумагу. Чтобы получить другой цвет, меняются и мисочка и пороло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Объект 4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ad Script"/>
              </a:rPr>
              <a:t>Кляксография с трубочк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</a:rPr>
              <a:t>Возраст: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от пяти л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</a:rPr>
              <a:t>Средства выразительности: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пят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</a:rPr>
              <a:t>Материалы: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бумага, тушь либо жидко разведенная гуашь в мисочке, пластиковая ложеч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</a:rPr>
              <a:t>Способ получения изображения: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ребенок зачерпывает гуашь пластиковой ложкой и выливает на бумагу. Затем на это пятно дует из трубочки так, что бы её конец не касался ни пятна, ни бумаги. При необходимости процедура повторяется. Недостающие детали дорисовывают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Объект 4" descr=""/>
          <p:cNvPicPr/>
          <p:nvPr/>
        </p:nvPicPr>
        <p:blipFill>
          <a:blip r:embed="rId1"/>
          <a:stretch/>
        </p:blipFill>
        <p:spPr>
          <a:xfrm>
            <a:off x="457200" y="2492280"/>
            <a:ext cx="3846600" cy="2884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Bad Script"/>
              </a:rPr>
              <a:t>Пластилинограф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356000" y="1599840"/>
            <a:ext cx="4330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Calibri"/>
              </a:rPr>
              <a:t>Возраст:</a:t>
            </a:r>
            <a:r>
              <a:rPr b="1" i="1" lang="ru-RU" sz="1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любо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Calibri"/>
              </a:rPr>
              <a:t>Средства выразительности: </a:t>
            </a: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объем, цвет, факту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Calibri"/>
              </a:rPr>
              <a:t>Материалы: </a:t>
            </a: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картон с контурным рисунком, стекло; набор пластилина; салфетка для рук; стеки; бросовый и природный материал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Calibri"/>
              </a:rPr>
              <a:t>Способ получения изображ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1.    Нанесение пластилина на картон. Можно сделать поверхность немного шероховатой. Для этого используются различные способы нанесения на поверхность пластилинового изображения рельефных точек, штрихов, полосок, извилин или каких-нибудь фигурных линий.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Работать можно не только пальцами рук, но и стек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Объект 4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8:01:09Z</dcterms:created>
  <dc:creator>Admin</dc:creator>
  <dc:description/>
  <dc:language>en-US</dc:language>
  <cp:lastModifiedBy>user</cp:lastModifiedBy>
  <dcterms:modified xsi:type="dcterms:W3CDTF">2021-05-25T16:43:56Z</dcterms:modified>
  <cp:revision>25</cp:revision>
  <dc:subject/>
  <dc:title>Слайд 1</dc:title>
</cp:coreProperties>
</file>