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26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9.png" ContentType="image/png"/>
  <Override PartName="/ppt/media/image21.jpeg" ContentType="image/jpeg"/>
  <Override PartName="/ppt/media/image12.png" ContentType="image/png"/>
  <Override PartName="/ppt/media/image23.jpeg" ContentType="image/jpe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A56D-5D9B-4D8B-B6BE-F51FC46862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9A97-A9ED-4E39-AA99-4D1B29E8F3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E581-B0C2-45DE-91AB-E9B21F529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BB15-BA20-4426-B1EA-A0ECFA07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F6B1-3DEC-4112-A491-DC2BDF4B8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7E29-8D21-4B9F-AB36-4D5E7BA02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96F3-1C28-4D28-ABF0-40067DA48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14E4-ED53-4E4F-84DF-6E1BB878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BA4D-5203-4DA6-A059-7D0DEF10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3D54-6E80-40F6-A79B-1201D77B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E3E2-5970-4139-9434-E933F0A0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5620-1FBB-434D-9105-B4B95352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6244-6499-4890-9CF0-04D8E185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32C3-309B-4D33-8B63-89D93D31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D6B7-996B-4740-BB70-4F0E5A18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1CBC-A297-488B-8132-3D082D20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3097-F0E0-4836-B662-C90B078C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F377-83DA-49ED-8416-E1198E03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5271-09EC-4AFB-9A00-2C86A0C4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0D7C-776A-4CF2-9658-BBC6DF44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C9B3-9994-4C1B-8F44-DEFCC986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9D3B-4AEF-4AE1-9FDB-1D4ED332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BDB2-F90B-4920-B193-18CACBF9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F64A-D220-4A58-AC03-305BF1D4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1FF5-D3F3-48D4-B6B0-551C0D0E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9B04-10B2-4760-943F-C2F2638B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7" descr="0_6129d_c2d0151_XL.jpeg"/>
          <p:cNvPicPr/>
          <p:nvPr/>
        </p:nvPicPr>
        <p:blipFill>
          <a:blip r:embed="rId3"/>
          <a:stretch/>
        </p:blipFill>
        <p:spPr>
          <a:xfrm>
            <a:off x="7143840" y="5475240"/>
            <a:ext cx="1857240" cy="1181160"/>
          </a:xfrm>
          <a:prstGeom prst="rect">
            <a:avLst/>
          </a:prstGeom>
          <a:ln w="0">
            <a:noFill/>
          </a:ln>
        </p:spPr>
      </p:pic>
      <p:grpSp>
        <p:nvGrpSpPr>
          <p:cNvPr id="1" name="Прямоугольник 6"/>
          <p:cNvGrpSpPr/>
          <p:nvPr/>
        </p:nvGrpSpPr>
        <p:grpSpPr>
          <a:xfrm>
            <a:off x="-195120" y="-195120"/>
            <a:ext cx="9540720" cy="7254720"/>
            <a:chOff x="-195120" y="-195120"/>
            <a:chExt cx="9540720" cy="7254720"/>
          </a:xfrm>
        </p:grpSpPr>
        <p:pic>
          <p:nvPicPr>
            <p:cNvPr id="2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-195120" y="-195120"/>
              <a:ext cx="9540720" cy="72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71280" y="71280"/>
              <a:ext cx="9001440" cy="67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A87A-A447-4566-A107-BA731001FAE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7" descr="0_6129d_c2d0151_XL.jpeg"/>
          <p:cNvPicPr/>
          <p:nvPr/>
        </p:nvPicPr>
        <p:blipFill>
          <a:blip r:embed="rId3"/>
          <a:stretch/>
        </p:blipFill>
        <p:spPr>
          <a:xfrm>
            <a:off x="7143840" y="5475240"/>
            <a:ext cx="1857240" cy="1181160"/>
          </a:xfrm>
          <a:prstGeom prst="rect">
            <a:avLst/>
          </a:prstGeom>
          <a:ln w="0">
            <a:noFill/>
          </a:ln>
        </p:spPr>
      </p:pic>
      <p:grpSp>
        <p:nvGrpSpPr>
          <p:cNvPr id="46" name="Прямоугольник 6"/>
          <p:cNvGrpSpPr/>
          <p:nvPr/>
        </p:nvGrpSpPr>
        <p:grpSpPr>
          <a:xfrm>
            <a:off x="-195120" y="-195120"/>
            <a:ext cx="9540720" cy="7254720"/>
            <a:chOff x="-195120" y="-195120"/>
            <a:chExt cx="9540720" cy="7254720"/>
          </a:xfrm>
        </p:grpSpPr>
        <p:pic>
          <p:nvPicPr>
            <p:cNvPr id="47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-195120" y="-195120"/>
              <a:ext cx="9540720" cy="72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71280" y="71280"/>
              <a:ext cx="9001440" cy="67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" name="Рисунок 8" descr="color1.jpg"/>
          <p:cNvPicPr/>
          <p:nvPr/>
        </p:nvPicPr>
        <p:blipFill>
          <a:blip r:embed="rId5"/>
          <a:stretch/>
        </p:blipFill>
        <p:spPr>
          <a:xfrm>
            <a:off x="142920" y="71280"/>
            <a:ext cx="8786880" cy="20005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8E82-51EB-4D37-8502-DE46AE4309A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0920" y="2276640"/>
            <a:ext cx="7345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ad Script"/>
                <a:ea typeface="Amiri Quran"/>
              </a:rPr>
              <a:t>Развитие творческого потенциала дошкольников через нетрадиционные техники рисования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ad Script"/>
                <a:ea typeface="Amiri Quran"/>
              </a:rPr>
              <a:t>    </a:t>
            </a:r>
            <a:r>
              <a:rPr b="1" lang="ru-RU" sz="3200" spc="-1" strike="noStrike">
                <a:solidFill>
                  <a:srgbClr val="002060"/>
                </a:solidFill>
                <a:latin typeface="Bad Script"/>
                <a:ea typeface="Amiri Quran"/>
              </a:rPr>
              <a:t>МБДОУЦРР д/с 17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ad Script"/>
                <a:ea typeface="Amiri Quran"/>
              </a:rPr>
              <a:t>Солдатова Н.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ad Script"/>
                <a:ea typeface="Amiri Quran"/>
              </a:rPr>
              <a:t>Степанова Н.А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Bad Script"/>
              </a:rPr>
              <a:t>Рисование по мокро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ff"/>
                </a:solidFill>
                <a:uFillTx/>
                <a:latin typeface="Calibri"/>
              </a:rPr>
              <a:t>Возраст:</a:t>
            </a:r>
            <a:r>
              <a:rPr b="1" i="1" lang="ru-RU" sz="1500" spc="-1" strike="noStrike">
                <a:solidFill>
                  <a:srgbClr val="0000ff"/>
                </a:solidFill>
                <a:latin typeface="Calibri"/>
              </a:rPr>
              <a:t> от пяти лет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ff"/>
                </a:solidFill>
                <a:uFillTx/>
                <a:latin typeface="Calibri"/>
              </a:rPr>
              <a:t>Средства выразительности:</a:t>
            </a:r>
            <a:r>
              <a:rPr b="1" lang="ru-RU" sz="15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500" spc="-1" strike="noStrike">
                <a:solidFill>
                  <a:srgbClr val="0000ff"/>
                </a:solidFill>
                <a:latin typeface="Calibri"/>
              </a:rPr>
              <a:t>точка, фактура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ff"/>
                </a:solidFill>
                <a:uFillTx/>
                <a:latin typeface="Calibri"/>
              </a:rPr>
              <a:t>Материалы:</a:t>
            </a:r>
            <a:r>
              <a:rPr b="1" lang="ru-RU" sz="15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500" spc="-1" strike="noStrike">
                <a:solidFill>
                  <a:srgbClr val="0000ff"/>
                </a:solidFill>
                <a:latin typeface="Calibri"/>
              </a:rPr>
              <a:t>бумага, гуашь, жесткая кисть, кусочек плотного картона либо пластика (5x5 см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ff"/>
                </a:solidFill>
                <a:uFillTx/>
                <a:latin typeface="Calibri"/>
              </a:rPr>
              <a:t>Способ получения изображения:</a:t>
            </a:r>
            <a:r>
              <a:rPr b="0" lang="ru-RU" sz="15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Calibri"/>
              </a:rPr>
              <a:t>1. рисование на определенную тему: пейзаж, прогулка, животные, цветы и пр., — когда рисунок создается на мокром листе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Calibri"/>
              </a:rPr>
              <a:t>2. рисование фона для будущего рисунка, когда краски растекаются, соединяясь и переливаясь между собой, создают узор, который и определяет тематику дальнейшего рисования «по-сухому»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Объект 4" descr=""/>
          <p:cNvPicPr/>
          <p:nvPr/>
        </p:nvPicPr>
        <p:blipFill>
          <a:blip r:embed="rId1"/>
          <a:stretch/>
        </p:blipFill>
        <p:spPr>
          <a:xfrm>
            <a:off x="223920" y="1990800"/>
            <a:ext cx="4525920" cy="3543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7000"/>
                            </p:stCondLst>
                            <p:childTnLst>
                              <p:par>
                                <p:cTn id="2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Bad Script"/>
              </a:rPr>
              <a:t>Тампонирование ватными палочк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284720" y="1600200"/>
            <a:ext cx="4535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ff"/>
                </a:solidFill>
                <a:uFillTx/>
                <a:latin typeface="Calibri"/>
              </a:rPr>
              <a:t>Возраст</a:t>
            </a: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: от 2 ле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ff"/>
                </a:solidFill>
                <a:uFillTx/>
                <a:latin typeface="Calibri"/>
              </a:rPr>
              <a:t>Средства выразительности:</a:t>
            </a: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 пятно, фактура, цве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ff"/>
                </a:solidFill>
                <a:uFillTx/>
                <a:latin typeface="Calibri"/>
              </a:rPr>
              <a:t>Материалы:</a:t>
            </a: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 блюдце либо пластиковая коробочка, в которую вложена штемпельная подушка из тонкого поролона, пропитанного гуашью, плотная бумага любого цвета и размера, смятая бумаг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ff"/>
                </a:solidFill>
                <a:uFillTx/>
                <a:latin typeface="Calibri"/>
              </a:rPr>
              <a:t>Способ получения изображения:</a:t>
            </a: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 ребенок ватными палочками (методом тычка) наносит краску на бумагу</a:t>
            </a:r>
            <a:r>
              <a:rPr b="1" lang="ru-RU" sz="2200" spc="-1" strike="noStrike">
                <a:solidFill>
                  <a:srgbClr val="0000ff"/>
                </a:solidFill>
                <a:latin typeface="Comic Sans MS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Объект 4" descr="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ad Script"/>
              </a:rPr>
              <a:t>Граттаж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Bad Script"/>
              </a:rPr>
              <a:t>(грунтованный лист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14000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ff"/>
                </a:solidFill>
                <a:uFillTx/>
                <a:latin typeface="Calibri"/>
              </a:rPr>
              <a:t>Возраст:</a:t>
            </a:r>
            <a:r>
              <a:rPr b="1" lang="ru-RU" sz="1500" spc="-1" strike="noStrike">
                <a:solidFill>
                  <a:srgbClr val="0000ff"/>
                </a:solidFill>
                <a:latin typeface="Calibri"/>
              </a:rPr>
              <a:t> от 5 лет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ff"/>
                </a:solidFill>
                <a:uFillTx/>
                <a:latin typeface="Calibri"/>
              </a:rPr>
              <a:t>Средства выразительности: </a:t>
            </a:r>
            <a:r>
              <a:rPr b="1" lang="ru-RU" sz="1500" spc="-1" strike="noStrike">
                <a:solidFill>
                  <a:srgbClr val="0000ff"/>
                </a:solidFill>
                <a:latin typeface="Calibri"/>
              </a:rPr>
              <a:t>линия, штрих, контраст.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ff"/>
                </a:solidFill>
                <a:uFillTx/>
                <a:latin typeface="Calibri"/>
              </a:rPr>
              <a:t>Материалы: </a:t>
            </a:r>
            <a:r>
              <a:rPr b="1" lang="ru-RU" sz="1500" spc="-1" strike="noStrike">
                <a:solidFill>
                  <a:srgbClr val="0000ff"/>
                </a:solidFill>
                <a:latin typeface="Calibri"/>
              </a:rPr>
              <a:t>полукартон, либо плотная бумага белого цвета, свеча, широкая кисть, чёрная тушь, жидкое мыло (примерно одна капля на столовую ложку туши) или зубной порошок, мисочки для туши, палочка с заточенными концами.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ff"/>
                </a:solidFill>
                <a:uFillTx/>
                <a:latin typeface="Calibri"/>
              </a:rPr>
              <a:t>Способ получения изображения: </a:t>
            </a:r>
            <a:r>
              <a:rPr b="1" lang="ru-RU" sz="1500" spc="-1" strike="noStrike">
                <a:solidFill>
                  <a:srgbClr val="0000ff"/>
                </a:solidFill>
                <a:latin typeface="Calibri"/>
              </a:rPr>
              <a:t>ребёнок натирает свечой лист так, чтобы он весь был покрыт слоем воска. Затем на него наносится тушь с жидким мылом, либо зубной порошок, в этом случае он заливается тушью без добавок. После высыхания палочкой процарапывается рисунок</a:t>
            </a:r>
            <a:r>
              <a:rPr b="1" i="1" lang="ru-RU" sz="15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Объект 4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3941640" cy="2955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Bad Script"/>
              </a:rPr>
              <a:t>Рисование крупой (солью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920" y="1196640"/>
            <a:ext cx="86421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Возраст: от шести ле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Средства выразительности: объе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Материалы: соль, чистый песок или манная крупа, клей ПВА, картон, кисти для клея, простой карандаш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Способ получения: Ребенок готовит картон нужного цвета, простым карандашом наносит необходимый рисунок, потом каждый предмет по очереди намазывает клеем и посыпает 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аккуратно солью(крупой), лишнее ссыпает на подно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Рисунок 3" descr=""/>
          <p:cNvPicPr/>
          <p:nvPr/>
        </p:nvPicPr>
        <p:blipFill>
          <a:blip r:embed="rId1"/>
          <a:stretch/>
        </p:blipFill>
        <p:spPr>
          <a:xfrm>
            <a:off x="2627280" y="3429000"/>
            <a:ext cx="4079880" cy="3059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4000"/>
                            </p:stCondLst>
                            <p:childTnLst>
                              <p:par>
                                <p:cTn id="3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0"/>
                            </p:stCondLst>
                            <p:childTnLst>
                              <p:par>
                                <p:cTn id="3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Bad Script"/>
              </a:rPr>
              <a:t>Восковые мелки (свеча) + аквар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11640" y="1599840"/>
            <a:ext cx="4681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ff"/>
                </a:solidFill>
                <a:uFillTx/>
                <a:latin typeface="Calibri"/>
              </a:rPr>
              <a:t>Возраст:</a:t>
            </a:r>
            <a:r>
              <a:rPr b="1" lang="ru-RU" sz="1700" spc="-1" strike="noStrike">
                <a:solidFill>
                  <a:srgbClr val="0000ff"/>
                </a:solidFill>
                <a:latin typeface="Calibri"/>
              </a:rPr>
              <a:t> от четырех лет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ff"/>
                </a:solidFill>
                <a:uFillTx/>
                <a:latin typeface="Calibri"/>
              </a:rPr>
              <a:t>Средства выразительности:</a:t>
            </a:r>
            <a:r>
              <a:rPr b="1" lang="ru-RU" sz="1700" spc="-1" strike="noStrike">
                <a:solidFill>
                  <a:srgbClr val="0000ff"/>
                </a:solidFill>
                <a:latin typeface="Calibri"/>
              </a:rPr>
              <a:t> цвет, линия, пятно, фактура. Материалы: восковые мелки, плотная белая бумага, акварель, кисти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ff"/>
                </a:solidFill>
                <a:uFillTx/>
                <a:latin typeface="Calibri"/>
              </a:rPr>
              <a:t>Способ получения изображения:</a:t>
            </a:r>
            <a:r>
              <a:rPr b="1" lang="ru-RU" sz="1700" spc="-1" strike="noStrike">
                <a:solidFill>
                  <a:srgbClr val="0000ff"/>
                </a:solidFill>
                <a:latin typeface="Calibri"/>
              </a:rPr>
              <a:t> ребенок рисует восковыми мелками на белой бумаге. Затем закрашивает лист акварелью в один или несколько цветов. Рисунок мелками остается незакрашенным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1700" spc="-1" strike="noStrike" u="sng">
                <a:solidFill>
                  <a:srgbClr val="0000ff"/>
                </a:solidFill>
                <a:uFillTx/>
                <a:latin typeface="Calibri"/>
              </a:rPr>
              <a:t>Материалы:</a:t>
            </a:r>
            <a:r>
              <a:rPr b="1" lang="ru-RU" sz="1700" spc="-1" strike="noStrike">
                <a:solidFill>
                  <a:srgbClr val="0000ff"/>
                </a:solidFill>
                <a:latin typeface="Calibri"/>
              </a:rPr>
              <a:t> свеча, плотная бумага, акварель, кисти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ff"/>
                </a:solidFill>
                <a:uFillTx/>
                <a:latin typeface="Calibri"/>
              </a:rPr>
              <a:t>Способ получения изображения</a:t>
            </a:r>
            <a:r>
              <a:rPr b="1" lang="ru-RU" sz="1700" spc="-1" strike="noStrike">
                <a:solidFill>
                  <a:srgbClr val="0000ff"/>
                </a:solidFill>
                <a:latin typeface="Calibri"/>
              </a:rPr>
              <a:t>: ребенок рисует свечой" на бумаге. Затем закрашивает лист акварелью в один или несколько цветов. Рисунок свечой остается белым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Объект 4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0"/>
                            </p:stCondLst>
                            <p:childTnLst>
                              <p:par>
                                <p:cTn id="4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6000"/>
                            </p:stCondLst>
                            <p:childTnLst>
                              <p:par>
                                <p:cTn id="4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Bad Script"/>
              </a:rPr>
              <a:t>Наш уголок декоративно-прикладного творче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Объект 6" descr=""/>
          <p:cNvPicPr/>
          <p:nvPr/>
        </p:nvPicPr>
        <p:blipFill>
          <a:blip r:embed="rId1"/>
          <a:stretch/>
        </p:blipFill>
        <p:spPr>
          <a:xfrm>
            <a:off x="3059280" y="1557360"/>
            <a:ext cx="37749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Segoe Script"/>
              </a:rPr>
              <a:t>     </a:t>
            </a:r>
            <a:r>
              <a:rPr b="1" lang="ru-RU" sz="3200" spc="-1" strike="noStrike">
                <a:solidFill>
                  <a:srgbClr val="7030a0"/>
                </a:solidFill>
                <a:latin typeface="Bad Script"/>
              </a:rPr>
              <a:t>Пусть дети рисуют, творят, фантазируют! 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Bad Script"/>
              </a:rPr>
              <a:t>     Не каждый из них станет   художником, но рисование доставит им удовольствие, они познают радость творчества, научаться видеть прекрасное  в обычном.    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Bad Script"/>
              </a:rPr>
              <a:t>     Пусть они растут с душой художник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2" descr="C:\Users\User\Downloads\изо\Новая папка (4)\1363858098_schastlivye-oboi-17.jpg"/>
          <p:cNvPicPr/>
          <p:nvPr/>
        </p:nvPicPr>
        <p:blipFill>
          <a:blip r:embed="rId1"/>
          <a:stretch/>
        </p:blipFill>
        <p:spPr>
          <a:xfrm>
            <a:off x="1328760" y="3718080"/>
            <a:ext cx="6486480" cy="2738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5" dur="3000" fill="hold"/>
                                        <p:tgtEl>
                                          <p:spTgt spid="184"/>
                                        </p:tgtEl>
                                      </p:cBhvr>
                                      <p:to x="135000" y="13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060640"/>
            <a:ext cx="85690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Bad Script"/>
              </a:rPr>
              <a:t>Спасиб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Bad Script"/>
              </a:rPr>
              <a:t>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ad Script"/>
              </a:rPr>
              <a:t>Цель: Развитие художественно творческих способностей дет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Объект 3" descr=""/>
          <p:cNvPicPr/>
          <p:nvPr/>
        </p:nvPicPr>
        <p:blipFill>
          <a:blip r:embed="rId1"/>
          <a:stretch/>
        </p:blipFill>
        <p:spPr>
          <a:xfrm>
            <a:off x="2411280" y="1484280"/>
            <a:ext cx="433080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Bad Script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ad Script"/>
              </a:rPr>
              <a:t>Сформировать у детей интерес к видам художественного творч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ad Script"/>
              </a:rPr>
              <a:t>Помочь детям овладеть приемами и техниками художественного творч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ad Script"/>
              </a:rPr>
              <a:t>Развивать познавательную активность, нестандартное мышление, воображение, креатив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ad Script"/>
              </a:rPr>
              <a:t>Воспитывать умение доводить начатое дело до конца, помогать своим товарищам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Овал 2"/>
          <p:cNvGrpSpPr/>
          <p:nvPr/>
        </p:nvGrpSpPr>
        <p:grpSpPr>
          <a:xfrm>
            <a:off x="3438360" y="3402000"/>
            <a:ext cx="2846520" cy="1687680"/>
            <a:chOff x="3438360" y="3402000"/>
            <a:chExt cx="2846520" cy="1687680"/>
          </a:xfrm>
        </p:grpSpPr>
        <p:pic>
          <p:nvPicPr>
            <p:cNvPr id="104" name="Овал 2" descr=""/>
            <p:cNvPicPr/>
            <p:nvPr/>
          </p:nvPicPr>
          <p:blipFill>
            <a:blip r:embed="rId1"/>
            <a:stretch/>
          </p:blipFill>
          <p:spPr>
            <a:xfrm>
              <a:off x="3438360" y="3402000"/>
              <a:ext cx="2846520" cy="16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3892680" y="3660840"/>
              <a:ext cx="193500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omic Sans MS"/>
                </a:rPr>
                <a:t>Способ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omic Sans MS"/>
                </a:rPr>
                <a:t>изображени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" name="Прямоугольник 1"/>
          <p:cNvSpPr/>
          <p:nvPr/>
        </p:nvSpPr>
        <p:spPr>
          <a:xfrm>
            <a:off x="250920" y="260280"/>
            <a:ext cx="8713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Bad Script"/>
              </a:rPr>
              <a:t>Нетрадиционные способы изображени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Bad Script"/>
              </a:rPr>
              <a:t>в рисовани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Овал 3"/>
          <p:cNvGrpSpPr/>
          <p:nvPr/>
        </p:nvGrpSpPr>
        <p:grpSpPr>
          <a:xfrm>
            <a:off x="414360" y="1238400"/>
            <a:ext cx="3346560" cy="1333440"/>
            <a:chOff x="414360" y="1238400"/>
            <a:chExt cx="3346560" cy="1333440"/>
          </a:xfrm>
        </p:grpSpPr>
        <p:pic>
          <p:nvPicPr>
            <p:cNvPr id="108" name="Овал 3" descr=""/>
            <p:cNvPicPr/>
            <p:nvPr/>
          </p:nvPicPr>
          <p:blipFill>
            <a:blip r:embed="rId2"/>
            <a:stretch/>
          </p:blipFill>
          <p:spPr>
            <a:xfrm>
              <a:off x="414360" y="1238400"/>
              <a:ext cx="3346560" cy="13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941400" y="1447920"/>
              <a:ext cx="229248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mic Sans MS"/>
                </a:rPr>
                <a:t>Рисунок своими руками (пальцами, ладошкой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Овал 4"/>
          <p:cNvGrpSpPr/>
          <p:nvPr/>
        </p:nvGrpSpPr>
        <p:grpSpPr>
          <a:xfrm>
            <a:off x="341280" y="2535120"/>
            <a:ext cx="3419640" cy="1403640"/>
            <a:chOff x="341280" y="2535120"/>
            <a:chExt cx="3419640" cy="1403640"/>
          </a:xfrm>
        </p:grpSpPr>
        <p:pic>
          <p:nvPicPr>
            <p:cNvPr id="111" name="Овал 4" descr=""/>
            <p:cNvPicPr/>
            <p:nvPr/>
          </p:nvPicPr>
          <p:blipFill>
            <a:blip r:embed="rId3"/>
            <a:stretch/>
          </p:blipFill>
          <p:spPr>
            <a:xfrm>
              <a:off x="341280" y="2535120"/>
              <a:ext cx="3419640" cy="14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880920" y="2754360"/>
              <a:ext cx="2341800" cy="9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mic Sans MS"/>
                </a:rPr>
                <a:t>Рисование штампом(тычковое рисование, оттиск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Овал 5"/>
          <p:cNvGrpSpPr/>
          <p:nvPr/>
        </p:nvGrpSpPr>
        <p:grpSpPr>
          <a:xfrm>
            <a:off x="195120" y="3828960"/>
            <a:ext cx="2127240" cy="1193760"/>
            <a:chOff x="195120" y="3828960"/>
            <a:chExt cx="2127240" cy="1193760"/>
          </a:xfrm>
        </p:grpSpPr>
        <p:pic>
          <p:nvPicPr>
            <p:cNvPr id="114" name="Овал 5" descr=""/>
            <p:cNvPicPr/>
            <p:nvPr/>
          </p:nvPicPr>
          <p:blipFill>
            <a:blip r:embed="rId4"/>
            <a:stretch/>
          </p:blipFill>
          <p:spPr>
            <a:xfrm>
              <a:off x="195120" y="3828960"/>
              <a:ext cx="212724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546120" y="4019400"/>
              <a:ext cx="142704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mic Sans MS"/>
                </a:rPr>
                <a:t>Рисование свечо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Овал 6"/>
          <p:cNvGrpSpPr/>
          <p:nvPr/>
        </p:nvGrpSpPr>
        <p:grpSpPr>
          <a:xfrm>
            <a:off x="195120" y="5052960"/>
            <a:ext cx="2200320" cy="1262160"/>
            <a:chOff x="195120" y="5052960"/>
            <a:chExt cx="2200320" cy="1262160"/>
          </a:xfrm>
        </p:grpSpPr>
        <p:pic>
          <p:nvPicPr>
            <p:cNvPr id="117" name="Овал 6" descr=""/>
            <p:cNvPicPr/>
            <p:nvPr/>
          </p:nvPicPr>
          <p:blipFill>
            <a:blip r:embed="rId5"/>
            <a:stretch/>
          </p:blipFill>
          <p:spPr>
            <a:xfrm>
              <a:off x="195120" y="5052960"/>
              <a:ext cx="220032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557280" y="5254560"/>
              <a:ext cx="14763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mic Sans MS"/>
                </a:rPr>
                <a:t>Раздувание краск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Овал 7"/>
          <p:cNvGrpSpPr/>
          <p:nvPr/>
        </p:nvGrpSpPr>
        <p:grpSpPr>
          <a:xfrm>
            <a:off x="4230720" y="5340240"/>
            <a:ext cx="2987640" cy="1335240"/>
            <a:chOff x="4230720" y="5340240"/>
            <a:chExt cx="2987640" cy="1335240"/>
          </a:xfrm>
        </p:grpSpPr>
        <p:pic>
          <p:nvPicPr>
            <p:cNvPr id="120" name="Овал 7" descr=""/>
            <p:cNvPicPr/>
            <p:nvPr/>
          </p:nvPicPr>
          <p:blipFill>
            <a:blip r:embed="rId6"/>
            <a:stretch/>
          </p:blipFill>
          <p:spPr>
            <a:xfrm>
              <a:off x="4230720" y="5340240"/>
              <a:ext cx="298764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705200" y="5553000"/>
              <a:ext cx="203688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mic Sans MS"/>
                </a:rPr>
                <a:t>Рисование с помощью изолент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Овал 8"/>
          <p:cNvGrpSpPr/>
          <p:nvPr/>
        </p:nvGrpSpPr>
        <p:grpSpPr>
          <a:xfrm>
            <a:off x="3724200" y="1884240"/>
            <a:ext cx="2268720" cy="1047960"/>
            <a:chOff x="3724200" y="1884240"/>
            <a:chExt cx="2268720" cy="1047960"/>
          </a:xfrm>
        </p:grpSpPr>
        <p:pic>
          <p:nvPicPr>
            <p:cNvPr id="123" name="Овал 8" descr=""/>
            <p:cNvPicPr/>
            <p:nvPr/>
          </p:nvPicPr>
          <p:blipFill>
            <a:blip r:embed="rId7"/>
            <a:stretch/>
          </p:blipFill>
          <p:spPr>
            <a:xfrm>
              <a:off x="3724200" y="1884240"/>
              <a:ext cx="226872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095720" y="2054160"/>
              <a:ext cx="152892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mic Sans MS"/>
                </a:rPr>
                <a:t>Монотопи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Овал 9"/>
          <p:cNvGrpSpPr/>
          <p:nvPr/>
        </p:nvGrpSpPr>
        <p:grpSpPr>
          <a:xfrm>
            <a:off x="6388200" y="4406760"/>
            <a:ext cx="2341440" cy="1043280"/>
            <a:chOff x="6388200" y="4406760"/>
            <a:chExt cx="2341440" cy="1043280"/>
          </a:xfrm>
        </p:grpSpPr>
        <p:pic>
          <p:nvPicPr>
            <p:cNvPr id="126" name="Овал 9" descr=""/>
            <p:cNvPicPr/>
            <p:nvPr/>
          </p:nvPicPr>
          <p:blipFill>
            <a:blip r:embed="rId8"/>
            <a:stretch/>
          </p:blipFill>
          <p:spPr>
            <a:xfrm>
              <a:off x="6388200" y="4406760"/>
              <a:ext cx="2341440" cy="10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6770520" y="4573440"/>
              <a:ext cx="157968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mic Sans MS"/>
                </a:rPr>
                <a:t>И многое друго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Овал 10"/>
          <p:cNvGrpSpPr/>
          <p:nvPr/>
        </p:nvGrpSpPr>
        <p:grpSpPr>
          <a:xfrm>
            <a:off x="5383080" y="950760"/>
            <a:ext cx="3565800" cy="1043280"/>
            <a:chOff x="5383080" y="950760"/>
            <a:chExt cx="3565800" cy="1043280"/>
          </a:xfrm>
        </p:grpSpPr>
        <p:pic>
          <p:nvPicPr>
            <p:cNvPr id="129" name="Овал 10" descr=""/>
            <p:cNvPicPr/>
            <p:nvPr/>
          </p:nvPicPr>
          <p:blipFill>
            <a:blip r:embed="rId9"/>
            <a:stretch/>
          </p:blipFill>
          <p:spPr>
            <a:xfrm>
              <a:off x="5383080" y="950760"/>
              <a:ext cx="3565800" cy="10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942160" y="1117440"/>
              <a:ext cx="244476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mic Sans MS"/>
                </a:rPr>
                <a:t>Пластилинографи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Овал 11"/>
          <p:cNvGrpSpPr/>
          <p:nvPr/>
        </p:nvGrpSpPr>
        <p:grpSpPr>
          <a:xfrm>
            <a:off x="2359080" y="5273640"/>
            <a:ext cx="1834920" cy="1041480"/>
            <a:chOff x="2359080" y="5273640"/>
            <a:chExt cx="1834920" cy="1041480"/>
          </a:xfrm>
        </p:grpSpPr>
        <p:pic>
          <p:nvPicPr>
            <p:cNvPr id="132" name="Овал 11" descr=""/>
            <p:cNvPicPr/>
            <p:nvPr/>
          </p:nvPicPr>
          <p:blipFill>
            <a:blip r:embed="rId10"/>
            <a:stretch/>
          </p:blipFill>
          <p:spPr>
            <a:xfrm>
              <a:off x="2359080" y="5273640"/>
              <a:ext cx="183492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665440" y="5438880"/>
              <a:ext cx="122076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mic Sans MS"/>
                </a:rPr>
                <a:t>Граттаж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Овал 12"/>
          <p:cNvGrpSpPr/>
          <p:nvPr/>
        </p:nvGrpSpPr>
        <p:grpSpPr>
          <a:xfrm>
            <a:off x="6388200" y="3181320"/>
            <a:ext cx="2560680" cy="927000"/>
            <a:chOff x="6388200" y="3181320"/>
            <a:chExt cx="2560680" cy="927000"/>
          </a:xfrm>
        </p:grpSpPr>
        <p:pic>
          <p:nvPicPr>
            <p:cNvPr id="135" name="Овал 12" descr=""/>
            <p:cNvPicPr/>
            <p:nvPr/>
          </p:nvPicPr>
          <p:blipFill>
            <a:blip r:embed="rId11"/>
            <a:stretch/>
          </p:blipFill>
          <p:spPr>
            <a:xfrm>
              <a:off x="6388200" y="3181320"/>
              <a:ext cx="2560680" cy="9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802560" y="3328920"/>
              <a:ext cx="17319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mic Sans MS"/>
                </a:rPr>
                <a:t>Рисование расчёско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Овал 13"/>
          <p:cNvGrpSpPr/>
          <p:nvPr/>
        </p:nvGrpSpPr>
        <p:grpSpPr>
          <a:xfrm>
            <a:off x="6315120" y="1957320"/>
            <a:ext cx="2633760" cy="974880"/>
            <a:chOff x="6315120" y="1957320"/>
            <a:chExt cx="2633760" cy="974880"/>
          </a:xfrm>
        </p:grpSpPr>
        <p:pic>
          <p:nvPicPr>
            <p:cNvPr id="138" name="Овал 13" descr=""/>
            <p:cNvPicPr/>
            <p:nvPr/>
          </p:nvPicPr>
          <p:blipFill>
            <a:blip r:embed="rId12"/>
            <a:stretch/>
          </p:blipFill>
          <p:spPr>
            <a:xfrm>
              <a:off x="6315120" y="1957320"/>
              <a:ext cx="263376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6740640" y="2116080"/>
              <a:ext cx="1782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mic Sans MS"/>
                </a:rPr>
                <a:t>Кляксографи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40" name="Прямая со стрелкой 17"/>
          <p:cNvCxnSpPr/>
          <p:nvPr/>
        </p:nvCxnSpPr>
        <p:spPr>
          <a:xfrm flipH="1" flipV="1">
            <a:off x="3347280" y="2348640"/>
            <a:ext cx="864360" cy="10803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41" name="Прямая со стрелкой 19"/>
          <p:cNvCxnSpPr/>
          <p:nvPr/>
        </p:nvCxnSpPr>
        <p:spPr>
          <a:xfrm flipV="1">
            <a:off x="4858920" y="2851920"/>
            <a:ext cx="1080" cy="50580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42" name="Прямая со стрелкой 23"/>
          <p:cNvCxnSpPr/>
          <p:nvPr/>
        </p:nvCxnSpPr>
        <p:spPr>
          <a:xfrm flipV="1">
            <a:off x="5651280" y="1915920"/>
            <a:ext cx="649800" cy="15847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43" name="Прямая со стрелкой 25"/>
          <p:cNvCxnSpPr/>
          <p:nvPr/>
        </p:nvCxnSpPr>
        <p:spPr>
          <a:xfrm flipV="1">
            <a:off x="5940000" y="2781000"/>
            <a:ext cx="793080" cy="7927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44" name="Прямая со стрелкой 27"/>
          <p:cNvCxnSpPr/>
          <p:nvPr/>
        </p:nvCxnSpPr>
        <p:spPr>
          <a:xfrm flipV="1">
            <a:off x="6084360" y="3715560"/>
            <a:ext cx="359640" cy="7380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45" name="Прямая со стрелкой 29"/>
          <p:cNvCxnSpPr/>
          <p:nvPr/>
        </p:nvCxnSpPr>
        <p:spPr>
          <a:xfrm>
            <a:off x="6084720" y="4581000"/>
            <a:ext cx="432720" cy="723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46" name="Прямая со стрелкой 31"/>
          <p:cNvCxnSpPr/>
          <p:nvPr/>
        </p:nvCxnSpPr>
        <p:spPr>
          <a:xfrm>
            <a:off x="5363640" y="5013360"/>
            <a:ext cx="72360" cy="28800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47" name="Прямая со стрелкой 33"/>
          <p:cNvCxnSpPr/>
          <p:nvPr/>
        </p:nvCxnSpPr>
        <p:spPr>
          <a:xfrm flipH="1">
            <a:off x="3634560" y="4868640"/>
            <a:ext cx="361080" cy="4323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48" name="Прямая со стрелкой 35"/>
          <p:cNvCxnSpPr/>
          <p:nvPr/>
        </p:nvCxnSpPr>
        <p:spPr>
          <a:xfrm flipH="1">
            <a:off x="2124000" y="4581360"/>
            <a:ext cx="1440360" cy="6483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49" name="Прямая со стрелкой 37"/>
          <p:cNvCxnSpPr/>
          <p:nvPr/>
        </p:nvCxnSpPr>
        <p:spPr>
          <a:xfrm flipH="1">
            <a:off x="2268000" y="4220640"/>
            <a:ext cx="1152000" cy="723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50" name="Прямая со стрелкой 39"/>
          <p:cNvCxnSpPr/>
          <p:nvPr/>
        </p:nvCxnSpPr>
        <p:spPr>
          <a:xfrm flipH="1" flipV="1">
            <a:off x="3492000" y="3499920"/>
            <a:ext cx="216720" cy="2167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500"/>
                            </p:stCondLst>
                            <p:childTnLst>
                              <p:par>
                                <p:cTn id="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9500"/>
                            </p:stCondLst>
                            <p:childTnLst>
                              <p:par>
                                <p:cTn id="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35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500"/>
                            </p:stCondLst>
                            <p:childTnLst>
                              <p:par>
                                <p:cTn id="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65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850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950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1500"/>
                            </p:stCondLst>
                            <p:childTnLst>
                              <p:par>
                                <p:cTn id="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25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450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50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7500"/>
                            </p:stCondLst>
                            <p:childTnLst>
                              <p:par>
                                <p:cTn id="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85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500"/>
                            </p:stCondLst>
                            <p:childTnLst>
                              <p:par>
                                <p:cTn id="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150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3500"/>
                            </p:stCondLst>
                            <p:childTnLst>
                              <p:par>
                                <p:cTn id="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45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ad Script"/>
              </a:rPr>
              <a:t>Рисунок своими руками (пальцами, ладошкой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284720" y="1412640"/>
            <a:ext cx="4680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2060"/>
                </a:solidFill>
                <a:uFillTx/>
                <a:latin typeface="Calibri"/>
              </a:rPr>
              <a:t>Возраст: </a:t>
            </a:r>
            <a:r>
              <a:rPr b="1" lang="ru-RU" sz="1900" spc="-1" strike="noStrike">
                <a:solidFill>
                  <a:srgbClr val="002060"/>
                </a:solidFill>
                <a:latin typeface="Calibri"/>
              </a:rPr>
              <a:t>от двух лет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2060"/>
                </a:solidFill>
                <a:uFillTx/>
                <a:latin typeface="Calibri"/>
              </a:rPr>
              <a:t>Средства выразительности: </a:t>
            </a:r>
            <a:r>
              <a:rPr b="1" lang="ru-RU" sz="1900" spc="-1" strike="noStrike">
                <a:solidFill>
                  <a:srgbClr val="002060"/>
                </a:solidFill>
                <a:latin typeface="Calibri"/>
              </a:rPr>
              <a:t>пятно, цвет, фантастический силуэт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2060"/>
                </a:solidFill>
                <a:uFillTx/>
                <a:latin typeface="Calibri"/>
              </a:rPr>
              <a:t>Материалы: </a:t>
            </a:r>
            <a:r>
              <a:rPr b="1" lang="ru-RU" sz="1900" spc="-1" strike="noStrike">
                <a:solidFill>
                  <a:srgbClr val="002060"/>
                </a:solidFill>
                <a:latin typeface="Calibri"/>
              </a:rPr>
              <a:t>широкие блюдечки с гуашью, кисть, плотная бумага любого цвета, листы большого формата, салфетк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2060"/>
                </a:solidFill>
                <a:uFillTx/>
                <a:latin typeface="Calibri"/>
              </a:rPr>
              <a:t>Способ получения изображения</a:t>
            </a:r>
            <a:r>
              <a:rPr b="1" lang="ru-RU" sz="1900" spc="-1" strike="noStrike">
                <a:solidFill>
                  <a:srgbClr val="002060"/>
                </a:solidFill>
                <a:latin typeface="Calibri"/>
              </a:rPr>
              <a:t>: ребенок опускает в гуашь ладошку (палец)или окрашивает с помощью кисточки (с пяти лет) и делает отпечаток на бумаге. Рисуют и правой и левой руками, окрашенными разными цветами. После работы руки вытираются салфеткой, затем гуашь легко смывается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Объект 4" descr="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Bad Script"/>
              </a:rPr>
              <a:t>Рисование пальчик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Объект 13" descr=""/>
          <p:cNvPicPr/>
          <p:nvPr/>
        </p:nvPicPr>
        <p:blipFill>
          <a:blip r:embed="rId1"/>
          <a:stretch/>
        </p:blipFill>
        <p:spPr>
          <a:xfrm>
            <a:off x="4932360" y="1628640"/>
            <a:ext cx="3341520" cy="4464360"/>
          </a:xfrm>
          <a:prstGeom prst="rect">
            <a:avLst/>
          </a:prstGeom>
          <a:ln w="0">
            <a:noFill/>
          </a:ln>
        </p:spPr>
      </p:pic>
      <p:pic>
        <p:nvPicPr>
          <p:cNvPr id="156" name="Объект 12" descr="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Bad Script"/>
              </a:rPr>
              <a:t>Оттиск поролоно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Возраст: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Calibri"/>
              </a:rPr>
              <a:t> от четырех л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Средства выразительности: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Calibri"/>
              </a:rPr>
              <a:t> пятно, фактура, цв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Материалы: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Calibri"/>
              </a:rPr>
              <a:t> мисочка или пластиковая коробочка, в которую вложена штемпельная подушка из тонкого поролона, пропитанного гуашью, плотная бумага любого цвета и размера, кусочки пеноплас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Способ   получения   изображения: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Calibri"/>
              </a:rPr>
              <a:t>   ребенок  прижимает  пенопласт , поролон  к штемпельной подушке с краской и наносит оттиск на бумагу. Чтобы получить другой цвет, меняются и мисочка и пороло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Объект 4" descr="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Bad Script"/>
              </a:rPr>
              <a:t>Кляксография с трубочк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</a:rPr>
              <a:t>Возраст: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от пяти л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</a:rPr>
              <a:t>Средства выразительности: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пят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</a:rPr>
              <a:t>Материалы: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бумага, тушь либо жидко разведенная гуашь в мисочке, пластиковая ложеч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</a:rPr>
              <a:t>Способ получения изображения: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ребенок зачерпывает гуашь пластиковой ложкой и выливает на бумагу. Затем на это пятно дует из трубочки так, что бы её конец не касался ни пятна, ни бумаги. При необходимости процедура повторяется. Недостающие детали дорисовывают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Объект 4" descr=""/>
          <p:cNvPicPr/>
          <p:nvPr/>
        </p:nvPicPr>
        <p:blipFill>
          <a:blip r:embed="rId1"/>
          <a:stretch/>
        </p:blipFill>
        <p:spPr>
          <a:xfrm>
            <a:off x="457200" y="2492280"/>
            <a:ext cx="3846600" cy="2884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Bad Script"/>
              </a:rPr>
              <a:t>Пластилинограф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356000" y="1599840"/>
            <a:ext cx="4330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Calibri"/>
              </a:rPr>
              <a:t>Возраст:</a:t>
            </a:r>
            <a:r>
              <a:rPr b="1" i="1" lang="ru-RU" sz="1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любо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Calibri"/>
              </a:rPr>
              <a:t>Средства выразительности: </a:t>
            </a: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объем, цвет, фактур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Calibri"/>
              </a:rPr>
              <a:t>Материалы: </a:t>
            </a: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картон с контурным рисунком, стекло; набор пластилина; салфетка для рук; стеки; бросовый и природный материалы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Calibri"/>
              </a:rPr>
              <a:t>Способ получения изображ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1.    Нанесение пластилина на картон. Можно сделать поверхность немного шероховатой. Для этого используются различные способы нанесения на поверхность пластилинового изображения рельефных точек, штрихов, полосок, извилин или каких-нибудь фигурных линий.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Работать можно не только пальцами рук, но и стек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Объект 4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18:01:09Z</dcterms:created>
  <dc:creator>Admin</dc:creator>
  <dc:description/>
  <dc:language>en-US</dc:language>
  <cp:lastModifiedBy>user</cp:lastModifiedBy>
  <dcterms:modified xsi:type="dcterms:W3CDTF">2021-05-25T16:43:56Z</dcterms:modified>
  <cp:revision>25</cp:revision>
  <dc:subject/>
  <dc:title>Слайд 1</dc:title>
</cp:coreProperties>
</file>