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5.jpeg" ContentType="image/jpeg"/>
  <Override PartName="/ppt/media/image1.jpeg" ContentType="image/jpeg"/>
  <Override PartName="/ppt/media/image30.jpeg" ContentType="image/jpeg"/>
  <Override PartName="/ppt/media/image31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16360" cy="320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684360" y="404640"/>
            <a:ext cx="7640640" cy="17146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9 мая - День Победы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01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01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701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8240" y="5733720"/>
            <a:ext cx="664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Презентация для детей старшего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Автор – Курико Т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воспитатель МАДОУ ЦРР детский сад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640" y="86148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Воевали и в летний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27640" y="3716280"/>
            <a:ext cx="4535280" cy="28274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283280" cy="32176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3995640" cy="30016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64760" y="5029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Воевали и в зимнюю сту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53480" cy="51055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00000" y="45720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Наравне с мужчинами на войне воевали и жен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646800" cy="46083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787640" cy="36036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187560"/>
            <a:ext cx="287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А в далеком тылу женщины и дети работали на  военных заводах, делали самолеты, оружие, снаряды и бомб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5040360" cy="37926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284720" y="189000"/>
            <a:ext cx="4465440" cy="33480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6012000" y="3933720"/>
            <a:ext cx="2209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копали окопы, стараясь помочь мужьям, сыновьям, отцам, фро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5435640" cy="35971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130560" cy="45370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564000" y="-206640"/>
            <a:ext cx="50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  <a:ea typeface="DejaVu Sans"/>
              </a:rPr>
              <a:t>         </a:t>
            </a: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Тяжелее всего приходилось во время войны детям. Детские сады и школы не работали, многие дети остались совсем одни, потеряли  под бомбежками родителей, попали в детские дома.  Некоторые мальчишки становились «сынами полков», их , голодных и несчастных , брали к себе солдаты</a:t>
            </a:r>
            <a:r>
              <a:rPr b="0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и заботились о них до конца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376720" cy="1809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69480"/>
            <a:ext cx="201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За подвиги на фронте и в тылу героев награждали медалями и орд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0920" y="5021280"/>
            <a:ext cx="8713800" cy="1560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771640" y="260280"/>
            <a:ext cx="6096240" cy="4048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71640" y="-76680"/>
            <a:ext cx="74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Долгих  4 года длилась Великая Отечественн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За это время погибло очень много  солдат и мирных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972480" cy="550260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126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И вот наступил этот долгожданный день – 9 мая 1945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В этот день закончилась война. Наши войска разгромили фашистов не только на территории нашей Родины, но и  освободили жителей други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86600" cy="5249880"/>
          </a:xfrm>
          <a:prstGeom prst="rect">
            <a:avLst/>
          </a:prstGeom>
          <a:ln w="63360">
            <a:solidFill>
              <a:srgbClr val="e5ffff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519912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427640" y="260280"/>
            <a:ext cx="4572000" cy="34336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468360" y="447840"/>
            <a:ext cx="36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Победе радовалась вся страна, но эта радость была со слезами на глазах, так как в каждой семье, в каждом доме кто-то погиб на этой страшной вой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44040" y="236520"/>
            <a:ext cx="75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Никто и  никогда не забудет подвиг советских солд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в Великую Отечественную войн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035000"/>
            <a:ext cx="8353440" cy="550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545080" cy="39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50920" y="-770760"/>
            <a:ext cx="2808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9 мая  все жители нашей огромной страны отмечают День Победы. В этот день во всех городах проходят военные парады, возлагаются цветы к Могиле Неизвестного Солдата, дается праздничный сал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941720"/>
            <a:ext cx="74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Но почему ветераны, участники той великой войны , такие грустные, почему слезы застилают им глаза? Что они вспоминают в этот день? Что это была за война, какой ценой досталась победа нашему народу?</a:t>
            </a: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762360" cy="5016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3876840" cy="5715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59280" y="3420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Каждый год люди несут цветы к памятникам защитников нашей Родины, к могиле Неизвестного Солдата.</a:t>
            </a:r>
            <a:r>
              <a:rPr b="0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58920" y="293760"/>
            <a:ext cx="6337440" cy="633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616360" cy="393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56360" y="390600"/>
            <a:ext cx="2592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    </a:t>
            </a: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Это было тогда, когда наша страна Россия называлась СССР, когда  ваши прабабушки и прадедушки были молодыми, здоровыми, полными сил. Они были счастливы, мечтали о будущем, думали, что все  в их жизни будет хорошо. Но их мечтам не пришлось осущест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52040" y="574200"/>
            <a:ext cx="102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О той великой освободительной войне и пойдёт наш 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667400" cy="344808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68360" y="699480"/>
            <a:ext cx="3456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DejaVu Sans"/>
              </a:rPr>
              <a:t>В мире появилась тёмная сила – фашизм, которая ненавидела людей другой национальности. Фашисты захотели людей всех стран сделать своими рабами и слу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422520" cy="253080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356000" y="4250520"/>
            <a:ext cx="4105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DejaVu Sans"/>
              </a:rPr>
              <a:t>Заскрежетали гусеницы танков, засвистели пули. Шаг за шагом фашисты захватывали одну страну за другой, разрушали  города, взрывали памятники, грабили музеи, убивали людей. И всё ближе и ближе подходили к границе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282276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27640" y="3267000"/>
            <a:ext cx="4465440" cy="335304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95280" y="45388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Начала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Вели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Отеч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войн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0280" y="907920"/>
            <a:ext cx="33940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DejaVu Sans"/>
              </a:rPr>
              <a:t>22 июня 1941 года без объявления войны фашисты напали на нашу Родину. На  города посыпались бомбы, на нашу землю ступили вражеские фашистские солд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84720" y="46656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  <a:ea typeface="DejaVu Sans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Все жители нашей страны, и старые и молодые  взяли оружие в руки и встали на защиту 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659400" cy="532944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01960" cy="352728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8000" y="10620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Трудно приходилось нашим бойцам, очень уж сильный был вр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165480" cy="445788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679640" cy="3305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27640" y="4005360"/>
            <a:ext cx="3960720" cy="2643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250920" y="5805360"/>
            <a:ext cx="40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Но солдаты нашей армии врага били, гнали с нашей земли в возду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45560" y="515772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DejaVu Sans"/>
              </a:rPr>
              <a:t>Воевали и 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2484360" y="0"/>
            <a:ext cx="1245708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468360" y="2091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Воевали с фашис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и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4176720" cy="3137040"/>
          </a:xfrm>
          <a:prstGeom prst="rect">
            <a:avLst/>
          </a:prstGeom>
          <a:ln w="6660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4390920" cy="2870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4105440" cy="308304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227640" y="43480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  <a:ea typeface="DejaVu Sans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Monotype Corsiva"/>
                <a:ea typeface="DejaVu Sans"/>
              </a:rPr>
              <a:t>Били фашистов и на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4:47:57Z</dcterms:created>
  <dc:creator>Геннадий</dc:creator>
  <dc:description/>
  <dc:language>en-US</dc:language>
  <cp:lastModifiedBy>МАДОУ ЦРР ДС7</cp:lastModifiedBy>
  <dcterms:modified xsi:type="dcterms:W3CDTF">2021-05-06T09:41:55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