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F68-60AA-4934-90A4-1D3EDCC1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3AD-CBF2-4572-9C33-1FFC7364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36D-732D-47E1-91B6-7583EF29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991-25D9-4361-A59B-9C9DB06A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363-61A8-4FED-84E8-5DECA979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4AC-1CD1-49B5-A314-C9B9ADB7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7AB-E4C3-44CE-BBBE-1766E462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99C-3C3F-4C69-BD08-24CD3C07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40A-B44E-43A1-8CA5-4891A745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0E8-91B4-4552-9329-3385646F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0F9-8876-455F-B07A-ECB8616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64A-FDD3-49B2-9BF7-B4A35DC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D216-98C0-4841-9C54-F43B41192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4" descr=""/>
          <p:cNvPicPr/>
          <p:nvPr/>
        </p:nvPicPr>
        <p:blipFill>
          <a:blip r:embed="rId1"/>
          <a:stretch/>
        </p:blipFill>
        <p:spPr>
          <a:xfrm>
            <a:off x="-109440" y="1657440"/>
            <a:ext cx="9253440" cy="18478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1" descr=""/>
          <p:cNvPicPr/>
          <p:nvPr/>
        </p:nvPicPr>
        <p:blipFill>
          <a:blip r:embed="rId2"/>
          <a:stretch/>
        </p:blipFill>
        <p:spPr>
          <a:xfrm>
            <a:off x="4651200" y="4700520"/>
            <a:ext cx="402300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29667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759640" cy="432108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" descr=""/>
          <p:cNvPicPr/>
          <p:nvPr/>
        </p:nvPicPr>
        <p:blipFill>
          <a:blip r:embed="rId2"/>
          <a:stretch/>
        </p:blipFill>
        <p:spPr>
          <a:xfrm>
            <a:off x="1957320" y="506520"/>
            <a:ext cx="51325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15160" cy="39052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" descr=""/>
          <p:cNvPicPr/>
          <p:nvPr/>
        </p:nvPicPr>
        <p:blipFill>
          <a:blip r:embed="rId2"/>
          <a:stretch/>
        </p:blipFill>
        <p:spPr>
          <a:xfrm>
            <a:off x="2414520" y="682560"/>
            <a:ext cx="38149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2152800" y="244440"/>
            <a:ext cx="4228920" cy="11764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895320" y="1079640"/>
            <a:ext cx="73897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0865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274680" y="4059360"/>
            <a:ext cx="81136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9152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87640" y="4572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158760" y="3097080"/>
            <a:ext cx="85946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3602160"/>
            <a:ext cx="7870680" cy="247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3059280" y="291960"/>
            <a:ext cx="2665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Раскраска Чебурашка и крокодил Гена 🎨 распечатать бесплатно"/>
          <p:cNvPicPr/>
          <p:nvPr/>
        </p:nvPicPr>
        <p:blipFill>
          <a:blip r:embed="rId1"/>
          <a:stretch/>
        </p:blipFill>
        <p:spPr>
          <a:xfrm>
            <a:off x="468360" y="549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902040" y="549360"/>
            <a:ext cx="4071960" cy="22906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" descr=""/>
          <p:cNvPicPr/>
          <p:nvPr/>
        </p:nvPicPr>
        <p:blipFill>
          <a:blip r:embed="rId3"/>
          <a:stretch/>
        </p:blipFill>
        <p:spPr>
          <a:xfrm>
            <a:off x="804960" y="3097080"/>
            <a:ext cx="7315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360360"/>
            <a:ext cx="7632720" cy="2475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517680" y="3060720"/>
            <a:ext cx="79437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920680" cy="24066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" descr=""/>
          <p:cNvPicPr/>
          <p:nvPr/>
        </p:nvPicPr>
        <p:blipFill>
          <a:blip r:embed="rId2"/>
          <a:stretch/>
        </p:blipFill>
        <p:spPr>
          <a:xfrm>
            <a:off x="371520" y="3322800"/>
            <a:ext cx="84484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43:09Z</dcterms:created>
  <dc:creator>Олег</dc:creator>
  <dc:description/>
  <dc:language>en-US</dc:language>
  <cp:lastModifiedBy>Пользователь</cp:lastModifiedBy>
  <dcterms:modified xsi:type="dcterms:W3CDTF">2021-05-22T14:12:19Z</dcterms:modified>
  <cp:revision>1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f0000000000010290310207f7000400038000</vt:lpwstr>
  </property>
</Properties>
</file>