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9251-099F-4A86-854F-6D0265C3A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01C-A759-4A0B-86DC-2A2315D0C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ернуться на исходную страницу щелкните по карти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D03-759E-4F7A-AE7D-7A0CF3B0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E73-EA46-42D4-94F3-6E90B13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166-DFE9-464F-9E39-3B1BCE47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98B-E9A1-44C7-B012-7306B477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EBD-58E3-4566-BD94-9F9DE850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E49-5BB2-44AD-83B8-0AF652A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BD7-9616-4799-AD7D-ACE7F6D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551-EA85-4C8D-A2AD-C0266EF8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B46-DC47-4DA2-A241-49167FAD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875-889E-457A-9945-285464D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2C8-3BE7-4A22-AC44-5AC83134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6CC-E736-4420-890B-0F136A2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add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87A1-068F-4CCA-A549-50E262613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slide" Target="slide16.xml"/><Relationship Id="rId7" Type="http://schemas.openxmlformats.org/officeDocument/2006/relationships/image" Target="../media/image2.pn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slide" Target="slide31.xml"/><Relationship Id="rId5" Type="http://schemas.openxmlformats.org/officeDocument/2006/relationships/image" Target="../media/image2.png"/><Relationship Id="rId6" Type="http://schemas.openxmlformats.org/officeDocument/2006/relationships/slide" Target="slide32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image" Target="../media/image2.pn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2.xml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2000"/>
            </a:br>
            <a:br>
              <a:rPr sz="2000"/>
            </a:br>
            <a:r>
              <a:rPr b="1" i="1" lang="ru-RU" sz="4400" spc="-1" strike="noStrike">
                <a:solidFill>
                  <a:srgbClr val="7575d1"/>
                </a:solidFill>
                <a:latin typeface="Times New Roman"/>
              </a:rPr>
              <a:t>«Пл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обобщить знания о фруктах и ягодах, их питательной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техн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С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51280" y="1916280"/>
            <a:ext cx="4835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ва широко распространена  в южных районах и средней зон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бирают в августе-сентяб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их содержатся до 17% сахаров, до 3% кислот, пектин, витамины А, С, Р, РР, В1, В2, минеральные соли, красящи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к хранения свежих плод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-15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24"/>
          <p:cNvPicPr/>
          <p:nvPr/>
        </p:nvPicPr>
        <p:blipFill>
          <a:blip r:embed="rId1"/>
          <a:stretch/>
        </p:blipFill>
        <p:spPr>
          <a:xfrm>
            <a:off x="826920" y="234936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>
            <a:hlinkClick r:id="rId2" action="ppaction://hlinksldjump"/>
          </p:cNvPr>
          <p:cNvSpPr/>
          <p:nvPr/>
        </p:nvSpPr>
        <p:spPr>
          <a:xfrm>
            <a:off x="8604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Виш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08000" y="1557360"/>
            <a:ext cx="504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шню широко культивируют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зревают в июне – августе. В них содержатся до 15% сахаров, до 2,7% органических кислот, витамины А, В1, С, РР и другие компон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78"/>
          <p:cNvPicPr/>
          <p:nvPr/>
        </p:nvPicPr>
        <p:blipFill>
          <a:blip r:embed="rId1"/>
          <a:stretch/>
        </p:blipFill>
        <p:spPr>
          <a:xfrm>
            <a:off x="755640" y="2565360"/>
            <a:ext cx="216072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Абрикос и перс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брикосы и персики теплолюбивые куль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абрикоса – важнейшее сырье в консервной и кондитерской промышленности, отличаются высокими вкусовыми качествами  и обладают ценными свой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шеные плоды с косточкой называют урюком. А без нее – кура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персика употребляют в свежем и переработа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якоти персика содержатся до 15% сахаров, витамины С, В1, В2, Е, соли калия, каро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33"/>
          <p:cNvPicPr/>
          <p:nvPr/>
        </p:nvPicPr>
        <p:blipFill>
          <a:blip r:embed="rId1"/>
          <a:stretch/>
        </p:blipFill>
        <p:spPr>
          <a:xfrm>
            <a:off x="826920" y="378936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>
            <a:hlinkClick r:id="rId2" action="ppaction://hlinksldjump"/>
          </p:cNvPr>
          <p:cNvSpPr/>
          <p:nvPr/>
        </p:nvSpPr>
        <p:spPr>
          <a:xfrm>
            <a:off x="8675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20" descr="100"/>
          <p:cNvPicPr/>
          <p:nvPr/>
        </p:nvPicPr>
        <p:blipFill>
          <a:blip r:embed="rId3"/>
          <a:stretch/>
        </p:blipFill>
        <p:spPr>
          <a:xfrm>
            <a:off x="1042920" y="162864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Тропические и субтропические</a:t>
            </a:r>
            <a:br>
              <a:rPr sz="4000"/>
            </a:b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пл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воему внешнему виду и строению плоды этой группы очень разнообраз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тропическим  и субтропическим относя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на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Инж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Ху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Бан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978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аны – это плоды крупного травянистого растения высотой от трех до десяти метров, произрастающего преимущественно в тропичес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аны растут гроздьями (банчами), в грозди плоды расположены кистями, по 10 – 15 штук в каж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бананов состоят из плотной кожуры и мяк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их содержится сахар, крахмал, минеральные вещества, витамин С, Витамины группы В. Используют их в основном в свеж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AQ9I9ZG"/>
          <p:cNvPicPr/>
          <p:nvPr/>
        </p:nvPicPr>
        <p:blipFill>
          <a:blip r:embed="rId1"/>
          <a:stretch/>
        </p:blipFill>
        <p:spPr>
          <a:xfrm>
            <a:off x="1063800" y="1413000"/>
            <a:ext cx="220968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ACXUJST"/>
          <p:cNvPicPr/>
          <p:nvPr/>
        </p:nvPicPr>
        <p:blipFill>
          <a:blip r:embed="rId2"/>
          <a:stretch/>
        </p:blipFill>
        <p:spPr>
          <a:xfrm>
            <a:off x="1476360" y="4797360"/>
            <a:ext cx="1584360" cy="11844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>
            <a:hlinkClick r:id="rId3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Ана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546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unstler Script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Kunstler Script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нас (Ananas) - род многолетних вечнозелёных трав семейства Бромелиев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ерхушечного соцветия многочисленных, плотно сросшихся трубчатых цветков формируется крупное (достигающие иногда 15 кг) оранжево-коричневое соплод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щиеся в ананасе сахара, кислоты, витамины и другие вещества делают его полезным продуктом, нормализующим обмен вещест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AOXQNC1"/>
          <p:cNvPicPr/>
          <p:nvPr/>
        </p:nvPicPr>
        <p:blipFill>
          <a:blip r:embed="rId1"/>
          <a:stretch/>
        </p:blipFill>
        <p:spPr>
          <a:xfrm>
            <a:off x="1547640" y="1989000"/>
            <a:ext cx="1440000" cy="121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AAZ41Y3"/>
          <p:cNvPicPr/>
          <p:nvPr/>
        </p:nvPicPr>
        <p:blipFill>
          <a:blip r:embed="rId2"/>
          <a:stretch/>
        </p:blipFill>
        <p:spPr>
          <a:xfrm>
            <a:off x="1403280" y="3716280"/>
            <a:ext cx="167004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>
            <a:hlinkClick r:id="rId3" action="ppaction://hlinksldjump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7476" y="3837"/>
                </a:moveTo>
                <a:lnTo>
                  <a:pt x="20052" y="6448"/>
                </a:ln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lnTo>
                  <a:pt x="24439" y="10800"/>
                </a:lnTo>
                <a:lnTo>
                  <a:pt x="22785" y="10800"/>
                </a:lnTo>
                <a:lnTo>
                  <a:pt x="22785" y="17989"/>
                </a:lnTo>
                <a:lnTo>
                  <a:pt x="12166" y="17989"/>
                </a:lnTo>
                <a:lnTo>
                  <a:pt x="12166" y="10800"/>
                </a:lnTo>
                <a:lnTo>
                  <a:pt x="10513" y="10800"/>
                </a:lnTo>
                <a:close/>
              </a:path>
              <a:path fill="darkenLess" w="34951" h="21600">
                <a:moveTo>
                  <a:pt x="20052" y="6448"/>
                </a:move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close/>
              </a:path>
              <a:path fill="darkenLess" w="34951" h="21600">
                <a:moveTo>
                  <a:pt x="16553" y="14299"/>
                </a:moveTo>
                <a:lnTo>
                  <a:pt x="18398" y="14299"/>
                </a:lnTo>
                <a:lnTo>
                  <a:pt x="18398" y="17989"/>
                </a:lnTo>
                <a:lnTo>
                  <a:pt x="22785" y="17989"/>
                </a:lnTo>
                <a:lnTo>
                  <a:pt x="22785" y="10800"/>
                </a:lnTo>
                <a:lnTo>
                  <a:pt x="12166" y="10800"/>
                </a:lnTo>
                <a:lnTo>
                  <a:pt x="12166" y="17989"/>
                </a:lnTo>
                <a:lnTo>
                  <a:pt x="165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Инж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483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жир (винная ягода, фиговое дерево) – субтропическое дерево из семейства тутовых 12м мы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жие плоды инжира содержат до 24% сахаров, а сушеные до 3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органические кислоты, дубильные вещества, белки, жи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жир употребляют в свежем, сушеном, консервированном виде. Из свежих плодов варят варенье и д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CAUNUTQ5"/>
          <p:cNvPicPr/>
          <p:nvPr/>
        </p:nvPicPr>
        <p:blipFill>
          <a:blip r:embed="rId1"/>
          <a:stretch/>
        </p:blipFill>
        <p:spPr>
          <a:xfrm>
            <a:off x="1476360" y="1773360"/>
            <a:ext cx="1355760" cy="125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AWPIFSD"/>
          <p:cNvPicPr/>
          <p:nvPr/>
        </p:nvPicPr>
        <p:blipFill>
          <a:blip r:embed="rId2"/>
          <a:stretch/>
        </p:blipFill>
        <p:spPr>
          <a:xfrm>
            <a:off x="1116000" y="3429000"/>
            <a:ext cx="1898640" cy="2519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Kunstler Script"/>
              </a:rPr>
              <a:t>Ху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483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рма содержит в 2 раза больше пищевых волокон и полезных микроэлементов, чем ябл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ей также много антиоксидантов. Плоды хурмы содержат большое количество воды, золу, белки, углеводы, органические кислоты, дубиль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фрукт также богат калием, кальцием, магнием, фосфором и железом, а также витаминами А, С и P.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CAWYL2JZ"/>
          <p:cNvPicPr/>
          <p:nvPr/>
        </p:nvPicPr>
        <p:blipFill>
          <a:blip r:embed="rId1"/>
          <a:stretch/>
        </p:blipFill>
        <p:spPr>
          <a:xfrm>
            <a:off x="1332000" y="1916280"/>
            <a:ext cx="1512720" cy="138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A6KDNZ9"/>
          <p:cNvPicPr/>
          <p:nvPr/>
        </p:nvPicPr>
        <p:blipFill>
          <a:blip r:embed="rId2"/>
          <a:stretch/>
        </p:blipFill>
        <p:spPr>
          <a:xfrm>
            <a:off x="1116000" y="393372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>
            <a:hlinkClick r:id="rId3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10800" y="6522"/>
                </a:moveTo>
                <a:lnTo>
                  <a:pt x="13376" y="9133"/>
                </a:ln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lnTo>
                  <a:pt x="17763" y="13485"/>
                </a:lnTo>
                <a:lnTo>
                  <a:pt x="16109" y="13485"/>
                </a:lnTo>
                <a:lnTo>
                  <a:pt x="16109" y="20674"/>
                </a:lnTo>
                <a:lnTo>
                  <a:pt x="5491" y="20674"/>
                </a:lnTo>
                <a:lnTo>
                  <a:pt x="5491" y="13485"/>
                </a:lnTo>
                <a:lnTo>
                  <a:pt x="3837" y="13485"/>
                </a:lnTo>
                <a:close/>
              </a:path>
              <a:path fill="darkenLess" w="21600" h="26970">
                <a:moveTo>
                  <a:pt x="13376" y="9133"/>
                </a:moveTo>
                <a:lnTo>
                  <a:pt x="13376" y="7392"/>
                </a:lnTo>
                <a:lnTo>
                  <a:pt x="15152" y="7392"/>
                </a:lnTo>
                <a:lnTo>
                  <a:pt x="15152" y="10909"/>
                </a:lnTo>
                <a:close/>
              </a:path>
              <a:path fill="darkenLess" w="21600" h="26970">
                <a:moveTo>
                  <a:pt x="9877" y="16984"/>
                </a:moveTo>
                <a:lnTo>
                  <a:pt x="11723" y="16984"/>
                </a:lnTo>
                <a:lnTo>
                  <a:pt x="11723" y="20674"/>
                </a:lnTo>
                <a:lnTo>
                  <a:pt x="16109" y="20674"/>
                </a:lnTo>
                <a:lnTo>
                  <a:pt x="16109" y="13485"/>
                </a:lnTo>
                <a:lnTo>
                  <a:pt x="5491" y="13485"/>
                </a:lnTo>
                <a:lnTo>
                  <a:pt x="5491" y="20674"/>
                </a:lnTo>
                <a:lnTo>
                  <a:pt x="9877" y="206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Kunstler Script"/>
              </a:rPr>
              <a:t>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ные культуры- большая группа многолетних кустарников, полукустарников и травянистых растений, дающих сочные пл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Настоя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Лож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Kunstle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Kunstler Script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на у которых погружены непосредственно в мякоть к ним 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Organization Chart 8"/>
          <p:cNvGrpSpPr/>
          <p:nvPr/>
        </p:nvGrpSpPr>
        <p:grpSpPr>
          <a:xfrm>
            <a:off x="442800" y="1125360"/>
            <a:ext cx="8064000" cy="2950200"/>
            <a:chOff x="442800" y="1125360"/>
            <a:chExt cx="8064000" cy="2950200"/>
          </a:xfrm>
        </p:grpSpPr>
        <p:cxnSp>
          <p:nvCxnSpPr>
            <p:cNvPr id="123" name="_s205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90440" y="1188360"/>
              <a:ext cx="590760" cy="2823120"/>
            </a:xfrm>
            <a:prstGeom prst="bentConnector3">
              <a:avLst>
                <a:gd name="adj1" fmla="val 184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3"/>
            <p:cNvCxnSpPr>
              <a:stCxn id="127" idx="0"/>
              <a:endCxn id="125" idx="2"/>
            </p:cNvCxnSpPr>
            <p:nvPr/>
          </p:nvCxnSpPr>
          <p:spPr>
            <a:xfrm flipV="1">
              <a:off x="4474800" y="2304720"/>
              <a:ext cx="3600" cy="59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4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768400" y="1188720"/>
              <a:ext cx="590760" cy="2823120"/>
            </a:xfrm>
            <a:prstGeom prst="bentConnector3">
              <a:avLst>
                <a:gd name="adj1" fmla="val 184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2055"/>
            <p:cNvSpPr/>
            <p:nvPr/>
          </p:nvSpPr>
          <p:spPr>
            <a:xfrm>
              <a:off x="3265200" y="112536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Kunstler Script"/>
                </a:rPr>
                <a:t>Настоящие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>
              <a:off x="4428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Виноград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>
              <a:off x="32652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Смородин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>
              <a:off x="6087600" y="2895480"/>
              <a:ext cx="2419200" cy="118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Крыжовник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96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укты, ягоды, орехи – являются незаменимыми продуктами, без которых, как и без овощей невозможно организовать 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rganization Chart 10"/>
          <p:cNvGrpSpPr/>
          <p:nvPr/>
        </p:nvGrpSpPr>
        <p:grpSpPr>
          <a:xfrm>
            <a:off x="477720" y="996840"/>
            <a:ext cx="8208360" cy="2663280"/>
            <a:chOff x="477720" y="996840"/>
            <a:chExt cx="8208360" cy="266328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 rot="16200000">
              <a:off x="5751720" y="891000"/>
              <a:ext cx="533160" cy="2873520"/>
            </a:xfrm>
            <a:prstGeom prst="bentConnector3">
              <a:avLst>
                <a:gd name="adj1" fmla="val 263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5" idx="2"/>
            </p:cNvCxnSpPr>
            <p:nvPr/>
          </p:nvCxnSpPr>
          <p:spPr>
            <a:xfrm flipV="1">
              <a:off x="4582080" y="2061360"/>
              <a:ext cx="3600" cy="53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2878920" y="891360"/>
              <a:ext cx="533160" cy="2873520"/>
            </a:xfrm>
            <a:prstGeom prst="bentConnector3">
              <a:avLst>
                <a:gd name="adj1" fmla="val 263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31"/>
            <p:cNvSpPr/>
            <p:nvPr/>
          </p:nvSpPr>
          <p:spPr>
            <a:xfrm>
              <a:off x="3350520" y="99684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ff"/>
                  </a:solidFill>
                  <a:latin typeface="Kunstler Script"/>
                </a:rPr>
                <a:t>Плод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47772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ff"/>
                  </a:solidFill>
                  <a:latin typeface="Kunstler Script"/>
                </a:rPr>
                <a:t>фрукт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335052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Kunstler Script"/>
                </a:rPr>
                <a:t>ягоды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_s1034"/>
            <p:cNvSpPr/>
            <p:nvPr/>
          </p:nvSpPr>
          <p:spPr>
            <a:xfrm>
              <a:off x="6223680" y="2594880"/>
              <a:ext cx="2462400" cy="106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3300"/>
                  </a:solidFill>
                  <a:latin typeface="Kunstler Script"/>
                </a:rPr>
                <a:t>орехи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Виног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915920"/>
            <a:ext cx="50464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ет виноград в мае - июне, созревает в августе - сентябре, а некоторые сорта даже в октябр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В виноградных ягодах содержится много воды - от 55 до 87%, сахаров от 16 до 26%, в основном глюкоза и фруктоза, гликозиды, клетчатка, пектиновые, ароматические и дубильные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содержат кислоты: яблочную, лимонную, винную, фосфорную, янтарную, кремниевую, муравьиную, щавелевую и др., соли калия, магния, железа, фосфора, кобальта и фермен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В кожице ягод имеются дубильные, пектиновые, красящие вещества, антоцианы, а также эфирные ма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CAJPOR9D"/>
          <p:cNvPicPr/>
          <p:nvPr/>
        </p:nvPicPr>
        <p:blipFill>
          <a:blip r:embed="rId1"/>
          <a:stretch/>
        </p:blipFill>
        <p:spPr>
          <a:xfrm>
            <a:off x="1042920" y="1916280"/>
            <a:ext cx="2160720" cy="178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AFZ9IGL"/>
          <p:cNvPicPr/>
          <p:nvPr/>
        </p:nvPicPr>
        <p:blipFill>
          <a:blip r:embed="rId2"/>
          <a:stretch/>
        </p:blipFill>
        <p:spPr>
          <a:xfrm>
            <a:off x="971640" y="4191120"/>
            <a:ext cx="2305080" cy="1758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>
            <a:hlinkClick r:id="rId3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Kunstler Script"/>
              </a:rPr>
              <a:t>См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546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черной смородины выделяются среди многих плодов и ягод высоким содержанием железа (1300 мкг/100 г), значительно большим, чем у земляники, апельсина, лимона, винограда, крыжовника, персика, сливы садовой, яблок, абрикоса и др. Из других микроэлементов в ягодах содержатся бор, кобальт, марганец, медь, молибден, цинк, фтор и т. д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CAMJ4HMB"/>
          <p:cNvPicPr/>
          <p:nvPr/>
        </p:nvPicPr>
        <p:blipFill>
          <a:blip r:embed="rId1"/>
          <a:stretch/>
        </p:blipFill>
        <p:spPr>
          <a:xfrm>
            <a:off x="1116000" y="1616040"/>
            <a:ext cx="2076480" cy="166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AFACVR1"/>
          <p:cNvPicPr/>
          <p:nvPr/>
        </p:nvPicPr>
        <p:blipFill>
          <a:blip r:embed="rId2"/>
          <a:stretch/>
        </p:blipFill>
        <p:spPr>
          <a:xfrm>
            <a:off x="1403280" y="3860640"/>
            <a:ext cx="15652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>
            <a:hlinkClick r:id="rId3" action="ppaction://hlinksldjump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Kunstler Script"/>
              </a:rPr>
              <a:t>Крыж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чурин называл крыжовник «северным виноградом». В ягодах содержатся витамины: С (до 60 мг%), группы В, провитамин А, до 15% сахаров, минеральные вещества и микроэлементы (калий, йод, натрий, кальций, железо, марганец, кобальт, цинк, много фосфора и меди), органические кислоты (яблочная и лимонная), много фолиевой кислоты, дубильные вещества, флавоноиды. В сортах ягод темной окраски есть витамин Р и большое количество пектиновых веществ, способствующих выведению из организма человека солей тяжел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CA402STS"/>
          <p:cNvPicPr/>
          <p:nvPr/>
        </p:nvPicPr>
        <p:blipFill>
          <a:blip r:embed="rId1"/>
          <a:stretch/>
        </p:blipFill>
        <p:spPr>
          <a:xfrm>
            <a:off x="1116000" y="2060640"/>
            <a:ext cx="192888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AGRY9WT"/>
          <p:cNvPicPr/>
          <p:nvPr/>
        </p:nvPicPr>
        <p:blipFill>
          <a:blip r:embed="rId2"/>
          <a:stretch/>
        </p:blipFill>
        <p:spPr>
          <a:xfrm>
            <a:off x="1116000" y="4365720"/>
            <a:ext cx="1979640" cy="14461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0">
            <a:hlinkClick r:id="rId3" action="ppaction://hlinksldjump"/>
          </p:cNvPr>
          <p:cNvSpPr/>
          <p:nvPr/>
        </p:nvSpPr>
        <p:spPr>
          <a:xfrm>
            <a:off x="8532720" y="6308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10800" y="6581"/>
                </a:moveTo>
                <a:lnTo>
                  <a:pt x="13376" y="9192"/>
                </a:lnTo>
                <a:lnTo>
                  <a:pt x="13376" y="7451"/>
                </a:lnTo>
                <a:lnTo>
                  <a:pt x="15152" y="7451"/>
                </a:lnTo>
                <a:lnTo>
                  <a:pt x="15152" y="10968"/>
                </a:lnTo>
                <a:lnTo>
                  <a:pt x="17763" y="13544"/>
                </a:lnTo>
                <a:lnTo>
                  <a:pt x="16109" y="13544"/>
                </a:lnTo>
                <a:lnTo>
                  <a:pt x="16109" y="20733"/>
                </a:lnTo>
                <a:lnTo>
                  <a:pt x="5491" y="20733"/>
                </a:lnTo>
                <a:lnTo>
                  <a:pt x="5491" y="13544"/>
                </a:lnTo>
                <a:lnTo>
                  <a:pt x="3837" y="13544"/>
                </a:lnTo>
                <a:close/>
              </a:path>
              <a:path fill="darkenLess" w="21600" h="27088">
                <a:moveTo>
                  <a:pt x="13376" y="9192"/>
                </a:moveTo>
                <a:lnTo>
                  <a:pt x="13376" y="7451"/>
                </a:lnTo>
                <a:lnTo>
                  <a:pt x="15152" y="7451"/>
                </a:lnTo>
                <a:lnTo>
                  <a:pt x="15152" y="10968"/>
                </a:lnTo>
                <a:close/>
              </a:path>
              <a:path fill="darkenLess" w="21600" h="27088">
                <a:moveTo>
                  <a:pt x="9877" y="17043"/>
                </a:moveTo>
                <a:lnTo>
                  <a:pt x="11723" y="17043"/>
                </a:lnTo>
                <a:lnTo>
                  <a:pt x="11723" y="20733"/>
                </a:lnTo>
                <a:lnTo>
                  <a:pt x="16109" y="20733"/>
                </a:lnTo>
                <a:lnTo>
                  <a:pt x="16109" y="13544"/>
                </a:lnTo>
                <a:lnTo>
                  <a:pt x="5491" y="13544"/>
                </a:lnTo>
                <a:lnTo>
                  <a:pt x="5491" y="20733"/>
                </a:lnTo>
                <a:lnTo>
                  <a:pt x="9877" y="207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ующиеся из разросшегося цветоложа и имеющие на поверхности маленькие ко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rganization Chart 8"/>
          <p:cNvGrpSpPr/>
          <p:nvPr/>
        </p:nvGrpSpPr>
        <p:grpSpPr>
          <a:xfrm>
            <a:off x="431640" y="620640"/>
            <a:ext cx="8208000" cy="3107160"/>
            <a:chOff x="431640" y="620640"/>
            <a:chExt cx="8208000" cy="3107160"/>
          </a:xfrm>
        </p:grpSpPr>
        <p:cxnSp>
          <p:nvCxnSpPr>
            <p:cNvPr id="148" name="_s3076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329800" y="1068840"/>
              <a:ext cx="622080" cy="2210040"/>
            </a:xfrm>
            <a:prstGeom prst="bentConnector3">
              <a:avLst>
                <a:gd name="adj1" fmla="val 26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7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3119760" y="1068480"/>
              <a:ext cx="622080" cy="2210760"/>
            </a:xfrm>
            <a:prstGeom prst="bentConnector3">
              <a:avLst>
                <a:gd name="adj1" fmla="val 26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3078"/>
            <p:cNvSpPr/>
            <p:nvPr/>
          </p:nvSpPr>
          <p:spPr>
            <a:xfrm>
              <a:off x="2642040" y="62064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Kunstler Script"/>
                </a:rPr>
                <a:t>Ложные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_s3079"/>
            <p:cNvSpPr/>
            <p:nvPr/>
          </p:nvSpPr>
          <p:spPr>
            <a:xfrm>
              <a:off x="431640" y="248508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Земляник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851360" y="2485080"/>
              <a:ext cx="3788280" cy="124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Клубника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Земля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4546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распространённая дикорастущая земляника — земляника лесная. Именно её мы привыкли собирать на опушках лес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Эта культура достаточно неприхотлива, урожайна и относительно зимостойка. Ее плоды возбуждают аппетит, улучшают пищеварение, возвращают бодрость и хорошее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AN2NYRH"/>
          <p:cNvPicPr/>
          <p:nvPr/>
        </p:nvPicPr>
        <p:blipFill>
          <a:blip r:embed="rId1"/>
          <a:stretch/>
        </p:blipFill>
        <p:spPr>
          <a:xfrm>
            <a:off x="1476360" y="4005360"/>
            <a:ext cx="1747800" cy="156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AST2ZWT"/>
          <p:cNvPicPr/>
          <p:nvPr/>
        </p:nvPicPr>
        <p:blipFill>
          <a:blip r:embed="rId2"/>
          <a:stretch/>
        </p:blipFill>
        <p:spPr>
          <a:xfrm>
            <a:off x="1403280" y="2276640"/>
            <a:ext cx="1989360" cy="979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>
            <a:hlinkClick r:id="rId3" action="ppaction://hlinksldjump"/>
          </p:cNvPr>
          <p:cNvSpPr/>
          <p:nvPr/>
        </p:nvSpPr>
        <p:spPr>
          <a:xfrm>
            <a:off x="853272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3992" y="3837"/>
                </a:moveTo>
                <a:lnTo>
                  <a:pt x="16569" y="6448"/>
                </a:ln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lnTo>
                  <a:pt x="20955" y="10800"/>
                </a:lnTo>
                <a:lnTo>
                  <a:pt x="19301" y="10800"/>
                </a:lnTo>
                <a:lnTo>
                  <a:pt x="19301" y="17989"/>
                </a:lnTo>
                <a:lnTo>
                  <a:pt x="8683" y="17989"/>
                </a:lnTo>
                <a:lnTo>
                  <a:pt x="8683" y="10800"/>
                </a:lnTo>
                <a:lnTo>
                  <a:pt x="7029" y="10800"/>
                </a:lnTo>
                <a:close/>
              </a:path>
              <a:path fill="darkenLess" w="27984" h="21600">
                <a:moveTo>
                  <a:pt x="16569" y="6448"/>
                </a:move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close/>
              </a:path>
              <a:path fill="darkenLess" w="27984" h="21600">
                <a:moveTo>
                  <a:pt x="13070" y="14299"/>
                </a:moveTo>
                <a:lnTo>
                  <a:pt x="14915" y="14299"/>
                </a:lnTo>
                <a:lnTo>
                  <a:pt x="14915" y="17989"/>
                </a:lnTo>
                <a:lnTo>
                  <a:pt x="19301" y="17989"/>
                </a:lnTo>
                <a:lnTo>
                  <a:pt x="19301" y="10800"/>
                </a:lnTo>
                <a:lnTo>
                  <a:pt x="8683" y="10800"/>
                </a:lnTo>
                <a:lnTo>
                  <a:pt x="8683" y="17989"/>
                </a:lnTo>
                <a:lnTo>
                  <a:pt x="130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Клуб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ботаники клубника — тоже вид земляники, но совершенно дру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— земляника мускатная, или мускусная, получившая своё название за специфический аромат. А клубникой её стали называть из-за формы ягод, напоминающей маленькие клубоч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CAUOTZJ6"/>
          <p:cNvPicPr/>
          <p:nvPr/>
        </p:nvPicPr>
        <p:blipFill>
          <a:blip r:embed="rId1"/>
          <a:stretch/>
        </p:blipFill>
        <p:spPr>
          <a:xfrm>
            <a:off x="1619280" y="184464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FI32D8"/>
          <p:cNvPicPr/>
          <p:nvPr/>
        </p:nvPicPr>
        <p:blipFill>
          <a:blip r:embed="rId2"/>
          <a:stretch/>
        </p:blipFill>
        <p:spPr>
          <a:xfrm>
            <a:off x="1403280" y="3933720"/>
            <a:ext cx="1727280" cy="1540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1">
            <a:hlinkClick r:id="rId3" action="ppaction://hlinksldjump"/>
          </p:cNvPr>
          <p:cNvSpPr/>
          <p:nvPr/>
        </p:nvSpPr>
        <p:spPr>
          <a:xfrm>
            <a:off x="845964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5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щие из сросшихся маленьких «настоящих»  пл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Organization Chart 8"/>
          <p:cNvGrpSpPr/>
          <p:nvPr/>
        </p:nvGrpSpPr>
        <p:grpSpPr>
          <a:xfrm>
            <a:off x="431640" y="1052640"/>
            <a:ext cx="8208000" cy="3096000"/>
            <a:chOff x="431640" y="1052640"/>
            <a:chExt cx="8208000" cy="3096000"/>
          </a:xfrm>
        </p:grpSpPr>
        <p:cxnSp>
          <p:nvCxnSpPr>
            <p:cNvPr id="166" name="_s4100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330880" y="1495440"/>
              <a:ext cx="619920" cy="2210040"/>
            </a:xfrm>
            <a:prstGeom prst="bentConnector3">
              <a:avLst>
                <a:gd name="adj1" fmla="val 19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4101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120840" y="1495080"/>
              <a:ext cx="619920" cy="2210760"/>
            </a:xfrm>
            <a:prstGeom prst="bentConnector3">
              <a:avLst>
                <a:gd name="adj1" fmla="val 19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_s4102"/>
            <p:cNvSpPr/>
            <p:nvPr/>
          </p:nvSpPr>
          <p:spPr>
            <a:xfrm>
              <a:off x="2642040" y="10526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008000"/>
                  </a:solidFill>
                  <a:latin typeface="Kunstler Script"/>
                </a:rPr>
                <a:t>Сложные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_s4103"/>
            <p:cNvSpPr/>
            <p:nvPr/>
          </p:nvSpPr>
          <p:spPr>
            <a:xfrm>
              <a:off x="431640" y="29102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 action="ppaction://hlinksldjump"/>
                </a:rPr>
                <a:t>Малина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_s4104"/>
            <p:cNvSpPr/>
            <p:nvPr/>
          </p:nvSpPr>
          <p:spPr>
            <a:xfrm>
              <a:off x="4851360" y="2910240"/>
              <a:ext cx="3788280" cy="12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Ежевика</a:t>
              </a:r>
              <a:endParaRPr b="0" lang="en-US" sz="3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Ма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66920" y="2636640"/>
            <a:ext cx="4614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малины содержат сахаров около 7-10%. Кроме того, в состав ягоды входят витамины А, В, С, РР, минеральные элементы калий, кальций, магний, фосфор, желез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годы используются в свежем виде, идут на переработку для приготовления варенья, соков, джемов, наливо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malina"/>
          <p:cNvPicPr/>
          <p:nvPr/>
        </p:nvPicPr>
        <p:blipFill>
          <a:blip r:embed="rId1"/>
          <a:stretch/>
        </p:blipFill>
        <p:spPr>
          <a:xfrm>
            <a:off x="1042920" y="2708280"/>
            <a:ext cx="2241720" cy="2232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8">
            <a:hlinkClick r:id="rId2" action="ppaction://hlinksldjump"/>
          </p:cNvPr>
          <p:cNvSpPr/>
          <p:nvPr/>
        </p:nvSpPr>
        <p:spPr>
          <a:xfrm>
            <a:off x="860436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6168" y="3837"/>
                </a:moveTo>
                <a:lnTo>
                  <a:pt x="18744" y="6448"/>
                </a:lnTo>
                <a:lnTo>
                  <a:pt x="18744" y="4707"/>
                </a:lnTo>
                <a:lnTo>
                  <a:pt x="20520" y="4707"/>
                </a:lnTo>
                <a:lnTo>
                  <a:pt x="20520" y="8224"/>
                </a:lnTo>
                <a:lnTo>
                  <a:pt x="23131" y="10800"/>
                </a:lnTo>
                <a:lnTo>
                  <a:pt x="21477" y="10800"/>
                </a:lnTo>
                <a:lnTo>
                  <a:pt x="21477" y="17989"/>
                </a:lnTo>
                <a:lnTo>
                  <a:pt x="10858" y="17989"/>
                </a:lnTo>
                <a:lnTo>
                  <a:pt x="10858" y="10800"/>
                </a:lnTo>
                <a:lnTo>
                  <a:pt x="9205" y="10800"/>
                </a:lnTo>
                <a:close/>
              </a:path>
              <a:path fill="darkenLess" w="32335" h="21600">
                <a:moveTo>
                  <a:pt x="18744" y="6448"/>
                </a:moveTo>
                <a:lnTo>
                  <a:pt x="18744" y="4707"/>
                </a:lnTo>
                <a:lnTo>
                  <a:pt x="20520" y="4707"/>
                </a:lnTo>
                <a:lnTo>
                  <a:pt x="20520" y="8224"/>
                </a:lnTo>
                <a:close/>
              </a:path>
              <a:path fill="darkenLess" w="32335" h="21600">
                <a:moveTo>
                  <a:pt x="15245" y="14299"/>
                </a:moveTo>
                <a:lnTo>
                  <a:pt x="17090" y="14299"/>
                </a:lnTo>
                <a:lnTo>
                  <a:pt x="17090" y="17989"/>
                </a:lnTo>
                <a:lnTo>
                  <a:pt x="21477" y="17989"/>
                </a:lnTo>
                <a:lnTo>
                  <a:pt x="21477" y="10800"/>
                </a:lnTo>
                <a:lnTo>
                  <a:pt x="10858" y="10800"/>
                </a:lnTo>
                <a:lnTo>
                  <a:pt x="10858" y="17989"/>
                </a:lnTo>
                <a:lnTo>
                  <a:pt x="152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Kunstler Script"/>
              </a:rPr>
              <a:t>Ежев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вика -  ближайшая родственница малины с блестящими, почти черными плодами-костян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е плоды содержат витамины А, В, С, Е, глюкозу, фруктозу, сахарозу, пектиновые вещества, органические кислоты (яблочную, винную, лимонную, салициловую), в меньшем количестве - витамины Р, РР и 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давних времен плоды ежевики употребляли при бессоннице, повышенной возбудимости, расстройствах органов пищевар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м из ягод утоляли жажду лихорадящие боль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ASNRRE8"/>
          <p:cNvPicPr/>
          <p:nvPr/>
        </p:nvPicPr>
        <p:blipFill>
          <a:blip r:embed="rId1"/>
          <a:stretch/>
        </p:blipFill>
        <p:spPr>
          <a:xfrm>
            <a:off x="1116000" y="2133720"/>
            <a:ext cx="2303640" cy="19494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>
            <a:hlinkClick r:id="rId2" action="ppaction://hlinksldjump"/>
          </p:cNvPr>
          <p:cNvSpPr/>
          <p:nvPr/>
        </p:nvSpPr>
        <p:spPr>
          <a:xfrm>
            <a:off x="860436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ff"/>
                </a:solidFill>
                <a:latin typeface="Kunstler Script"/>
              </a:rPr>
              <a:t>Орехопл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ехи состоят из ядра (семени), заключенного в одревесневшую скорл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отличаются высоким содержанием жиров и белков. По калорийности орехи превосходят все известные продукты растительного происх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Лесные ор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Грецкие ор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Фист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88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Kunstler Script"/>
              </a:rPr>
              <a:t>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2923920"/>
            <a:ext cx="81568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Семечк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Косточк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Kunstler Script"/>
              </a:rPr>
              <a:t>Тропические и субтроп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Лесной ор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дро ореха обладает высокой калорийностью, содержит белки, минеральные соли калия, кальция, железа, магния, меди, фосфора, серы, провитамин А и витамины группы В и от 50 до 60% масличн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42"/>
          <p:cNvPicPr/>
          <p:nvPr/>
        </p:nvPicPr>
        <p:blipFill>
          <a:blip r:embed="rId1"/>
          <a:stretch/>
        </p:blipFill>
        <p:spPr>
          <a:xfrm>
            <a:off x="1908000" y="1773360"/>
            <a:ext cx="1584360" cy="154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44"/>
          <p:cNvPicPr/>
          <p:nvPr/>
        </p:nvPicPr>
        <p:blipFill>
          <a:blip r:embed="rId2"/>
          <a:stretch/>
        </p:blipFill>
        <p:spPr>
          <a:xfrm>
            <a:off x="1547640" y="3933720"/>
            <a:ext cx="2160720" cy="162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0"/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Грецкий ор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цкий орех - дерево семейства орехов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 - ложная костян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ревает в конце авг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лые орехи являются продуктом питания и высокоактивным лекарственным сред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алорийности они в 2 раза превышают пшеничный хлеб высшего с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55"/>
          <p:cNvPicPr/>
          <p:nvPr/>
        </p:nvPicPr>
        <p:blipFill>
          <a:blip r:embed="rId1"/>
          <a:stretch/>
        </p:blipFill>
        <p:spPr>
          <a:xfrm>
            <a:off x="1547640" y="1771560"/>
            <a:ext cx="1476720" cy="1463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4"/>
          <p:cNvPicPr/>
          <p:nvPr/>
        </p:nvPicPr>
        <p:blipFill>
          <a:blip r:embed="rId2"/>
          <a:stretch/>
        </p:blipFill>
        <p:spPr>
          <a:xfrm>
            <a:off x="1403280" y="3933720"/>
            <a:ext cx="2016360" cy="1503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1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Фист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ут фисташки преимущественно в диком виде, в Средней Азии. Урожай собирают в конце июля - в начале авг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лупа зрелого ореха растрескивается, обнажая ядро зеленого цвета — чем интенсивнее окраска, тем оно более сп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сташка содержит до 65% жирного масла, 23% белка, почти 9% сахарозы, витамины А и В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2"/>
          <p:cNvPicPr/>
          <p:nvPr/>
        </p:nvPicPr>
        <p:blipFill>
          <a:blip r:embed="rId1"/>
          <a:stretch/>
        </p:blipFill>
        <p:spPr>
          <a:xfrm>
            <a:off x="1332000" y="1803240"/>
            <a:ext cx="1720800" cy="133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A02K7PU"/>
          <p:cNvPicPr/>
          <p:nvPr/>
        </p:nvPicPr>
        <p:blipFill>
          <a:blip r:embed="rId2"/>
          <a:stretch/>
        </p:blipFill>
        <p:spPr>
          <a:xfrm>
            <a:off x="1187280" y="3860640"/>
            <a:ext cx="2129040" cy="15922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/>
          <p:cNvSpPr/>
          <p:nvPr/>
        </p:nvSpPr>
        <p:spPr>
          <a:xfrm>
            <a:off x="8604360" y="630864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10800" y="6514"/>
                </a:moveTo>
                <a:lnTo>
                  <a:pt x="13376" y="9125"/>
                </a:ln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lnTo>
                  <a:pt x="17763" y="13476"/>
                </a:lnTo>
                <a:lnTo>
                  <a:pt x="16109" y="13476"/>
                </a:lnTo>
                <a:lnTo>
                  <a:pt x="16109" y="20666"/>
                </a:lnTo>
                <a:lnTo>
                  <a:pt x="5491" y="20666"/>
                </a:lnTo>
                <a:lnTo>
                  <a:pt x="5491" y="13476"/>
                </a:lnTo>
                <a:lnTo>
                  <a:pt x="3837" y="13476"/>
                </a:lnTo>
                <a:close/>
              </a:path>
              <a:path fill="darkenLess" w="21600" h="26953">
                <a:moveTo>
                  <a:pt x="13376" y="9125"/>
                </a:moveTo>
                <a:lnTo>
                  <a:pt x="13376" y="7384"/>
                </a:lnTo>
                <a:lnTo>
                  <a:pt x="15152" y="7384"/>
                </a:lnTo>
                <a:lnTo>
                  <a:pt x="15152" y="10900"/>
                </a:lnTo>
                <a:close/>
              </a:path>
              <a:path fill="darkenLess" w="21600" h="26953">
                <a:moveTo>
                  <a:pt x="9877" y="16975"/>
                </a:moveTo>
                <a:lnTo>
                  <a:pt x="11723" y="16975"/>
                </a:lnTo>
                <a:lnTo>
                  <a:pt x="11723" y="20666"/>
                </a:lnTo>
                <a:lnTo>
                  <a:pt x="16109" y="20666"/>
                </a:lnTo>
                <a:lnTo>
                  <a:pt x="16109" y="13476"/>
                </a:lnTo>
                <a:lnTo>
                  <a:pt x="5491" y="13476"/>
                </a:lnTo>
                <a:lnTo>
                  <a:pt x="5491" y="20666"/>
                </a:lnTo>
                <a:lnTo>
                  <a:pt x="9877" y="206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Kunstler Script"/>
              </a:rPr>
              <a:t>Мин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рьком миндале содержится много гликозида амигдалина, ядовитого вещества, придающего этому виду характерный, знакомый всем вкус. Поэтому такой миндаль нельзя есть без предварительной обработки. Пятьдесят горьких орехов – смертельная доза дл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обжаривания, отваривания и прокаливания цианистый водород выводится из ядра – и горький миндаль можно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я чаще его используют в косметической и фармацевтической промышлен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CAIOHVZU"/>
          <p:cNvPicPr/>
          <p:nvPr/>
        </p:nvPicPr>
        <p:blipFill>
          <a:blip r:embed="rId1"/>
          <a:stretch/>
        </p:blipFill>
        <p:spPr>
          <a:xfrm>
            <a:off x="1547640" y="1844640"/>
            <a:ext cx="15447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CAJQRU7T"/>
          <p:cNvPicPr/>
          <p:nvPr/>
        </p:nvPicPr>
        <p:blipFill>
          <a:blip r:embed="rId2"/>
          <a:stretch/>
        </p:blipFill>
        <p:spPr>
          <a:xfrm>
            <a:off x="1258920" y="3811680"/>
            <a:ext cx="1944720" cy="15825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/>
          <p:cNvSpPr/>
          <p:nvPr/>
        </p:nvSpPr>
        <p:spPr>
          <a:xfrm>
            <a:off x="8675640" y="638172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0800" y="6497"/>
                </a:moveTo>
                <a:lnTo>
                  <a:pt x="13376" y="9108"/>
                </a:lnTo>
                <a:lnTo>
                  <a:pt x="13376" y="7367"/>
                </a:lnTo>
                <a:lnTo>
                  <a:pt x="15152" y="7367"/>
                </a:lnTo>
                <a:lnTo>
                  <a:pt x="15152" y="10883"/>
                </a:lnTo>
                <a:lnTo>
                  <a:pt x="17763" y="13460"/>
                </a:lnTo>
                <a:lnTo>
                  <a:pt x="16109" y="13460"/>
                </a:lnTo>
                <a:lnTo>
                  <a:pt x="16109" y="20649"/>
                </a:lnTo>
                <a:lnTo>
                  <a:pt x="5491" y="20649"/>
                </a:lnTo>
                <a:lnTo>
                  <a:pt x="5491" y="13460"/>
                </a:lnTo>
                <a:lnTo>
                  <a:pt x="3837" y="13460"/>
                </a:lnTo>
                <a:close/>
              </a:path>
              <a:path fill="darkenLess" w="21600" h="26919">
                <a:moveTo>
                  <a:pt x="13376" y="9108"/>
                </a:moveTo>
                <a:lnTo>
                  <a:pt x="13376" y="7367"/>
                </a:lnTo>
                <a:lnTo>
                  <a:pt x="15152" y="7367"/>
                </a:lnTo>
                <a:lnTo>
                  <a:pt x="15152" y="10883"/>
                </a:lnTo>
                <a:close/>
              </a:path>
              <a:path fill="darkenLess" w="21600" h="26919">
                <a:moveTo>
                  <a:pt x="9877" y="16959"/>
                </a:moveTo>
                <a:lnTo>
                  <a:pt x="11723" y="16959"/>
                </a:lnTo>
                <a:lnTo>
                  <a:pt x="11723" y="20649"/>
                </a:lnTo>
                <a:lnTo>
                  <a:pt x="16109" y="20649"/>
                </a:lnTo>
                <a:lnTo>
                  <a:pt x="16109" y="13460"/>
                </a:lnTo>
                <a:lnTo>
                  <a:pt x="5491" y="13460"/>
                </a:lnTo>
                <a:lnTo>
                  <a:pt x="5491" y="20649"/>
                </a:lnTo>
                <a:lnTo>
                  <a:pt x="9877" y="20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Семеч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зуются с участием плодоножки и состоят из кожицы, плодовой мякоти и пятигнездной камеры с се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емечковы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ябл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р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й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итру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Ябл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64000" y="1557000"/>
            <a:ext cx="512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орта яблок в зависимости от срока созревания делятся на летние, зимние, осенние. Зимние сорта яблок сохраняются до марта-апреля, а некоторые до июн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употребляют в пищу как в свежем , так и в перерабо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сахара,      органические кислоты, витамины С, В1, В2, 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images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27240" y="2421000"/>
            <a:ext cx="1744560" cy="20127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>
            <a:hlinkClick r:id="rId3" action="ppaction://hlinksldjump"/>
          </p:cNvPr>
          <p:cNvSpPr/>
          <p:nvPr/>
        </p:nvSpPr>
        <p:spPr>
          <a:xfrm>
            <a:off x="853272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Гру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11992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ши среди всех семечковых плодов занимают небольшой удельный 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сорта плоды груши созревают с июля по октя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используют в пищу в свежем и перерабо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лодах содержатся сахара, яблочная и лимонная кислоты, пектин, витамины А, В1, С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A2FCLYF"/>
          <p:cNvPicPr/>
          <p:nvPr/>
        </p:nvPicPr>
        <p:blipFill>
          <a:blip r:embed="rId1"/>
          <a:stretch/>
        </p:blipFill>
        <p:spPr>
          <a:xfrm>
            <a:off x="1403280" y="2492280"/>
            <a:ext cx="172872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rId2" action="ppaction://hlinksldjump"/>
          </p:cNvPr>
          <p:cNvSpPr/>
          <p:nvPr/>
        </p:nvSpPr>
        <p:spPr>
          <a:xfrm>
            <a:off x="867564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Ай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йва отличается сильно вяжущим терпким вкусом и плотной грубой мяко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ном айва используется для приготовления варенья и дж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йва обыкновенная – небольшое дерево , выращиваемое в основном в южных районах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 очень богат пектиновыми (желирующими) веществами, поэтому из нее получаются отличные желе и марме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99"/>
          <p:cNvPicPr/>
          <p:nvPr/>
        </p:nvPicPr>
        <p:blipFill>
          <a:blip r:embed="rId1"/>
          <a:stretch/>
        </p:blipFill>
        <p:spPr>
          <a:xfrm>
            <a:off x="1187280" y="2565360"/>
            <a:ext cx="1810080" cy="1873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>
            <a:hlinkClick r:id="rId2" action="ppaction://hlinksldjump"/>
          </p:cNvPr>
          <p:cNvSpPr/>
          <p:nvPr/>
        </p:nvSpPr>
        <p:spPr>
          <a:xfrm>
            <a:off x="8459640" y="6453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837"/>
                </a:moveTo>
                <a:lnTo>
                  <a:pt x="21459" y="6448"/>
                </a:ln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lnTo>
                  <a:pt x="25846" y="10800"/>
                </a:lnTo>
                <a:lnTo>
                  <a:pt x="24192" y="10800"/>
                </a:lnTo>
                <a:lnTo>
                  <a:pt x="24192" y="17989"/>
                </a:lnTo>
                <a:lnTo>
                  <a:pt x="13574" y="17989"/>
                </a:lnTo>
                <a:lnTo>
                  <a:pt x="13574" y="10800"/>
                </a:lnTo>
                <a:lnTo>
                  <a:pt x="11920" y="10800"/>
                </a:lnTo>
                <a:close/>
              </a:path>
              <a:path fill="darkenLess" w="37766" h="21600">
                <a:moveTo>
                  <a:pt x="21459" y="6448"/>
                </a:moveTo>
                <a:lnTo>
                  <a:pt x="21459" y="4707"/>
                </a:lnTo>
                <a:lnTo>
                  <a:pt x="23235" y="4707"/>
                </a:lnTo>
                <a:lnTo>
                  <a:pt x="23235" y="8224"/>
                </a:lnTo>
                <a:close/>
              </a:path>
              <a:path fill="darkenLess" w="37766" h="21600">
                <a:moveTo>
                  <a:pt x="17961" y="14299"/>
                </a:moveTo>
                <a:lnTo>
                  <a:pt x="19806" y="14299"/>
                </a:lnTo>
                <a:lnTo>
                  <a:pt x="19806" y="17989"/>
                </a:lnTo>
                <a:lnTo>
                  <a:pt x="24192" y="17989"/>
                </a:lnTo>
                <a:lnTo>
                  <a:pt x="24192" y="10800"/>
                </a:lnTo>
                <a:lnTo>
                  <a:pt x="13574" y="10800"/>
                </a:lnTo>
                <a:lnTo>
                  <a:pt x="13574" y="17989"/>
                </a:lnTo>
                <a:lnTo>
                  <a:pt x="1796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Kunstler Script"/>
              </a:rPr>
              <a:t>Цитрус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526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этой группе относятся лимоны, апельсины, мандарины, грейпфр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ды состоят из кожуры, мякоти, разделенной на дольки, семян, плодоножки и чаше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содержанию сахаров, эфирных масел, лимонной кислоты, минеральных веществ, витаминов (особенно С) и каротина, цитрусовые очень питательны, обладают прекрасным вкусом, ароматом, антимикробным действием. Эти фрукты очень полезны в свеж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журе цитрусовых – цедре сосредоточено много витаминов, поэтому ее используют в кулинарии для приготовления цук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65"/>
          <p:cNvPicPr/>
          <p:nvPr/>
        </p:nvPicPr>
        <p:blipFill>
          <a:blip r:embed="rId1"/>
          <a:stretch/>
        </p:blipFill>
        <p:spPr>
          <a:xfrm>
            <a:off x="1042920" y="1773360"/>
            <a:ext cx="1657440" cy="141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88"/>
          <p:cNvPicPr/>
          <p:nvPr/>
        </p:nvPicPr>
        <p:blipFill>
          <a:blip r:embed="rId2"/>
          <a:stretch/>
        </p:blipFill>
        <p:spPr>
          <a:xfrm>
            <a:off x="1116000" y="3716280"/>
            <a:ext cx="1598760" cy="17002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>
            <a:hlinkClick r:id="rId3" action="ppaction://hlinksldjump"/>
          </p:cNvPr>
          <p:cNvSpPr/>
          <p:nvPr/>
        </p:nvSpPr>
        <p:spPr>
          <a:xfrm>
            <a:off x="8604360" y="623736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Kunstler Script"/>
              </a:rPr>
              <a:t>Косточ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тличие от семечковых косточковые плохо хранятся. Эти плоды вкусны и полезны, но из-за плохой лежкости их следует использовать в течении короткого периода. Косточковые плоды употребляют свежими, из них так же варят варенье, желе, компоты.     Консервированные косточковые успешно заменяют свежие пл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косточковым относя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С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иш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Абрик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Перс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лы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из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7:02:59Z</dcterms:created>
  <dc:creator>Standard</dc:creator>
  <dc:description/>
  <dc:language>en-US</dc:language>
  <cp:lastModifiedBy>Владислав Кравчук</cp:lastModifiedBy>
  <dcterms:modified xsi:type="dcterms:W3CDTF">2021-01-08T19:45:43Z</dcterms:modified>
  <cp:revision>149</cp:revision>
  <dc:subject/>
  <dc:title>Плоды</dc:title>
</cp:coreProperties>
</file>