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35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38.jpeg" ContentType="image/jpe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F01CF-2D0C-4A37-BE39-C6E30830A8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54A0D-EEF1-4F4F-8DD2-361D6B25AC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вернуться на исходную страницу щелкните по картин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DDE7-DC76-4DE0-8BCA-CDEB59A18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D910-7866-48FC-A515-41997E6B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3F0D-1323-41DD-A873-9C915386B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8060-891B-4355-BAB4-FF11A872D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E962-1FFF-4406-B4EB-A05D5007F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025A-1320-495D-9E82-037E1ADD1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96B8-FF5E-44A0-95EE-5DBBECC5B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7229-77A7-4C92-BD18-03B6F1441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EE38-8BB7-4A2D-9C1E-FC8B8883B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12C4-09B3-432E-927A-A614442F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95D8-6C1C-491E-9362-580D2AF1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B5C5-79D6-4015-AF35-67975C78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adde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DE357-691A-44D5-9EB1-AAAD24DC44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9.xm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5.xml"/><Relationship Id="rId3" Type="http://schemas.openxmlformats.org/officeDocument/2006/relationships/image" Target="../media/image2.png"/><Relationship Id="rId4" Type="http://schemas.openxmlformats.org/officeDocument/2006/relationships/slide" Target="slide14.xml"/><Relationship Id="rId5" Type="http://schemas.openxmlformats.org/officeDocument/2006/relationships/image" Target="../media/image2.png"/><Relationship Id="rId6" Type="http://schemas.openxmlformats.org/officeDocument/2006/relationships/slide" Target="slide16.xml"/><Relationship Id="rId7" Type="http://schemas.openxmlformats.org/officeDocument/2006/relationships/image" Target="../media/image2.png"/><Relationship Id="rId8" Type="http://schemas.openxmlformats.org/officeDocument/2006/relationships/slide" Target="slide17.xml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1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5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" Target="slide23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" Target="slide23.xml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8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" Target="slide26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26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0.xml"/><Relationship Id="rId3" Type="http://schemas.openxmlformats.org/officeDocument/2006/relationships/image" Target="../media/image2.png"/><Relationship Id="rId4" Type="http://schemas.openxmlformats.org/officeDocument/2006/relationships/slide" Target="slide31.xml"/><Relationship Id="rId5" Type="http://schemas.openxmlformats.org/officeDocument/2006/relationships/image" Target="../media/image2.png"/><Relationship Id="rId6" Type="http://schemas.openxmlformats.org/officeDocument/2006/relationships/slide" Target="slide32.xml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6.xml"/><Relationship Id="rId5" Type="http://schemas.openxmlformats.org/officeDocument/2006/relationships/image" Target="../media/image2.png"/><Relationship Id="rId6" Type="http://schemas.openxmlformats.org/officeDocument/2006/relationships/slide" Target="slide7.xml"/><Relationship Id="rId7" Type="http://schemas.openxmlformats.org/officeDocument/2006/relationships/image" Target="../media/image2.png"/><Relationship Id="rId8" Type="http://schemas.openxmlformats.org/officeDocument/2006/relationships/slide" Target="slide8.xml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jpe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0.xml"/><Relationship Id="rId3" Type="http://schemas.openxmlformats.org/officeDocument/2006/relationships/image" Target="../media/image2.png"/><Relationship Id="rId4" Type="http://schemas.openxmlformats.org/officeDocument/2006/relationships/slide" Target="slide11.xml"/><Relationship Id="rId5" Type="http://schemas.openxmlformats.org/officeDocument/2006/relationships/image" Target="../media/image2.png"/><Relationship Id="rId6" Type="http://schemas.openxmlformats.org/officeDocument/2006/relationships/slide" Target="slide12.xml"/><Relationship Id="rId7" Type="http://schemas.openxmlformats.org/officeDocument/2006/relationships/image" Target="../media/image2.png"/><Relationship Id="rId8" Type="http://schemas.openxmlformats.org/officeDocument/2006/relationships/slide" Target="slide12.xml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29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ма урока</a:t>
            </a:r>
            <a:br>
              <a:rPr sz="2000"/>
            </a:br>
            <a:br>
              <a:rPr sz="2000"/>
            </a:br>
            <a:r>
              <a:rPr b="1" i="1" lang="ru-RU" sz="4400" spc="-1" strike="noStrike">
                <a:solidFill>
                  <a:srgbClr val="7575d1"/>
                </a:solidFill>
                <a:latin typeface="Times New Roman"/>
              </a:rPr>
              <a:t>«Плоды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371592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Цель - обобщить знания о фруктах и ягодах, их питательной ц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итель технолог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ff"/>
                </a:solidFill>
                <a:latin typeface="Kunstler Script"/>
              </a:rPr>
              <a:t>Сли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51280" y="1916280"/>
            <a:ext cx="483552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лива широко распространена  в южных районах и средней зоне Ро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лоды собирают в августе-сентябр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них содержатся до 17% сахаров, до 3% кислот, пектин, витамины А, С, Р, РР, В1, В2, минеральные соли, красящие ве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рок хранения свежих плодов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2-15 д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24"/>
          <p:cNvPicPr/>
          <p:nvPr/>
        </p:nvPicPr>
        <p:blipFill>
          <a:blip r:embed="rId1"/>
          <a:stretch/>
        </p:blipFill>
        <p:spPr>
          <a:xfrm>
            <a:off x="826920" y="2349360"/>
            <a:ext cx="2376720" cy="180036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10">
            <a:hlinkClick r:id="rId2" action="ppaction://hlinksldjump"/>
          </p:cNvPr>
          <p:cNvSpPr/>
          <p:nvPr/>
        </p:nvSpPr>
        <p:spPr>
          <a:xfrm>
            <a:off x="8604360" y="6165720"/>
            <a:ext cx="360360" cy="35892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87" h="21600">
                <a:moveTo>
                  <a:pt x="0" y="0"/>
                </a:moveTo>
                <a:lnTo>
                  <a:pt x="21687" y="0"/>
                </a:lnTo>
                <a:lnTo>
                  <a:pt x="21687" y="21600"/>
                </a:lnTo>
                <a:lnTo>
                  <a:pt x="0" y="21600"/>
                </a:lnTo>
                <a:close/>
              </a:path>
              <a:path fill="lightenLess" w="21687" h="21600">
                <a:moveTo>
                  <a:pt x="0" y="0"/>
                </a:moveTo>
                <a:lnTo>
                  <a:pt x="21687" y="0"/>
                </a:lnTo>
                <a:lnTo>
                  <a:pt x="20287" y="1400"/>
                </a:lnTo>
                <a:lnTo>
                  <a:pt x="1400" y="1400"/>
                </a:lnTo>
                <a:close/>
              </a:path>
              <a:path fill="darken" w="21687" h="21600">
                <a:moveTo>
                  <a:pt x="21687" y="0"/>
                </a:moveTo>
                <a:lnTo>
                  <a:pt x="21687" y="21600"/>
                </a:lnTo>
                <a:lnTo>
                  <a:pt x="20287" y="20200"/>
                </a:lnTo>
                <a:lnTo>
                  <a:pt x="20287" y="1400"/>
                </a:lnTo>
                <a:close/>
              </a:path>
              <a:path fill="darkenLess" w="21687" h="21600">
                <a:moveTo>
                  <a:pt x="216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87" y="20200"/>
                </a:lnTo>
                <a:close/>
              </a:path>
              <a:path fill="lighten" w="216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87" h="21600">
                <a:moveTo>
                  <a:pt x="10843" y="3837"/>
                </a:moveTo>
                <a:lnTo>
                  <a:pt x="13420" y="6448"/>
                </a:lnTo>
                <a:lnTo>
                  <a:pt x="13420" y="4707"/>
                </a:lnTo>
                <a:lnTo>
                  <a:pt x="15195" y="4707"/>
                </a:lnTo>
                <a:lnTo>
                  <a:pt x="15195" y="8224"/>
                </a:lnTo>
                <a:lnTo>
                  <a:pt x="17806" y="10800"/>
                </a:lnTo>
                <a:lnTo>
                  <a:pt x="16153" y="10800"/>
                </a:lnTo>
                <a:lnTo>
                  <a:pt x="16153" y="17989"/>
                </a:lnTo>
                <a:lnTo>
                  <a:pt x="5534" y="17989"/>
                </a:lnTo>
                <a:lnTo>
                  <a:pt x="5534" y="10800"/>
                </a:lnTo>
                <a:lnTo>
                  <a:pt x="3880" y="10800"/>
                </a:lnTo>
                <a:close/>
              </a:path>
              <a:path fill="darkenLess" w="21687" h="21600">
                <a:moveTo>
                  <a:pt x="13420" y="6448"/>
                </a:moveTo>
                <a:lnTo>
                  <a:pt x="13420" y="4707"/>
                </a:lnTo>
                <a:lnTo>
                  <a:pt x="15195" y="4707"/>
                </a:lnTo>
                <a:lnTo>
                  <a:pt x="15195" y="8224"/>
                </a:lnTo>
                <a:close/>
              </a:path>
              <a:path fill="darkenLess" w="21687" h="21600">
                <a:moveTo>
                  <a:pt x="9921" y="14299"/>
                </a:moveTo>
                <a:lnTo>
                  <a:pt x="11766" y="14299"/>
                </a:lnTo>
                <a:lnTo>
                  <a:pt x="11766" y="17989"/>
                </a:lnTo>
                <a:lnTo>
                  <a:pt x="16153" y="17989"/>
                </a:lnTo>
                <a:lnTo>
                  <a:pt x="16153" y="10800"/>
                </a:lnTo>
                <a:lnTo>
                  <a:pt x="5534" y="10800"/>
                </a:lnTo>
                <a:lnTo>
                  <a:pt x="5534" y="17989"/>
                </a:lnTo>
                <a:lnTo>
                  <a:pt x="992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ff"/>
                </a:solidFill>
                <a:latin typeface="Kunstler Script"/>
              </a:rPr>
              <a:t>Виш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708000" y="1557360"/>
            <a:ext cx="5046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ишню широко культивируют в Ро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лоды созревают в июне – августе. В них содержатся до 15% сахаров, до 2,7% органических кислот, витамины А, В1, С, РР и другие компонен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78"/>
          <p:cNvPicPr/>
          <p:nvPr/>
        </p:nvPicPr>
        <p:blipFill>
          <a:blip r:embed="rId1"/>
          <a:stretch/>
        </p:blipFill>
        <p:spPr>
          <a:xfrm>
            <a:off x="755640" y="2565360"/>
            <a:ext cx="2160720" cy="201600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10">
            <a:hlinkClick r:id="rId2" action="ppaction://hlinksldjump"/>
          </p:cNvPr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12804" y="3837"/>
                </a:moveTo>
                <a:lnTo>
                  <a:pt x="15380" y="6448"/>
                </a:lnTo>
                <a:lnTo>
                  <a:pt x="15380" y="4707"/>
                </a:lnTo>
                <a:lnTo>
                  <a:pt x="17156" y="4707"/>
                </a:lnTo>
                <a:lnTo>
                  <a:pt x="17156" y="8224"/>
                </a:lnTo>
                <a:lnTo>
                  <a:pt x="19767" y="10800"/>
                </a:lnTo>
                <a:lnTo>
                  <a:pt x="18113" y="10800"/>
                </a:lnTo>
                <a:lnTo>
                  <a:pt x="18113" y="17989"/>
                </a:lnTo>
                <a:lnTo>
                  <a:pt x="7495" y="17989"/>
                </a:lnTo>
                <a:lnTo>
                  <a:pt x="7495" y="10800"/>
                </a:lnTo>
                <a:lnTo>
                  <a:pt x="5841" y="10800"/>
                </a:lnTo>
                <a:close/>
              </a:path>
              <a:path fill="darkenLess" w="25608" h="21600">
                <a:moveTo>
                  <a:pt x="15380" y="6448"/>
                </a:moveTo>
                <a:lnTo>
                  <a:pt x="15380" y="4707"/>
                </a:lnTo>
                <a:lnTo>
                  <a:pt x="17156" y="4707"/>
                </a:lnTo>
                <a:lnTo>
                  <a:pt x="17156" y="8224"/>
                </a:lnTo>
                <a:close/>
              </a:path>
              <a:path fill="darkenLess" w="25608" h="21600">
                <a:moveTo>
                  <a:pt x="11881" y="14299"/>
                </a:moveTo>
                <a:lnTo>
                  <a:pt x="13726" y="14299"/>
                </a:lnTo>
                <a:lnTo>
                  <a:pt x="13726" y="17989"/>
                </a:lnTo>
                <a:lnTo>
                  <a:pt x="18113" y="17989"/>
                </a:lnTo>
                <a:lnTo>
                  <a:pt x="18113" y="10800"/>
                </a:lnTo>
                <a:lnTo>
                  <a:pt x="7495" y="10800"/>
                </a:lnTo>
                <a:lnTo>
                  <a:pt x="7495" y="17989"/>
                </a:lnTo>
                <a:lnTo>
                  <a:pt x="1188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ff"/>
                </a:solidFill>
                <a:latin typeface="Kunstler Script"/>
              </a:rPr>
              <a:t>Абрикос и перс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708000" y="1600200"/>
            <a:ext cx="497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брикосы и персики теплолюбивые культуры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лоды абрикоса – важнейшее сырье в консервной и кондитерской промышленности, отличаются высокими вкусовыми качествами  и обладают ценными свойств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ушеные плоды с косточкой называют урюком. А без нее – кураг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лоды персика употребляют в свежем и переработанном вид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мякоти персика содержатся до 15% сахаров, витамины С, В1, В2, Е, соли калия, карот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2" descr="33"/>
          <p:cNvPicPr/>
          <p:nvPr/>
        </p:nvPicPr>
        <p:blipFill>
          <a:blip r:embed="rId1"/>
          <a:stretch/>
        </p:blipFill>
        <p:spPr>
          <a:xfrm>
            <a:off x="826920" y="3789360"/>
            <a:ext cx="2448000" cy="195912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14">
            <a:hlinkClick r:id="rId2" action="ppaction://hlinksldjump"/>
          </p:cNvPr>
          <p:cNvSpPr/>
          <p:nvPr/>
        </p:nvSpPr>
        <p:spPr>
          <a:xfrm>
            <a:off x="8675640" y="652464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95" name="Picture 20" descr="100"/>
          <p:cNvPicPr/>
          <p:nvPr/>
        </p:nvPicPr>
        <p:blipFill>
          <a:blip r:embed="rId3"/>
          <a:stretch/>
        </p:blipFill>
        <p:spPr>
          <a:xfrm>
            <a:off x="1042920" y="1628640"/>
            <a:ext cx="1584360" cy="129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8000"/>
                </a:solidFill>
                <a:latin typeface="Kunstler Script"/>
              </a:rPr>
              <a:t>Тропические и субтропические</a:t>
            </a:r>
            <a:br>
              <a:rPr sz="4000"/>
            </a:br>
            <a:r>
              <a:rPr b="1" i="1" lang="ru-RU" sz="4000" spc="-1" strike="noStrike">
                <a:solidFill>
                  <a:srgbClr val="008000"/>
                </a:solidFill>
                <a:latin typeface="Kunstler Script"/>
              </a:rPr>
              <a:t>пл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своему внешнему виду и строению плоды этой группы очень разнообраз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 тропическим  и субтропическим относятся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Анана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4" action="ppaction://hlinksldjump"/>
              </a:rPr>
              <a:t>Бан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6" action="ppaction://hlinksldjump"/>
              </a:rPr>
              <a:t>Инжи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8" action="ppaction://hlinksldjump"/>
              </a:rPr>
              <a:t>Хур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cc"/>
                </a:solidFill>
                <a:latin typeface="Kunstler Script"/>
              </a:rPr>
              <a:t>Бана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708000" y="1557000"/>
            <a:ext cx="497844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ананы – это плоды крупного травянистого растения высотой от трех до десяти метров, произрастающего преимущественно в тропических стран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ананы растут гроздьями (банчами), в грозди плоды расположены кистями, по 10 – 15 штук в кажд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лоды бананов состоят из плотной кожуры и мяко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них содержится сахар, крахмал, минеральные вещества, витамин С, Витамины группы В. Используют их в основном в свежем ви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CAQ9I9ZG"/>
          <p:cNvPicPr/>
          <p:nvPr/>
        </p:nvPicPr>
        <p:blipFill>
          <a:blip r:embed="rId1"/>
          <a:stretch/>
        </p:blipFill>
        <p:spPr>
          <a:xfrm>
            <a:off x="1063800" y="1413000"/>
            <a:ext cx="2209680" cy="2952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CACXUJST"/>
          <p:cNvPicPr/>
          <p:nvPr/>
        </p:nvPicPr>
        <p:blipFill>
          <a:blip r:embed="rId2"/>
          <a:stretch/>
        </p:blipFill>
        <p:spPr>
          <a:xfrm>
            <a:off x="1476360" y="4797360"/>
            <a:ext cx="1584360" cy="118440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10">
            <a:hlinkClick r:id="rId3" action="ppaction://hlinksldjump"/>
          </p:cNvPr>
          <p:cNvSpPr/>
          <p:nvPr/>
        </p:nvSpPr>
        <p:spPr>
          <a:xfrm>
            <a:off x="8675640" y="6524640"/>
            <a:ext cx="468360" cy="333360"/>
          </a:xfrm>
          <a:custGeom>
            <a:avLst/>
            <a:gdLst>
              <a:gd name="textAreaLeft" fmla="*/ 21600 w 468360"/>
              <a:gd name="textAreaRight" fmla="*/ 446760 w 468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0338" h="21600">
                <a:moveTo>
                  <a:pt x="0" y="0"/>
                </a:moveTo>
                <a:lnTo>
                  <a:pt x="30338" y="0"/>
                </a:lnTo>
                <a:lnTo>
                  <a:pt x="30338" y="21600"/>
                </a:lnTo>
                <a:lnTo>
                  <a:pt x="0" y="21600"/>
                </a:lnTo>
                <a:close/>
              </a:path>
              <a:path fill="lightenLess" w="30338" h="21600">
                <a:moveTo>
                  <a:pt x="0" y="0"/>
                </a:moveTo>
                <a:lnTo>
                  <a:pt x="30338" y="0"/>
                </a:lnTo>
                <a:lnTo>
                  <a:pt x="28938" y="1400"/>
                </a:lnTo>
                <a:lnTo>
                  <a:pt x="1400" y="1400"/>
                </a:lnTo>
                <a:close/>
              </a:path>
              <a:path fill="darken" w="30338" h="21600">
                <a:moveTo>
                  <a:pt x="30338" y="0"/>
                </a:moveTo>
                <a:lnTo>
                  <a:pt x="30338" y="21600"/>
                </a:lnTo>
                <a:lnTo>
                  <a:pt x="28938" y="20200"/>
                </a:lnTo>
                <a:lnTo>
                  <a:pt x="28938" y="1400"/>
                </a:lnTo>
                <a:close/>
              </a:path>
              <a:path fill="darkenLess" w="30338" h="21600">
                <a:moveTo>
                  <a:pt x="303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38" y="20200"/>
                </a:lnTo>
                <a:close/>
              </a:path>
              <a:path fill="lighten" w="303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38" h="21600">
                <a:moveTo>
                  <a:pt x="15169" y="3837"/>
                </a:moveTo>
                <a:lnTo>
                  <a:pt x="17745" y="6448"/>
                </a:lnTo>
                <a:lnTo>
                  <a:pt x="17745" y="4707"/>
                </a:lnTo>
                <a:lnTo>
                  <a:pt x="19521" y="4707"/>
                </a:lnTo>
                <a:lnTo>
                  <a:pt x="19521" y="8224"/>
                </a:lnTo>
                <a:lnTo>
                  <a:pt x="22132" y="10800"/>
                </a:lnTo>
                <a:lnTo>
                  <a:pt x="20478" y="10800"/>
                </a:lnTo>
                <a:lnTo>
                  <a:pt x="20478" y="17989"/>
                </a:lnTo>
                <a:lnTo>
                  <a:pt x="9860" y="17989"/>
                </a:lnTo>
                <a:lnTo>
                  <a:pt x="9860" y="10800"/>
                </a:lnTo>
                <a:lnTo>
                  <a:pt x="8206" y="10800"/>
                </a:lnTo>
                <a:close/>
              </a:path>
              <a:path fill="darkenLess" w="30338" h="21600">
                <a:moveTo>
                  <a:pt x="17745" y="6448"/>
                </a:moveTo>
                <a:lnTo>
                  <a:pt x="17745" y="4707"/>
                </a:lnTo>
                <a:lnTo>
                  <a:pt x="19521" y="4707"/>
                </a:lnTo>
                <a:lnTo>
                  <a:pt x="19521" y="8224"/>
                </a:lnTo>
                <a:close/>
              </a:path>
              <a:path fill="darkenLess" w="30338" h="21600">
                <a:moveTo>
                  <a:pt x="14246" y="14299"/>
                </a:moveTo>
                <a:lnTo>
                  <a:pt x="16092" y="14299"/>
                </a:lnTo>
                <a:lnTo>
                  <a:pt x="16092" y="17989"/>
                </a:lnTo>
                <a:lnTo>
                  <a:pt x="20478" y="17989"/>
                </a:lnTo>
                <a:lnTo>
                  <a:pt x="20478" y="10800"/>
                </a:lnTo>
                <a:lnTo>
                  <a:pt x="9860" y="10800"/>
                </a:lnTo>
                <a:lnTo>
                  <a:pt x="9860" y="17989"/>
                </a:lnTo>
                <a:lnTo>
                  <a:pt x="14246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cc"/>
                </a:solidFill>
                <a:latin typeface="Kunstler Script"/>
              </a:rPr>
              <a:t>Анана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140000" y="1915920"/>
            <a:ext cx="4546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unstler Script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Kunstler Script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нанас (Ananas) - род многолетних вечнозелёных трав семейства Бромелиевы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 верхушечного соцветия многочисленных, плотно сросшихся трубчатых цветков формируется крупное (достигающие иногда 15 кг) оранжево-коричневое соплод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держащиеся в ананасе сахара, кислоты, витамины и другие вещества делают его полезным продуктом, нормализующим обмен веществ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CAOXQNC1"/>
          <p:cNvPicPr/>
          <p:nvPr/>
        </p:nvPicPr>
        <p:blipFill>
          <a:blip r:embed="rId1"/>
          <a:stretch/>
        </p:blipFill>
        <p:spPr>
          <a:xfrm>
            <a:off x="1547640" y="1989000"/>
            <a:ext cx="1440000" cy="1211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CAAZ41Y3"/>
          <p:cNvPicPr/>
          <p:nvPr/>
        </p:nvPicPr>
        <p:blipFill>
          <a:blip r:embed="rId2"/>
          <a:stretch/>
        </p:blipFill>
        <p:spPr>
          <a:xfrm>
            <a:off x="1403280" y="3716280"/>
            <a:ext cx="1670040" cy="223200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9">
            <a:hlinkClick r:id="rId3" action="ppaction://hlinksldjump"/>
          </p:cNvPr>
          <p:cNvSpPr/>
          <p:nvPr/>
        </p:nvSpPr>
        <p:spPr>
          <a:xfrm>
            <a:off x="8604360" y="6524640"/>
            <a:ext cx="539640" cy="333360"/>
          </a:xfrm>
          <a:custGeom>
            <a:avLst/>
            <a:gdLst>
              <a:gd name="textAreaLeft" fmla="*/ 21600 w 539640"/>
              <a:gd name="textAreaRight" fmla="*/ 518040 w 539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4951" h="21600">
                <a:moveTo>
                  <a:pt x="0" y="0"/>
                </a:moveTo>
                <a:lnTo>
                  <a:pt x="34951" y="0"/>
                </a:lnTo>
                <a:lnTo>
                  <a:pt x="34951" y="21600"/>
                </a:lnTo>
                <a:lnTo>
                  <a:pt x="0" y="21600"/>
                </a:lnTo>
                <a:close/>
              </a:path>
              <a:path fill="lightenLess" w="34951" h="21600">
                <a:moveTo>
                  <a:pt x="0" y="0"/>
                </a:moveTo>
                <a:lnTo>
                  <a:pt x="34951" y="0"/>
                </a:lnTo>
                <a:lnTo>
                  <a:pt x="33551" y="1400"/>
                </a:lnTo>
                <a:lnTo>
                  <a:pt x="1400" y="1400"/>
                </a:lnTo>
                <a:close/>
              </a:path>
              <a:path fill="darken" w="34951" h="21600">
                <a:moveTo>
                  <a:pt x="34951" y="0"/>
                </a:moveTo>
                <a:lnTo>
                  <a:pt x="34951" y="21600"/>
                </a:lnTo>
                <a:lnTo>
                  <a:pt x="33551" y="20200"/>
                </a:lnTo>
                <a:lnTo>
                  <a:pt x="33551" y="1400"/>
                </a:lnTo>
                <a:close/>
              </a:path>
              <a:path fill="darkenLess" w="34951" h="21600">
                <a:moveTo>
                  <a:pt x="349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551" y="20200"/>
                </a:lnTo>
                <a:close/>
              </a:path>
              <a:path fill="lighten" w="349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951" h="21600">
                <a:moveTo>
                  <a:pt x="17476" y="3837"/>
                </a:moveTo>
                <a:lnTo>
                  <a:pt x="20052" y="6448"/>
                </a:lnTo>
                <a:lnTo>
                  <a:pt x="20052" y="4707"/>
                </a:lnTo>
                <a:lnTo>
                  <a:pt x="21828" y="4707"/>
                </a:lnTo>
                <a:lnTo>
                  <a:pt x="21828" y="8224"/>
                </a:lnTo>
                <a:lnTo>
                  <a:pt x="24439" y="10800"/>
                </a:lnTo>
                <a:lnTo>
                  <a:pt x="22785" y="10800"/>
                </a:lnTo>
                <a:lnTo>
                  <a:pt x="22785" y="17989"/>
                </a:lnTo>
                <a:lnTo>
                  <a:pt x="12166" y="17989"/>
                </a:lnTo>
                <a:lnTo>
                  <a:pt x="12166" y="10800"/>
                </a:lnTo>
                <a:lnTo>
                  <a:pt x="10513" y="10800"/>
                </a:lnTo>
                <a:close/>
              </a:path>
              <a:path fill="darkenLess" w="34951" h="21600">
                <a:moveTo>
                  <a:pt x="20052" y="6448"/>
                </a:moveTo>
                <a:lnTo>
                  <a:pt x="20052" y="4707"/>
                </a:lnTo>
                <a:lnTo>
                  <a:pt x="21828" y="4707"/>
                </a:lnTo>
                <a:lnTo>
                  <a:pt x="21828" y="8224"/>
                </a:lnTo>
                <a:close/>
              </a:path>
              <a:path fill="darkenLess" w="34951" h="21600">
                <a:moveTo>
                  <a:pt x="16553" y="14299"/>
                </a:moveTo>
                <a:lnTo>
                  <a:pt x="18398" y="14299"/>
                </a:lnTo>
                <a:lnTo>
                  <a:pt x="18398" y="17989"/>
                </a:lnTo>
                <a:lnTo>
                  <a:pt x="22785" y="17989"/>
                </a:lnTo>
                <a:lnTo>
                  <a:pt x="22785" y="10800"/>
                </a:lnTo>
                <a:lnTo>
                  <a:pt x="12166" y="10800"/>
                </a:lnTo>
                <a:lnTo>
                  <a:pt x="12166" y="17989"/>
                </a:lnTo>
                <a:lnTo>
                  <a:pt x="1655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cc"/>
                </a:solidFill>
                <a:latin typeface="Kunstler Script"/>
              </a:rPr>
              <a:t>Инжи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51280" y="1989000"/>
            <a:ext cx="483552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нжир (винная ягода, фиговое дерево) – субтропическое дерево из семейства тутовых 12м мыс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ежие плоды инжира содержат до 24% сахаров, а сушеные до 37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плодах содержатся органические кислоты, дубильные вещества, белки, жир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нжир употребляют в свежем, сушеном, консервированном виде. Из свежих плодов варят варенье и дж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CAUNUTQ5"/>
          <p:cNvPicPr/>
          <p:nvPr/>
        </p:nvPicPr>
        <p:blipFill>
          <a:blip r:embed="rId1"/>
          <a:stretch/>
        </p:blipFill>
        <p:spPr>
          <a:xfrm>
            <a:off x="1476360" y="1773360"/>
            <a:ext cx="1355760" cy="1258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CAWPIFSD"/>
          <p:cNvPicPr/>
          <p:nvPr/>
        </p:nvPicPr>
        <p:blipFill>
          <a:blip r:embed="rId2"/>
          <a:stretch/>
        </p:blipFill>
        <p:spPr>
          <a:xfrm>
            <a:off x="1116000" y="3429000"/>
            <a:ext cx="1898640" cy="251928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0">
            <a:hlinkClick r:id="rId3" action="ppaction://hlinksldjump"/>
          </p:cNvPr>
          <p:cNvSpPr/>
          <p:nvPr/>
        </p:nvSpPr>
        <p:spPr>
          <a:xfrm>
            <a:off x="8532720" y="630864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cc"/>
                </a:solidFill>
                <a:latin typeface="Kunstler Script"/>
              </a:rPr>
              <a:t>Хур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51280" y="1989000"/>
            <a:ext cx="483552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урма содержит в 2 раза больше пищевых волокон и полезных микроэлементов, чем ябло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ней также много антиоксидантов. Плоды хурмы содержат большое количество воды, золу, белки, углеводы, органические кислоты, дубильные ве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от фрукт также богат калием, кальцием, магнием, фосфором и железом, а также витаминами А, С и P.  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CAWYL2JZ"/>
          <p:cNvPicPr/>
          <p:nvPr/>
        </p:nvPicPr>
        <p:blipFill>
          <a:blip r:embed="rId1"/>
          <a:stretch/>
        </p:blipFill>
        <p:spPr>
          <a:xfrm>
            <a:off x="1332000" y="1916280"/>
            <a:ext cx="1512720" cy="1380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CA6KDNZ9"/>
          <p:cNvPicPr/>
          <p:nvPr/>
        </p:nvPicPr>
        <p:blipFill>
          <a:blip r:embed="rId2"/>
          <a:stretch/>
        </p:blipFill>
        <p:spPr>
          <a:xfrm>
            <a:off x="1116000" y="3933720"/>
            <a:ext cx="2232000" cy="180036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10">
            <a:hlinkClick r:id="rId3" action="ppaction://hlinksldjump"/>
          </p:cNvPr>
          <p:cNvSpPr/>
          <p:nvPr/>
        </p:nvSpPr>
        <p:spPr>
          <a:xfrm>
            <a:off x="8820000" y="6453360"/>
            <a:ext cx="324000" cy="40464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404640"/>
              <a:gd name="textAreaBottom" fmla="*/ 383760 h 404640"/>
            </a:gdLst>
            <a:ahLst/>
            <a:rect l="textAreaLeft" t="textAreaTop" r="textAreaRight" b="textAreaBottom"/>
            <a:pathLst>
              <a:path w="21600" h="26970">
                <a:moveTo>
                  <a:pt x="0" y="0"/>
                </a:moveTo>
                <a:lnTo>
                  <a:pt x="21600" y="0"/>
                </a:lnTo>
                <a:lnTo>
                  <a:pt x="21600" y="26970"/>
                </a:lnTo>
                <a:lnTo>
                  <a:pt x="0" y="26970"/>
                </a:lnTo>
                <a:close/>
              </a:path>
              <a:path fill="lightenLess" w="21600" h="2697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0">
                <a:moveTo>
                  <a:pt x="21600" y="0"/>
                </a:moveTo>
                <a:lnTo>
                  <a:pt x="21600" y="26970"/>
                </a:lnTo>
                <a:lnTo>
                  <a:pt x="20200" y="25570"/>
                </a:lnTo>
                <a:lnTo>
                  <a:pt x="20200" y="1400"/>
                </a:lnTo>
                <a:close/>
              </a:path>
              <a:path fill="darkenLess" w="21600" h="26970">
                <a:moveTo>
                  <a:pt x="21600" y="26970"/>
                </a:moveTo>
                <a:lnTo>
                  <a:pt x="0" y="26970"/>
                </a:lnTo>
                <a:lnTo>
                  <a:pt x="1400" y="25570"/>
                </a:lnTo>
                <a:lnTo>
                  <a:pt x="20200" y="25570"/>
                </a:lnTo>
                <a:close/>
              </a:path>
              <a:path fill="lighten" w="21600" h="26970">
                <a:moveTo>
                  <a:pt x="0" y="2697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0"/>
                </a:lnTo>
                <a:close/>
              </a:path>
              <a:path fill="darken" w="21600" h="26970">
                <a:moveTo>
                  <a:pt x="10800" y="6522"/>
                </a:moveTo>
                <a:lnTo>
                  <a:pt x="13376" y="9133"/>
                </a:lnTo>
                <a:lnTo>
                  <a:pt x="13376" y="7392"/>
                </a:lnTo>
                <a:lnTo>
                  <a:pt x="15152" y="7392"/>
                </a:lnTo>
                <a:lnTo>
                  <a:pt x="15152" y="10909"/>
                </a:lnTo>
                <a:lnTo>
                  <a:pt x="17763" y="13485"/>
                </a:lnTo>
                <a:lnTo>
                  <a:pt x="16109" y="13485"/>
                </a:lnTo>
                <a:lnTo>
                  <a:pt x="16109" y="20674"/>
                </a:lnTo>
                <a:lnTo>
                  <a:pt x="5491" y="20674"/>
                </a:lnTo>
                <a:lnTo>
                  <a:pt x="5491" y="13485"/>
                </a:lnTo>
                <a:lnTo>
                  <a:pt x="3837" y="13485"/>
                </a:lnTo>
                <a:close/>
              </a:path>
              <a:path fill="darkenLess" w="21600" h="26970">
                <a:moveTo>
                  <a:pt x="13376" y="9133"/>
                </a:moveTo>
                <a:lnTo>
                  <a:pt x="13376" y="7392"/>
                </a:lnTo>
                <a:lnTo>
                  <a:pt x="15152" y="7392"/>
                </a:lnTo>
                <a:lnTo>
                  <a:pt x="15152" y="10909"/>
                </a:lnTo>
                <a:close/>
              </a:path>
              <a:path fill="darkenLess" w="21600" h="26970">
                <a:moveTo>
                  <a:pt x="9877" y="16984"/>
                </a:moveTo>
                <a:lnTo>
                  <a:pt x="11723" y="16984"/>
                </a:lnTo>
                <a:lnTo>
                  <a:pt x="11723" y="20674"/>
                </a:lnTo>
                <a:lnTo>
                  <a:pt x="16109" y="20674"/>
                </a:lnTo>
                <a:lnTo>
                  <a:pt x="16109" y="13485"/>
                </a:lnTo>
                <a:lnTo>
                  <a:pt x="5491" y="13485"/>
                </a:lnTo>
                <a:lnTo>
                  <a:pt x="5491" y="20674"/>
                </a:lnTo>
                <a:lnTo>
                  <a:pt x="9877" y="2067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Kunstler Script"/>
              </a:rPr>
              <a:t>Яг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Kunstler Script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годные культуры- большая группа многолетних кустарников, полукустарников и травянистых растений, дающих сочные пл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Kunstler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Kunstler Script"/>
              </a:rPr>
              <a:t>Настоящ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Kunstler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Kunstler Script"/>
              </a:rPr>
              <a:t>Лож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Kunstler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Kunstler Script"/>
              </a:rPr>
              <a:t>Слож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4292280"/>
            <a:ext cx="8229600" cy="18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мена у которых погружены непосредственно в мякоть к ним  относя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Organization Chart 8"/>
          <p:cNvGrpSpPr/>
          <p:nvPr/>
        </p:nvGrpSpPr>
        <p:grpSpPr>
          <a:xfrm>
            <a:off x="442800" y="1125360"/>
            <a:ext cx="8064000" cy="2950200"/>
            <a:chOff x="442800" y="1125360"/>
            <a:chExt cx="8064000" cy="2950200"/>
          </a:xfrm>
        </p:grpSpPr>
        <p:cxnSp>
          <p:nvCxnSpPr>
            <p:cNvPr id="123" name="_s2052"/>
            <p:cNvCxnSpPr>
              <a:stCxn id="124" idx="0"/>
              <a:endCxn id="125" idx="2"/>
            </p:cNvCxnSpPr>
            <p:nvPr/>
          </p:nvCxnSpPr>
          <p:spPr>
            <a:xfrm flipV="1" rot="16200000">
              <a:off x="5590440" y="1188360"/>
              <a:ext cx="590760" cy="2823120"/>
            </a:xfrm>
            <a:prstGeom prst="bentConnector3">
              <a:avLst>
                <a:gd name="adj1" fmla="val 1841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6" name="_s2053"/>
            <p:cNvCxnSpPr>
              <a:stCxn id="127" idx="0"/>
              <a:endCxn id="125" idx="2"/>
            </p:cNvCxnSpPr>
            <p:nvPr/>
          </p:nvCxnSpPr>
          <p:spPr>
            <a:xfrm flipV="1">
              <a:off x="4474800" y="2304720"/>
              <a:ext cx="3600" cy="590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8" name="_s2054"/>
            <p:cNvCxnSpPr>
              <a:stCxn id="129" idx="0"/>
              <a:endCxn id="125" idx="2"/>
            </p:cNvCxnSpPr>
            <p:nvPr/>
          </p:nvCxnSpPr>
          <p:spPr>
            <a:xfrm flipH="1" flipV="1" rot="5400000">
              <a:off x="2768400" y="1188720"/>
              <a:ext cx="590760" cy="2823120"/>
            </a:xfrm>
            <a:prstGeom prst="bentConnector3">
              <a:avLst>
                <a:gd name="adj1" fmla="val 1841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5" name="_s2055"/>
            <p:cNvSpPr/>
            <p:nvPr/>
          </p:nvSpPr>
          <p:spPr>
            <a:xfrm>
              <a:off x="3265200" y="1125360"/>
              <a:ext cx="2419200" cy="1180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8000"/>
                  </a:solidFill>
                  <a:latin typeface="Kunstler Script"/>
                </a:rPr>
                <a:t>Настоящие</a:t>
              </a:r>
              <a:endParaRPr b="0" lang="en-US" sz="3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9" name="_s2056"/>
            <p:cNvSpPr/>
            <p:nvPr/>
          </p:nvSpPr>
          <p:spPr>
            <a:xfrm>
              <a:off x="442800" y="2895480"/>
              <a:ext cx="2419200" cy="1180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Times New Roman"/>
                  <a:hlinkClick r:id="rId1" action="ppaction://hlinksldjump"/>
                </a:rPr>
                <a:t>Виноград</a:t>
              </a:r>
              <a:endParaRPr b="0" lang="en-US" sz="3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7" name="_s2057"/>
            <p:cNvSpPr/>
            <p:nvPr/>
          </p:nvSpPr>
          <p:spPr>
            <a:xfrm>
              <a:off x="3265200" y="2895480"/>
              <a:ext cx="2419200" cy="1180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Times New Roman"/>
                  <a:hlinkClick r:id="rId2" action="ppaction://hlinksldjump"/>
                </a:rPr>
                <a:t>Смородина</a:t>
              </a:r>
              <a:endParaRPr b="0" lang="en-US" sz="3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4" name="_s2058"/>
            <p:cNvSpPr/>
            <p:nvPr/>
          </p:nvSpPr>
          <p:spPr>
            <a:xfrm>
              <a:off x="6087600" y="2895480"/>
              <a:ext cx="2419200" cy="1180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Times New Roman"/>
                  <a:hlinkClick r:id="rId3" action="ppaction://hlinksldjump"/>
                </a:rPr>
                <a:t>Крыжовник</a:t>
              </a:r>
              <a:endParaRPr b="0" lang="en-US" sz="3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1960"/>
            <a:ext cx="82296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458100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рукты, ягоды, орехи – являются незаменимыми продуктами, без которых, как и без овощей невозможно организовать рациональное пит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Organization Chart 10"/>
          <p:cNvGrpSpPr/>
          <p:nvPr/>
        </p:nvGrpSpPr>
        <p:grpSpPr>
          <a:xfrm>
            <a:off x="477720" y="996840"/>
            <a:ext cx="8208360" cy="2663280"/>
            <a:chOff x="477720" y="996840"/>
            <a:chExt cx="8208360" cy="2663280"/>
          </a:xfrm>
        </p:grpSpPr>
        <p:cxnSp>
          <p:nvCxnSpPr>
            <p:cNvPr id="53" name="_s1028"/>
            <p:cNvCxnSpPr>
              <a:stCxn id="54" idx="0"/>
              <a:endCxn id="55" idx="2"/>
            </p:cNvCxnSpPr>
            <p:nvPr/>
          </p:nvCxnSpPr>
          <p:spPr>
            <a:xfrm flipV="1" rot="16200000">
              <a:off x="5751720" y="891000"/>
              <a:ext cx="533160" cy="2873520"/>
            </a:xfrm>
            <a:prstGeom prst="bentConnector3">
              <a:avLst>
                <a:gd name="adj1" fmla="val 2635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" name="_s1029"/>
            <p:cNvCxnSpPr>
              <a:stCxn id="57" idx="0"/>
              <a:endCxn id="55" idx="2"/>
            </p:cNvCxnSpPr>
            <p:nvPr/>
          </p:nvCxnSpPr>
          <p:spPr>
            <a:xfrm flipV="1">
              <a:off x="4582080" y="2061360"/>
              <a:ext cx="3600" cy="533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8" name="_s1030"/>
            <p:cNvCxnSpPr>
              <a:stCxn id="59" idx="0"/>
              <a:endCxn id="55" idx="2"/>
            </p:cNvCxnSpPr>
            <p:nvPr/>
          </p:nvCxnSpPr>
          <p:spPr>
            <a:xfrm flipH="1" flipV="1" rot="5400000">
              <a:off x="2878920" y="891360"/>
              <a:ext cx="533160" cy="2873520"/>
            </a:xfrm>
            <a:prstGeom prst="bentConnector3">
              <a:avLst>
                <a:gd name="adj1" fmla="val 2635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5" name="_s1031"/>
            <p:cNvSpPr/>
            <p:nvPr/>
          </p:nvSpPr>
          <p:spPr>
            <a:xfrm>
              <a:off x="3350520" y="996840"/>
              <a:ext cx="2462400" cy="106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ff"/>
                  </a:solidFill>
                  <a:latin typeface="Kunstler Script"/>
                </a:rPr>
                <a:t>Плоды</a:t>
              </a:r>
              <a:endParaRPr b="0" lang="en-US" sz="4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9" name="_s1032"/>
            <p:cNvSpPr/>
            <p:nvPr/>
          </p:nvSpPr>
          <p:spPr>
            <a:xfrm>
              <a:off x="477720" y="2594880"/>
              <a:ext cx="2462400" cy="106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ff"/>
                  </a:solidFill>
                  <a:latin typeface="Kunstler Script"/>
                </a:rPr>
                <a:t>фрукты</a:t>
              </a:r>
              <a:endParaRPr b="0" lang="en-US" sz="4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7" name="_s1033"/>
            <p:cNvSpPr/>
            <p:nvPr/>
          </p:nvSpPr>
          <p:spPr>
            <a:xfrm>
              <a:off x="3350520" y="2594880"/>
              <a:ext cx="2462400" cy="106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Kunstler Script"/>
                </a:rPr>
                <a:t>ягоды</a:t>
              </a:r>
              <a:endParaRPr b="0" lang="en-US" sz="4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4" name="_s1034"/>
            <p:cNvSpPr/>
            <p:nvPr/>
          </p:nvSpPr>
          <p:spPr>
            <a:xfrm>
              <a:off x="6223680" y="2594880"/>
              <a:ext cx="2462400" cy="106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cc3300"/>
                  </a:solidFill>
                  <a:latin typeface="Kunstler Script"/>
                </a:rPr>
                <a:t>орехи</a:t>
              </a:r>
              <a:endParaRPr b="0" lang="en-US" sz="4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Kunstler Script"/>
              </a:rPr>
              <a:t>Виногра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564000" y="1915920"/>
            <a:ext cx="5046480" cy="41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Цветет виноград в мае - июне, созревает в августе - сентябре, а некоторые сорта даже в октябре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В виноградных ягодах содержится много воды - от 55 до 87%, сахаров от 16 до 26%, в основном глюкоза и фруктоза, гликозиды, клетчатка, пектиновые, ароматические и дубильные веще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годы содержат кислоты: яблочную, лимонную, винную, фосфорную, янтарную, кремниевую, муравьиную, щавелевую и др., соли калия, магния, железа, фосфора, кобальта и ферменты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В кожице ягод имеются дубильные, пектиновые, красящие вещества, антоцианы, а также эфирные мас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8" descr="CAJPOR9D"/>
          <p:cNvPicPr/>
          <p:nvPr/>
        </p:nvPicPr>
        <p:blipFill>
          <a:blip r:embed="rId1"/>
          <a:stretch/>
        </p:blipFill>
        <p:spPr>
          <a:xfrm>
            <a:off x="1042920" y="1916280"/>
            <a:ext cx="2160720" cy="1780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CAFZ9IGL"/>
          <p:cNvPicPr/>
          <p:nvPr/>
        </p:nvPicPr>
        <p:blipFill>
          <a:blip r:embed="rId2"/>
          <a:stretch/>
        </p:blipFill>
        <p:spPr>
          <a:xfrm>
            <a:off x="971640" y="4191120"/>
            <a:ext cx="2305080" cy="175896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10">
            <a:hlinkClick r:id="rId3" action="ppaction://hlinksldjump"/>
          </p:cNvPr>
          <p:cNvSpPr/>
          <p:nvPr/>
        </p:nvSpPr>
        <p:spPr>
          <a:xfrm>
            <a:off x="8675640" y="6524640"/>
            <a:ext cx="468360" cy="333360"/>
          </a:xfrm>
          <a:custGeom>
            <a:avLst/>
            <a:gdLst>
              <a:gd name="textAreaLeft" fmla="*/ 21600 w 468360"/>
              <a:gd name="textAreaRight" fmla="*/ 446760 w 468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0338" h="21600">
                <a:moveTo>
                  <a:pt x="0" y="0"/>
                </a:moveTo>
                <a:lnTo>
                  <a:pt x="30338" y="0"/>
                </a:lnTo>
                <a:lnTo>
                  <a:pt x="30338" y="21600"/>
                </a:lnTo>
                <a:lnTo>
                  <a:pt x="0" y="21600"/>
                </a:lnTo>
                <a:close/>
              </a:path>
              <a:path fill="lightenLess" w="30338" h="21600">
                <a:moveTo>
                  <a:pt x="0" y="0"/>
                </a:moveTo>
                <a:lnTo>
                  <a:pt x="30338" y="0"/>
                </a:lnTo>
                <a:lnTo>
                  <a:pt x="28938" y="1400"/>
                </a:lnTo>
                <a:lnTo>
                  <a:pt x="1400" y="1400"/>
                </a:lnTo>
                <a:close/>
              </a:path>
              <a:path fill="darken" w="30338" h="21600">
                <a:moveTo>
                  <a:pt x="30338" y="0"/>
                </a:moveTo>
                <a:lnTo>
                  <a:pt x="30338" y="21600"/>
                </a:lnTo>
                <a:lnTo>
                  <a:pt x="28938" y="20200"/>
                </a:lnTo>
                <a:lnTo>
                  <a:pt x="28938" y="1400"/>
                </a:lnTo>
                <a:close/>
              </a:path>
              <a:path fill="darkenLess" w="30338" h="21600">
                <a:moveTo>
                  <a:pt x="303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38" y="20200"/>
                </a:lnTo>
                <a:close/>
              </a:path>
              <a:path fill="lighten" w="303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38" h="21600">
                <a:moveTo>
                  <a:pt x="15169" y="3837"/>
                </a:moveTo>
                <a:lnTo>
                  <a:pt x="17745" y="6448"/>
                </a:lnTo>
                <a:lnTo>
                  <a:pt x="17745" y="4707"/>
                </a:lnTo>
                <a:lnTo>
                  <a:pt x="19521" y="4707"/>
                </a:lnTo>
                <a:lnTo>
                  <a:pt x="19521" y="8224"/>
                </a:lnTo>
                <a:lnTo>
                  <a:pt x="22132" y="10800"/>
                </a:lnTo>
                <a:lnTo>
                  <a:pt x="20478" y="10800"/>
                </a:lnTo>
                <a:lnTo>
                  <a:pt x="20478" y="17989"/>
                </a:lnTo>
                <a:lnTo>
                  <a:pt x="9860" y="17989"/>
                </a:lnTo>
                <a:lnTo>
                  <a:pt x="9860" y="10800"/>
                </a:lnTo>
                <a:lnTo>
                  <a:pt x="8206" y="10800"/>
                </a:lnTo>
                <a:close/>
              </a:path>
              <a:path fill="darkenLess" w="30338" h="21600">
                <a:moveTo>
                  <a:pt x="17745" y="6448"/>
                </a:moveTo>
                <a:lnTo>
                  <a:pt x="17745" y="4707"/>
                </a:lnTo>
                <a:lnTo>
                  <a:pt x="19521" y="4707"/>
                </a:lnTo>
                <a:lnTo>
                  <a:pt x="19521" y="8224"/>
                </a:lnTo>
                <a:close/>
              </a:path>
              <a:path fill="darkenLess" w="30338" h="21600">
                <a:moveTo>
                  <a:pt x="14246" y="14299"/>
                </a:moveTo>
                <a:lnTo>
                  <a:pt x="16092" y="14299"/>
                </a:lnTo>
                <a:lnTo>
                  <a:pt x="16092" y="17989"/>
                </a:lnTo>
                <a:lnTo>
                  <a:pt x="20478" y="17989"/>
                </a:lnTo>
                <a:lnTo>
                  <a:pt x="20478" y="10800"/>
                </a:lnTo>
                <a:lnTo>
                  <a:pt x="9860" y="10800"/>
                </a:lnTo>
                <a:lnTo>
                  <a:pt x="9860" y="17989"/>
                </a:lnTo>
                <a:lnTo>
                  <a:pt x="14246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Kunstler Script"/>
              </a:rPr>
              <a:t>Смород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40000" y="1989000"/>
            <a:ext cx="454644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годы черной смородины выделяются среди многих плодов и ягод высоким содержанием железа (1300 мкг/100 г), значительно большим, чем у земляники, апельсина, лимона, винограда, крыжовника, персика, сливы садовой, яблок, абрикоса и др. Из других микроэлементов в ягодах содержатся бор, кобальт, марганец, медь, молибден, цинк, фтор и т. д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CAMJ4HMB"/>
          <p:cNvPicPr/>
          <p:nvPr/>
        </p:nvPicPr>
        <p:blipFill>
          <a:blip r:embed="rId1"/>
          <a:stretch/>
        </p:blipFill>
        <p:spPr>
          <a:xfrm>
            <a:off x="1116000" y="1616040"/>
            <a:ext cx="2076480" cy="1660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CAFACVR1"/>
          <p:cNvPicPr/>
          <p:nvPr/>
        </p:nvPicPr>
        <p:blipFill>
          <a:blip r:embed="rId2"/>
          <a:stretch/>
        </p:blipFill>
        <p:spPr>
          <a:xfrm>
            <a:off x="1403280" y="3860640"/>
            <a:ext cx="1565280" cy="180036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9">
            <a:hlinkClick r:id="rId3" action="ppaction://hlinksldjump"/>
          </p:cNvPr>
          <p:cNvSpPr/>
          <p:nvPr/>
        </p:nvSpPr>
        <p:spPr>
          <a:xfrm>
            <a:off x="8532720" y="638172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Kunstler Script"/>
              </a:rPr>
              <a:t>Крыжов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780000" y="1600200"/>
            <a:ext cx="490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ичурин называл крыжовник «северным виноградом». В ягодах содержатся витамины: С (до 60 мг%), группы В, провитамин А, до 15% сахаров, минеральные вещества и микроэлементы (калий, йод, натрий, кальций, железо, марганец, кобальт, цинк, много фосфора и меди), органические кислоты (яблочная и лимонная), много фолиевой кислоты, дубильные вещества, флавоноиды. В сортах ягод темной окраски есть витамин Р и большое количество пектиновых веществ, способствующих выведению из организма человека солей тяжел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8" descr="CA402STS"/>
          <p:cNvPicPr/>
          <p:nvPr/>
        </p:nvPicPr>
        <p:blipFill>
          <a:blip r:embed="rId1"/>
          <a:stretch/>
        </p:blipFill>
        <p:spPr>
          <a:xfrm>
            <a:off x="1116000" y="2060640"/>
            <a:ext cx="1928880" cy="13827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CAGRY9WT"/>
          <p:cNvPicPr/>
          <p:nvPr/>
        </p:nvPicPr>
        <p:blipFill>
          <a:blip r:embed="rId2"/>
          <a:stretch/>
        </p:blipFill>
        <p:spPr>
          <a:xfrm>
            <a:off x="1116000" y="4365720"/>
            <a:ext cx="1979640" cy="144612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10">
            <a:hlinkClick r:id="rId3" action="ppaction://hlinksldjump"/>
          </p:cNvPr>
          <p:cNvSpPr/>
          <p:nvPr/>
        </p:nvSpPr>
        <p:spPr>
          <a:xfrm>
            <a:off x="8532720" y="6308640"/>
            <a:ext cx="287280" cy="36036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60360"/>
              <a:gd name="textAreaBottom" fmla="*/ 342000 h 360360"/>
            </a:gdLst>
            <a:ahLst/>
            <a:rect l="textAreaLeft" t="textAreaTop" r="textAreaRight" b="textAreaBottom"/>
            <a:pathLst>
              <a:path w="21600" h="27088">
                <a:moveTo>
                  <a:pt x="0" y="0"/>
                </a:moveTo>
                <a:lnTo>
                  <a:pt x="21600" y="0"/>
                </a:lnTo>
                <a:lnTo>
                  <a:pt x="21600" y="27088"/>
                </a:lnTo>
                <a:lnTo>
                  <a:pt x="0" y="27088"/>
                </a:lnTo>
                <a:close/>
              </a:path>
              <a:path fill="lightenLess" w="21600" h="270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88">
                <a:moveTo>
                  <a:pt x="21600" y="0"/>
                </a:moveTo>
                <a:lnTo>
                  <a:pt x="21600" y="27088"/>
                </a:lnTo>
                <a:lnTo>
                  <a:pt x="20200" y="25688"/>
                </a:lnTo>
                <a:lnTo>
                  <a:pt x="20200" y="1400"/>
                </a:lnTo>
                <a:close/>
              </a:path>
              <a:path fill="darkenLess" w="21600" h="27088">
                <a:moveTo>
                  <a:pt x="21600" y="27088"/>
                </a:moveTo>
                <a:lnTo>
                  <a:pt x="0" y="27088"/>
                </a:lnTo>
                <a:lnTo>
                  <a:pt x="1400" y="25688"/>
                </a:lnTo>
                <a:lnTo>
                  <a:pt x="20200" y="25688"/>
                </a:lnTo>
                <a:close/>
              </a:path>
              <a:path fill="lighten" w="21600" h="27088">
                <a:moveTo>
                  <a:pt x="0" y="270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88"/>
                </a:lnTo>
                <a:close/>
              </a:path>
              <a:path fill="darken" w="21600" h="27088">
                <a:moveTo>
                  <a:pt x="10800" y="6581"/>
                </a:moveTo>
                <a:lnTo>
                  <a:pt x="13376" y="9192"/>
                </a:lnTo>
                <a:lnTo>
                  <a:pt x="13376" y="7451"/>
                </a:lnTo>
                <a:lnTo>
                  <a:pt x="15152" y="7451"/>
                </a:lnTo>
                <a:lnTo>
                  <a:pt x="15152" y="10968"/>
                </a:lnTo>
                <a:lnTo>
                  <a:pt x="17763" y="13544"/>
                </a:lnTo>
                <a:lnTo>
                  <a:pt x="16109" y="13544"/>
                </a:lnTo>
                <a:lnTo>
                  <a:pt x="16109" y="20733"/>
                </a:lnTo>
                <a:lnTo>
                  <a:pt x="5491" y="20733"/>
                </a:lnTo>
                <a:lnTo>
                  <a:pt x="5491" y="13544"/>
                </a:lnTo>
                <a:lnTo>
                  <a:pt x="3837" y="13544"/>
                </a:lnTo>
                <a:close/>
              </a:path>
              <a:path fill="darkenLess" w="21600" h="27088">
                <a:moveTo>
                  <a:pt x="13376" y="9192"/>
                </a:moveTo>
                <a:lnTo>
                  <a:pt x="13376" y="7451"/>
                </a:lnTo>
                <a:lnTo>
                  <a:pt x="15152" y="7451"/>
                </a:lnTo>
                <a:lnTo>
                  <a:pt x="15152" y="10968"/>
                </a:lnTo>
                <a:close/>
              </a:path>
              <a:path fill="darkenLess" w="21600" h="27088">
                <a:moveTo>
                  <a:pt x="9877" y="17043"/>
                </a:moveTo>
                <a:lnTo>
                  <a:pt x="11723" y="17043"/>
                </a:lnTo>
                <a:lnTo>
                  <a:pt x="11723" y="20733"/>
                </a:lnTo>
                <a:lnTo>
                  <a:pt x="16109" y="20733"/>
                </a:lnTo>
                <a:lnTo>
                  <a:pt x="16109" y="13544"/>
                </a:lnTo>
                <a:lnTo>
                  <a:pt x="5491" y="13544"/>
                </a:lnTo>
                <a:lnTo>
                  <a:pt x="5491" y="20733"/>
                </a:lnTo>
                <a:lnTo>
                  <a:pt x="9877" y="2073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разующиеся из разросшегося цветоложа и имеющие на поверхности маленькие косто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Organization Chart 8"/>
          <p:cNvGrpSpPr/>
          <p:nvPr/>
        </p:nvGrpSpPr>
        <p:grpSpPr>
          <a:xfrm>
            <a:off x="431640" y="620640"/>
            <a:ext cx="8208000" cy="3107160"/>
            <a:chOff x="431640" y="620640"/>
            <a:chExt cx="8208000" cy="3107160"/>
          </a:xfrm>
        </p:grpSpPr>
        <p:cxnSp>
          <p:nvCxnSpPr>
            <p:cNvPr id="148" name="_s3076"/>
            <p:cNvCxnSpPr>
              <a:stCxn id="149" idx="0"/>
              <a:endCxn id="150" idx="2"/>
            </p:cNvCxnSpPr>
            <p:nvPr/>
          </p:nvCxnSpPr>
          <p:spPr>
            <a:xfrm flipV="1" rot="16200000">
              <a:off x="5329800" y="1068840"/>
              <a:ext cx="622080" cy="2210040"/>
            </a:xfrm>
            <a:prstGeom prst="bentConnector3">
              <a:avLst>
                <a:gd name="adj1" fmla="val 2634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1" name="_s3077"/>
            <p:cNvCxnSpPr>
              <a:stCxn id="152" idx="0"/>
              <a:endCxn id="150" idx="2"/>
            </p:cNvCxnSpPr>
            <p:nvPr/>
          </p:nvCxnSpPr>
          <p:spPr>
            <a:xfrm flipH="1" flipV="1" rot="5400000">
              <a:off x="3119760" y="1068480"/>
              <a:ext cx="622080" cy="2210760"/>
            </a:xfrm>
            <a:prstGeom prst="bentConnector3">
              <a:avLst>
                <a:gd name="adj1" fmla="val 2634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0" name="_s3078"/>
            <p:cNvSpPr/>
            <p:nvPr/>
          </p:nvSpPr>
          <p:spPr>
            <a:xfrm>
              <a:off x="2642040" y="620640"/>
              <a:ext cx="3788280" cy="1242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8000"/>
                  </a:solidFill>
                  <a:latin typeface="Kunstler Script"/>
                </a:rPr>
                <a:t>Ложные</a:t>
              </a:r>
              <a:endParaRPr b="0" lang="en-US" sz="3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2" name="_s3079"/>
            <p:cNvSpPr/>
            <p:nvPr/>
          </p:nvSpPr>
          <p:spPr>
            <a:xfrm>
              <a:off x="431640" y="2485080"/>
              <a:ext cx="3788280" cy="1242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Times New Roman"/>
                  <a:hlinkClick r:id="rId1" action="ppaction://hlinksldjump"/>
                </a:rPr>
                <a:t>Земляника</a:t>
              </a:r>
              <a:endParaRPr b="0" lang="en-US" sz="3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9" name="_s3080"/>
            <p:cNvSpPr/>
            <p:nvPr/>
          </p:nvSpPr>
          <p:spPr>
            <a:xfrm>
              <a:off x="4851360" y="2485080"/>
              <a:ext cx="3788280" cy="1242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Times New Roman"/>
                  <a:hlinkClick r:id="rId2" action="ppaction://hlinksldjump"/>
                </a:rPr>
                <a:t>Клубника</a:t>
              </a:r>
              <a:endParaRPr b="0" lang="en-US" sz="3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Kunstler Script"/>
              </a:rPr>
              <a:t>Земля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40000" y="2205000"/>
            <a:ext cx="454644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амая распространённая дикорастущая земляника — земляника лесная. Именно её мы привыкли собирать на опушках леса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Эта культура достаточно неприхотлива, урожайна и относительно зимостойка. Ее плоды возбуждают аппетит, улучшают пищеварение, возвращают бодрость и хорошее настро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8" descr="CAN2NYRH"/>
          <p:cNvPicPr/>
          <p:nvPr/>
        </p:nvPicPr>
        <p:blipFill>
          <a:blip r:embed="rId1"/>
          <a:stretch/>
        </p:blipFill>
        <p:spPr>
          <a:xfrm>
            <a:off x="1476360" y="4005360"/>
            <a:ext cx="1747800" cy="15634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AST2ZWT"/>
          <p:cNvPicPr/>
          <p:nvPr/>
        </p:nvPicPr>
        <p:blipFill>
          <a:blip r:embed="rId2"/>
          <a:stretch/>
        </p:blipFill>
        <p:spPr>
          <a:xfrm>
            <a:off x="1403280" y="2276640"/>
            <a:ext cx="1989360" cy="97920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11">
            <a:hlinkClick r:id="rId3" action="ppaction://hlinksldjump"/>
          </p:cNvPr>
          <p:cNvSpPr/>
          <p:nvPr/>
        </p:nvSpPr>
        <p:spPr>
          <a:xfrm>
            <a:off x="8532720" y="6524640"/>
            <a:ext cx="432000" cy="333360"/>
          </a:xfrm>
          <a:custGeom>
            <a:avLst/>
            <a:gdLst>
              <a:gd name="textAreaLeft" fmla="*/ 21600 w 432000"/>
              <a:gd name="textAreaRight" fmla="*/ 410400 w 43200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7984" h="21600">
                <a:moveTo>
                  <a:pt x="0" y="0"/>
                </a:moveTo>
                <a:lnTo>
                  <a:pt x="27984" y="0"/>
                </a:lnTo>
                <a:lnTo>
                  <a:pt x="27984" y="21600"/>
                </a:lnTo>
                <a:lnTo>
                  <a:pt x="0" y="21600"/>
                </a:lnTo>
                <a:close/>
              </a:path>
              <a:path fill="lightenLess" w="27984" h="21600">
                <a:moveTo>
                  <a:pt x="0" y="0"/>
                </a:moveTo>
                <a:lnTo>
                  <a:pt x="27984" y="0"/>
                </a:lnTo>
                <a:lnTo>
                  <a:pt x="26584" y="1400"/>
                </a:lnTo>
                <a:lnTo>
                  <a:pt x="1400" y="1400"/>
                </a:lnTo>
                <a:close/>
              </a:path>
              <a:path fill="darken" w="27984" h="21600">
                <a:moveTo>
                  <a:pt x="27984" y="0"/>
                </a:moveTo>
                <a:lnTo>
                  <a:pt x="27984" y="21600"/>
                </a:lnTo>
                <a:lnTo>
                  <a:pt x="26584" y="20200"/>
                </a:lnTo>
                <a:lnTo>
                  <a:pt x="26584" y="1400"/>
                </a:lnTo>
                <a:close/>
              </a:path>
              <a:path fill="darkenLess" w="27984" h="21600">
                <a:moveTo>
                  <a:pt x="279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84" y="20200"/>
                </a:lnTo>
                <a:close/>
              </a:path>
              <a:path fill="lighten" w="279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84" h="21600">
                <a:moveTo>
                  <a:pt x="13992" y="3837"/>
                </a:moveTo>
                <a:lnTo>
                  <a:pt x="16569" y="6448"/>
                </a:lnTo>
                <a:lnTo>
                  <a:pt x="16569" y="4707"/>
                </a:lnTo>
                <a:lnTo>
                  <a:pt x="18344" y="4707"/>
                </a:lnTo>
                <a:lnTo>
                  <a:pt x="18344" y="8224"/>
                </a:lnTo>
                <a:lnTo>
                  <a:pt x="20955" y="10800"/>
                </a:lnTo>
                <a:lnTo>
                  <a:pt x="19301" y="10800"/>
                </a:lnTo>
                <a:lnTo>
                  <a:pt x="19301" y="17989"/>
                </a:lnTo>
                <a:lnTo>
                  <a:pt x="8683" y="17989"/>
                </a:lnTo>
                <a:lnTo>
                  <a:pt x="8683" y="10800"/>
                </a:lnTo>
                <a:lnTo>
                  <a:pt x="7029" y="10800"/>
                </a:lnTo>
                <a:close/>
              </a:path>
              <a:path fill="darkenLess" w="27984" h="21600">
                <a:moveTo>
                  <a:pt x="16569" y="6448"/>
                </a:moveTo>
                <a:lnTo>
                  <a:pt x="16569" y="4707"/>
                </a:lnTo>
                <a:lnTo>
                  <a:pt x="18344" y="4707"/>
                </a:lnTo>
                <a:lnTo>
                  <a:pt x="18344" y="8224"/>
                </a:lnTo>
                <a:close/>
              </a:path>
              <a:path fill="darkenLess" w="27984" h="21600">
                <a:moveTo>
                  <a:pt x="13070" y="14299"/>
                </a:moveTo>
                <a:lnTo>
                  <a:pt x="14915" y="14299"/>
                </a:lnTo>
                <a:lnTo>
                  <a:pt x="14915" y="17989"/>
                </a:lnTo>
                <a:lnTo>
                  <a:pt x="19301" y="17989"/>
                </a:lnTo>
                <a:lnTo>
                  <a:pt x="19301" y="10800"/>
                </a:lnTo>
                <a:lnTo>
                  <a:pt x="8683" y="10800"/>
                </a:lnTo>
                <a:lnTo>
                  <a:pt x="8683" y="17989"/>
                </a:lnTo>
                <a:lnTo>
                  <a:pt x="13070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Kunstler Script"/>
              </a:rPr>
              <a:t>Клуб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51280" y="160020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точки зрения ботаники клубника — тоже вид земляники, но совершенно друг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о — земляника мускатная, или мускусная, получившая своё название за специфический аромат. А клубникой её стали называть из-за формы ягод, напоминающей маленькие клубочк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8" descr="CAUOTZJ6"/>
          <p:cNvPicPr/>
          <p:nvPr/>
        </p:nvPicPr>
        <p:blipFill>
          <a:blip r:embed="rId1"/>
          <a:stretch/>
        </p:blipFill>
        <p:spPr>
          <a:xfrm>
            <a:off x="1619280" y="1844640"/>
            <a:ext cx="1368360" cy="1344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CAFI32D8"/>
          <p:cNvPicPr/>
          <p:nvPr/>
        </p:nvPicPr>
        <p:blipFill>
          <a:blip r:embed="rId2"/>
          <a:stretch/>
        </p:blipFill>
        <p:spPr>
          <a:xfrm>
            <a:off x="1403280" y="3933720"/>
            <a:ext cx="1727280" cy="154008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11">
            <a:hlinkClick r:id="rId3" action="ppaction://hlinksldjump"/>
          </p:cNvPr>
          <p:cNvSpPr/>
          <p:nvPr/>
        </p:nvSpPr>
        <p:spPr>
          <a:xfrm>
            <a:off x="8459640" y="6308640"/>
            <a:ext cx="433440" cy="360360"/>
          </a:xfrm>
          <a:custGeom>
            <a:avLst/>
            <a:gdLst>
              <a:gd name="textAreaLeft" fmla="*/ 23040 w 433440"/>
              <a:gd name="textAreaRight" fmla="*/ 410400 w 4334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976" h="21600">
                <a:moveTo>
                  <a:pt x="0" y="0"/>
                </a:moveTo>
                <a:lnTo>
                  <a:pt x="25976" y="0"/>
                </a:lnTo>
                <a:lnTo>
                  <a:pt x="25976" y="21600"/>
                </a:lnTo>
                <a:lnTo>
                  <a:pt x="0" y="21600"/>
                </a:lnTo>
                <a:close/>
              </a:path>
              <a:path fill="lightenLess" w="25976" h="21600">
                <a:moveTo>
                  <a:pt x="0" y="0"/>
                </a:moveTo>
                <a:lnTo>
                  <a:pt x="25976" y="0"/>
                </a:lnTo>
                <a:lnTo>
                  <a:pt x="24576" y="1400"/>
                </a:lnTo>
                <a:lnTo>
                  <a:pt x="1400" y="1400"/>
                </a:lnTo>
                <a:close/>
              </a:path>
              <a:path fill="darken" w="25976" h="21600">
                <a:moveTo>
                  <a:pt x="25976" y="0"/>
                </a:moveTo>
                <a:lnTo>
                  <a:pt x="25976" y="21600"/>
                </a:lnTo>
                <a:lnTo>
                  <a:pt x="24576" y="20200"/>
                </a:lnTo>
                <a:lnTo>
                  <a:pt x="24576" y="1400"/>
                </a:lnTo>
                <a:close/>
              </a:path>
              <a:path fill="darkenLess" w="25976" h="21600">
                <a:moveTo>
                  <a:pt x="25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6" y="20200"/>
                </a:lnTo>
                <a:close/>
              </a:path>
              <a:path fill="lighten" w="25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6" h="21600">
                <a:moveTo>
                  <a:pt x="12988" y="3837"/>
                </a:moveTo>
                <a:lnTo>
                  <a:pt x="15564" y="6448"/>
                </a:lnTo>
                <a:lnTo>
                  <a:pt x="15564" y="4707"/>
                </a:lnTo>
                <a:lnTo>
                  <a:pt x="17340" y="4707"/>
                </a:lnTo>
                <a:lnTo>
                  <a:pt x="17340" y="8224"/>
                </a:lnTo>
                <a:lnTo>
                  <a:pt x="19951" y="10800"/>
                </a:lnTo>
                <a:lnTo>
                  <a:pt x="18297" y="10800"/>
                </a:lnTo>
                <a:lnTo>
                  <a:pt x="18297" y="17989"/>
                </a:lnTo>
                <a:lnTo>
                  <a:pt x="7679" y="17989"/>
                </a:lnTo>
                <a:lnTo>
                  <a:pt x="7679" y="10800"/>
                </a:lnTo>
                <a:lnTo>
                  <a:pt x="6025" y="10800"/>
                </a:lnTo>
                <a:close/>
              </a:path>
              <a:path fill="darkenLess" w="25976" h="21600">
                <a:moveTo>
                  <a:pt x="15564" y="6448"/>
                </a:moveTo>
                <a:lnTo>
                  <a:pt x="15564" y="4707"/>
                </a:lnTo>
                <a:lnTo>
                  <a:pt x="17340" y="4707"/>
                </a:lnTo>
                <a:lnTo>
                  <a:pt x="17340" y="8224"/>
                </a:lnTo>
                <a:close/>
              </a:path>
              <a:path fill="darkenLess" w="25976" h="21600">
                <a:moveTo>
                  <a:pt x="12065" y="14299"/>
                </a:moveTo>
                <a:lnTo>
                  <a:pt x="13911" y="14299"/>
                </a:lnTo>
                <a:lnTo>
                  <a:pt x="13911" y="17989"/>
                </a:lnTo>
                <a:lnTo>
                  <a:pt x="18297" y="17989"/>
                </a:lnTo>
                <a:lnTo>
                  <a:pt x="18297" y="10800"/>
                </a:lnTo>
                <a:lnTo>
                  <a:pt x="7679" y="10800"/>
                </a:lnTo>
                <a:lnTo>
                  <a:pt x="7679" y="17989"/>
                </a:lnTo>
                <a:lnTo>
                  <a:pt x="12065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4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4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1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47242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стоящие из сросшихся маленьких «настоящих»  пл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Organization Chart 8"/>
          <p:cNvGrpSpPr/>
          <p:nvPr/>
        </p:nvGrpSpPr>
        <p:grpSpPr>
          <a:xfrm>
            <a:off x="431640" y="1052640"/>
            <a:ext cx="8208000" cy="3096000"/>
            <a:chOff x="431640" y="1052640"/>
            <a:chExt cx="8208000" cy="3096000"/>
          </a:xfrm>
        </p:grpSpPr>
        <p:cxnSp>
          <p:nvCxnSpPr>
            <p:cNvPr id="166" name="_s4100"/>
            <p:cNvCxnSpPr>
              <a:stCxn id="167" idx="0"/>
              <a:endCxn id="168" idx="2"/>
            </p:cNvCxnSpPr>
            <p:nvPr/>
          </p:nvCxnSpPr>
          <p:spPr>
            <a:xfrm flipV="1" rot="16200000">
              <a:off x="5330880" y="1495440"/>
              <a:ext cx="619920" cy="2210040"/>
            </a:xfrm>
            <a:prstGeom prst="bentConnector3">
              <a:avLst>
                <a:gd name="adj1" fmla="val 1934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9" name="_s4101"/>
            <p:cNvCxnSpPr>
              <a:stCxn id="170" idx="0"/>
              <a:endCxn id="168" idx="2"/>
            </p:cNvCxnSpPr>
            <p:nvPr/>
          </p:nvCxnSpPr>
          <p:spPr>
            <a:xfrm flipH="1" flipV="1" rot="5400000">
              <a:off x="3120840" y="1495080"/>
              <a:ext cx="619920" cy="2210760"/>
            </a:xfrm>
            <a:prstGeom prst="bentConnector3">
              <a:avLst>
                <a:gd name="adj1" fmla="val 1934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8" name="_s4102"/>
            <p:cNvSpPr/>
            <p:nvPr/>
          </p:nvSpPr>
          <p:spPr>
            <a:xfrm>
              <a:off x="2642040" y="1052640"/>
              <a:ext cx="3788280" cy="1238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500" spc="-1" strike="noStrike">
                  <a:solidFill>
                    <a:srgbClr val="008000"/>
                  </a:solidFill>
                  <a:latin typeface="Kunstler Script"/>
                </a:rPr>
                <a:t>Сложные</a:t>
              </a:r>
              <a:endParaRPr b="0" lang="en-US" sz="35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70" name="_s4103"/>
            <p:cNvSpPr/>
            <p:nvPr/>
          </p:nvSpPr>
          <p:spPr>
            <a:xfrm>
              <a:off x="431640" y="2910240"/>
              <a:ext cx="3788280" cy="1238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 u="sng">
                  <a:solidFill>
                    <a:srgbClr val="009999"/>
                  </a:solidFill>
                  <a:uFillTx/>
                  <a:latin typeface="Times New Roman"/>
                  <a:hlinkClick r:id="rId1" action="ppaction://hlinksldjump"/>
                </a:rPr>
                <a:t>Малина</a:t>
              </a:r>
              <a:endParaRPr b="0" lang="en-US" sz="35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7" name="_s4104"/>
            <p:cNvSpPr/>
            <p:nvPr/>
          </p:nvSpPr>
          <p:spPr>
            <a:xfrm>
              <a:off x="4851360" y="2910240"/>
              <a:ext cx="3788280" cy="1238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 u="sng">
                  <a:solidFill>
                    <a:srgbClr val="009999"/>
                  </a:solidFill>
                  <a:uFillTx/>
                  <a:latin typeface="Times New Roman"/>
                  <a:hlinkClick r:id="rId2" action="ppaction://hlinksldjump"/>
                </a:rPr>
                <a:t>Ежевика</a:t>
              </a:r>
              <a:endParaRPr b="0" lang="en-US" sz="35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Kunstler Script"/>
              </a:rPr>
              <a:t>Мал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066920" y="2636640"/>
            <a:ext cx="461484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годы малины содержат сахаров около 7-10%. Кроме того, в состав ягоды входят витамины А, В, С, РР, минеральные элементы калий, кальций, магний, фосфор, желез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годы используются в свежем виде, идут на переработку для приготовления варенья, соков, джемов, наливок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7" descr="malina"/>
          <p:cNvPicPr/>
          <p:nvPr/>
        </p:nvPicPr>
        <p:blipFill>
          <a:blip r:embed="rId1"/>
          <a:stretch/>
        </p:blipFill>
        <p:spPr>
          <a:xfrm>
            <a:off x="1042920" y="2708280"/>
            <a:ext cx="2241720" cy="2232000"/>
          </a:xfrm>
          <a:prstGeom prst="rect">
            <a:avLst/>
          </a:prstGeom>
          <a:ln w="0">
            <a:noFill/>
          </a:ln>
        </p:spPr>
      </p:pic>
      <p:sp>
        <p:nvSpPr>
          <p:cNvPr id="174" name="AutoShape 8">
            <a:hlinkClick r:id="rId2" action="ppaction://hlinksldjump"/>
          </p:cNvPr>
          <p:cNvSpPr/>
          <p:nvPr/>
        </p:nvSpPr>
        <p:spPr>
          <a:xfrm>
            <a:off x="8604360" y="6308640"/>
            <a:ext cx="539640" cy="360360"/>
          </a:xfrm>
          <a:custGeom>
            <a:avLst/>
            <a:gdLst>
              <a:gd name="textAreaLeft" fmla="*/ 23040 w 539640"/>
              <a:gd name="textAreaRight" fmla="*/ 516600 w 53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2335" h="21600">
                <a:moveTo>
                  <a:pt x="0" y="0"/>
                </a:moveTo>
                <a:lnTo>
                  <a:pt x="32335" y="0"/>
                </a:lnTo>
                <a:lnTo>
                  <a:pt x="32335" y="21600"/>
                </a:lnTo>
                <a:lnTo>
                  <a:pt x="0" y="21600"/>
                </a:lnTo>
                <a:close/>
              </a:path>
              <a:path fill="lightenLess" w="32335" h="21600">
                <a:moveTo>
                  <a:pt x="0" y="0"/>
                </a:moveTo>
                <a:lnTo>
                  <a:pt x="32335" y="0"/>
                </a:lnTo>
                <a:lnTo>
                  <a:pt x="30935" y="1400"/>
                </a:lnTo>
                <a:lnTo>
                  <a:pt x="1400" y="1400"/>
                </a:lnTo>
                <a:close/>
              </a:path>
              <a:path fill="darken" w="32335" h="21600">
                <a:moveTo>
                  <a:pt x="32335" y="0"/>
                </a:moveTo>
                <a:lnTo>
                  <a:pt x="32335" y="21600"/>
                </a:lnTo>
                <a:lnTo>
                  <a:pt x="30935" y="20200"/>
                </a:lnTo>
                <a:lnTo>
                  <a:pt x="30935" y="1400"/>
                </a:lnTo>
                <a:close/>
              </a:path>
              <a:path fill="darkenLess" w="32335" h="21600">
                <a:moveTo>
                  <a:pt x="323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35" y="20200"/>
                </a:lnTo>
                <a:close/>
              </a:path>
              <a:path fill="lighten" w="323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35" h="21600">
                <a:moveTo>
                  <a:pt x="16168" y="3837"/>
                </a:moveTo>
                <a:lnTo>
                  <a:pt x="18744" y="6448"/>
                </a:lnTo>
                <a:lnTo>
                  <a:pt x="18744" y="4707"/>
                </a:lnTo>
                <a:lnTo>
                  <a:pt x="20520" y="4707"/>
                </a:lnTo>
                <a:lnTo>
                  <a:pt x="20520" y="8224"/>
                </a:lnTo>
                <a:lnTo>
                  <a:pt x="23131" y="10800"/>
                </a:lnTo>
                <a:lnTo>
                  <a:pt x="21477" y="10800"/>
                </a:lnTo>
                <a:lnTo>
                  <a:pt x="21477" y="17989"/>
                </a:lnTo>
                <a:lnTo>
                  <a:pt x="10858" y="17989"/>
                </a:lnTo>
                <a:lnTo>
                  <a:pt x="10858" y="10800"/>
                </a:lnTo>
                <a:lnTo>
                  <a:pt x="9205" y="10800"/>
                </a:lnTo>
                <a:close/>
              </a:path>
              <a:path fill="darkenLess" w="32335" h="21600">
                <a:moveTo>
                  <a:pt x="18744" y="6448"/>
                </a:moveTo>
                <a:lnTo>
                  <a:pt x="18744" y="4707"/>
                </a:lnTo>
                <a:lnTo>
                  <a:pt x="20520" y="4707"/>
                </a:lnTo>
                <a:lnTo>
                  <a:pt x="20520" y="8224"/>
                </a:lnTo>
                <a:close/>
              </a:path>
              <a:path fill="darkenLess" w="32335" h="21600">
                <a:moveTo>
                  <a:pt x="15245" y="14299"/>
                </a:moveTo>
                <a:lnTo>
                  <a:pt x="17090" y="14299"/>
                </a:lnTo>
                <a:lnTo>
                  <a:pt x="17090" y="17989"/>
                </a:lnTo>
                <a:lnTo>
                  <a:pt x="21477" y="17989"/>
                </a:lnTo>
                <a:lnTo>
                  <a:pt x="21477" y="10800"/>
                </a:lnTo>
                <a:lnTo>
                  <a:pt x="10858" y="10800"/>
                </a:lnTo>
                <a:lnTo>
                  <a:pt x="10858" y="17989"/>
                </a:lnTo>
                <a:lnTo>
                  <a:pt x="15245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8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Kunstler Script"/>
              </a:rPr>
              <a:t>Ежев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95280" y="1600200"/>
            <a:ext cx="469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жевика -  ближайшая родственница малины с блестящими, почти черными плодами-костянкам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е плоды содержат витамины А, В, С, Е, глюкозу, фруктозу, сахарозу, пектиновые вещества, органические кислоты (яблочную, винную, лимонную, салициловую), в меньшем количестве - витамины Р, РР и 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давних времен плоды ежевики употребляли при бессоннице, повышенной возбудимости, расстройствах органов пищеварен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ком из ягод утоляли жажду лихорадящие больные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7" descr="CASNRRE8"/>
          <p:cNvPicPr/>
          <p:nvPr/>
        </p:nvPicPr>
        <p:blipFill>
          <a:blip r:embed="rId1"/>
          <a:stretch/>
        </p:blipFill>
        <p:spPr>
          <a:xfrm>
            <a:off x="1116000" y="2133720"/>
            <a:ext cx="2303640" cy="1949400"/>
          </a:xfrm>
          <a:prstGeom prst="rect">
            <a:avLst/>
          </a:prstGeom>
          <a:ln w="0">
            <a:noFill/>
          </a:ln>
        </p:spPr>
      </p:pic>
      <p:sp>
        <p:nvSpPr>
          <p:cNvPr id="178" name="AutoShape 8">
            <a:hlinkClick r:id="rId2" action="ppaction://hlinksldjump"/>
          </p:cNvPr>
          <p:cNvSpPr/>
          <p:nvPr/>
        </p:nvSpPr>
        <p:spPr>
          <a:xfrm>
            <a:off x="8604360" y="638172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12934" y="3837"/>
                </a:moveTo>
                <a:lnTo>
                  <a:pt x="15510" y="6448"/>
                </a:lnTo>
                <a:lnTo>
                  <a:pt x="15510" y="4707"/>
                </a:lnTo>
                <a:lnTo>
                  <a:pt x="17286" y="4707"/>
                </a:lnTo>
                <a:lnTo>
                  <a:pt x="17286" y="8224"/>
                </a:lnTo>
                <a:lnTo>
                  <a:pt x="19897" y="10800"/>
                </a:lnTo>
                <a:lnTo>
                  <a:pt x="18243" y="10800"/>
                </a:lnTo>
                <a:lnTo>
                  <a:pt x="18243" y="17989"/>
                </a:lnTo>
                <a:lnTo>
                  <a:pt x="7625" y="17989"/>
                </a:lnTo>
                <a:lnTo>
                  <a:pt x="7625" y="10800"/>
                </a:lnTo>
                <a:lnTo>
                  <a:pt x="5971" y="10800"/>
                </a:lnTo>
                <a:close/>
              </a:path>
              <a:path fill="darkenLess" w="25868" h="21600">
                <a:moveTo>
                  <a:pt x="15510" y="6448"/>
                </a:moveTo>
                <a:lnTo>
                  <a:pt x="15510" y="4707"/>
                </a:lnTo>
                <a:lnTo>
                  <a:pt x="17286" y="4707"/>
                </a:lnTo>
                <a:lnTo>
                  <a:pt x="17286" y="8224"/>
                </a:lnTo>
                <a:close/>
              </a:path>
              <a:path fill="darkenLess" w="25868" h="21600">
                <a:moveTo>
                  <a:pt x="12012" y="14299"/>
                </a:moveTo>
                <a:lnTo>
                  <a:pt x="13857" y="14299"/>
                </a:lnTo>
                <a:lnTo>
                  <a:pt x="13857" y="17989"/>
                </a:lnTo>
                <a:lnTo>
                  <a:pt x="18243" y="17989"/>
                </a:lnTo>
                <a:lnTo>
                  <a:pt x="18243" y="10800"/>
                </a:lnTo>
                <a:lnTo>
                  <a:pt x="7625" y="10800"/>
                </a:lnTo>
                <a:lnTo>
                  <a:pt x="7625" y="17989"/>
                </a:lnTo>
                <a:lnTo>
                  <a:pt x="1201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99ff"/>
                </a:solidFill>
                <a:latin typeface="Kunstler Script"/>
              </a:rPr>
              <a:t>Орехоплод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рехи состоят из ядра (семени), заключенного в одревесневшую скорлуп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ни отличаются высоким содержанием жиров и белков. По калорийности орехи превосходят все известные продукты растительного происхо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28872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Лесные орех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28872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4" action="ppaction://hlinksldjump"/>
              </a:rPr>
              <a:t>Грецкие орех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28872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6" action="ppaction://hlinksldjump"/>
              </a:rPr>
              <a:t>Фисташ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28872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инда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1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Kunstler Script"/>
              </a:rPr>
              <a:t>Фрук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26920" y="2923920"/>
            <a:ext cx="8156880" cy="31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Kunstler Script"/>
              </a:rPr>
              <a:t>Семечков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Kunstler Script"/>
              </a:rPr>
              <a:t>Косточков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Kunstler Script"/>
              </a:rPr>
              <a:t>Тропические и субтропическ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Kunstler Script"/>
              </a:rPr>
              <a:t>Лесной оре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427280" y="2205000"/>
            <a:ext cx="425916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дро ореха обладает высокой калорийностью, содержит белки, минеральные соли калия, кальция, железа, магния, меди, фосфора, серы, провитамин А и витамины группы В и от 50 до 60% масличных вещест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8" descr="42"/>
          <p:cNvPicPr/>
          <p:nvPr/>
        </p:nvPicPr>
        <p:blipFill>
          <a:blip r:embed="rId1"/>
          <a:stretch/>
        </p:blipFill>
        <p:spPr>
          <a:xfrm>
            <a:off x="1908000" y="1773360"/>
            <a:ext cx="1584360" cy="15444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9" descr="44"/>
          <p:cNvPicPr/>
          <p:nvPr/>
        </p:nvPicPr>
        <p:blipFill>
          <a:blip r:embed="rId2"/>
          <a:stretch/>
        </p:blipFill>
        <p:spPr>
          <a:xfrm>
            <a:off x="1547640" y="3933720"/>
            <a:ext cx="2160720" cy="1629000"/>
          </a:xfrm>
          <a:prstGeom prst="rect">
            <a:avLst/>
          </a:prstGeom>
          <a:ln w="0">
            <a:noFill/>
          </a:ln>
        </p:spPr>
      </p:pic>
      <p:sp>
        <p:nvSpPr>
          <p:cNvPr id="185" name="AutoShape 10"/>
          <p:cNvSpPr/>
          <p:nvPr/>
        </p:nvSpPr>
        <p:spPr>
          <a:xfrm>
            <a:off x="8532720" y="638172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2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7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Kunstler Script"/>
              </a:rPr>
              <a:t>Грецкий оре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28472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рецкий орех - дерево семейства ореховы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лод - ложная костянка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зревает в конце авгус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релые орехи являются продуктом питания и высокоактивным лекарственным средст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калорийности они в 2 раза превышают пшеничный хлеб высшего сор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8" descr="55"/>
          <p:cNvPicPr/>
          <p:nvPr/>
        </p:nvPicPr>
        <p:blipFill>
          <a:blip r:embed="rId1"/>
          <a:stretch/>
        </p:blipFill>
        <p:spPr>
          <a:xfrm>
            <a:off x="1547640" y="1771560"/>
            <a:ext cx="1476720" cy="14637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54"/>
          <p:cNvPicPr/>
          <p:nvPr/>
        </p:nvPicPr>
        <p:blipFill>
          <a:blip r:embed="rId2"/>
          <a:stretch/>
        </p:blipFill>
        <p:spPr>
          <a:xfrm>
            <a:off x="1403280" y="3933720"/>
            <a:ext cx="2016360" cy="1503360"/>
          </a:xfrm>
          <a:prstGeom prst="rect">
            <a:avLst/>
          </a:prstGeom>
          <a:ln w="0">
            <a:noFill/>
          </a:ln>
        </p:spPr>
      </p:pic>
      <p:sp>
        <p:nvSpPr>
          <p:cNvPr id="190" name="AutoShape 11"/>
          <p:cNvSpPr/>
          <p:nvPr/>
        </p:nvSpPr>
        <p:spPr>
          <a:xfrm>
            <a:off x="8675640" y="638172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10800" y="4020"/>
                </a:moveTo>
                <a:lnTo>
                  <a:pt x="13376" y="6631"/>
                </a:lnTo>
                <a:lnTo>
                  <a:pt x="13376" y="4890"/>
                </a:lnTo>
                <a:lnTo>
                  <a:pt x="15152" y="4890"/>
                </a:lnTo>
                <a:lnTo>
                  <a:pt x="15152" y="8406"/>
                </a:lnTo>
                <a:lnTo>
                  <a:pt x="17763" y="10982"/>
                </a:lnTo>
                <a:lnTo>
                  <a:pt x="16109" y="10982"/>
                </a:lnTo>
                <a:lnTo>
                  <a:pt x="16109" y="18172"/>
                </a:lnTo>
                <a:lnTo>
                  <a:pt x="5491" y="18172"/>
                </a:lnTo>
                <a:lnTo>
                  <a:pt x="5491" y="10982"/>
                </a:lnTo>
                <a:lnTo>
                  <a:pt x="3837" y="10982"/>
                </a:lnTo>
                <a:close/>
              </a:path>
              <a:path fill="darkenLess" w="21600" h="21965">
                <a:moveTo>
                  <a:pt x="13376" y="6631"/>
                </a:moveTo>
                <a:lnTo>
                  <a:pt x="13376" y="4890"/>
                </a:lnTo>
                <a:lnTo>
                  <a:pt x="15152" y="4890"/>
                </a:lnTo>
                <a:lnTo>
                  <a:pt x="15152" y="8406"/>
                </a:lnTo>
                <a:close/>
              </a:path>
              <a:path fill="darkenLess" w="21600" h="21965">
                <a:moveTo>
                  <a:pt x="9877" y="14481"/>
                </a:moveTo>
                <a:lnTo>
                  <a:pt x="11723" y="14481"/>
                </a:lnTo>
                <a:lnTo>
                  <a:pt x="11723" y="18172"/>
                </a:lnTo>
                <a:lnTo>
                  <a:pt x="16109" y="18172"/>
                </a:lnTo>
                <a:lnTo>
                  <a:pt x="16109" y="10982"/>
                </a:lnTo>
                <a:lnTo>
                  <a:pt x="5491" y="10982"/>
                </a:lnTo>
                <a:lnTo>
                  <a:pt x="5491" y="18172"/>
                </a:lnTo>
                <a:lnTo>
                  <a:pt x="9877" y="1817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Kunstler Script"/>
              </a:rPr>
              <a:t>Фисташ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067280" y="160020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тут фисташки преимущественно в диком виде, в Средней Азии. Урожай собирают в конце июля - в начале авгус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корлупа зрелого ореха растрескивается, обнажая ядро зеленого цвета — чем интенсивнее окраска, тем оно более спело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 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исташка содержит до 65% жирного масла, 23% белка, почти 9% сахарозы, витамины А и В1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8" descr="12"/>
          <p:cNvPicPr/>
          <p:nvPr/>
        </p:nvPicPr>
        <p:blipFill>
          <a:blip r:embed="rId1"/>
          <a:stretch/>
        </p:blipFill>
        <p:spPr>
          <a:xfrm>
            <a:off x="1332000" y="1803240"/>
            <a:ext cx="1720800" cy="13366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CA02K7PU"/>
          <p:cNvPicPr/>
          <p:nvPr/>
        </p:nvPicPr>
        <p:blipFill>
          <a:blip r:embed="rId2"/>
          <a:stretch/>
        </p:blipFill>
        <p:spPr>
          <a:xfrm>
            <a:off x="1187280" y="3860640"/>
            <a:ext cx="2129040" cy="159228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10"/>
          <p:cNvSpPr/>
          <p:nvPr/>
        </p:nvSpPr>
        <p:spPr>
          <a:xfrm>
            <a:off x="8604360" y="6308640"/>
            <a:ext cx="288720" cy="36036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360360"/>
              <a:gd name="textAreaBottom" fmla="*/ 341640 h 360360"/>
            </a:gdLst>
            <a:ahLst/>
            <a:rect l="textAreaLeft" t="textAreaTop" r="textAreaRight" b="textAreaBottom"/>
            <a:pathLst>
              <a:path w="21600" h="26953">
                <a:moveTo>
                  <a:pt x="0" y="0"/>
                </a:moveTo>
                <a:lnTo>
                  <a:pt x="21600" y="0"/>
                </a:lnTo>
                <a:lnTo>
                  <a:pt x="21600" y="26953"/>
                </a:lnTo>
                <a:lnTo>
                  <a:pt x="0" y="26953"/>
                </a:lnTo>
                <a:close/>
              </a:path>
              <a:path fill="lightenLess" w="21600" h="2695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53">
                <a:moveTo>
                  <a:pt x="21600" y="0"/>
                </a:moveTo>
                <a:lnTo>
                  <a:pt x="21600" y="26953"/>
                </a:lnTo>
                <a:lnTo>
                  <a:pt x="20200" y="25553"/>
                </a:lnTo>
                <a:lnTo>
                  <a:pt x="20200" y="1400"/>
                </a:lnTo>
                <a:close/>
              </a:path>
              <a:path fill="darkenLess" w="21600" h="26953">
                <a:moveTo>
                  <a:pt x="21600" y="26953"/>
                </a:moveTo>
                <a:lnTo>
                  <a:pt x="0" y="26953"/>
                </a:lnTo>
                <a:lnTo>
                  <a:pt x="1400" y="25553"/>
                </a:lnTo>
                <a:lnTo>
                  <a:pt x="20200" y="25553"/>
                </a:lnTo>
                <a:close/>
              </a:path>
              <a:path fill="lighten" w="21600" h="26953">
                <a:moveTo>
                  <a:pt x="0" y="26953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53"/>
                </a:lnTo>
                <a:close/>
              </a:path>
              <a:path fill="darken" w="21600" h="26953">
                <a:moveTo>
                  <a:pt x="10800" y="6514"/>
                </a:moveTo>
                <a:lnTo>
                  <a:pt x="13376" y="9125"/>
                </a:lnTo>
                <a:lnTo>
                  <a:pt x="13376" y="7384"/>
                </a:lnTo>
                <a:lnTo>
                  <a:pt x="15152" y="7384"/>
                </a:lnTo>
                <a:lnTo>
                  <a:pt x="15152" y="10900"/>
                </a:lnTo>
                <a:lnTo>
                  <a:pt x="17763" y="13476"/>
                </a:lnTo>
                <a:lnTo>
                  <a:pt x="16109" y="13476"/>
                </a:lnTo>
                <a:lnTo>
                  <a:pt x="16109" y="20666"/>
                </a:lnTo>
                <a:lnTo>
                  <a:pt x="5491" y="20666"/>
                </a:lnTo>
                <a:lnTo>
                  <a:pt x="5491" y="13476"/>
                </a:lnTo>
                <a:lnTo>
                  <a:pt x="3837" y="13476"/>
                </a:lnTo>
                <a:close/>
              </a:path>
              <a:path fill="darkenLess" w="21600" h="26953">
                <a:moveTo>
                  <a:pt x="13376" y="9125"/>
                </a:moveTo>
                <a:lnTo>
                  <a:pt x="13376" y="7384"/>
                </a:lnTo>
                <a:lnTo>
                  <a:pt x="15152" y="7384"/>
                </a:lnTo>
                <a:lnTo>
                  <a:pt x="15152" y="10900"/>
                </a:lnTo>
                <a:close/>
              </a:path>
              <a:path fill="darkenLess" w="21600" h="26953">
                <a:moveTo>
                  <a:pt x="9877" y="16975"/>
                </a:moveTo>
                <a:lnTo>
                  <a:pt x="11723" y="16975"/>
                </a:lnTo>
                <a:lnTo>
                  <a:pt x="11723" y="20666"/>
                </a:lnTo>
                <a:lnTo>
                  <a:pt x="16109" y="20666"/>
                </a:lnTo>
                <a:lnTo>
                  <a:pt x="16109" y="13476"/>
                </a:lnTo>
                <a:lnTo>
                  <a:pt x="5491" y="13476"/>
                </a:lnTo>
                <a:lnTo>
                  <a:pt x="5491" y="20666"/>
                </a:lnTo>
                <a:lnTo>
                  <a:pt x="9877" y="2066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1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1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Kunstler Script"/>
              </a:rPr>
              <a:t>Минда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995280" y="1600200"/>
            <a:ext cx="469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горьком миндале содержится много гликозида амигдалина, ядовитого вещества, придающего этому виду характерный, знакомый всем вкус. Поэтому такой миндаль нельзя есть без предварительной обработки. Пятьдесят горьких орехов – смертельная доза для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результате обжаривания, отваривания и прокаливания цианистый водород выводится из ядра – и горький миндаль можно е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отя чаще его используют в косметической и фармацевтической промышленност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8" descr="CAIOHVZU"/>
          <p:cNvPicPr/>
          <p:nvPr/>
        </p:nvPicPr>
        <p:blipFill>
          <a:blip r:embed="rId1"/>
          <a:stretch/>
        </p:blipFill>
        <p:spPr>
          <a:xfrm>
            <a:off x="1547640" y="1844640"/>
            <a:ext cx="1544760" cy="12794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9" descr="CAJQRU7T"/>
          <p:cNvPicPr/>
          <p:nvPr/>
        </p:nvPicPr>
        <p:blipFill>
          <a:blip r:embed="rId2"/>
          <a:stretch/>
        </p:blipFill>
        <p:spPr>
          <a:xfrm>
            <a:off x="1258920" y="3811680"/>
            <a:ext cx="1944720" cy="158256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10"/>
          <p:cNvSpPr/>
          <p:nvPr/>
        </p:nvSpPr>
        <p:spPr>
          <a:xfrm>
            <a:off x="8675640" y="6381720"/>
            <a:ext cx="289080" cy="36036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360360"/>
              <a:gd name="textAreaBottom" fmla="*/ 341640 h 360360"/>
            </a:gdLst>
            <a:ahLst/>
            <a:rect l="textAreaLeft" t="textAreaTop" r="textAreaRight" b="textAreaBottom"/>
            <a:pathLst>
              <a:path w="21600" h="26919">
                <a:moveTo>
                  <a:pt x="0" y="0"/>
                </a:moveTo>
                <a:lnTo>
                  <a:pt x="21600" y="0"/>
                </a:lnTo>
                <a:lnTo>
                  <a:pt x="21600" y="26919"/>
                </a:lnTo>
                <a:lnTo>
                  <a:pt x="0" y="26919"/>
                </a:lnTo>
                <a:close/>
              </a:path>
              <a:path fill="lightenLess" w="21600" h="26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19">
                <a:moveTo>
                  <a:pt x="21600" y="0"/>
                </a:moveTo>
                <a:lnTo>
                  <a:pt x="21600" y="26919"/>
                </a:lnTo>
                <a:lnTo>
                  <a:pt x="20200" y="25519"/>
                </a:lnTo>
                <a:lnTo>
                  <a:pt x="20200" y="1400"/>
                </a:lnTo>
                <a:close/>
              </a:path>
              <a:path fill="darkenLess" w="21600" h="26919">
                <a:moveTo>
                  <a:pt x="21600" y="26919"/>
                </a:moveTo>
                <a:lnTo>
                  <a:pt x="0" y="26919"/>
                </a:lnTo>
                <a:lnTo>
                  <a:pt x="1400" y="25519"/>
                </a:lnTo>
                <a:lnTo>
                  <a:pt x="20200" y="25519"/>
                </a:lnTo>
                <a:close/>
              </a:path>
              <a:path fill="lighten" w="21600" h="26919">
                <a:moveTo>
                  <a:pt x="0" y="26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19"/>
                </a:lnTo>
                <a:close/>
              </a:path>
              <a:path fill="darken" w="21600" h="26919">
                <a:moveTo>
                  <a:pt x="10800" y="6497"/>
                </a:moveTo>
                <a:lnTo>
                  <a:pt x="13376" y="9108"/>
                </a:lnTo>
                <a:lnTo>
                  <a:pt x="13376" y="7367"/>
                </a:lnTo>
                <a:lnTo>
                  <a:pt x="15152" y="7367"/>
                </a:lnTo>
                <a:lnTo>
                  <a:pt x="15152" y="10883"/>
                </a:lnTo>
                <a:lnTo>
                  <a:pt x="17763" y="13460"/>
                </a:lnTo>
                <a:lnTo>
                  <a:pt x="16109" y="13460"/>
                </a:lnTo>
                <a:lnTo>
                  <a:pt x="16109" y="20649"/>
                </a:lnTo>
                <a:lnTo>
                  <a:pt x="5491" y="20649"/>
                </a:lnTo>
                <a:lnTo>
                  <a:pt x="5491" y="13460"/>
                </a:lnTo>
                <a:lnTo>
                  <a:pt x="3837" y="13460"/>
                </a:lnTo>
                <a:close/>
              </a:path>
              <a:path fill="darkenLess" w="21600" h="26919">
                <a:moveTo>
                  <a:pt x="13376" y="9108"/>
                </a:moveTo>
                <a:lnTo>
                  <a:pt x="13376" y="7367"/>
                </a:lnTo>
                <a:lnTo>
                  <a:pt x="15152" y="7367"/>
                </a:lnTo>
                <a:lnTo>
                  <a:pt x="15152" y="10883"/>
                </a:lnTo>
                <a:close/>
              </a:path>
              <a:path fill="darkenLess" w="21600" h="26919">
                <a:moveTo>
                  <a:pt x="9877" y="16959"/>
                </a:moveTo>
                <a:lnTo>
                  <a:pt x="11723" y="16959"/>
                </a:lnTo>
                <a:lnTo>
                  <a:pt x="11723" y="20649"/>
                </a:lnTo>
                <a:lnTo>
                  <a:pt x="16109" y="20649"/>
                </a:lnTo>
                <a:lnTo>
                  <a:pt x="16109" y="13460"/>
                </a:lnTo>
                <a:lnTo>
                  <a:pt x="5491" y="13460"/>
                </a:lnTo>
                <a:lnTo>
                  <a:pt x="5491" y="20649"/>
                </a:lnTo>
                <a:lnTo>
                  <a:pt x="9877" y="2064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8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3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8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8000"/>
                </a:solidFill>
                <a:latin typeface="Kunstler Script"/>
              </a:rPr>
              <a:t>Семечков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бразуются с участием плодоножки и состоят из кожицы, плодовой мякоти и пятигнездной камеры с семен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семечковым относятс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ябл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груш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ай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цитрусо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ff"/>
                </a:solidFill>
                <a:latin typeface="Kunstler Script"/>
              </a:rPr>
              <a:t>Ябло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564000" y="1557000"/>
            <a:ext cx="51228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се сорта яблок в зависимости от срока созревания делятся на летние, зимние, осенние. Зимние сорта яблок сохраняются до марта-апреля, а некоторые до июня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лоды употребляют в пищу как в свежем , так и в переработанном ви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плодах содержатся сахара,      органические кислоты, витамины С, В1, В2, А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9" descr="images1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227240" y="2421000"/>
            <a:ext cx="1744560" cy="2012760"/>
          </a:xfrm>
          <a:prstGeom prst="rect">
            <a:avLst/>
          </a:prstGeom>
          <a:ln w="0">
            <a:noFill/>
          </a:ln>
        </p:spPr>
      </p:pic>
      <p:sp>
        <p:nvSpPr>
          <p:cNvPr id="67" name="AutoShape 20">
            <a:hlinkClick r:id="rId3" action="ppaction://hlinksldjump"/>
          </p:cNvPr>
          <p:cNvSpPr/>
          <p:nvPr/>
        </p:nvSpPr>
        <p:spPr>
          <a:xfrm>
            <a:off x="853272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ff"/>
                </a:solidFill>
                <a:latin typeface="Kunstler Script"/>
              </a:rPr>
              <a:t>Груш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635280" y="1915920"/>
            <a:ext cx="5119920" cy="42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руши среди всех семечковых плодов занимают небольшой удельный ве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зависимости от сорта плоды груши созревают с июля по октябр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х используют в пищу в свежем и переработанном ви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плодах содержатся сахара, яблочная и лимонная кислоты, пектин, витамины А, В1, С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CA2FCLYF"/>
          <p:cNvPicPr/>
          <p:nvPr/>
        </p:nvPicPr>
        <p:blipFill>
          <a:blip r:embed="rId1"/>
          <a:stretch/>
        </p:blipFill>
        <p:spPr>
          <a:xfrm>
            <a:off x="1403280" y="2492280"/>
            <a:ext cx="1728720" cy="223200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8">
            <a:hlinkClick r:id="rId2" action="ppaction://hlinksldjump"/>
          </p:cNvPr>
          <p:cNvSpPr/>
          <p:nvPr/>
        </p:nvSpPr>
        <p:spPr>
          <a:xfrm>
            <a:off x="8675640" y="6165720"/>
            <a:ext cx="360360" cy="43200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2000"/>
              <a:gd name="textAreaBottom" fmla="*/ 408960 h 432000"/>
            </a:gdLst>
            <a:ahLst/>
            <a:rect l="textAreaLeft" t="textAreaTop" r="textAreaRight" b="textAreaBottom"/>
            <a:pathLst>
              <a:path w="21600" h="25890">
                <a:moveTo>
                  <a:pt x="0" y="0"/>
                </a:moveTo>
                <a:lnTo>
                  <a:pt x="21600" y="0"/>
                </a:lnTo>
                <a:lnTo>
                  <a:pt x="21600" y="25890"/>
                </a:lnTo>
                <a:lnTo>
                  <a:pt x="0" y="25890"/>
                </a:lnTo>
                <a:close/>
              </a:path>
              <a:path fill="lightenLess" w="21600" h="258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90">
                <a:moveTo>
                  <a:pt x="21600" y="0"/>
                </a:moveTo>
                <a:lnTo>
                  <a:pt x="21600" y="25890"/>
                </a:lnTo>
                <a:lnTo>
                  <a:pt x="20200" y="24490"/>
                </a:lnTo>
                <a:lnTo>
                  <a:pt x="20200" y="1400"/>
                </a:lnTo>
                <a:close/>
              </a:path>
              <a:path fill="darkenLess" w="21600" h="25890">
                <a:moveTo>
                  <a:pt x="21600" y="25890"/>
                </a:moveTo>
                <a:lnTo>
                  <a:pt x="0" y="25890"/>
                </a:lnTo>
                <a:lnTo>
                  <a:pt x="1400" y="24490"/>
                </a:lnTo>
                <a:lnTo>
                  <a:pt x="20200" y="24490"/>
                </a:lnTo>
                <a:close/>
              </a:path>
              <a:path fill="lighten" w="21600" h="25890">
                <a:moveTo>
                  <a:pt x="0" y="258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90"/>
                </a:lnTo>
                <a:close/>
              </a:path>
              <a:path fill="darken" w="21600" h="25890">
                <a:moveTo>
                  <a:pt x="10800" y="5982"/>
                </a:moveTo>
                <a:lnTo>
                  <a:pt x="13376" y="8593"/>
                </a:lnTo>
                <a:lnTo>
                  <a:pt x="13376" y="6852"/>
                </a:lnTo>
                <a:lnTo>
                  <a:pt x="15152" y="6852"/>
                </a:lnTo>
                <a:lnTo>
                  <a:pt x="15152" y="10369"/>
                </a:lnTo>
                <a:lnTo>
                  <a:pt x="17763" y="12945"/>
                </a:lnTo>
                <a:lnTo>
                  <a:pt x="16109" y="12945"/>
                </a:lnTo>
                <a:lnTo>
                  <a:pt x="16109" y="20134"/>
                </a:lnTo>
                <a:lnTo>
                  <a:pt x="5491" y="20134"/>
                </a:lnTo>
                <a:lnTo>
                  <a:pt x="5491" y="12945"/>
                </a:lnTo>
                <a:lnTo>
                  <a:pt x="3837" y="12945"/>
                </a:lnTo>
                <a:close/>
              </a:path>
              <a:path fill="darkenLess" w="21600" h="25890">
                <a:moveTo>
                  <a:pt x="13376" y="8593"/>
                </a:moveTo>
                <a:lnTo>
                  <a:pt x="13376" y="6852"/>
                </a:lnTo>
                <a:lnTo>
                  <a:pt x="15152" y="6852"/>
                </a:lnTo>
                <a:lnTo>
                  <a:pt x="15152" y="10369"/>
                </a:lnTo>
                <a:close/>
              </a:path>
              <a:path fill="darkenLess" w="21600" h="25890">
                <a:moveTo>
                  <a:pt x="9877" y="16444"/>
                </a:moveTo>
                <a:lnTo>
                  <a:pt x="11723" y="16444"/>
                </a:lnTo>
                <a:lnTo>
                  <a:pt x="11723" y="20134"/>
                </a:lnTo>
                <a:lnTo>
                  <a:pt x="16109" y="20134"/>
                </a:lnTo>
                <a:lnTo>
                  <a:pt x="16109" y="12945"/>
                </a:lnTo>
                <a:lnTo>
                  <a:pt x="5491" y="12945"/>
                </a:lnTo>
                <a:lnTo>
                  <a:pt x="5491" y="20134"/>
                </a:lnTo>
                <a:lnTo>
                  <a:pt x="9877" y="2013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ff"/>
                </a:solidFill>
                <a:latin typeface="Kunstler Script"/>
              </a:rPr>
              <a:t>Ай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635280" y="1600200"/>
            <a:ext cx="505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йва отличается сильно вяжущим терпким вкусом и плотной грубой мякот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основном айва используется для приготовления варенья и дже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йва обыкновенная – небольшое дерево , выращиваемое в основном в южных районах Ро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лод очень богат пектиновыми (желирующими) веществами, поэтому из нее получаются отличные желе и мармела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99"/>
          <p:cNvPicPr/>
          <p:nvPr/>
        </p:nvPicPr>
        <p:blipFill>
          <a:blip r:embed="rId1"/>
          <a:stretch/>
        </p:blipFill>
        <p:spPr>
          <a:xfrm>
            <a:off x="1187280" y="2565360"/>
            <a:ext cx="1810080" cy="187344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8">
            <a:hlinkClick r:id="rId2" action="ppaction://hlinksldjump"/>
          </p:cNvPr>
          <p:cNvSpPr/>
          <p:nvPr/>
        </p:nvSpPr>
        <p:spPr>
          <a:xfrm>
            <a:off x="8459640" y="6453360"/>
            <a:ext cx="505080" cy="288720"/>
          </a:xfrm>
          <a:custGeom>
            <a:avLst/>
            <a:gdLst>
              <a:gd name="textAreaLeft" fmla="*/ 18720 w 505080"/>
              <a:gd name="textAreaRight" fmla="*/ 486360 w 505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7766" h="21600">
                <a:moveTo>
                  <a:pt x="0" y="0"/>
                </a:moveTo>
                <a:lnTo>
                  <a:pt x="37766" y="0"/>
                </a:lnTo>
                <a:lnTo>
                  <a:pt x="37766" y="21600"/>
                </a:lnTo>
                <a:lnTo>
                  <a:pt x="0" y="21600"/>
                </a:lnTo>
                <a:close/>
              </a:path>
              <a:path fill="lightenLess" w="37766" h="21600">
                <a:moveTo>
                  <a:pt x="0" y="0"/>
                </a:moveTo>
                <a:lnTo>
                  <a:pt x="37766" y="0"/>
                </a:lnTo>
                <a:lnTo>
                  <a:pt x="36366" y="1400"/>
                </a:lnTo>
                <a:lnTo>
                  <a:pt x="1400" y="1400"/>
                </a:lnTo>
                <a:close/>
              </a:path>
              <a:path fill="darken" w="37766" h="21600">
                <a:moveTo>
                  <a:pt x="37766" y="0"/>
                </a:moveTo>
                <a:lnTo>
                  <a:pt x="37766" y="21600"/>
                </a:lnTo>
                <a:lnTo>
                  <a:pt x="36366" y="20200"/>
                </a:lnTo>
                <a:lnTo>
                  <a:pt x="36366" y="1400"/>
                </a:lnTo>
                <a:close/>
              </a:path>
              <a:path fill="darkenLess" w="37766" h="21600">
                <a:moveTo>
                  <a:pt x="37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6" y="20200"/>
                </a:lnTo>
                <a:close/>
              </a:path>
              <a:path fill="lighten" w="37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6" h="21600">
                <a:moveTo>
                  <a:pt x="18883" y="3837"/>
                </a:moveTo>
                <a:lnTo>
                  <a:pt x="21459" y="6448"/>
                </a:lnTo>
                <a:lnTo>
                  <a:pt x="21459" y="4707"/>
                </a:lnTo>
                <a:lnTo>
                  <a:pt x="23235" y="4707"/>
                </a:lnTo>
                <a:lnTo>
                  <a:pt x="23235" y="8224"/>
                </a:lnTo>
                <a:lnTo>
                  <a:pt x="25846" y="10800"/>
                </a:lnTo>
                <a:lnTo>
                  <a:pt x="24192" y="10800"/>
                </a:lnTo>
                <a:lnTo>
                  <a:pt x="24192" y="17989"/>
                </a:lnTo>
                <a:lnTo>
                  <a:pt x="13574" y="17989"/>
                </a:lnTo>
                <a:lnTo>
                  <a:pt x="13574" y="10800"/>
                </a:lnTo>
                <a:lnTo>
                  <a:pt x="11920" y="10800"/>
                </a:lnTo>
                <a:close/>
              </a:path>
              <a:path fill="darkenLess" w="37766" h="21600">
                <a:moveTo>
                  <a:pt x="21459" y="6448"/>
                </a:moveTo>
                <a:lnTo>
                  <a:pt x="21459" y="4707"/>
                </a:lnTo>
                <a:lnTo>
                  <a:pt x="23235" y="4707"/>
                </a:lnTo>
                <a:lnTo>
                  <a:pt x="23235" y="8224"/>
                </a:lnTo>
                <a:close/>
              </a:path>
              <a:path fill="darkenLess" w="37766" h="21600">
                <a:moveTo>
                  <a:pt x="17961" y="14299"/>
                </a:moveTo>
                <a:lnTo>
                  <a:pt x="19806" y="14299"/>
                </a:lnTo>
                <a:lnTo>
                  <a:pt x="19806" y="17989"/>
                </a:lnTo>
                <a:lnTo>
                  <a:pt x="24192" y="17989"/>
                </a:lnTo>
                <a:lnTo>
                  <a:pt x="24192" y="10800"/>
                </a:lnTo>
                <a:lnTo>
                  <a:pt x="13574" y="10800"/>
                </a:lnTo>
                <a:lnTo>
                  <a:pt x="13574" y="17989"/>
                </a:lnTo>
                <a:lnTo>
                  <a:pt x="1796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ff"/>
                </a:solidFill>
                <a:latin typeface="Kunstler Script"/>
              </a:rPr>
              <a:t>Цитрусов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419280" y="1484280"/>
            <a:ext cx="526716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 этой группе относятся лимоны, апельсины, мандарины, грейпфру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лоды состоят из кожуры, мякоти, разделенной на дольки, семян, плодоножки и чашеч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лагодаря содержанию сахаров, эфирных масел, лимонной кислоты, минеральных веществ, витаминов (особенно С) и каротина, цитрусовые очень питательны, обладают прекрасным вкусом, ароматом, антимикробным действием. Эти фрукты очень полезны в свежем ви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кожуре цитрусовых – цедре сосредоточено много витаминов, поэтому ее используют в кулинарии для приготовления цука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65"/>
          <p:cNvPicPr/>
          <p:nvPr/>
        </p:nvPicPr>
        <p:blipFill>
          <a:blip r:embed="rId1"/>
          <a:stretch/>
        </p:blipFill>
        <p:spPr>
          <a:xfrm>
            <a:off x="1042920" y="1773360"/>
            <a:ext cx="1657440" cy="1411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88"/>
          <p:cNvPicPr/>
          <p:nvPr/>
        </p:nvPicPr>
        <p:blipFill>
          <a:blip r:embed="rId2"/>
          <a:stretch/>
        </p:blipFill>
        <p:spPr>
          <a:xfrm>
            <a:off x="1116000" y="3716280"/>
            <a:ext cx="1598760" cy="170028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10">
            <a:hlinkClick r:id="rId3" action="ppaction://hlinksldjump"/>
          </p:cNvPr>
          <p:cNvSpPr/>
          <p:nvPr/>
        </p:nvSpPr>
        <p:spPr>
          <a:xfrm>
            <a:off x="8604360" y="6237360"/>
            <a:ext cx="288720" cy="287280"/>
          </a:xfrm>
          <a:custGeom>
            <a:avLst/>
            <a:gdLst>
              <a:gd name="textAreaLeft" fmla="*/ 18360 w 288720"/>
              <a:gd name="textAreaRight" fmla="*/ 270360 w 288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10854" y="3837"/>
                </a:moveTo>
                <a:lnTo>
                  <a:pt x="13430" y="6448"/>
                </a:ln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lnTo>
                  <a:pt x="17817" y="10800"/>
                </a:lnTo>
                <a:lnTo>
                  <a:pt x="16163" y="10800"/>
                </a:lnTo>
                <a:lnTo>
                  <a:pt x="16163" y="17989"/>
                </a:lnTo>
                <a:lnTo>
                  <a:pt x="5545" y="17989"/>
                </a:lnTo>
                <a:lnTo>
                  <a:pt x="5545" y="10800"/>
                </a:lnTo>
                <a:lnTo>
                  <a:pt x="3891" y="10800"/>
                </a:lnTo>
                <a:close/>
              </a:path>
              <a:path fill="darkenLess" w="21708" h="21600">
                <a:moveTo>
                  <a:pt x="13430" y="6448"/>
                </a:move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close/>
              </a:path>
              <a:path fill="darkenLess" w="21708" h="21600">
                <a:moveTo>
                  <a:pt x="9931" y="14299"/>
                </a:moveTo>
                <a:lnTo>
                  <a:pt x="11777" y="14299"/>
                </a:lnTo>
                <a:lnTo>
                  <a:pt x="11777" y="17989"/>
                </a:lnTo>
                <a:lnTo>
                  <a:pt x="16163" y="17989"/>
                </a:lnTo>
                <a:lnTo>
                  <a:pt x="16163" y="10800"/>
                </a:lnTo>
                <a:lnTo>
                  <a:pt x="5545" y="10800"/>
                </a:lnTo>
                <a:lnTo>
                  <a:pt x="5545" y="17989"/>
                </a:lnTo>
                <a:lnTo>
                  <a:pt x="993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8000"/>
                </a:solidFill>
                <a:latin typeface="Kunstler Script"/>
              </a:rPr>
              <a:t>Косточков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отличие от семечковых косточковые плохо хранятся. Эти плоды вкусны и полезны, но из-за плохой лежкости их следует использовать в течении короткого периода. Косточковые плоды употребляют свежими, из них так же варят варенье, желе, компоты.     Консервированные косточковые успешно заменяют свежие плоды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 косточковым относятся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Сл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4" action="ppaction://hlinksldjump"/>
              </a:rPr>
              <a:t>Виш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6" action="ppaction://hlinksldjump"/>
              </a:rPr>
              <a:t>Абрико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8" action="ppaction://hlinksldjump"/>
              </a:rPr>
              <a:t>Перс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Тер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Алыч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Кизи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07:02:59Z</dcterms:created>
  <dc:creator>Standard</dc:creator>
  <dc:description/>
  <dc:language>en-US</dc:language>
  <cp:lastModifiedBy>Владислав Кравчук</cp:lastModifiedBy>
  <dcterms:modified xsi:type="dcterms:W3CDTF">2021-01-08T19:45:43Z</dcterms:modified>
  <cp:revision>149</cp:revision>
  <dc:subject/>
  <dc:title>Плоды</dc:title>
</cp:coreProperties>
</file>