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A9E9-7E98-49FE-9335-FD406A062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A05A-7283-4CA5-A620-54271375D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21CF-3EED-424C-A8A6-46D5EC9E2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B56D-CA78-4DA4-99B9-DD0DAB931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F5A8-0295-41AC-9665-BD595A358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62A0-A888-41CA-9F4E-63D422512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CC2F-6C4D-423B-86E3-830BFC0D32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5982-5FA6-42B0-8B10-7A72994234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B896-4368-4DC3-85C5-4879E9AE22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3925-D5EA-4029-BA61-CE782493BD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99B0-EAA4-4C25-A954-875EF9A80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FDE2-C172-45D6-AA69-4DD2049A5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B033-D776-422E-B3AE-D60CF05FC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9A44-56CC-453E-9479-EE0C7D3DD0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6FD5-EED6-4552-9CBC-BDCB57449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53A4-37EB-475B-AD01-A7ABDB106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9EBC-634F-486F-8C50-C5C07BA04A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E7D-CB66-4C98-9958-F6D7A69E53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2DA-98C3-40E8-86D2-4F193AA1C6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DA0-292D-4C1D-8090-7B585587AD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5D3-17AC-40EE-A8B2-409A2D73B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54D-215E-4EF8-96D0-5397EFBB6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21E6-1E14-4703-8EBA-C7CC1253E7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859-7C3A-4612-9DEF-6ABCBD6000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E98-50C1-4A86-8C22-AF0C5E458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678-5E12-49B2-9E09-293FE9A18C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255-28D7-4248-AD63-BB42B20F09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687-8637-4B1D-A4D6-318EFB85C7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C47-166B-46C8-8708-2759B8172B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306-A466-4B8F-8A97-91EBC14027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2C0DC-0EFF-47B7-93B4-9E6675DB5F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899"/>
              </a:spcBef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B665E-2F55-4559-B919-8634983943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4AE01-EAAD-425A-A0F4-9EDFE5F89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460D-5F3E-459E-87CD-7D59F1A495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7D934-2300-4921-ABF8-0338F1DB35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73BB4-28D3-44EA-B633-43DA8958A0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B7F14-C273-444F-9BCE-DA19ED9499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47D27-F6A8-427F-B0FB-2BAE20E33B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27E6F-494B-4D09-AE5F-6C2978ECD4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2E826-220D-4E82-92BB-B6768A9C42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4821A-FB4F-401A-B297-07211374A8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3BE0E-BED8-4859-A021-0CC099A86D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688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07440" y="312372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6632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28688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507440" y="8019360"/>
            <a:ext cx="3066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6F981-836C-475C-A7FF-F7A1BD8F3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8025-5959-4E48-A76A-6F4589EC2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320" y="469800"/>
            <a:ext cx="9525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89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CCF4-4F78-448D-AF0A-CC8D10EFB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2B26-E7FB-4C0A-BAD5-06F01ACEF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47200" y="801936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D12B-CFE4-46F0-B9D4-A2B6C54BD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7200" y="3123720"/>
            <a:ext cx="4647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8019360"/>
            <a:ext cx="95252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5899"/>
              </a:spcBef>
              <a:buNone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25F6-E0E0-4309-84EB-EE34E2BBC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66680" y="2768760"/>
            <a:ext cx="222519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3123720"/>
            <a:ext cx="2223792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9688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119376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79064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2387520" indent="-596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984040" indent="-59652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984040" indent="-59652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984040" indent="-59652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321532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D51D463-5552-458D-A33C-B25F88438809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"/>
          <p:cNvSpPr/>
          <p:nvPr/>
        </p:nvSpPr>
        <p:spPr>
          <a:xfrm>
            <a:off x="1066680" y="6845400"/>
            <a:ext cx="100015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019240"/>
            <a:ext cx="100076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7213680"/>
            <a:ext cx="100076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marL="27936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55872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83808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117440" indent="-27936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396800" indent="-2790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396800" indent="-2790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396800" indent="-2790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950760" y="12985920"/>
            <a:ext cx="3700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BD6CC98-21A7-492C-8E48-FACBB340D93B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"/>
          <p:cNvSpPr/>
          <p:nvPr/>
        </p:nvSpPr>
        <p:spPr>
          <a:xfrm>
            <a:off x="14147640" y="11214000"/>
            <a:ext cx="0" cy="20005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41680" y="10946880"/>
            <a:ext cx="10858320" cy="238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719320" y="11937960"/>
            <a:ext cx="92836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000"/>
          </a:bodyPr>
          <a:p>
            <a:pPr marL="3780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7596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1412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5228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90440" indent="-3780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90440" indent="-378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90440" indent="-3780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2321532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06217DFC-4367-4381-816A-73DDDB7B83DD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"/>
          <p:cNvSpPr/>
          <p:nvPr/>
        </p:nvSpPr>
        <p:spPr>
          <a:xfrm>
            <a:off x="1066680" y="2768760"/>
            <a:ext cx="951228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5522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11048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65744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2209680" indent="-55224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761920" indent="-551880">
              <a:spcBef>
                <a:spcPts val="5899"/>
              </a:spcBef>
              <a:buClr>
                <a:srgbClr val="747474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761920" indent="-55188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761920" indent="-551880">
              <a:spcBef>
                <a:spcPts val="5899"/>
              </a:spcBef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50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50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956880" y="12985920"/>
            <a:ext cx="368280" cy="37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12DB185A-D9FA-458B-9B65-20A398A60581}" type="slidenum">
              <a:rPr b="0" lang="ru-RU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mirovaahudozestvenaakultura/home/teatr-i-kinoiskusstvo-xx-veka/ingmar-bergman" TargetMode="External"/><Relationship Id="rId2" Type="http://schemas.openxmlformats.org/officeDocument/2006/relationships/hyperlink" Target="https://sites.google.com/site/mirovaahudozestvenaakultura/home/teatr-i-kinoiskusstvo-xx-veka/roberto-rossellini" TargetMode="External"/><Relationship Id="rId3" Type="http://schemas.openxmlformats.org/officeDocument/2006/relationships/hyperlink" Target="https://sites.google.com/site/mirovaahudozestvenaakultura/home/teatr-i-kinoiskusstvo-xx-veka/federiko-fellini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4622760"/>
            <a:ext cx="12682800" cy="49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ru-RU" sz="10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Мировая Культура первой половины XX века.</a:t>
            </a:r>
            <a:endParaRPr b="0" lang="en-US" sz="105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61" name="Picture 2" descr="IMG_0823.jpeg"/>
          <p:cNvPicPr/>
          <p:nvPr/>
        </p:nvPicPr>
        <p:blipFill>
          <a:blip r:embed="rId1"/>
          <a:stretch/>
        </p:blipFill>
        <p:spPr>
          <a:xfrm>
            <a:off x="17516520" y="385920"/>
            <a:ext cx="5786280" cy="412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IMG_0824.jpeg"/>
          <p:cNvPicPr/>
          <p:nvPr/>
        </p:nvPicPr>
        <p:blipFill>
          <a:blip r:embed="rId2"/>
          <a:stretch/>
        </p:blipFill>
        <p:spPr>
          <a:xfrm>
            <a:off x="17937000" y="8070840"/>
            <a:ext cx="5372280" cy="437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IMG_0822.jpeg"/>
          <p:cNvPicPr/>
          <p:nvPr/>
        </p:nvPicPr>
        <p:blipFill>
          <a:blip r:embed="rId3"/>
          <a:stretch/>
        </p:blipFill>
        <p:spPr>
          <a:xfrm>
            <a:off x="14533560" y="4137120"/>
            <a:ext cx="6684840" cy="4267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246320" y="10507680"/>
            <a:ext cx="9524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rm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МБОУ «СОШ №22»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Старкова Валерия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Helvetica Neue Light"/>
              </a:rPr>
              <a:t>Ученица 11А класса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019240"/>
            <a:ext cx="9815760" cy="88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Музык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6960" y="3163680"/>
            <a:ext cx="10199520" cy="836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ХХ век - время, когда технологии изменили мир. Музыка как неотъемлемая часть человеческой жизни также претерпела глобальные изменения. Композиторы опрокинули многие музыкальные правила прошлого и нашли новые, смелые темы и новые способы их выражения.</a:t>
            </a:r>
            <a:endParaRPr b="0" lang="en-US" sz="39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 </a:t>
            </a:r>
            <a:r>
              <a:rPr b="0" lang="ru-RU" sz="3900" spc="-1" strike="noStrike">
                <a:solidFill>
                  <a:srgbClr val="000000"/>
                </a:solidFill>
                <a:latin typeface="Helvetica Neue Light"/>
              </a:rPr>
              <a:t>Как никогда прежде, огромное влияние на музыку оказали политические события первой половины XX века. Войны, революции, социальные и экономические потрясения встряхнули мир в прошлом веке.</a:t>
            </a:r>
            <a:endParaRPr b="0" lang="en-US" sz="39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1" name="Picture 3" descr="pasted-image.jpeg"/>
          <p:cNvPicPr/>
          <p:nvPr/>
        </p:nvPicPr>
        <p:blipFill>
          <a:blip r:embed="rId1"/>
          <a:stretch/>
        </p:blipFill>
        <p:spPr>
          <a:xfrm>
            <a:off x="11864880" y="-95400"/>
            <a:ext cx="14179680" cy="14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Арнольд Шёнберг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1320" y="3098880"/>
            <a:ext cx="11972880" cy="983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elvetica Neue Light"/>
              </a:rPr>
              <a:t>австрийский, затем американский композитор, дирижёр, музыковед. Возглавляемая им группа музыкантов решила, что тональная музыка (логическое построение соразмерных аккордов) исчерпала себя, и они предложили так называемую атональную музыку и 12-тоновой систему композиции (известную как «Додекафония» или "серийная техника").  Такая музыка перестала быть мелодичной и гармоничной, не все композиторы восприняли их идеи. К известнейшим композициям относятся: «Pierrot lunaire», “Verklärte Nacht”</a:t>
            </a:r>
            <a:endParaRPr b="0" lang="en-US" sz="4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4" name="Picture 6" descr="https://www.plateamagazine.com/images/fotos/arnold_schoenberg_berlin_1933.jpg"/>
          <p:cNvPicPr/>
          <p:nvPr/>
        </p:nvPicPr>
        <p:blipFill>
          <a:blip r:embed="rId1"/>
          <a:stretch/>
        </p:blipFill>
        <p:spPr>
          <a:xfrm>
            <a:off x="15764040" y="2928960"/>
            <a:ext cx="7338960" cy="1043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Игорь Фёдорович Стравинский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10436400" cy="920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Helvetica Neue Light"/>
              </a:rPr>
              <a:t>Русский композитор. Один из крупнейших представителей мировой музыкальной культуры XX века. Музыку Стравинского отличает стилистическое многообразие: в первом периоде творчества (наиболее репертуарные его сочинения) она несёт яркий отпечаток русской культурной традиции. Стилистика позднейших сочинений выдаёт, среди прочего, влияние неоклассицизма и додекафонии новой Венской школы. К наиболее известным произведениям относятся: опера «Соловей», балет «Весна священная», «Свадебка».</a:t>
            </a:r>
            <a:endParaRPr b="0" lang="en-US" sz="4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17" name="Picture 3" descr="pasted-image.jpeg"/>
          <p:cNvPicPr/>
          <p:nvPr/>
        </p:nvPicPr>
        <p:blipFill>
          <a:blip r:embed="rId1"/>
          <a:stretch/>
        </p:blipFill>
        <p:spPr>
          <a:xfrm>
            <a:off x="13847760" y="3343320"/>
            <a:ext cx="6350040" cy="767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469800"/>
            <a:ext cx="2223792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Джаз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1224288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Helvetica Neue Light"/>
              </a:rPr>
              <a:t>Музыкальный жанр возник в 1910-х годах на юге США и быстро распространился во всех развитых странах. На родине оригинальный стиль обогащался, в частности, различными региональными музыкальными особенностями. Популярная музыка и джаз в 1920-ые стали для многих людей почти равнозначными понятиями. XX веке направление постоянно преображалось, пройдя несколько характерных этапов развития.Большинству разновидностей жанра свойственен свинг, вокальная экспрессия, импровизация, опора на риффы, использование ладов с блюзовыми нотами.</a:t>
            </a:r>
            <a:endParaRPr b="0" lang="en-US" sz="43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0" name="Picture 3" descr="pasted-image.jpeg"/>
          <p:cNvPicPr/>
          <p:nvPr/>
        </p:nvPicPr>
        <p:blipFill>
          <a:blip r:embed="rId1"/>
          <a:stretch/>
        </p:blipFill>
        <p:spPr>
          <a:xfrm>
            <a:off x="14797080" y="4095720"/>
            <a:ext cx="888048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5640" y="425520"/>
            <a:ext cx="9525240" cy="81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Литера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45640" y="1456920"/>
            <a:ext cx="9525240" cy="110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Одна из характерных черт литературного процесса 20 века – его крайняя раздробленность. Именно в 20 веке стали разделять литературу на элитарную и массовую, мужскую и женскую, реалистическую и модернистскую. Последняя, в свою очередь, поражала пестротой методов и направлений: футуризм, импрессионизм, экспрессионизм, дадаизм, абсурдизм, концептуализм – таков далеко не полный перечень модернистских и постмодернистских направлений и методов. Модернисты решительно отказались от традиционных форм искусства и от оптимистического отношения к миру. Реализм 20 века – явление тоже неоднородное. Уже в начале столетия выделяли такие разновидности реализма, как натурализм, неоромантизм, социалистический реализм, мифологический реализм.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В 20 веке произошло резкое расширение пространственных границ литературы: писатели с мировыми именами стали появляться в так называемых «третьих странах» – Колумбии, Бразилии, Исландии, чего не было прежде. 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20 век не создал какого-либо главенствующего направления в литературе, но внёс в неё необратимые изменения. Это выразилось в географии литературного процесса, а также в понимании того, что есть литературный герой и художественная правда. Мир, изображаемый в литературе, потерял какие-либо законченные формы: он стал раздробленным, не выстроенным, разнородным, в таком мире невозможно надеяться на постижение истины, на гармоничное бытие. Поэтому вместо поиска истины литература обрела иную задачу – найти множество возможных интерпретаций общественных и духовных явлений.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3" name="Picture 3" descr="pasted-image.jpeg"/>
          <p:cNvPicPr/>
          <p:nvPr/>
        </p:nvPicPr>
        <p:blipFill>
          <a:blip r:embed="rId1"/>
          <a:stretch/>
        </p:blipFill>
        <p:spPr>
          <a:xfrm>
            <a:off x="13031640" y="-312840"/>
            <a:ext cx="11491920" cy="143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93880" y="1352160"/>
            <a:ext cx="9926640" cy="1164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4100" spc="-1" strike="noStrike" u="sng">
                <a:solidFill>
                  <a:srgbClr val="000000"/>
                </a:solidFill>
                <a:uFillTx/>
                <a:latin typeface="Helvetica Neue Light"/>
              </a:rPr>
              <a:t>Эрнест Миллер Хемингуэй</a:t>
            </a:r>
            <a:br>
              <a:rPr sz="41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американский писатель, военный корреспондент.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Широкое признание Хемингуэй получил благодаря как своим романам и многочисленным рассказам — с одной стороны, так и своей жизни, полной приключений и неожиданностей, — с другой. Его стиль, краткий и насыщенный, значительно повлиял на литературу XX века.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Helvetica Neue Light"/>
              </a:rPr>
              <a:t>Первый крупный литературный успех пришел к Хемингуэю с публикацией романа «И восходит солнце», но более значимым в его творчестве стал роман «Прощай, оружие!». После окончания Второй мировой войны автор отправился на Кубу, где написал повесть «Старик и море». За нее он получил Пулитцеровскую премию в 1953 году и она же повлияла на вручение Хемингуэю Нобелевской премии по литературе в 1954 году.</a:t>
            </a: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25" name="Picture 2" descr="pasted-image.jpeg"/>
          <p:cNvPicPr/>
          <p:nvPr/>
        </p:nvPicPr>
        <p:blipFill>
          <a:blip r:embed="rId1"/>
          <a:stretch/>
        </p:blipFill>
        <p:spPr>
          <a:xfrm>
            <a:off x="-87480" y="6480"/>
            <a:ext cx="11080800" cy="138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85440" y="4446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Владимир Набоков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3124080"/>
            <a:ext cx="12136680" cy="1024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Родился Владимир Набоков 10 апреля 1899 года в Петербурге в семье известного политика. Аристократический семейный уклад в биографии Набокова благоприятствовал изучению иностранных языков с ранних лет. Сначала Владимир учился в Петербургском Тенишевском училище. Во время обучения писал стихи, увлекся изучением насекомых (энтомологией). Первый сборник стихотворений в биографии Владимира Набокова был издан на собственные деньги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Дальнейшее образование Набоков получал в Кембридже, где кроме написания стихов занимался переводом. После убийства отца Владимир поселился в Берлине, начал публиковать свои рассказы. Первый роман в биографии Владимира Владимировича Набокова был закончен в 1927 году («Машенька»). Позже вместе с женой Верой Слоним переезжает в Париж, а затем в США. После этого стал писать на английском языке. Набоков читал лекции в американских университетах, путешествовал. Роман «Лолита» внес в биографию Владимира Набокова мировую известность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Helvetica Neue Light"/>
              </a:rPr>
              <a:t>После возвращения из США в Европу, Набоков остановился в Швейцарии. Там писатель создал последние свои произведения. Другие известные романы и повести Набокова: «Соглядатай», «Подвиг», «Отчаяние», «Дар», «Другие берега», «Бледное пламя» и многие другие.</a:t>
            </a:r>
            <a:endParaRPr b="0" lang="en-US" sz="30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28" name="Picture 3" descr="pasted-image.jpeg"/>
          <p:cNvPicPr/>
          <p:nvPr/>
        </p:nvPicPr>
        <p:blipFill>
          <a:blip r:embed="rId1"/>
          <a:stretch/>
        </p:blipFill>
        <p:spPr>
          <a:xfrm>
            <a:off x="13774680" y="-223920"/>
            <a:ext cx="10904760" cy="141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Эрих Мария Ремарк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Первые произведения Ремарка были написаны в 1916 году. Позже писатель взял псевдоним Эрих Мария Ремарк – в честь умершей матери. Свои впечатления от жестокости войны Ремарк изобразил в произведении «На западном фронте без перемен» в 1929.  Кроме того опубликовал еще несколько подобных произведений, но все они были сожжены нацистами в 1933. В том же году Ремарк переехал в Швейцарию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Роман «Триумфальная арка» Ремарк написал в 1945 году под впечатлением от отношений с Марлен Дитрих.  В 1939 году в биографии Эриха Мария Ремарка произошел переезд в США, где спустя восемь лет он получил гражданство. В 1958 году второй раз женился, теперь на актрисе Полетт Годар (первой женой Ремарка была танцовщица Ютта Замбона). Сразу после этого вместе с женой обосновался в Швейцарии, прожил там до конца жизни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 Light"/>
              </a:rPr>
              <a:t>Среди других известных произведений Эриха Мария Ремарка: «Три товарища», «Время жить и время умирать», «Чёрный обелиск», «Жизнь взаймы» и многие другие.</a:t>
            </a:r>
            <a:endParaRPr b="0" lang="en-US" sz="28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31" name="Picture 3" descr="pasted-image.jpeg"/>
          <p:cNvPicPr/>
          <p:nvPr/>
        </p:nvPicPr>
        <p:blipFill>
          <a:blip r:embed="rId1"/>
          <a:stretch/>
        </p:blipFill>
        <p:spPr>
          <a:xfrm>
            <a:off x="13696920" y="-138240"/>
            <a:ext cx="10715760" cy="142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pasted-image.jpeg"/>
          <p:cNvPicPr/>
          <p:nvPr/>
        </p:nvPicPr>
        <p:blipFill>
          <a:blip r:embed="rId1"/>
          <a:stretch/>
        </p:blipFill>
        <p:spPr>
          <a:xfrm>
            <a:off x="12068280" y="2670120"/>
            <a:ext cx="11594880" cy="83487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3800" y="-2535120"/>
            <a:ext cx="10007280" cy="44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Скульп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3800" y="2624040"/>
            <a:ext cx="10007280" cy="1133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Helvetica Neue Light"/>
              </a:rPr>
              <a:t>XX век стал точкой разъединения со старыми многовековыми традициями. Уже даже в работах великого скульптора Огюста Родена, творившего в конце XIX века, прослеживался намек на это. Хотя скульптора, который обладал уникальным даром видения внутренней энергии человека и красоты, все же относят к стилю традиционализм, его произведениям присущи некоторое черты, которые характерны для модернизма. Это - световые эффекты и контрасты фактуры. Вскоре после появления кубизма в живописи, он внедрился и в скульптуру. С 1909 года даже Пикассо занялся созданием скульптурных композиций в речище кубизма, за ним последовали и другие ваятели, например, Жак Липшиц. </a:t>
            </a:r>
            <a:endParaRPr b="0" lang="en-US" sz="25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Helvetica Neue Light"/>
              </a:rPr>
              <a:t>В начале ХХ столетия европейцы начали интересоваться красотой других культур, среди которых была и художественная резьба африканских и тихоокеанских племен.Так американец Джейкоб Эпстайн (1880-1959) подвергся сильно влиянию примитивизма. Он переехал в Великобританию, где его творения, которые называли "непристойными" и "уродливыми", шокировали публику до II мировой войны.Умберто Боччони и другие футуристы из Италии, работая совершенно по-другому, возносили динамизм и скорость жизни. Произведения Наума Габо (1890-1977), а также его единомышленников отвлеченные по художественным задачам, но столь же современные, своей элегантностью и точностью походили на научные модели и формы машин. Конструктивистов называют новаторами, так как они создают не традиционную скульптурную массу, а скорее скелетные структуры, конструируют, а не высекают свои ваяния. При этом конструктивисты используют промышленные материалы, такие как стекло, сталь и пластмасса.</a:t>
            </a:r>
            <a:endParaRPr b="0" lang="en-US" sz="25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pasted-image.jpeg"/>
          <p:cNvPicPr/>
          <p:nvPr/>
        </p:nvPicPr>
        <p:blipFill>
          <a:blip r:embed="rId1"/>
          <a:stretch/>
        </p:blipFill>
        <p:spPr>
          <a:xfrm>
            <a:off x="1450800" y="482760"/>
            <a:ext cx="3814920" cy="54864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964800" y="6207120"/>
            <a:ext cx="4786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Сальвадор Дали «Профиль времени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37" name="Picture 3" descr="pasted-image.jpeg"/>
          <p:cNvPicPr/>
          <p:nvPr/>
        </p:nvPicPr>
        <p:blipFill>
          <a:blip r:embed="rId2"/>
          <a:stretch/>
        </p:blipFill>
        <p:spPr>
          <a:xfrm>
            <a:off x="7461360" y="3195720"/>
            <a:ext cx="3773520" cy="53229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7628040" y="8800920"/>
            <a:ext cx="34398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Огюст Роден «Мыслитель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947760" y="10873440"/>
            <a:ext cx="4921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Вера Мухина «Рабочий и колхозниц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40" name="Picture 6" descr="pasted-image.jpeg"/>
          <p:cNvPicPr/>
          <p:nvPr/>
        </p:nvPicPr>
        <p:blipFill>
          <a:blip r:embed="rId3"/>
          <a:stretch/>
        </p:blipFill>
        <p:spPr>
          <a:xfrm>
            <a:off x="13346280" y="4863960"/>
            <a:ext cx="4124160" cy="5916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8615240" y="11957040"/>
            <a:ext cx="51465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Анри Лоран «Голова молодой девушки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Tête de jeune fillette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42" name="Picture 8" descr="pasted-image.jpeg"/>
          <p:cNvPicPr/>
          <p:nvPr/>
        </p:nvPicPr>
        <p:blipFill>
          <a:blip r:embed="rId4"/>
          <a:stretch/>
        </p:blipFill>
        <p:spPr>
          <a:xfrm>
            <a:off x="19193040" y="6375240"/>
            <a:ext cx="3990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IMG_0826.jpeg"/>
          <p:cNvPicPr/>
          <p:nvPr/>
        </p:nvPicPr>
        <p:blipFill>
          <a:blip r:embed="rId1"/>
          <a:stretch/>
        </p:blipFill>
        <p:spPr>
          <a:xfrm>
            <a:off x="12192120" y="0"/>
            <a:ext cx="1219176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Архитектура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3124080"/>
            <a:ext cx="9525240" cy="100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Масштаб зданий увеличился благодаря освоению промышленного производства стальных конструкций, а также железобетона и стекла.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Здание превратилось в сложную инженерную систему. Электричество позволило освещать улицы и здания. 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431640" indent="-431640">
              <a:lnSpc>
                <a:spcPct val="100000"/>
              </a:lnSpc>
              <a:buClr>
                <a:srgbClr val="202122"/>
              </a:buClr>
              <a:buSzPct val="75000"/>
              <a:buFont typeface="Helvetica Neu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02122"/>
                </a:solidFill>
                <a:latin typeface="Arial"/>
                <a:ea typeface="Arial"/>
              </a:rPr>
              <a:t>Изменение функции и конструкции зданий сказалось на их облике. Новый масштаб зданий изменил приоритет средств архитектурной композиции. Античный и классический декор утратил актуальность. Важнейшими средствами стали объём и пространство, пропорции, шаг, метр и ритм, цвет и фактура материалов.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800" spc="-1" strike="noStrike">
                <a:solidFill>
                  <a:srgbClr val="000000"/>
                </a:solidFill>
                <a:latin typeface="Helvetica Neue Light"/>
              </a:rPr>
              <a:t>Кино</a:t>
            </a:r>
            <a:endParaRPr b="0" lang="en-US" sz="5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9a9a9a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«Немое кино»</a:t>
            </a:r>
            <a:r>
              <a:rPr b="0" lang="ru-RU" sz="4100" spc="-1" strike="noStrike">
                <a:solidFill>
                  <a:srgbClr val="000000"/>
                </a:solidFill>
                <a:latin typeface="Helvetica Neue Light"/>
              </a:rPr>
              <a:t> — общепринятое обозначение кинематографа в первые десятилетия его истории, когда фильмы выходили на экраны без синхронно записанного звука. Именно отсутствие доступной технической возможности записи и синхронного воспроизведения звука оказалось наиболее важным обстоятельством, которое определило художественную специфику кинофильмов в этот период. Звёздами немого кино были Чарли Чаплин, Жорж Мельес, Жуан Линъюнь.</a:t>
            </a:r>
            <a:endParaRPr b="0" lang="en-US" sz="4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45" name="Picture 3" descr="pasted-image.jpeg"/>
          <p:cNvPicPr/>
          <p:nvPr/>
        </p:nvPicPr>
        <p:blipFill>
          <a:blip r:embed="rId1"/>
          <a:stretch/>
        </p:blipFill>
        <p:spPr>
          <a:xfrm>
            <a:off x="18094320" y="-85680"/>
            <a:ext cx="6462720" cy="8078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pasted-image.jpeg"/>
          <p:cNvPicPr/>
          <p:nvPr/>
        </p:nvPicPr>
        <p:blipFill>
          <a:blip r:embed="rId2"/>
          <a:stretch/>
        </p:blipFill>
        <p:spPr>
          <a:xfrm>
            <a:off x="13284360" y="5384880"/>
            <a:ext cx="6037200" cy="84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Развитие Кинематографа.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0560" y="3136680"/>
            <a:ext cx="9524880" cy="9372600"/>
          </a:xfrm>
          <a:prstGeom prst="rect">
            <a:avLst/>
          </a:prstGeom>
          <a:noFill/>
          <a:ln w="12600">
            <a:solidFill>
              <a:srgbClr val="9a9a9a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17 сентября 1922 года в Берлине впервые в мире был показан звуковой фильм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Кинематограф ХХ века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Развитие кинематографа уравняло в правах на культурный досуг богача и бедняка, жителя столичного центра и глухой глубинки. Так что отнюдь не не случайно кино называют самым демократичным из всех видов искусств. Кинофильмы стали школой нравственности, зачинателями моды; заставляли смеяться и плакать миллионы людей, благодаря режиссерам, которые наполняли ожившую картинку смыслом.Наиболее ярких творческих результатов добились такие кинематографисты как Рене Клер,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1"/>
              </a:rPr>
              <a:t>Ингмар Бергман,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2"/>
              </a:rPr>
              <a:t>Роберто Росселлини,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Helvetica Neue Light"/>
                <a:hlinkClick r:id="rId3"/>
              </a:rPr>
              <a:t> Федерико Феллини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49" name="Picture 3" descr="pasted-image.jpeg"/>
          <p:cNvPicPr/>
          <p:nvPr/>
        </p:nvPicPr>
        <p:blipFill>
          <a:blip r:embed="rId4"/>
          <a:stretch/>
        </p:blipFill>
        <p:spPr>
          <a:xfrm>
            <a:off x="16828920" y="-82440"/>
            <a:ext cx="7615440" cy="50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pasted-image.jpeg"/>
          <p:cNvPicPr/>
          <p:nvPr/>
        </p:nvPicPr>
        <p:blipFill>
          <a:blip r:embed="rId5"/>
          <a:stretch/>
        </p:blipFill>
        <p:spPr>
          <a:xfrm>
            <a:off x="12704760" y="6642000"/>
            <a:ext cx="7439040" cy="552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14671800" y="12117960"/>
            <a:ext cx="35035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Ингам Бергман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8884880" y="5111640"/>
            <a:ext cx="35035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Рене Клер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IMG_0827.gif"/>
          <p:cNvPicPr/>
          <p:nvPr/>
        </p:nvPicPr>
        <p:blipFill>
          <a:blip r:embed="rId1"/>
          <a:stretch/>
        </p:blipFill>
        <p:spPr>
          <a:xfrm>
            <a:off x="11993400" y="-220680"/>
            <a:ext cx="12587400" cy="1415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4880" y="1936800"/>
            <a:ext cx="800748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Helvetica Neue Light"/>
              </a:rPr>
              <a:t>Рациональная Архитектура</a:t>
            </a:r>
            <a:endParaRPr b="0" lang="en-US" sz="4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8840" y="3790440"/>
            <a:ext cx="11239560" cy="955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Helvetica Neue Light"/>
              </a:rPr>
              <a:t>Рациональная архитектура родилась после первой мировой войны – когда появилась большая потребность в жилье. Главные её принципы сводятся к следующему: архитектонические формы должны быть рациональны; должны зависеть от функционального назначения сооружения; расходы минимизированы; в целях экономии и ускорения строительства используются строительные полуфабрикаты и стандарты; в целом архитектура рассматривается как фактор прогресса. Эстетика здания должна полностью соответствовать его функции. В задачу архитектора входило рациональное проектирование с использованием прогрессивных технологий, которые должны четко просматриваться в строении. В результате главным стала демонстрация чистоты формы и цвета, а также новых материалов – стекла, стали, армированного бетона. Предпочтение отдавалось кубическим и призматическим формам с плоскими крышами.</a:t>
            </a:r>
            <a:endParaRPr b="0" lang="en-US" sz="33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613560" y="9993240"/>
            <a:ext cx="4332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IMG_0828.jpeg"/>
          <p:cNvPicPr/>
          <p:nvPr/>
        </p:nvPicPr>
        <p:blipFill>
          <a:blip r:embed="rId1"/>
          <a:stretch/>
        </p:blipFill>
        <p:spPr>
          <a:xfrm>
            <a:off x="-135000" y="-54000"/>
            <a:ext cx="12311280" cy="5391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8360" y="6754680"/>
            <a:ext cx="1125072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Helvetica Neue Light"/>
              </a:rPr>
              <a:t>На практику архитектуры огромное влияние оказали взгляды Ле Корбюзье, который одним из первых в своих зданиях использовал железобетонный каркас, крыши-террасы, большие плоскости остекления на фасаде, открытые опоры в нижних этажах здания, свободную планировку этажей.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16280" y="8502480"/>
            <a:ext cx="9283680" cy="71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vetica Neue Light"/>
              </a:rPr>
              <a:t>Вилла Савой в Пуасси, Франция, 1929—1931 и Павильон, 1958</a:t>
            </a:r>
            <a:endParaRPr b="0" lang="en-US" sz="2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75" name="Picture 4" descr="IMG_0829.jpeg"/>
          <p:cNvPicPr/>
          <p:nvPr/>
        </p:nvPicPr>
        <p:blipFill>
          <a:blip r:embed="rId2"/>
          <a:stretch/>
        </p:blipFill>
        <p:spPr>
          <a:xfrm>
            <a:off x="14312880" y="-33480"/>
            <a:ext cx="9691560" cy="80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IMG_0821.jpeg"/>
          <p:cNvPicPr/>
          <p:nvPr/>
        </p:nvPicPr>
        <p:blipFill>
          <a:blip r:embed="rId1"/>
          <a:stretch/>
        </p:blipFill>
        <p:spPr>
          <a:xfrm>
            <a:off x="12192120" y="0"/>
            <a:ext cx="12191760" cy="13716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2019240"/>
            <a:ext cx="9790200" cy="87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Живопись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0560" y="3277800"/>
            <a:ext cx="10013760" cy="824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Направления живописи, возникшие в 20 веке, принято объединять под одним названием – авангардизм. Несмотря на это обобщение, стили, которые сюда относятся, могут быть весьма противоречивыми и иметь абсолютно разные черты.</a:t>
            </a:r>
            <a:endParaRPr b="0" lang="en-US" sz="37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Helvetica Neue Light"/>
              </a:rPr>
              <a:t>Сам 20 век был полон событий, и изменения происходили буквально в каждое 10-летие. Технический прогресс, войны, смена социального строя, переход к совершенно новым стилям мышления  – все эти события оказывали влияние на живопись, делали ее изменчивой и неоднозначной</a:t>
            </a:r>
            <a:endParaRPr b="0" lang="en-US" sz="37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Импрессионизм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10045800" cy="971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Helvetica Neue Light"/>
              </a:rPr>
              <a:t>Одно из крупнейших течений в искусстве последней трети XIX — начала XX веков, зародившееся во Франции и затем распространившееся по всему миру. Представители импрессионизма стремились разрабатывать методы и приёмы, которые позволяли наиболее естественно и живо запечатлеть реальный мир в его подвижности и изменчивости, передать свои мимолётные впечатления.</a:t>
            </a:r>
            <a:endParaRPr b="0" lang="en-US" sz="47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81" name="Picture 3" descr="pasted-image.jpeg"/>
          <p:cNvPicPr/>
          <p:nvPr/>
        </p:nvPicPr>
        <p:blipFill>
          <a:blip r:embed="rId1"/>
          <a:stretch/>
        </p:blipFill>
        <p:spPr>
          <a:xfrm>
            <a:off x="13311360" y="4022640"/>
            <a:ext cx="5167080" cy="426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pasted-image.jpeg"/>
          <p:cNvPicPr/>
          <p:nvPr/>
        </p:nvPicPr>
        <p:blipFill>
          <a:blip r:embed="rId2"/>
          <a:stretch/>
        </p:blipFill>
        <p:spPr>
          <a:xfrm>
            <a:off x="18114840" y="8066160"/>
            <a:ext cx="5140440" cy="3797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8434160" y="4208400"/>
            <a:ext cx="4502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Бар «Фоли-Бержер». Эдуард Мане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4020920" y="8352360"/>
            <a:ext cx="4221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Бульвар Монмантр ночью» Писарро Камиль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7903160" y="11911680"/>
            <a:ext cx="5564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Москворецкий мост» Константин Коровин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86" name="Picture 8" descr="pasted-image.jpeg"/>
          <p:cNvPicPr/>
          <p:nvPr/>
        </p:nvPicPr>
        <p:blipFill>
          <a:blip r:embed="rId3"/>
          <a:stretch/>
        </p:blipFill>
        <p:spPr>
          <a:xfrm>
            <a:off x="18165600" y="593640"/>
            <a:ext cx="50374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Сюрреализм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0560" y="3098520"/>
            <a:ext cx="9524880" cy="937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Helvetica Neue Light"/>
              </a:rPr>
              <a:t>это авангардное направление в мировом изобразительном искусстве, литературе и кинематографе первой половины ХХ века, влиятельное движение в мировой культуре в период между двумя Мировыми войнами. Стилю свойственно парадоксальное сочетание форм и применение аллюзий. Последователи сюрреализма черпали творческую энергию из глубин подсознания, умело совмещали в своих произведениях реальное и вымышленное.</a:t>
            </a:r>
            <a:endParaRPr b="0" lang="en-US" sz="42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89" name="Picture 3" descr="pasted-image.jpeg"/>
          <p:cNvPicPr/>
          <p:nvPr/>
        </p:nvPicPr>
        <p:blipFill>
          <a:blip r:embed="rId1"/>
          <a:stretch/>
        </p:blipFill>
        <p:spPr>
          <a:xfrm>
            <a:off x="18375480" y="2306520"/>
            <a:ext cx="5567040" cy="736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pasted-image.jpeg"/>
          <p:cNvPicPr/>
          <p:nvPr/>
        </p:nvPicPr>
        <p:blipFill>
          <a:blip r:embed="rId2"/>
          <a:stretch/>
        </p:blipFill>
        <p:spPr>
          <a:xfrm>
            <a:off x="11993400" y="652320"/>
            <a:ext cx="6185160" cy="423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pasted-image.jpeg"/>
          <p:cNvPicPr/>
          <p:nvPr/>
        </p:nvPicPr>
        <p:blipFill>
          <a:blip r:embed="rId3"/>
          <a:stretch/>
        </p:blipFill>
        <p:spPr>
          <a:xfrm>
            <a:off x="12206160" y="6426360"/>
            <a:ext cx="5759640" cy="4662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2203280" y="4998960"/>
            <a:ext cx="57657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«Домашний ангел или триумф сюрреализма» Макс Эрнст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9064880" y="9882000"/>
            <a:ext cx="4188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Джузеппе Арчимбольдо «Весн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2797640" y="11267280"/>
            <a:ext cx="4575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Рене Магритт «Потерянный жокей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Футуризм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952524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9000"/>
          </a:bodyPr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Направлению было характерно: использование ярких цветов и четких форм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Философский подтекст в картинах в живописи футуристов, в первую очередь, видели способом выражения собственной политической позиции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Динамичность изображени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В центре творчества часто стояла тема войны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Художественные формы и передачу цвета футуристы заимствовали у фовистов и кубистов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Геометричность изображени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В живописи динамика часто переплетается со статикой;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  <a:p>
            <a:pPr marL="433440" indent="-433440" algn="ctr">
              <a:buClr>
                <a:srgbClr val="000000"/>
              </a:buClr>
              <a:buSzPct val="75000"/>
              <a:buFont typeface="Helvetica Neue"/>
              <a:buChar char="•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Helvetica Neue Light"/>
              </a:rPr>
              <a:t>Стремление передать не только осязаемые предметы, но и звуки.</a:t>
            </a:r>
            <a:endParaRPr b="0" lang="en-US" sz="34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197" name="Picture 3" descr="pasted-image.jpeg"/>
          <p:cNvPicPr/>
          <p:nvPr/>
        </p:nvPicPr>
        <p:blipFill>
          <a:blip r:embed="rId1"/>
          <a:stretch/>
        </p:blipFill>
        <p:spPr>
          <a:xfrm>
            <a:off x="18114840" y="474840"/>
            <a:ext cx="4929480" cy="49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pasted-image.jpeg"/>
          <p:cNvPicPr/>
          <p:nvPr/>
        </p:nvPicPr>
        <p:blipFill>
          <a:blip r:embed="rId2"/>
          <a:stretch/>
        </p:blipFill>
        <p:spPr>
          <a:xfrm>
            <a:off x="12222000" y="2793960"/>
            <a:ext cx="4738680" cy="6032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asted-image.jpeg"/>
          <p:cNvPicPr/>
          <p:nvPr/>
        </p:nvPicPr>
        <p:blipFill>
          <a:blip r:embed="rId3"/>
          <a:stretch/>
        </p:blipFill>
        <p:spPr>
          <a:xfrm>
            <a:off x="17602200" y="7269120"/>
            <a:ext cx="5956200" cy="3930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8472680" y="11367360"/>
            <a:ext cx="4214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Карло Карра «Красный Всадник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296880" y="9092160"/>
            <a:ext cx="45892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Джино Северини «Визуальный синтез идеи: войн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8148320" y="5454720"/>
            <a:ext cx="4863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Умберто Боччони «Под перловой в Неаполе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69800"/>
            <a:ext cx="9525240" cy="196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Helvetica Neue Light"/>
              </a:rPr>
              <a:t>Декаданс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840" y="2889000"/>
            <a:ext cx="9524880" cy="937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Helvetica Neue Light"/>
              </a:rPr>
              <a:t>Направление характеризуется эстетизмом, индивидуализмом. Подобно более раннему Движению искусств и ремесел, родоначальники декадентства стремились освободить искусство от материалистических забот промышленной революции, раскрепостить мораль. Они выступали против старых, академических форм искусства, искали новые формы самовыражения, более гибкие и более соответствующие усложнённому мироощущению современного человека.</a:t>
            </a:r>
            <a:endParaRPr b="0" lang="en-US" sz="3100" spc="-1" strike="noStrike">
              <a:solidFill>
                <a:srgbClr val="747474"/>
              </a:solidFill>
              <a:latin typeface="Helvetica Neue Light"/>
            </a:endParaRPr>
          </a:p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Helvetica Neue Light"/>
              </a:rPr>
              <a:t>Характерными чертами декадентства обычно считаются отход от общественности и отвращение к повседневной жизни, что проявляется в искусстве отрывом от реальности, поэтикой искусства для искусства, эстетизмом, модой на демонизм, преобладанием формы над содержанием, стремлением к внешним эффектам, стилизации и т. д.</a:t>
            </a:r>
            <a:endParaRPr b="0" lang="en-US" sz="3100" spc="-1" strike="noStrike">
              <a:solidFill>
                <a:srgbClr val="747474"/>
              </a:solidFill>
              <a:latin typeface="Helvetica Neue Light"/>
            </a:endParaRPr>
          </a:p>
        </p:txBody>
      </p:sp>
      <p:pic>
        <p:nvPicPr>
          <p:cNvPr id="205" name="Picture 3" descr="pasted-image.jpeg"/>
          <p:cNvPicPr/>
          <p:nvPr/>
        </p:nvPicPr>
        <p:blipFill>
          <a:blip r:embed="rId1"/>
          <a:stretch/>
        </p:blipFill>
        <p:spPr>
          <a:xfrm>
            <a:off x="18070560" y="163440"/>
            <a:ext cx="6057720" cy="5052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8667440" y="5504760"/>
            <a:ext cx="48639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Рамон Касас «Юная декадентка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022360" y="10793520"/>
            <a:ext cx="48639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 Neue Light"/>
              </a:rPr>
              <a:t>Эдвард Мунк «Следующий день»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208" name="Picture 9" descr="https://avatars.mds.yandex.net/get-zen_doc/1583391/pub_5dfa14dbc7e50c00af879ce3_5dfa157e9ca51200afa88916/scale_1200"/>
          <p:cNvPicPr/>
          <p:nvPr/>
        </p:nvPicPr>
        <p:blipFill>
          <a:blip r:embed="rId2"/>
          <a:stretch/>
        </p:blipFill>
        <p:spPr>
          <a:xfrm>
            <a:off x="13263480" y="6286680"/>
            <a:ext cx="6072120" cy="45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ертюга</dc:creator>
  <dc:description/>
  <dc:language>en-US</dc:language>
  <cp:lastModifiedBy>User</cp:lastModifiedBy>
  <dcterms:modified xsi:type="dcterms:W3CDTF">2021-05-25T12:09:51Z</dcterms:modified>
  <cp:revision>3</cp:revision>
  <dc:subject/>
  <dc:title>Мировая Культура первой половины XX века.</dc:title>
</cp:coreProperties>
</file>