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BE4-66B4-4B8B-9462-165AEB15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6DF-D62B-45CD-BCF5-A3CB30C8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6B6-CE84-4F0B-8D51-5E89335A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740-5479-4E0B-9B4A-E0CF2FF4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B100-FC52-48D6-B8AA-18A9B2AF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D181-0121-468C-9518-43D97A96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9163-C276-49FD-ABE4-7C517E41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25A6-5EAA-4E0E-B30F-82338305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26CA-A901-4C62-98A2-0FAF938E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1C70-5766-4CCC-82BD-020387A6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B1AA-3A07-4359-8BE4-2A92458C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1BF-9E44-421F-88B8-618B24A1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C36B-9383-4931-8539-10DB7AE0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29EC-1DB3-4B17-A8FC-FA6FAF23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B15B-9E15-433F-A14B-5700FA86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BC9C-513A-45BF-91D4-6AB490C8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1CAF-31A8-4B00-8F25-18C3B230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A8B8-7947-4B1B-8FFF-A4D2460C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892-BF35-491C-A1FF-6B05BAE3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7A8-41D3-4527-A19E-B41C725D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8EA-68C6-4EF8-A64B-D15695D7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F81-B2EF-4D71-AFF7-AB7C1583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DC8-3F22-45DE-8345-DA58E0F3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0DC-8FB9-4D0B-926C-0E02813C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4039-76EC-4F83-AFFF-C57B36AC3B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FDBD-74AB-46DA-8D56-F3417B9D39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ЗАГАДКИ О ЖИВОТНЫХ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дет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"/>
          <p:cNvSpPr/>
          <p:nvPr/>
        </p:nvSpPr>
        <p:spPr>
          <a:xfrm>
            <a:off x="5148360" y="5300640"/>
            <a:ext cx="3816360" cy="122400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Подготовил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старший воспитатель ГБДОУ детского сада № 4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Морозова Наталья Никола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Быстрее всех от страха несется...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828800"/>
            <a:ext cx="762624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черепах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ел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аяц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ис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6">
            <a:hlinkClick r:id="rId1" action="ppaction://hlinksldjump"/>
          </p:cNvPr>
          <p:cNvSpPr/>
          <p:nvPr/>
        </p:nvSpPr>
        <p:spPr>
          <a:xfrm>
            <a:off x="1187280" y="2133720"/>
            <a:ext cx="2664000" cy="43164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3218" h="21600">
                <a:moveTo>
                  <a:pt x="0" y="0"/>
                </a:moveTo>
                <a:lnTo>
                  <a:pt x="133218" y="0"/>
                </a:lnTo>
                <a:lnTo>
                  <a:pt x="133218" y="21600"/>
                </a:lnTo>
                <a:lnTo>
                  <a:pt x="0" y="21600"/>
                </a:lnTo>
                <a:close/>
              </a:path>
              <a:path fill="lightenLess" w="133218" h="21600">
                <a:moveTo>
                  <a:pt x="0" y="0"/>
                </a:moveTo>
                <a:lnTo>
                  <a:pt x="133218" y="0"/>
                </a:lnTo>
                <a:lnTo>
                  <a:pt x="131818" y="1400"/>
                </a:lnTo>
                <a:lnTo>
                  <a:pt x="1400" y="1400"/>
                </a:lnTo>
                <a:close/>
              </a:path>
              <a:path fill="darken" w="133218" h="21600">
                <a:moveTo>
                  <a:pt x="133218" y="0"/>
                </a:moveTo>
                <a:lnTo>
                  <a:pt x="133218" y="21600"/>
                </a:lnTo>
                <a:lnTo>
                  <a:pt x="131818" y="20200"/>
                </a:lnTo>
                <a:lnTo>
                  <a:pt x="131818" y="1400"/>
                </a:lnTo>
                <a:close/>
              </a:path>
              <a:path fill="darkenLess" w="133218" h="21600">
                <a:moveTo>
                  <a:pt x="133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818" y="20200"/>
                </a:lnTo>
                <a:close/>
              </a:path>
              <a:path fill="lighten" w="133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33218" h="21600">
                <a:moveTo>
                  <a:pt x="61082" y="3985"/>
                </a:moveTo>
                <a:lnTo>
                  <a:pt x="68080" y="3985"/>
                </a:lnTo>
                <a:lnTo>
                  <a:pt x="72136" y="7484"/>
                </a:lnTo>
                <a:lnTo>
                  <a:pt x="72136" y="17615"/>
                </a:lnTo>
                <a:lnTo>
                  <a:pt x="61082" y="17615"/>
                </a:lnTo>
                <a:close/>
              </a:path>
              <a:path fill="darken" w="133218" h="21600">
                <a:moveTo>
                  <a:pt x="68080" y="3985"/>
                </a:moveTo>
                <a:lnTo>
                  <a:pt x="72136" y="7484"/>
                </a:lnTo>
                <a:lnTo>
                  <a:pt x="68080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7">
            <a:hlinkClick r:id="rId2" action="ppaction://hlinksldjump"/>
          </p:cNvPr>
          <p:cNvSpPr/>
          <p:nvPr/>
        </p:nvSpPr>
        <p:spPr>
          <a:xfrm>
            <a:off x="1187280" y="2924280"/>
            <a:ext cx="1800360" cy="504720"/>
          </a:xfrm>
          <a:custGeom>
            <a:avLst/>
            <a:gdLst>
              <a:gd name="textAreaLeft" fmla="*/ 32400 w 1800360"/>
              <a:gd name="textAreaRight" fmla="*/ 1767960 w 180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7009" h="21600">
                <a:moveTo>
                  <a:pt x="0" y="0"/>
                </a:moveTo>
                <a:lnTo>
                  <a:pt x="77009" y="0"/>
                </a:lnTo>
                <a:lnTo>
                  <a:pt x="77009" y="21600"/>
                </a:lnTo>
                <a:lnTo>
                  <a:pt x="0" y="21600"/>
                </a:lnTo>
                <a:close/>
              </a:path>
              <a:path fill="lightenLess" w="77009" h="21600">
                <a:moveTo>
                  <a:pt x="0" y="0"/>
                </a:moveTo>
                <a:lnTo>
                  <a:pt x="77009" y="0"/>
                </a:lnTo>
                <a:lnTo>
                  <a:pt x="75609" y="1400"/>
                </a:lnTo>
                <a:lnTo>
                  <a:pt x="1400" y="1400"/>
                </a:lnTo>
                <a:close/>
              </a:path>
              <a:path fill="darken" w="77009" h="21600">
                <a:moveTo>
                  <a:pt x="77009" y="0"/>
                </a:moveTo>
                <a:lnTo>
                  <a:pt x="77009" y="21600"/>
                </a:lnTo>
                <a:lnTo>
                  <a:pt x="75609" y="20200"/>
                </a:lnTo>
                <a:lnTo>
                  <a:pt x="75609" y="1400"/>
                </a:lnTo>
                <a:close/>
              </a:path>
              <a:path fill="darkenLess" w="77009" h="21600">
                <a:moveTo>
                  <a:pt x="77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09" y="20200"/>
                </a:lnTo>
                <a:close/>
              </a:path>
              <a:path fill="lighten" w="77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7009" h="21600">
                <a:moveTo>
                  <a:pt x="32977" y="3985"/>
                </a:moveTo>
                <a:lnTo>
                  <a:pt x="39975" y="3985"/>
                </a:lnTo>
                <a:lnTo>
                  <a:pt x="44031" y="7484"/>
                </a:lnTo>
                <a:lnTo>
                  <a:pt x="44031" y="17615"/>
                </a:lnTo>
                <a:lnTo>
                  <a:pt x="32977" y="17615"/>
                </a:lnTo>
                <a:close/>
              </a:path>
              <a:path fill="darken" w="77009" h="21600">
                <a:moveTo>
                  <a:pt x="39975" y="3985"/>
                </a:moveTo>
                <a:lnTo>
                  <a:pt x="44031" y="7484"/>
                </a:lnTo>
                <a:lnTo>
                  <a:pt x="39975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8">
            <a:hlinkClick r:id="rId3" action="ppaction://hlinksldjump"/>
          </p:cNvPr>
          <p:cNvSpPr/>
          <p:nvPr/>
        </p:nvSpPr>
        <p:spPr>
          <a:xfrm>
            <a:off x="1187280" y="3860640"/>
            <a:ext cx="1584360" cy="432000"/>
          </a:xfrm>
          <a:custGeom>
            <a:avLst/>
            <a:gdLst>
              <a:gd name="textAreaLeft" fmla="*/ 27720 w 1584360"/>
              <a:gd name="textAreaRight" fmla="*/ 1556640 w 1584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9170" h="21600">
                <a:moveTo>
                  <a:pt x="34058" y="3985"/>
                </a:moveTo>
                <a:lnTo>
                  <a:pt x="41056" y="3985"/>
                </a:lnTo>
                <a:lnTo>
                  <a:pt x="45112" y="7484"/>
                </a:lnTo>
                <a:lnTo>
                  <a:pt x="45112" y="17615"/>
                </a:lnTo>
                <a:lnTo>
                  <a:pt x="34058" y="17615"/>
                </a:lnTo>
                <a:close/>
              </a:path>
              <a:path fill="darken" w="79170" h="21600">
                <a:moveTo>
                  <a:pt x="41056" y="3985"/>
                </a:moveTo>
                <a:lnTo>
                  <a:pt x="45112" y="7484"/>
                </a:lnTo>
                <a:lnTo>
                  <a:pt x="41056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9">
            <a:hlinkClick r:id="rId4" action="ppaction://hlinksldjump"/>
          </p:cNvPr>
          <p:cNvSpPr/>
          <p:nvPr/>
        </p:nvSpPr>
        <p:spPr>
          <a:xfrm>
            <a:off x="1187280" y="472428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1719" h="21600">
                <a:moveTo>
                  <a:pt x="30333" y="3985"/>
                </a:moveTo>
                <a:lnTo>
                  <a:pt x="37331" y="3985"/>
                </a:lnTo>
                <a:lnTo>
                  <a:pt x="41386" y="7484"/>
                </a:lnTo>
                <a:lnTo>
                  <a:pt x="41386" y="17615"/>
                </a:lnTo>
                <a:lnTo>
                  <a:pt x="30333" y="17615"/>
                </a:lnTo>
                <a:close/>
              </a:path>
              <a:path fill="darken" w="71719" h="21600">
                <a:moveTo>
                  <a:pt x="37331" y="3985"/>
                </a:moveTo>
                <a:lnTo>
                  <a:pt x="41386" y="7484"/>
                </a:lnTo>
                <a:lnTo>
                  <a:pt x="37331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10">
            <a:hlinkClick r:id="" action="ppaction://hlinkshowjump?jump=nextslide"/>
          </p:cNvPr>
          <p:cNvSpPr/>
          <p:nvPr/>
        </p:nvSpPr>
        <p:spPr>
          <a:xfrm>
            <a:off x="6804000" y="5805360"/>
            <a:ext cx="1584360" cy="503280"/>
          </a:xfrm>
          <a:custGeom>
            <a:avLst/>
            <a:gdLst>
              <a:gd name="textAreaLeft" fmla="*/ 32400 w 1584360"/>
              <a:gd name="textAreaRight" fmla="*/ 1551960 w 15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7965" h="21600">
                <a:moveTo>
                  <a:pt x="0" y="0"/>
                </a:moveTo>
                <a:lnTo>
                  <a:pt x="67965" y="0"/>
                </a:lnTo>
                <a:lnTo>
                  <a:pt x="67965" y="21600"/>
                </a:lnTo>
                <a:lnTo>
                  <a:pt x="0" y="21600"/>
                </a:lnTo>
                <a:close/>
              </a:path>
              <a:path fill="lightenLess" w="67965" h="21600">
                <a:moveTo>
                  <a:pt x="0" y="0"/>
                </a:moveTo>
                <a:lnTo>
                  <a:pt x="67965" y="0"/>
                </a:lnTo>
                <a:lnTo>
                  <a:pt x="66565" y="1400"/>
                </a:lnTo>
                <a:lnTo>
                  <a:pt x="1400" y="1400"/>
                </a:lnTo>
                <a:close/>
              </a:path>
              <a:path fill="darken" w="67965" h="21600">
                <a:moveTo>
                  <a:pt x="67965" y="0"/>
                </a:moveTo>
                <a:lnTo>
                  <a:pt x="67965" y="21600"/>
                </a:lnTo>
                <a:lnTo>
                  <a:pt x="66565" y="20200"/>
                </a:lnTo>
                <a:lnTo>
                  <a:pt x="66565" y="1400"/>
                </a:lnTo>
                <a:close/>
              </a:path>
              <a:path fill="darkenLess" w="67965" h="21600">
                <a:moveTo>
                  <a:pt x="67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565" y="20200"/>
                </a:lnTo>
                <a:close/>
              </a:path>
              <a:path fill="lighten" w="67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965" h="21600">
                <a:moveTo>
                  <a:pt x="26976" y="3794"/>
                </a:moveTo>
                <a:lnTo>
                  <a:pt x="40989" y="10800"/>
                </a:lnTo>
                <a:lnTo>
                  <a:pt x="26976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37712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остой вопрос для малышей: кого боится кот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ышей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оба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юдей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вере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0" descr="лев"/>
          <p:cNvPicPr/>
          <p:nvPr/>
        </p:nvPicPr>
        <p:blipFill>
          <a:blip r:embed="rId1"/>
          <a:stretch/>
        </p:blipFill>
        <p:spPr>
          <a:xfrm>
            <a:off x="5148360" y="2133720"/>
            <a:ext cx="2260440" cy="29685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1">
            <a:hlinkClick r:id="rId2" action="ppaction://hlinksldjump"/>
          </p:cNvPr>
          <p:cNvSpPr/>
          <p:nvPr/>
        </p:nvSpPr>
        <p:spPr>
          <a:xfrm>
            <a:off x="1116000" y="1916280"/>
            <a:ext cx="1943280" cy="649080"/>
          </a:xfrm>
          <a:custGeom>
            <a:avLst/>
            <a:gdLst>
              <a:gd name="textAreaLeft" fmla="*/ 41760 w 1943280"/>
              <a:gd name="textAreaRight" fmla="*/ 1901520 w 19432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64644" h="21600">
                <a:moveTo>
                  <a:pt x="0" y="0"/>
                </a:moveTo>
                <a:lnTo>
                  <a:pt x="64644" y="0"/>
                </a:lnTo>
                <a:lnTo>
                  <a:pt x="64644" y="21600"/>
                </a:lnTo>
                <a:lnTo>
                  <a:pt x="0" y="21600"/>
                </a:lnTo>
                <a:close/>
              </a:path>
              <a:path fill="lightenLess" w="64644" h="21600">
                <a:moveTo>
                  <a:pt x="0" y="0"/>
                </a:moveTo>
                <a:lnTo>
                  <a:pt x="64644" y="0"/>
                </a:lnTo>
                <a:lnTo>
                  <a:pt x="63244" y="1400"/>
                </a:lnTo>
                <a:lnTo>
                  <a:pt x="1400" y="1400"/>
                </a:lnTo>
                <a:close/>
              </a:path>
              <a:path fill="darken" w="64644" h="21600">
                <a:moveTo>
                  <a:pt x="64644" y="0"/>
                </a:moveTo>
                <a:lnTo>
                  <a:pt x="64644" y="21600"/>
                </a:lnTo>
                <a:lnTo>
                  <a:pt x="63244" y="20200"/>
                </a:lnTo>
                <a:lnTo>
                  <a:pt x="63244" y="1400"/>
                </a:lnTo>
                <a:close/>
              </a:path>
              <a:path fill="darkenLess" w="64644" h="21600">
                <a:moveTo>
                  <a:pt x="646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4" y="20200"/>
                </a:lnTo>
                <a:close/>
              </a:path>
              <a:path fill="lighten" w="646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644" h="21600">
                <a:moveTo>
                  <a:pt x="26795" y="3985"/>
                </a:moveTo>
                <a:lnTo>
                  <a:pt x="33793" y="3985"/>
                </a:lnTo>
                <a:lnTo>
                  <a:pt x="37849" y="7484"/>
                </a:lnTo>
                <a:lnTo>
                  <a:pt x="37849" y="17615"/>
                </a:lnTo>
                <a:lnTo>
                  <a:pt x="26795" y="17615"/>
                </a:lnTo>
                <a:close/>
              </a:path>
              <a:path fill="darken" w="64644" h="21600">
                <a:moveTo>
                  <a:pt x="33793" y="3985"/>
                </a:moveTo>
                <a:lnTo>
                  <a:pt x="37849" y="7484"/>
                </a:lnTo>
                <a:lnTo>
                  <a:pt x="33793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2">
            <a:hlinkClick r:id="rId3" action="ppaction://hlinksldjump"/>
          </p:cNvPr>
          <p:cNvSpPr/>
          <p:nvPr/>
        </p:nvSpPr>
        <p:spPr>
          <a:xfrm>
            <a:off x="1116000" y="2924280"/>
            <a:ext cx="1727280" cy="433440"/>
          </a:xfrm>
          <a:custGeom>
            <a:avLst/>
            <a:gdLst>
              <a:gd name="textAreaLeft" fmla="*/ 28080 w 1727280"/>
              <a:gd name="textAreaRight" fmla="*/ 1699200 w 1727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86024" h="21600">
                <a:moveTo>
                  <a:pt x="0" y="0"/>
                </a:moveTo>
                <a:lnTo>
                  <a:pt x="86024" y="0"/>
                </a:lnTo>
                <a:lnTo>
                  <a:pt x="86024" y="21600"/>
                </a:lnTo>
                <a:lnTo>
                  <a:pt x="0" y="21600"/>
                </a:lnTo>
                <a:close/>
              </a:path>
              <a:path fill="lightenLess" w="86024" h="21600">
                <a:moveTo>
                  <a:pt x="0" y="0"/>
                </a:moveTo>
                <a:lnTo>
                  <a:pt x="86024" y="0"/>
                </a:lnTo>
                <a:lnTo>
                  <a:pt x="84624" y="1400"/>
                </a:lnTo>
                <a:lnTo>
                  <a:pt x="1400" y="1400"/>
                </a:lnTo>
                <a:close/>
              </a:path>
              <a:path fill="darken" w="86024" h="21600">
                <a:moveTo>
                  <a:pt x="86024" y="0"/>
                </a:moveTo>
                <a:lnTo>
                  <a:pt x="86024" y="21600"/>
                </a:lnTo>
                <a:lnTo>
                  <a:pt x="84624" y="20200"/>
                </a:lnTo>
                <a:lnTo>
                  <a:pt x="84624" y="1400"/>
                </a:lnTo>
                <a:close/>
              </a:path>
              <a:path fill="darkenLess" w="86024" h="21600">
                <a:moveTo>
                  <a:pt x="8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624" y="20200"/>
                </a:lnTo>
                <a:close/>
              </a:path>
              <a:path fill="lighten" w="8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86024" h="21600">
                <a:moveTo>
                  <a:pt x="37485" y="3985"/>
                </a:moveTo>
                <a:lnTo>
                  <a:pt x="44483" y="3985"/>
                </a:lnTo>
                <a:lnTo>
                  <a:pt x="48539" y="7484"/>
                </a:lnTo>
                <a:lnTo>
                  <a:pt x="48539" y="17615"/>
                </a:lnTo>
                <a:lnTo>
                  <a:pt x="37485" y="17615"/>
                </a:lnTo>
                <a:close/>
              </a:path>
              <a:path fill="darken" w="86024" h="21600">
                <a:moveTo>
                  <a:pt x="44483" y="3985"/>
                </a:moveTo>
                <a:lnTo>
                  <a:pt x="48539" y="7484"/>
                </a:lnTo>
                <a:lnTo>
                  <a:pt x="44483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3">
            <a:hlinkClick r:id="rId4" action="ppaction://hlinksldjump"/>
          </p:cNvPr>
          <p:cNvSpPr/>
          <p:nvPr/>
        </p:nvSpPr>
        <p:spPr>
          <a:xfrm>
            <a:off x="1187280" y="3789360"/>
            <a:ext cx="2089440" cy="576360"/>
          </a:xfrm>
          <a:custGeom>
            <a:avLst/>
            <a:gdLst>
              <a:gd name="textAreaLeft" fmla="*/ 37080 w 2089440"/>
              <a:gd name="textAreaRight" fmla="*/ 2052360 w 2089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8270" h="21600">
                <a:moveTo>
                  <a:pt x="0" y="0"/>
                </a:moveTo>
                <a:lnTo>
                  <a:pt x="78270" y="0"/>
                </a:lnTo>
                <a:lnTo>
                  <a:pt x="78270" y="21600"/>
                </a:lnTo>
                <a:lnTo>
                  <a:pt x="0" y="21600"/>
                </a:lnTo>
                <a:close/>
              </a:path>
              <a:path fill="lightenLess" w="78270" h="21600">
                <a:moveTo>
                  <a:pt x="0" y="0"/>
                </a:moveTo>
                <a:lnTo>
                  <a:pt x="78270" y="0"/>
                </a:lnTo>
                <a:lnTo>
                  <a:pt x="76870" y="1400"/>
                </a:lnTo>
                <a:lnTo>
                  <a:pt x="1400" y="1400"/>
                </a:lnTo>
                <a:close/>
              </a:path>
              <a:path fill="darken" w="78270" h="21600">
                <a:moveTo>
                  <a:pt x="78270" y="0"/>
                </a:moveTo>
                <a:lnTo>
                  <a:pt x="78270" y="21600"/>
                </a:lnTo>
                <a:lnTo>
                  <a:pt x="76870" y="20200"/>
                </a:lnTo>
                <a:lnTo>
                  <a:pt x="76870" y="1400"/>
                </a:lnTo>
                <a:close/>
              </a:path>
              <a:path fill="darkenLess" w="78270" h="21600">
                <a:moveTo>
                  <a:pt x="78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0" y="20200"/>
                </a:lnTo>
                <a:close/>
              </a:path>
              <a:path fill="lighten" w="78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8270" h="21600">
                <a:moveTo>
                  <a:pt x="33608" y="3985"/>
                </a:moveTo>
                <a:lnTo>
                  <a:pt x="40606" y="3985"/>
                </a:lnTo>
                <a:lnTo>
                  <a:pt x="44662" y="7484"/>
                </a:lnTo>
                <a:lnTo>
                  <a:pt x="44662" y="17615"/>
                </a:lnTo>
                <a:lnTo>
                  <a:pt x="33608" y="17615"/>
                </a:lnTo>
                <a:close/>
              </a:path>
              <a:path fill="darken" w="78270" h="21600">
                <a:moveTo>
                  <a:pt x="40606" y="3985"/>
                </a:moveTo>
                <a:lnTo>
                  <a:pt x="44662" y="7484"/>
                </a:lnTo>
                <a:lnTo>
                  <a:pt x="40606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14">
            <a:hlinkClick r:id="rId5" action="ppaction://hlinksldjump"/>
          </p:cNvPr>
          <p:cNvSpPr/>
          <p:nvPr/>
        </p:nvSpPr>
        <p:spPr>
          <a:xfrm>
            <a:off x="1116000" y="4653000"/>
            <a:ext cx="2016000" cy="576360"/>
          </a:xfrm>
          <a:custGeom>
            <a:avLst/>
            <a:gdLst>
              <a:gd name="textAreaLeft" fmla="*/ 37080 w 2016000"/>
              <a:gd name="textAreaRight" fmla="*/ 1978920 w 201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5519" h="21600">
                <a:moveTo>
                  <a:pt x="0" y="0"/>
                </a:moveTo>
                <a:lnTo>
                  <a:pt x="75519" y="0"/>
                </a:lnTo>
                <a:lnTo>
                  <a:pt x="75519" y="21600"/>
                </a:lnTo>
                <a:lnTo>
                  <a:pt x="0" y="21600"/>
                </a:lnTo>
                <a:close/>
              </a:path>
              <a:path fill="lightenLess" w="75519" h="21600">
                <a:moveTo>
                  <a:pt x="0" y="0"/>
                </a:moveTo>
                <a:lnTo>
                  <a:pt x="75519" y="0"/>
                </a:lnTo>
                <a:lnTo>
                  <a:pt x="74119" y="1400"/>
                </a:lnTo>
                <a:lnTo>
                  <a:pt x="1400" y="1400"/>
                </a:lnTo>
                <a:close/>
              </a:path>
              <a:path fill="darken" w="75519" h="21600">
                <a:moveTo>
                  <a:pt x="75519" y="0"/>
                </a:moveTo>
                <a:lnTo>
                  <a:pt x="75519" y="21600"/>
                </a:lnTo>
                <a:lnTo>
                  <a:pt x="74119" y="20200"/>
                </a:lnTo>
                <a:lnTo>
                  <a:pt x="74119" y="1400"/>
                </a:lnTo>
                <a:close/>
              </a:path>
              <a:path fill="darkenLess" w="75519" h="21600">
                <a:moveTo>
                  <a:pt x="75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19" y="20200"/>
                </a:lnTo>
                <a:close/>
              </a:path>
              <a:path fill="lighten" w="75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5519" h="21600">
                <a:moveTo>
                  <a:pt x="32233" y="3985"/>
                </a:moveTo>
                <a:lnTo>
                  <a:pt x="39230" y="3985"/>
                </a:lnTo>
                <a:lnTo>
                  <a:pt x="43286" y="7484"/>
                </a:lnTo>
                <a:lnTo>
                  <a:pt x="43286" y="17615"/>
                </a:lnTo>
                <a:lnTo>
                  <a:pt x="32233" y="17615"/>
                </a:lnTo>
                <a:close/>
              </a:path>
              <a:path fill="darken" w="75519" h="21600">
                <a:moveTo>
                  <a:pt x="39230" y="3985"/>
                </a:moveTo>
                <a:lnTo>
                  <a:pt x="43286" y="7484"/>
                </a:lnTo>
                <a:lnTo>
                  <a:pt x="39230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15">
            <a:hlinkClick r:id="" action="ppaction://hlinkshowjump?jump=nextslide"/>
          </p:cNvPr>
          <p:cNvSpPr/>
          <p:nvPr/>
        </p:nvSpPr>
        <p:spPr>
          <a:xfrm>
            <a:off x="6732720" y="6093000"/>
            <a:ext cx="1871640" cy="576000"/>
          </a:xfrm>
          <a:custGeom>
            <a:avLst/>
            <a:gdLst>
              <a:gd name="textAreaLeft" fmla="*/ 37080 w 1871640"/>
              <a:gd name="textAreaRight" fmla="*/ 1834560 w 1871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0156" h="21600">
                <a:moveTo>
                  <a:pt x="0" y="0"/>
                </a:moveTo>
                <a:lnTo>
                  <a:pt x="70156" y="0"/>
                </a:lnTo>
                <a:lnTo>
                  <a:pt x="70156" y="21600"/>
                </a:lnTo>
                <a:lnTo>
                  <a:pt x="0" y="21600"/>
                </a:lnTo>
                <a:close/>
              </a:path>
              <a:path fill="lightenLess" w="70156" h="21600">
                <a:moveTo>
                  <a:pt x="0" y="0"/>
                </a:moveTo>
                <a:lnTo>
                  <a:pt x="70156" y="0"/>
                </a:lnTo>
                <a:lnTo>
                  <a:pt x="68756" y="1400"/>
                </a:lnTo>
                <a:lnTo>
                  <a:pt x="1400" y="1400"/>
                </a:lnTo>
                <a:close/>
              </a:path>
              <a:path fill="darken" w="70156" h="21600">
                <a:moveTo>
                  <a:pt x="70156" y="0"/>
                </a:moveTo>
                <a:lnTo>
                  <a:pt x="70156" y="21600"/>
                </a:lnTo>
                <a:lnTo>
                  <a:pt x="68756" y="20200"/>
                </a:lnTo>
                <a:lnTo>
                  <a:pt x="68756" y="1400"/>
                </a:lnTo>
                <a:close/>
              </a:path>
              <a:path fill="darkenLess" w="70156" h="21600">
                <a:moveTo>
                  <a:pt x="70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6" y="20200"/>
                </a:lnTo>
                <a:close/>
              </a:path>
              <a:path fill="lighten" w="70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56" h="21600">
                <a:moveTo>
                  <a:pt x="28072" y="3794"/>
                </a:moveTo>
                <a:lnTo>
                  <a:pt x="42085" y="10800"/>
                </a:lnTo>
                <a:lnTo>
                  <a:pt x="28072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 пальмы вниз. На пальму снова ловко прыгает..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оров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орон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узнечи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безьян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7" descr="лягушка"/>
          <p:cNvPicPr/>
          <p:nvPr/>
        </p:nvPicPr>
        <p:blipFill>
          <a:blip r:embed="rId1"/>
          <a:stretch/>
        </p:blipFill>
        <p:spPr>
          <a:xfrm>
            <a:off x="5292720" y="2637000"/>
            <a:ext cx="2303640" cy="22986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8">
            <a:hlinkClick r:id="rId2" action="ppaction://hlinksldjump"/>
          </p:cNvPr>
          <p:cNvSpPr/>
          <p:nvPr/>
        </p:nvSpPr>
        <p:spPr>
          <a:xfrm>
            <a:off x="1042920" y="4869000"/>
            <a:ext cx="2665440" cy="504720"/>
          </a:xfrm>
          <a:custGeom>
            <a:avLst/>
            <a:gdLst>
              <a:gd name="textAreaLeft" fmla="*/ 32400 w 2665440"/>
              <a:gd name="textAreaRight" fmla="*/ 2633040 w 2665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14004" h="21600">
                <a:moveTo>
                  <a:pt x="0" y="0"/>
                </a:moveTo>
                <a:lnTo>
                  <a:pt x="114004" y="0"/>
                </a:lnTo>
                <a:lnTo>
                  <a:pt x="114004" y="21600"/>
                </a:lnTo>
                <a:lnTo>
                  <a:pt x="0" y="21600"/>
                </a:lnTo>
                <a:close/>
              </a:path>
              <a:path fill="lightenLess" w="114004" h="21600">
                <a:moveTo>
                  <a:pt x="0" y="0"/>
                </a:moveTo>
                <a:lnTo>
                  <a:pt x="114004" y="0"/>
                </a:lnTo>
                <a:lnTo>
                  <a:pt x="112604" y="1400"/>
                </a:lnTo>
                <a:lnTo>
                  <a:pt x="1400" y="1400"/>
                </a:lnTo>
                <a:close/>
              </a:path>
              <a:path fill="darken" w="114004" h="21600">
                <a:moveTo>
                  <a:pt x="114004" y="0"/>
                </a:moveTo>
                <a:lnTo>
                  <a:pt x="114004" y="21600"/>
                </a:lnTo>
                <a:lnTo>
                  <a:pt x="112604" y="20200"/>
                </a:lnTo>
                <a:lnTo>
                  <a:pt x="112604" y="1400"/>
                </a:lnTo>
                <a:close/>
              </a:path>
              <a:path fill="darkenLess" w="114004" h="21600">
                <a:moveTo>
                  <a:pt x="114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604" y="20200"/>
                </a:lnTo>
                <a:close/>
              </a:path>
              <a:path fill="lighten" w="114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14004" h="21600">
                <a:moveTo>
                  <a:pt x="51475" y="3985"/>
                </a:moveTo>
                <a:lnTo>
                  <a:pt x="58473" y="3985"/>
                </a:lnTo>
                <a:lnTo>
                  <a:pt x="62529" y="7484"/>
                </a:lnTo>
                <a:lnTo>
                  <a:pt x="62529" y="17615"/>
                </a:lnTo>
                <a:lnTo>
                  <a:pt x="51475" y="17615"/>
                </a:lnTo>
                <a:close/>
              </a:path>
              <a:path fill="darken" w="114004" h="21600">
                <a:moveTo>
                  <a:pt x="58473" y="3985"/>
                </a:moveTo>
                <a:lnTo>
                  <a:pt x="62529" y="7484"/>
                </a:lnTo>
                <a:lnTo>
                  <a:pt x="58473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9">
            <a:hlinkClick r:id="rId3" action="ppaction://hlinksldjump"/>
          </p:cNvPr>
          <p:cNvSpPr/>
          <p:nvPr/>
        </p:nvSpPr>
        <p:spPr>
          <a:xfrm>
            <a:off x="1116000" y="2276640"/>
            <a:ext cx="2087640" cy="431640"/>
          </a:xfrm>
          <a:custGeom>
            <a:avLst/>
            <a:gdLst>
              <a:gd name="textAreaLeft" fmla="*/ 27720 w 2087640"/>
              <a:gd name="textAreaRight" fmla="*/ 2059920 w 208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4400" h="21600">
                <a:moveTo>
                  <a:pt x="0" y="0"/>
                </a:moveTo>
                <a:lnTo>
                  <a:pt x="104400" y="0"/>
                </a:lnTo>
                <a:lnTo>
                  <a:pt x="104400" y="21600"/>
                </a:lnTo>
                <a:lnTo>
                  <a:pt x="0" y="21600"/>
                </a:lnTo>
                <a:close/>
              </a:path>
              <a:path fill="lightenLess" w="104400" h="21600">
                <a:moveTo>
                  <a:pt x="0" y="0"/>
                </a:moveTo>
                <a:lnTo>
                  <a:pt x="104400" y="0"/>
                </a:lnTo>
                <a:lnTo>
                  <a:pt x="103000" y="1400"/>
                </a:lnTo>
                <a:lnTo>
                  <a:pt x="1400" y="1400"/>
                </a:lnTo>
                <a:close/>
              </a:path>
              <a:path fill="darken" w="104400" h="21600">
                <a:moveTo>
                  <a:pt x="104400" y="0"/>
                </a:moveTo>
                <a:lnTo>
                  <a:pt x="104400" y="21600"/>
                </a:lnTo>
                <a:lnTo>
                  <a:pt x="103000" y="20200"/>
                </a:lnTo>
                <a:lnTo>
                  <a:pt x="103000" y="1400"/>
                </a:lnTo>
                <a:close/>
              </a:path>
              <a:path fill="darkenLess" w="104400" h="21600">
                <a:moveTo>
                  <a:pt x="104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000" y="20200"/>
                </a:lnTo>
                <a:close/>
              </a:path>
              <a:path fill="lighten" w="104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04400" h="21600">
                <a:moveTo>
                  <a:pt x="46673" y="3985"/>
                </a:moveTo>
                <a:lnTo>
                  <a:pt x="53671" y="3985"/>
                </a:lnTo>
                <a:lnTo>
                  <a:pt x="57727" y="7484"/>
                </a:lnTo>
                <a:lnTo>
                  <a:pt x="57727" y="17615"/>
                </a:lnTo>
                <a:lnTo>
                  <a:pt x="46673" y="17615"/>
                </a:lnTo>
                <a:close/>
              </a:path>
              <a:path fill="darken" w="104400" h="21600">
                <a:moveTo>
                  <a:pt x="53671" y="3985"/>
                </a:moveTo>
                <a:lnTo>
                  <a:pt x="57727" y="7484"/>
                </a:lnTo>
                <a:lnTo>
                  <a:pt x="53671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10">
            <a:hlinkClick r:id="rId4" action="ppaction://hlinksldjump"/>
          </p:cNvPr>
          <p:cNvSpPr/>
          <p:nvPr/>
        </p:nvSpPr>
        <p:spPr>
          <a:xfrm>
            <a:off x="1042920" y="3141720"/>
            <a:ext cx="2160720" cy="50328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92684" h="21600">
                <a:moveTo>
                  <a:pt x="0" y="0"/>
                </a:moveTo>
                <a:lnTo>
                  <a:pt x="92684" y="0"/>
                </a:lnTo>
                <a:lnTo>
                  <a:pt x="92684" y="21600"/>
                </a:lnTo>
                <a:lnTo>
                  <a:pt x="0" y="21600"/>
                </a:lnTo>
                <a:close/>
              </a:path>
              <a:path fill="lightenLess" w="92684" h="21600">
                <a:moveTo>
                  <a:pt x="0" y="0"/>
                </a:moveTo>
                <a:lnTo>
                  <a:pt x="92684" y="0"/>
                </a:lnTo>
                <a:lnTo>
                  <a:pt x="91284" y="1400"/>
                </a:lnTo>
                <a:lnTo>
                  <a:pt x="1400" y="1400"/>
                </a:lnTo>
                <a:close/>
              </a:path>
              <a:path fill="darken" w="92684" h="21600">
                <a:moveTo>
                  <a:pt x="92684" y="0"/>
                </a:moveTo>
                <a:lnTo>
                  <a:pt x="92684" y="21600"/>
                </a:lnTo>
                <a:lnTo>
                  <a:pt x="91284" y="20200"/>
                </a:lnTo>
                <a:lnTo>
                  <a:pt x="91284" y="1400"/>
                </a:lnTo>
                <a:close/>
              </a:path>
              <a:path fill="darkenLess" w="92684" h="21600">
                <a:moveTo>
                  <a:pt x="9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4" y="20200"/>
                </a:lnTo>
                <a:close/>
              </a:path>
              <a:path fill="lighten" w="9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92684" h="21600">
                <a:moveTo>
                  <a:pt x="40815" y="3985"/>
                </a:moveTo>
                <a:lnTo>
                  <a:pt x="47813" y="3985"/>
                </a:lnTo>
                <a:lnTo>
                  <a:pt x="51869" y="7484"/>
                </a:lnTo>
                <a:lnTo>
                  <a:pt x="51869" y="17615"/>
                </a:lnTo>
                <a:lnTo>
                  <a:pt x="40815" y="17615"/>
                </a:lnTo>
                <a:close/>
              </a:path>
              <a:path fill="darken" w="92684" h="21600">
                <a:moveTo>
                  <a:pt x="47813" y="3985"/>
                </a:moveTo>
                <a:lnTo>
                  <a:pt x="51869" y="7484"/>
                </a:lnTo>
                <a:lnTo>
                  <a:pt x="47813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1">
            <a:hlinkClick r:id="rId5" action="ppaction://hlinksldjump"/>
          </p:cNvPr>
          <p:cNvSpPr/>
          <p:nvPr/>
        </p:nvSpPr>
        <p:spPr>
          <a:xfrm>
            <a:off x="1116000" y="4005360"/>
            <a:ext cx="2448000" cy="43164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18" h="21600">
                <a:moveTo>
                  <a:pt x="0" y="0"/>
                </a:moveTo>
                <a:lnTo>
                  <a:pt x="122418" y="0"/>
                </a:lnTo>
                <a:lnTo>
                  <a:pt x="122418" y="21600"/>
                </a:lnTo>
                <a:lnTo>
                  <a:pt x="0" y="21600"/>
                </a:lnTo>
                <a:close/>
              </a:path>
              <a:path fill="lightenLess" w="122418" h="21600">
                <a:moveTo>
                  <a:pt x="0" y="0"/>
                </a:moveTo>
                <a:lnTo>
                  <a:pt x="122418" y="0"/>
                </a:lnTo>
                <a:lnTo>
                  <a:pt x="121018" y="1400"/>
                </a:lnTo>
                <a:lnTo>
                  <a:pt x="1400" y="1400"/>
                </a:lnTo>
                <a:close/>
              </a:path>
              <a:path fill="darken" w="122418" h="21600">
                <a:moveTo>
                  <a:pt x="122418" y="0"/>
                </a:moveTo>
                <a:lnTo>
                  <a:pt x="122418" y="21600"/>
                </a:lnTo>
                <a:lnTo>
                  <a:pt x="121018" y="20200"/>
                </a:lnTo>
                <a:lnTo>
                  <a:pt x="121018" y="1400"/>
                </a:lnTo>
                <a:close/>
              </a:path>
              <a:path fill="darkenLess" w="122418" h="21600">
                <a:moveTo>
                  <a:pt x="12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18" y="20200"/>
                </a:lnTo>
                <a:close/>
              </a:path>
              <a:path fill="lighten" w="12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22418" h="21600">
                <a:moveTo>
                  <a:pt x="55682" y="3985"/>
                </a:moveTo>
                <a:lnTo>
                  <a:pt x="62680" y="3985"/>
                </a:lnTo>
                <a:lnTo>
                  <a:pt x="66736" y="7484"/>
                </a:lnTo>
                <a:lnTo>
                  <a:pt x="66736" y="17615"/>
                </a:lnTo>
                <a:lnTo>
                  <a:pt x="55682" y="17615"/>
                </a:lnTo>
                <a:close/>
              </a:path>
              <a:path fill="darken" w="122418" h="21600">
                <a:moveTo>
                  <a:pt x="62680" y="3985"/>
                </a:moveTo>
                <a:lnTo>
                  <a:pt x="66736" y="7484"/>
                </a:lnTo>
                <a:lnTo>
                  <a:pt x="62680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12">
            <a:hlinkClick r:id="" action="ppaction://hlinkshowjump?jump=nextslide"/>
          </p:cNvPr>
          <p:cNvSpPr/>
          <p:nvPr/>
        </p:nvSpPr>
        <p:spPr>
          <a:xfrm>
            <a:off x="651672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 теплой лужице своей громко квакал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ураве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ягуш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ут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цапл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10" descr="цапля"/>
          <p:cNvPicPr/>
          <p:nvPr/>
        </p:nvPicPr>
        <p:blipFill>
          <a:blip r:embed="rId1"/>
          <a:stretch/>
        </p:blipFill>
        <p:spPr>
          <a:xfrm>
            <a:off x="4859280" y="2492280"/>
            <a:ext cx="2274840" cy="29941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1">
            <a:hlinkClick r:id="rId2" action="ppaction://hlinksldjump"/>
          </p:cNvPr>
          <p:cNvSpPr/>
          <p:nvPr/>
        </p:nvSpPr>
        <p:spPr>
          <a:xfrm>
            <a:off x="1116000" y="2060640"/>
            <a:ext cx="2519280" cy="431640"/>
          </a:xfrm>
          <a:custGeom>
            <a:avLst/>
            <a:gdLst>
              <a:gd name="textAreaLeft" fmla="*/ 27720 w 2519280"/>
              <a:gd name="textAreaRight" fmla="*/ 2491560 w 25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5982" h="21600">
                <a:moveTo>
                  <a:pt x="0" y="0"/>
                </a:moveTo>
                <a:lnTo>
                  <a:pt x="125982" y="0"/>
                </a:lnTo>
                <a:lnTo>
                  <a:pt x="125982" y="21600"/>
                </a:lnTo>
                <a:lnTo>
                  <a:pt x="0" y="21600"/>
                </a:lnTo>
                <a:close/>
              </a:path>
              <a:path fill="lightenLess" w="125982" h="21600">
                <a:moveTo>
                  <a:pt x="0" y="0"/>
                </a:moveTo>
                <a:lnTo>
                  <a:pt x="125982" y="0"/>
                </a:lnTo>
                <a:lnTo>
                  <a:pt x="124582" y="1400"/>
                </a:lnTo>
                <a:lnTo>
                  <a:pt x="1400" y="1400"/>
                </a:lnTo>
                <a:close/>
              </a:path>
              <a:path fill="darken" w="125982" h="21600">
                <a:moveTo>
                  <a:pt x="125982" y="0"/>
                </a:moveTo>
                <a:lnTo>
                  <a:pt x="125982" y="21600"/>
                </a:lnTo>
                <a:lnTo>
                  <a:pt x="124582" y="20200"/>
                </a:lnTo>
                <a:lnTo>
                  <a:pt x="124582" y="1400"/>
                </a:lnTo>
                <a:close/>
              </a:path>
              <a:path fill="darkenLess" w="125982" h="21600">
                <a:moveTo>
                  <a:pt x="12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582" y="20200"/>
                </a:lnTo>
                <a:close/>
              </a:path>
              <a:path fill="lighten" w="12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25982" h="21600">
                <a:moveTo>
                  <a:pt x="57464" y="3985"/>
                </a:moveTo>
                <a:lnTo>
                  <a:pt x="64462" y="3985"/>
                </a:lnTo>
                <a:lnTo>
                  <a:pt x="68518" y="7484"/>
                </a:lnTo>
                <a:lnTo>
                  <a:pt x="68518" y="17615"/>
                </a:lnTo>
                <a:lnTo>
                  <a:pt x="57464" y="17615"/>
                </a:lnTo>
                <a:close/>
              </a:path>
              <a:path fill="darken" w="125982" h="21600">
                <a:moveTo>
                  <a:pt x="64462" y="3985"/>
                </a:moveTo>
                <a:lnTo>
                  <a:pt x="68518" y="7484"/>
                </a:lnTo>
                <a:lnTo>
                  <a:pt x="64462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12"/>
          <p:cNvSpPr/>
          <p:nvPr/>
        </p:nvSpPr>
        <p:spPr>
          <a:xfrm>
            <a:off x="1116000" y="2924280"/>
            <a:ext cx="2519280" cy="504720"/>
          </a:xfrm>
          <a:custGeom>
            <a:avLst/>
            <a:gdLst>
              <a:gd name="textAreaLeft" fmla="*/ 32400 w 2519280"/>
              <a:gd name="textAreaRight" fmla="*/ 2486880 w 251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07754" h="21600">
                <a:moveTo>
                  <a:pt x="0" y="0"/>
                </a:moveTo>
                <a:lnTo>
                  <a:pt x="107754" y="0"/>
                </a:lnTo>
                <a:lnTo>
                  <a:pt x="107754" y="21600"/>
                </a:lnTo>
                <a:lnTo>
                  <a:pt x="0" y="21600"/>
                </a:lnTo>
                <a:close/>
              </a:path>
              <a:path fill="lightenLess" w="107754" h="21600">
                <a:moveTo>
                  <a:pt x="0" y="0"/>
                </a:moveTo>
                <a:lnTo>
                  <a:pt x="107754" y="0"/>
                </a:lnTo>
                <a:lnTo>
                  <a:pt x="106354" y="1400"/>
                </a:lnTo>
                <a:lnTo>
                  <a:pt x="1400" y="1400"/>
                </a:lnTo>
                <a:close/>
              </a:path>
              <a:path fill="darken" w="107754" h="21600">
                <a:moveTo>
                  <a:pt x="107754" y="0"/>
                </a:moveTo>
                <a:lnTo>
                  <a:pt x="107754" y="21600"/>
                </a:lnTo>
                <a:lnTo>
                  <a:pt x="106354" y="20200"/>
                </a:lnTo>
                <a:lnTo>
                  <a:pt x="106354" y="1400"/>
                </a:lnTo>
                <a:close/>
              </a:path>
              <a:path fill="darkenLess" w="107754" h="21600">
                <a:moveTo>
                  <a:pt x="1077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54" y="20200"/>
                </a:lnTo>
                <a:close/>
              </a:path>
              <a:path fill="lighten" w="1077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07754" h="21600">
                <a:moveTo>
                  <a:pt x="48350" y="3985"/>
                </a:moveTo>
                <a:lnTo>
                  <a:pt x="55348" y="3985"/>
                </a:lnTo>
                <a:lnTo>
                  <a:pt x="59404" y="7484"/>
                </a:lnTo>
                <a:lnTo>
                  <a:pt x="59404" y="17615"/>
                </a:lnTo>
                <a:lnTo>
                  <a:pt x="48350" y="17615"/>
                </a:lnTo>
                <a:close/>
              </a:path>
              <a:path fill="darken" w="107754" h="21600">
                <a:moveTo>
                  <a:pt x="55348" y="3985"/>
                </a:moveTo>
                <a:lnTo>
                  <a:pt x="59404" y="7484"/>
                </a:lnTo>
                <a:lnTo>
                  <a:pt x="55348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13"/>
          <p:cNvSpPr/>
          <p:nvPr/>
        </p:nvSpPr>
        <p:spPr>
          <a:xfrm>
            <a:off x="1187280" y="3789360"/>
            <a:ext cx="1297080" cy="503280"/>
          </a:xfrm>
          <a:custGeom>
            <a:avLst/>
            <a:gdLst>
              <a:gd name="textAreaLeft" fmla="*/ 32400 w 1297080"/>
              <a:gd name="textAreaRight" fmla="*/ 1264680 w 1297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5644" h="21600">
                <a:moveTo>
                  <a:pt x="0" y="0"/>
                </a:moveTo>
                <a:lnTo>
                  <a:pt x="55644" y="0"/>
                </a:lnTo>
                <a:lnTo>
                  <a:pt x="55644" y="21600"/>
                </a:lnTo>
                <a:lnTo>
                  <a:pt x="0" y="21600"/>
                </a:lnTo>
                <a:close/>
              </a:path>
              <a:path fill="lightenLess" w="55644" h="21600">
                <a:moveTo>
                  <a:pt x="0" y="0"/>
                </a:moveTo>
                <a:lnTo>
                  <a:pt x="55644" y="0"/>
                </a:lnTo>
                <a:lnTo>
                  <a:pt x="54244" y="1400"/>
                </a:lnTo>
                <a:lnTo>
                  <a:pt x="1400" y="1400"/>
                </a:lnTo>
                <a:close/>
              </a:path>
              <a:path fill="darken" w="55644" h="21600">
                <a:moveTo>
                  <a:pt x="55644" y="0"/>
                </a:moveTo>
                <a:lnTo>
                  <a:pt x="55644" y="21600"/>
                </a:lnTo>
                <a:lnTo>
                  <a:pt x="54244" y="20200"/>
                </a:lnTo>
                <a:lnTo>
                  <a:pt x="54244" y="1400"/>
                </a:lnTo>
                <a:close/>
              </a:path>
              <a:path fill="darkenLess" w="55644" h="21600">
                <a:moveTo>
                  <a:pt x="556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44" y="20200"/>
                </a:lnTo>
                <a:close/>
              </a:path>
              <a:path fill="lighten" w="556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5644" h="21600">
                <a:moveTo>
                  <a:pt x="22295" y="3985"/>
                </a:moveTo>
                <a:lnTo>
                  <a:pt x="29293" y="3985"/>
                </a:lnTo>
                <a:lnTo>
                  <a:pt x="33349" y="7484"/>
                </a:lnTo>
                <a:lnTo>
                  <a:pt x="33349" y="17615"/>
                </a:lnTo>
                <a:lnTo>
                  <a:pt x="22295" y="17615"/>
                </a:lnTo>
                <a:close/>
              </a:path>
              <a:path fill="darken" w="55644" h="21600">
                <a:moveTo>
                  <a:pt x="29293" y="3985"/>
                </a:moveTo>
                <a:lnTo>
                  <a:pt x="33349" y="7484"/>
                </a:lnTo>
                <a:lnTo>
                  <a:pt x="29293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1116000" y="4724280"/>
            <a:ext cx="1871640" cy="433440"/>
          </a:xfrm>
          <a:custGeom>
            <a:avLst/>
            <a:gdLst>
              <a:gd name="textAreaLeft" fmla="*/ 28080 w 1871640"/>
              <a:gd name="textAreaRight" fmla="*/ 1843560 w 1871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93212" h="21600">
                <a:moveTo>
                  <a:pt x="0" y="0"/>
                </a:moveTo>
                <a:lnTo>
                  <a:pt x="93212" y="0"/>
                </a:lnTo>
                <a:lnTo>
                  <a:pt x="93212" y="21600"/>
                </a:lnTo>
                <a:lnTo>
                  <a:pt x="0" y="21600"/>
                </a:lnTo>
                <a:close/>
              </a:path>
              <a:path fill="lightenLess" w="93212" h="21600">
                <a:moveTo>
                  <a:pt x="0" y="0"/>
                </a:moveTo>
                <a:lnTo>
                  <a:pt x="93212" y="0"/>
                </a:lnTo>
                <a:lnTo>
                  <a:pt x="91812" y="1400"/>
                </a:lnTo>
                <a:lnTo>
                  <a:pt x="1400" y="1400"/>
                </a:lnTo>
                <a:close/>
              </a:path>
              <a:path fill="darken" w="93212" h="21600">
                <a:moveTo>
                  <a:pt x="93212" y="0"/>
                </a:moveTo>
                <a:lnTo>
                  <a:pt x="93212" y="21600"/>
                </a:lnTo>
                <a:lnTo>
                  <a:pt x="91812" y="20200"/>
                </a:lnTo>
                <a:lnTo>
                  <a:pt x="91812" y="1400"/>
                </a:lnTo>
                <a:close/>
              </a:path>
              <a:path fill="darkenLess" w="93212" h="21600">
                <a:moveTo>
                  <a:pt x="93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812" y="20200"/>
                </a:lnTo>
                <a:close/>
              </a:path>
              <a:path fill="lighten" w="93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93212" h="21600">
                <a:moveTo>
                  <a:pt x="41079" y="3985"/>
                </a:moveTo>
                <a:lnTo>
                  <a:pt x="48077" y="3985"/>
                </a:lnTo>
                <a:lnTo>
                  <a:pt x="52133" y="7484"/>
                </a:lnTo>
                <a:lnTo>
                  <a:pt x="52133" y="17615"/>
                </a:lnTo>
                <a:lnTo>
                  <a:pt x="41079" y="17615"/>
                </a:lnTo>
                <a:close/>
              </a:path>
              <a:path fill="darken" w="93212" h="21600">
                <a:moveTo>
                  <a:pt x="48077" y="3985"/>
                </a:moveTo>
                <a:lnTo>
                  <a:pt x="52133" y="7484"/>
                </a:lnTo>
                <a:lnTo>
                  <a:pt x="48077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5">
            <a:hlinkClick r:id="" action="ppaction://hlinkshowjump?jump=nextslide"/>
          </p:cNvPr>
          <p:cNvSpPr/>
          <p:nvPr/>
        </p:nvSpPr>
        <p:spPr>
          <a:xfrm>
            <a:off x="6804000" y="5950080"/>
            <a:ext cx="1655640" cy="503280"/>
          </a:xfrm>
          <a:custGeom>
            <a:avLst/>
            <a:gdLst>
              <a:gd name="textAreaLeft" fmla="*/ 32400 w 1655640"/>
              <a:gd name="textAreaRight" fmla="*/ 1623240 w 1655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1022" h="21600">
                <a:moveTo>
                  <a:pt x="0" y="0"/>
                </a:moveTo>
                <a:lnTo>
                  <a:pt x="71022" y="0"/>
                </a:lnTo>
                <a:lnTo>
                  <a:pt x="71022" y="21600"/>
                </a:lnTo>
                <a:lnTo>
                  <a:pt x="0" y="21600"/>
                </a:lnTo>
                <a:close/>
              </a:path>
              <a:path fill="lightenLess" w="71022" h="21600">
                <a:moveTo>
                  <a:pt x="0" y="0"/>
                </a:moveTo>
                <a:lnTo>
                  <a:pt x="71022" y="0"/>
                </a:lnTo>
                <a:lnTo>
                  <a:pt x="69622" y="1400"/>
                </a:lnTo>
                <a:lnTo>
                  <a:pt x="1400" y="1400"/>
                </a:lnTo>
                <a:close/>
              </a:path>
              <a:path fill="darken" w="71022" h="21600">
                <a:moveTo>
                  <a:pt x="71022" y="0"/>
                </a:moveTo>
                <a:lnTo>
                  <a:pt x="71022" y="21600"/>
                </a:lnTo>
                <a:lnTo>
                  <a:pt x="69622" y="20200"/>
                </a:lnTo>
                <a:lnTo>
                  <a:pt x="69622" y="1400"/>
                </a:lnTo>
                <a:close/>
              </a:path>
              <a:path fill="darkenLess" w="71022" h="21600">
                <a:moveTo>
                  <a:pt x="71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622" y="20200"/>
                </a:lnTo>
                <a:close/>
              </a:path>
              <a:path fill="lighten" w="71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022" h="21600">
                <a:moveTo>
                  <a:pt x="28505" y="3794"/>
                </a:moveTo>
                <a:lnTo>
                  <a:pt x="42518" y="10800"/>
                </a:lnTo>
                <a:lnTo>
                  <a:pt x="28505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02800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Зимой в берлоге видит сон лохматый, косолапый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он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лон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ёж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едвед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7" descr="конь"/>
          <p:cNvPicPr/>
          <p:nvPr/>
        </p:nvPicPr>
        <p:blipFill>
          <a:blip r:embed="rId1"/>
          <a:stretch/>
        </p:blipFill>
        <p:spPr>
          <a:xfrm>
            <a:off x="5508720" y="2349360"/>
            <a:ext cx="2496960" cy="26085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8"/>
          <p:cNvSpPr/>
          <p:nvPr/>
        </p:nvSpPr>
        <p:spPr>
          <a:xfrm>
            <a:off x="1042920" y="2060640"/>
            <a:ext cx="1657440" cy="504720"/>
          </a:xfrm>
          <a:custGeom>
            <a:avLst/>
            <a:gdLst>
              <a:gd name="textAreaLeft" fmla="*/ 32400 w 1657440"/>
              <a:gd name="textAreaRight" fmla="*/ 1625040 w 1657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0897" h="21600">
                <a:moveTo>
                  <a:pt x="0" y="0"/>
                </a:moveTo>
                <a:lnTo>
                  <a:pt x="70897" y="0"/>
                </a:lnTo>
                <a:lnTo>
                  <a:pt x="70897" y="21600"/>
                </a:lnTo>
                <a:lnTo>
                  <a:pt x="0" y="21600"/>
                </a:lnTo>
                <a:close/>
              </a:path>
              <a:path fill="lightenLess" w="70897" h="21600">
                <a:moveTo>
                  <a:pt x="0" y="0"/>
                </a:moveTo>
                <a:lnTo>
                  <a:pt x="70897" y="0"/>
                </a:lnTo>
                <a:lnTo>
                  <a:pt x="69497" y="1400"/>
                </a:lnTo>
                <a:lnTo>
                  <a:pt x="1400" y="1400"/>
                </a:lnTo>
                <a:close/>
              </a:path>
              <a:path fill="darken" w="70897" h="21600">
                <a:moveTo>
                  <a:pt x="70897" y="0"/>
                </a:moveTo>
                <a:lnTo>
                  <a:pt x="70897" y="21600"/>
                </a:lnTo>
                <a:lnTo>
                  <a:pt x="69497" y="20200"/>
                </a:lnTo>
                <a:lnTo>
                  <a:pt x="69497" y="1400"/>
                </a:lnTo>
                <a:close/>
              </a:path>
              <a:path fill="darkenLess" w="70897" h="21600">
                <a:moveTo>
                  <a:pt x="708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497" y="20200"/>
                </a:lnTo>
                <a:close/>
              </a:path>
              <a:path fill="lighten" w="708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0897" h="21600">
                <a:moveTo>
                  <a:pt x="29921" y="3985"/>
                </a:moveTo>
                <a:lnTo>
                  <a:pt x="36919" y="3985"/>
                </a:lnTo>
                <a:lnTo>
                  <a:pt x="40975" y="7484"/>
                </a:lnTo>
                <a:lnTo>
                  <a:pt x="40975" y="17615"/>
                </a:lnTo>
                <a:lnTo>
                  <a:pt x="29921" y="17615"/>
                </a:lnTo>
                <a:close/>
              </a:path>
              <a:path fill="darken" w="70897" h="21600">
                <a:moveTo>
                  <a:pt x="36919" y="3985"/>
                </a:moveTo>
                <a:lnTo>
                  <a:pt x="40975" y="7484"/>
                </a:lnTo>
                <a:lnTo>
                  <a:pt x="36919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116000" y="2924280"/>
            <a:ext cx="1511280" cy="57600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6651" h="21600">
                <a:moveTo>
                  <a:pt x="0" y="0"/>
                </a:moveTo>
                <a:lnTo>
                  <a:pt x="56651" y="0"/>
                </a:lnTo>
                <a:lnTo>
                  <a:pt x="56651" y="21600"/>
                </a:lnTo>
                <a:lnTo>
                  <a:pt x="0" y="21600"/>
                </a:lnTo>
                <a:close/>
              </a:path>
              <a:path fill="lightenLess" w="56651" h="21600">
                <a:moveTo>
                  <a:pt x="0" y="0"/>
                </a:moveTo>
                <a:lnTo>
                  <a:pt x="56651" y="0"/>
                </a:lnTo>
                <a:lnTo>
                  <a:pt x="55251" y="1400"/>
                </a:lnTo>
                <a:lnTo>
                  <a:pt x="1400" y="1400"/>
                </a:lnTo>
                <a:close/>
              </a:path>
              <a:path fill="darken" w="56651" h="21600">
                <a:moveTo>
                  <a:pt x="56651" y="0"/>
                </a:moveTo>
                <a:lnTo>
                  <a:pt x="56651" y="21600"/>
                </a:lnTo>
                <a:lnTo>
                  <a:pt x="55251" y="20200"/>
                </a:lnTo>
                <a:lnTo>
                  <a:pt x="55251" y="1400"/>
                </a:lnTo>
                <a:close/>
              </a:path>
              <a:path fill="darkenLess" w="56651" h="21600">
                <a:moveTo>
                  <a:pt x="56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51" y="20200"/>
                </a:lnTo>
                <a:close/>
              </a:path>
              <a:path fill="lighten" w="56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6651" h="21600">
                <a:moveTo>
                  <a:pt x="22799" y="3985"/>
                </a:moveTo>
                <a:lnTo>
                  <a:pt x="29796" y="3985"/>
                </a:lnTo>
                <a:lnTo>
                  <a:pt x="33852" y="7484"/>
                </a:lnTo>
                <a:lnTo>
                  <a:pt x="33852" y="17615"/>
                </a:lnTo>
                <a:lnTo>
                  <a:pt x="22799" y="17615"/>
                </a:lnTo>
                <a:close/>
              </a:path>
              <a:path fill="darken" w="56651" h="21600">
                <a:moveTo>
                  <a:pt x="29796" y="3985"/>
                </a:moveTo>
                <a:lnTo>
                  <a:pt x="33852" y="7484"/>
                </a:lnTo>
                <a:lnTo>
                  <a:pt x="29796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1042920" y="3716280"/>
            <a:ext cx="1152720" cy="649440"/>
          </a:xfrm>
          <a:custGeom>
            <a:avLst/>
            <a:gdLst>
              <a:gd name="textAreaLeft" fmla="*/ 41760 w 1152720"/>
              <a:gd name="textAreaRight" fmla="*/ 1110960 w 11527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8330" h="21600">
                <a:moveTo>
                  <a:pt x="0" y="0"/>
                </a:moveTo>
                <a:lnTo>
                  <a:pt x="38330" y="0"/>
                </a:lnTo>
                <a:lnTo>
                  <a:pt x="38330" y="21600"/>
                </a:lnTo>
                <a:lnTo>
                  <a:pt x="0" y="21600"/>
                </a:lnTo>
                <a:close/>
              </a:path>
              <a:path fill="lightenLess" w="38330" h="21600">
                <a:moveTo>
                  <a:pt x="0" y="0"/>
                </a:moveTo>
                <a:lnTo>
                  <a:pt x="38330" y="0"/>
                </a:lnTo>
                <a:lnTo>
                  <a:pt x="36930" y="1400"/>
                </a:lnTo>
                <a:lnTo>
                  <a:pt x="1400" y="1400"/>
                </a:lnTo>
                <a:close/>
              </a:path>
              <a:path fill="darken" w="38330" h="21600">
                <a:moveTo>
                  <a:pt x="38330" y="0"/>
                </a:moveTo>
                <a:lnTo>
                  <a:pt x="38330" y="21600"/>
                </a:lnTo>
                <a:lnTo>
                  <a:pt x="36930" y="20200"/>
                </a:lnTo>
                <a:lnTo>
                  <a:pt x="36930" y="1400"/>
                </a:lnTo>
                <a:close/>
              </a:path>
              <a:path fill="darkenLess" w="38330" h="21600">
                <a:moveTo>
                  <a:pt x="38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30" y="20200"/>
                </a:lnTo>
                <a:close/>
              </a:path>
              <a:path fill="lighten" w="38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330" h="21600">
                <a:moveTo>
                  <a:pt x="13638" y="3985"/>
                </a:moveTo>
                <a:lnTo>
                  <a:pt x="20636" y="3985"/>
                </a:lnTo>
                <a:lnTo>
                  <a:pt x="24692" y="7484"/>
                </a:lnTo>
                <a:lnTo>
                  <a:pt x="24692" y="17615"/>
                </a:lnTo>
                <a:lnTo>
                  <a:pt x="13638" y="17615"/>
                </a:lnTo>
                <a:close/>
              </a:path>
              <a:path fill="darken" w="38330" h="21600">
                <a:moveTo>
                  <a:pt x="20636" y="3985"/>
                </a:moveTo>
                <a:lnTo>
                  <a:pt x="24692" y="7484"/>
                </a:lnTo>
                <a:lnTo>
                  <a:pt x="20636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1042920" y="4581360"/>
            <a:ext cx="2665440" cy="71928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80014" h="21600">
                <a:moveTo>
                  <a:pt x="0" y="0"/>
                </a:moveTo>
                <a:lnTo>
                  <a:pt x="80014" y="0"/>
                </a:lnTo>
                <a:lnTo>
                  <a:pt x="80014" y="21600"/>
                </a:lnTo>
                <a:lnTo>
                  <a:pt x="0" y="21600"/>
                </a:lnTo>
                <a:close/>
              </a:path>
              <a:path fill="lightenLess" w="80014" h="21600">
                <a:moveTo>
                  <a:pt x="0" y="0"/>
                </a:moveTo>
                <a:lnTo>
                  <a:pt x="80014" y="0"/>
                </a:lnTo>
                <a:lnTo>
                  <a:pt x="78614" y="1400"/>
                </a:lnTo>
                <a:lnTo>
                  <a:pt x="1400" y="1400"/>
                </a:lnTo>
                <a:close/>
              </a:path>
              <a:path fill="darken" w="80014" h="21600">
                <a:moveTo>
                  <a:pt x="80014" y="0"/>
                </a:moveTo>
                <a:lnTo>
                  <a:pt x="80014" y="21600"/>
                </a:lnTo>
                <a:lnTo>
                  <a:pt x="78614" y="20200"/>
                </a:lnTo>
                <a:lnTo>
                  <a:pt x="78614" y="1400"/>
                </a:lnTo>
                <a:close/>
              </a:path>
              <a:path fill="darkenLess" w="80014" h="21600">
                <a:moveTo>
                  <a:pt x="80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14" y="20200"/>
                </a:lnTo>
                <a:close/>
              </a:path>
              <a:path fill="lighten" w="80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80014" h="21600">
                <a:moveTo>
                  <a:pt x="34480" y="3985"/>
                </a:moveTo>
                <a:lnTo>
                  <a:pt x="41478" y="3985"/>
                </a:lnTo>
                <a:lnTo>
                  <a:pt x="45534" y="7484"/>
                </a:lnTo>
                <a:lnTo>
                  <a:pt x="45534" y="17615"/>
                </a:lnTo>
                <a:lnTo>
                  <a:pt x="34480" y="17615"/>
                </a:lnTo>
                <a:close/>
              </a:path>
              <a:path fill="darken" w="80014" h="21600">
                <a:moveTo>
                  <a:pt x="41478" y="3985"/>
                </a:moveTo>
                <a:lnTo>
                  <a:pt x="45534" y="7484"/>
                </a:lnTo>
                <a:lnTo>
                  <a:pt x="41478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2">
            <a:hlinkClick r:id="" action="ppaction://hlinkshowjump?jump=nextslide"/>
          </p:cNvPr>
          <p:cNvSpPr/>
          <p:nvPr/>
        </p:nvSpPr>
        <p:spPr>
          <a:xfrm>
            <a:off x="6804000" y="6093000"/>
            <a:ext cx="1728720" cy="431640"/>
          </a:xfrm>
          <a:custGeom>
            <a:avLst/>
            <a:gdLst>
              <a:gd name="textAreaLeft" fmla="*/ 27720 w 1728720"/>
              <a:gd name="textAreaRight" fmla="*/ 1701000 w 1728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454" h="21600">
                <a:moveTo>
                  <a:pt x="0" y="0"/>
                </a:moveTo>
                <a:lnTo>
                  <a:pt x="86454" y="0"/>
                </a:lnTo>
                <a:lnTo>
                  <a:pt x="86454" y="21600"/>
                </a:lnTo>
                <a:lnTo>
                  <a:pt x="0" y="21600"/>
                </a:lnTo>
                <a:close/>
              </a:path>
              <a:path fill="lightenLess" w="86454" h="21600">
                <a:moveTo>
                  <a:pt x="0" y="0"/>
                </a:moveTo>
                <a:lnTo>
                  <a:pt x="86454" y="0"/>
                </a:lnTo>
                <a:lnTo>
                  <a:pt x="85054" y="1400"/>
                </a:lnTo>
                <a:lnTo>
                  <a:pt x="1400" y="1400"/>
                </a:lnTo>
                <a:close/>
              </a:path>
              <a:path fill="darken" w="86454" h="21600">
                <a:moveTo>
                  <a:pt x="86454" y="0"/>
                </a:moveTo>
                <a:lnTo>
                  <a:pt x="86454" y="21600"/>
                </a:lnTo>
                <a:lnTo>
                  <a:pt x="85054" y="20200"/>
                </a:lnTo>
                <a:lnTo>
                  <a:pt x="85054" y="1400"/>
                </a:lnTo>
                <a:close/>
              </a:path>
              <a:path fill="darkenLess" w="86454" h="21600">
                <a:moveTo>
                  <a:pt x="86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54" y="20200"/>
                </a:lnTo>
                <a:close/>
              </a:path>
              <a:path fill="lighten" w="86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54" h="21600">
                <a:moveTo>
                  <a:pt x="36221" y="3794"/>
                </a:moveTo>
                <a:lnTo>
                  <a:pt x="50233" y="10800"/>
                </a:lnTo>
                <a:lnTo>
                  <a:pt x="36221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равильно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2340000" y="2349360"/>
            <a:ext cx="3168720" cy="309564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6">
            <a:hlinkClick r:id="" action="ppaction://hlinkshowjump?jump=previousslide"/>
          </p:cNvPr>
          <p:cNvSpPr/>
          <p:nvPr/>
        </p:nvSpPr>
        <p:spPr>
          <a:xfrm>
            <a:off x="6443640" y="5877000"/>
            <a:ext cx="2305080" cy="647640"/>
          </a:xfrm>
          <a:custGeom>
            <a:avLst/>
            <a:gdLst>
              <a:gd name="textAreaLeft" fmla="*/ 41760 w 2305080"/>
              <a:gd name="textAreaRight" fmla="*/ 2263320 w 230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48" h="21600">
                <a:moveTo>
                  <a:pt x="0" y="0"/>
                </a:moveTo>
                <a:lnTo>
                  <a:pt x="76848" y="0"/>
                </a:lnTo>
                <a:lnTo>
                  <a:pt x="76848" y="21600"/>
                </a:lnTo>
                <a:lnTo>
                  <a:pt x="0" y="21600"/>
                </a:lnTo>
                <a:close/>
              </a:path>
              <a:path fill="lightenLess" w="76848" h="21600">
                <a:moveTo>
                  <a:pt x="0" y="0"/>
                </a:moveTo>
                <a:lnTo>
                  <a:pt x="76848" y="0"/>
                </a:lnTo>
                <a:lnTo>
                  <a:pt x="75448" y="1400"/>
                </a:lnTo>
                <a:lnTo>
                  <a:pt x="1400" y="1400"/>
                </a:lnTo>
                <a:close/>
              </a:path>
              <a:path fill="darken" w="76848" h="21600">
                <a:moveTo>
                  <a:pt x="76848" y="0"/>
                </a:moveTo>
                <a:lnTo>
                  <a:pt x="76848" y="21600"/>
                </a:lnTo>
                <a:lnTo>
                  <a:pt x="75448" y="20200"/>
                </a:lnTo>
                <a:lnTo>
                  <a:pt x="75448" y="1400"/>
                </a:lnTo>
                <a:close/>
              </a:path>
              <a:path fill="darkenLess" w="76848" h="21600">
                <a:moveTo>
                  <a:pt x="7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48" y="20200"/>
                </a:lnTo>
                <a:close/>
              </a:path>
              <a:path fill="lighten" w="7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848" h="21600">
                <a:moveTo>
                  <a:pt x="31418" y="7493"/>
                </a:moveTo>
                <a:lnTo>
                  <a:pt x="34925" y="7493"/>
                </a:lnTo>
                <a:lnTo>
                  <a:pt x="34925" y="12828"/>
                </a:lnTo>
                <a:cubicBezTo>
                  <a:pt x="34925" y="13751"/>
                  <a:pt x="35726" y="14482"/>
                  <a:pt x="36762" y="14482"/>
                </a:cubicBezTo>
                <a:lnTo>
                  <a:pt x="38424" y="14482"/>
                </a:lnTo>
                <a:cubicBezTo>
                  <a:pt x="39460" y="14482"/>
                  <a:pt x="40260" y="13751"/>
                  <a:pt x="40260" y="12828"/>
                </a:cubicBezTo>
                <a:lnTo>
                  <a:pt x="40260" y="7493"/>
                </a:lnTo>
                <a:lnTo>
                  <a:pt x="38424" y="7493"/>
                </a:lnTo>
                <a:lnTo>
                  <a:pt x="41932" y="3985"/>
                </a:lnTo>
                <a:lnTo>
                  <a:pt x="45605" y="7493"/>
                </a:lnTo>
                <a:lnTo>
                  <a:pt x="43768" y="7493"/>
                </a:lnTo>
                <a:lnTo>
                  <a:pt x="43768" y="12828"/>
                </a:lnTo>
                <a:cubicBezTo>
                  <a:pt x="43768" y="15596"/>
                  <a:pt x="41192" y="18155"/>
                  <a:pt x="38424" y="18155"/>
                </a:cubicBezTo>
                <a:lnTo>
                  <a:pt x="36762" y="18155"/>
                </a:lnTo>
                <a:cubicBezTo>
                  <a:pt x="33994" y="18155"/>
                  <a:pt x="31418" y="15596"/>
                  <a:pt x="31418" y="12828"/>
                </a:cubicBez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Неправильно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2050920" y="2421000"/>
            <a:ext cx="3816360" cy="3457440"/>
          </a:xfrm>
          <a:prstGeom prst="smileyFace">
            <a:avLst>
              <a:gd name="adj" fmla="val -465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>
            <a:hlinkClick r:id="" action="ppaction://hlinkshowjump?jump=previousslide"/>
          </p:cNvPr>
          <p:cNvSpPr/>
          <p:nvPr/>
        </p:nvSpPr>
        <p:spPr>
          <a:xfrm>
            <a:off x="6732720" y="5734080"/>
            <a:ext cx="1942920" cy="647640"/>
          </a:xfrm>
          <a:custGeom>
            <a:avLst/>
            <a:gdLst>
              <a:gd name="textAreaLeft" fmla="*/ 41760 w 1942920"/>
              <a:gd name="textAreaRight" fmla="*/ 1901160 w 19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4776" h="21600">
                <a:moveTo>
                  <a:pt x="0" y="0"/>
                </a:moveTo>
                <a:lnTo>
                  <a:pt x="64776" y="0"/>
                </a:lnTo>
                <a:lnTo>
                  <a:pt x="64776" y="21600"/>
                </a:lnTo>
                <a:lnTo>
                  <a:pt x="0" y="21600"/>
                </a:lnTo>
                <a:close/>
              </a:path>
              <a:path fill="lightenLess" w="64776" h="21600">
                <a:moveTo>
                  <a:pt x="0" y="0"/>
                </a:moveTo>
                <a:lnTo>
                  <a:pt x="64776" y="0"/>
                </a:lnTo>
                <a:lnTo>
                  <a:pt x="63376" y="1400"/>
                </a:lnTo>
                <a:lnTo>
                  <a:pt x="1400" y="1400"/>
                </a:lnTo>
                <a:close/>
              </a:path>
              <a:path fill="darken" w="64776" h="21600">
                <a:moveTo>
                  <a:pt x="64776" y="0"/>
                </a:moveTo>
                <a:lnTo>
                  <a:pt x="64776" y="21600"/>
                </a:lnTo>
                <a:lnTo>
                  <a:pt x="63376" y="20200"/>
                </a:lnTo>
                <a:lnTo>
                  <a:pt x="63376" y="1400"/>
                </a:lnTo>
                <a:close/>
              </a:path>
              <a:path fill="darkenLess" w="64776" h="21600">
                <a:moveTo>
                  <a:pt x="6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6" y="20200"/>
                </a:lnTo>
                <a:close/>
              </a:path>
              <a:path fill="lighten" w="6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76" h="21600">
                <a:moveTo>
                  <a:pt x="25382" y="7493"/>
                </a:moveTo>
                <a:lnTo>
                  <a:pt x="28889" y="7493"/>
                </a:lnTo>
                <a:lnTo>
                  <a:pt x="28889" y="12828"/>
                </a:lnTo>
                <a:cubicBezTo>
                  <a:pt x="28889" y="13751"/>
                  <a:pt x="29690" y="14482"/>
                  <a:pt x="30726" y="14482"/>
                </a:cubicBezTo>
                <a:lnTo>
                  <a:pt x="32388" y="14482"/>
                </a:lnTo>
                <a:cubicBezTo>
                  <a:pt x="33424" y="14482"/>
                  <a:pt x="34224" y="13751"/>
                  <a:pt x="34224" y="12828"/>
                </a:cubicBezTo>
                <a:lnTo>
                  <a:pt x="34224" y="7493"/>
                </a:lnTo>
                <a:lnTo>
                  <a:pt x="32388" y="7493"/>
                </a:lnTo>
                <a:lnTo>
                  <a:pt x="35896" y="3985"/>
                </a:lnTo>
                <a:lnTo>
                  <a:pt x="39569" y="7493"/>
                </a:lnTo>
                <a:lnTo>
                  <a:pt x="37732" y="7493"/>
                </a:lnTo>
                <a:lnTo>
                  <a:pt x="37732" y="12828"/>
                </a:lnTo>
                <a:cubicBezTo>
                  <a:pt x="37732" y="15596"/>
                  <a:pt x="35156" y="18155"/>
                  <a:pt x="32388" y="18155"/>
                </a:cubicBezTo>
                <a:lnTo>
                  <a:pt x="30726" y="18155"/>
                </a:lnTo>
                <a:cubicBezTo>
                  <a:pt x="27958" y="18155"/>
                  <a:pt x="25382" y="15596"/>
                  <a:pt x="25382" y="12828"/>
                </a:cubicBez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07:12:46Z</dcterms:created>
  <dc:creator>Admin</dc:creator>
  <dc:description/>
  <dc:language>en-US</dc:language>
  <cp:lastModifiedBy>User</cp:lastModifiedBy>
  <dcterms:modified xsi:type="dcterms:W3CDTF">2021-05-25T14:40:49Z</dcterms:modified>
  <cp:revision>4</cp:revision>
  <dc:subject/>
  <dc:title>ЗАГАДКИ О ЖИВОТНЫХ</dc:title>
</cp:coreProperties>
</file>