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24C-8D14-46AF-B5E7-21EC14CA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AAF-88E2-43F6-A8E3-EB79D184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3CD-F9B1-4C03-92C9-B9753CB8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725-3054-4C07-816A-F28CD2B9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9448-D842-4891-AD5D-9A7C66B1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21D4-D329-4177-8FC3-2E1D0EC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2C23-AAA5-42F4-BD35-F567054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37C9-467D-4E43-B2B1-7816047A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FDD8-05D6-4922-9ED2-CCF79C4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AF5E-625F-4DF5-A43F-728DF273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301-5BC9-4FE7-ADE3-A3C5DAE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A98-6F87-4FF9-8457-741ABAC4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8E1E-D52A-47DC-9B43-BC4A4C2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52F-43B6-4EED-A609-79873BD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407C-6E83-4442-A468-EB684BDA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C700-EBEF-4A61-B42C-9162D207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80E2-587D-4118-BA1B-543C38B1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618-A6C9-4D2A-8362-5FD5635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3E3-80C1-4544-8F21-C62BE7F4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04D-65C5-4408-AF28-601E6717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5C0-F393-479A-9674-C7D5735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FDC-F29D-43C5-BD42-020077E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F40-C967-401C-A31F-C8AB46F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316-60FE-4187-9006-BFCA737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FCF-ED9F-4967-910C-4B9ACD2D7C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7954-D893-4F95-9DA1-E26CF0A47A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ЗАГАДКИ О ЖИВОТНЫХ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де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5148360" y="5300640"/>
            <a:ext cx="3816360" cy="12240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Подготовил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старший воспитатель ГБДОУ детского сада № 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Морозова Наталья Никола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Быстрее всех от страха несется...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828800"/>
            <a:ext cx="76262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черепах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ел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ис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1187280" y="2133720"/>
            <a:ext cx="2664000" cy="43164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3218" h="21600">
                <a:moveTo>
                  <a:pt x="0" y="0"/>
                </a:moveTo>
                <a:lnTo>
                  <a:pt x="133218" y="0"/>
                </a:lnTo>
                <a:lnTo>
                  <a:pt x="133218" y="21600"/>
                </a:lnTo>
                <a:lnTo>
                  <a:pt x="0" y="21600"/>
                </a:lnTo>
                <a:close/>
              </a:path>
              <a:path fill="lightenLess" w="133218" h="21600">
                <a:moveTo>
                  <a:pt x="0" y="0"/>
                </a:moveTo>
                <a:lnTo>
                  <a:pt x="133218" y="0"/>
                </a:lnTo>
                <a:lnTo>
                  <a:pt x="131818" y="1400"/>
                </a:lnTo>
                <a:lnTo>
                  <a:pt x="1400" y="1400"/>
                </a:lnTo>
                <a:close/>
              </a:path>
              <a:path fill="darken" w="133218" h="21600">
                <a:moveTo>
                  <a:pt x="133218" y="0"/>
                </a:moveTo>
                <a:lnTo>
                  <a:pt x="133218" y="21600"/>
                </a:lnTo>
                <a:lnTo>
                  <a:pt x="131818" y="20200"/>
                </a:lnTo>
                <a:lnTo>
                  <a:pt x="131818" y="1400"/>
                </a:lnTo>
                <a:close/>
              </a:path>
              <a:path fill="darkenLess" w="133218" h="21600">
                <a:moveTo>
                  <a:pt x="133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818" y="20200"/>
                </a:lnTo>
                <a:close/>
              </a:path>
              <a:path fill="lighten" w="133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33218" h="21600">
                <a:moveTo>
                  <a:pt x="61082" y="3985"/>
                </a:moveTo>
                <a:lnTo>
                  <a:pt x="68080" y="3985"/>
                </a:lnTo>
                <a:lnTo>
                  <a:pt x="72136" y="7484"/>
                </a:lnTo>
                <a:lnTo>
                  <a:pt x="72136" y="17615"/>
                </a:lnTo>
                <a:lnTo>
                  <a:pt x="61082" y="17615"/>
                </a:lnTo>
                <a:close/>
              </a:path>
              <a:path fill="darken" w="133218" h="21600">
                <a:moveTo>
                  <a:pt x="68080" y="3985"/>
                </a:moveTo>
                <a:lnTo>
                  <a:pt x="72136" y="7484"/>
                </a:lnTo>
                <a:lnTo>
                  <a:pt x="68080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7">
            <a:hlinkClick r:id="rId2" action="ppaction://hlinksldjump"/>
          </p:cNvPr>
          <p:cNvSpPr/>
          <p:nvPr/>
        </p:nvSpPr>
        <p:spPr>
          <a:xfrm>
            <a:off x="1187280" y="2924280"/>
            <a:ext cx="1800360" cy="504720"/>
          </a:xfrm>
          <a:custGeom>
            <a:avLst/>
            <a:gdLst>
              <a:gd name="textAreaLeft" fmla="*/ 32400 w 1800360"/>
              <a:gd name="textAreaRight" fmla="*/ 1767960 w 180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7009" h="21600">
                <a:moveTo>
                  <a:pt x="0" y="0"/>
                </a:moveTo>
                <a:lnTo>
                  <a:pt x="77009" y="0"/>
                </a:lnTo>
                <a:lnTo>
                  <a:pt x="77009" y="21600"/>
                </a:lnTo>
                <a:lnTo>
                  <a:pt x="0" y="21600"/>
                </a:lnTo>
                <a:close/>
              </a:path>
              <a:path fill="lightenLess" w="77009" h="21600">
                <a:moveTo>
                  <a:pt x="0" y="0"/>
                </a:moveTo>
                <a:lnTo>
                  <a:pt x="77009" y="0"/>
                </a:lnTo>
                <a:lnTo>
                  <a:pt x="75609" y="1400"/>
                </a:lnTo>
                <a:lnTo>
                  <a:pt x="1400" y="1400"/>
                </a:lnTo>
                <a:close/>
              </a:path>
              <a:path fill="darken" w="77009" h="21600">
                <a:moveTo>
                  <a:pt x="77009" y="0"/>
                </a:moveTo>
                <a:lnTo>
                  <a:pt x="77009" y="21600"/>
                </a:lnTo>
                <a:lnTo>
                  <a:pt x="75609" y="20200"/>
                </a:lnTo>
                <a:lnTo>
                  <a:pt x="75609" y="1400"/>
                </a:lnTo>
                <a:close/>
              </a:path>
              <a:path fill="darkenLess" w="77009" h="21600">
                <a:moveTo>
                  <a:pt x="77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09" y="20200"/>
                </a:lnTo>
                <a:close/>
              </a:path>
              <a:path fill="lighten" w="77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7009" h="21600">
                <a:moveTo>
                  <a:pt x="32977" y="3985"/>
                </a:moveTo>
                <a:lnTo>
                  <a:pt x="39975" y="3985"/>
                </a:lnTo>
                <a:lnTo>
                  <a:pt x="44031" y="7484"/>
                </a:lnTo>
                <a:lnTo>
                  <a:pt x="44031" y="17615"/>
                </a:lnTo>
                <a:lnTo>
                  <a:pt x="32977" y="17615"/>
                </a:lnTo>
                <a:close/>
              </a:path>
              <a:path fill="darken" w="77009" h="21600">
                <a:moveTo>
                  <a:pt x="39975" y="3985"/>
                </a:moveTo>
                <a:lnTo>
                  <a:pt x="44031" y="7484"/>
                </a:lnTo>
                <a:lnTo>
                  <a:pt x="39975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8">
            <a:hlinkClick r:id="rId3" action="ppaction://hlinksldjump"/>
          </p:cNvPr>
          <p:cNvSpPr/>
          <p:nvPr/>
        </p:nvSpPr>
        <p:spPr>
          <a:xfrm>
            <a:off x="1187280" y="386064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170" h="21600">
                <a:moveTo>
                  <a:pt x="34058" y="3985"/>
                </a:moveTo>
                <a:lnTo>
                  <a:pt x="41056" y="3985"/>
                </a:lnTo>
                <a:lnTo>
                  <a:pt x="45112" y="7484"/>
                </a:lnTo>
                <a:lnTo>
                  <a:pt x="45112" y="17615"/>
                </a:lnTo>
                <a:lnTo>
                  <a:pt x="34058" y="17615"/>
                </a:lnTo>
                <a:close/>
              </a:path>
              <a:path fill="darken" w="79170" h="21600">
                <a:moveTo>
                  <a:pt x="41056" y="3985"/>
                </a:moveTo>
                <a:lnTo>
                  <a:pt x="45112" y="7484"/>
                </a:lnTo>
                <a:lnTo>
                  <a:pt x="4105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">
            <a:hlinkClick r:id="rId4" action="ppaction://hlinksldjump"/>
          </p:cNvPr>
          <p:cNvSpPr/>
          <p:nvPr/>
        </p:nvSpPr>
        <p:spPr>
          <a:xfrm>
            <a:off x="1187280" y="472428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1719" h="21600">
                <a:moveTo>
                  <a:pt x="30333" y="3985"/>
                </a:moveTo>
                <a:lnTo>
                  <a:pt x="37331" y="3985"/>
                </a:lnTo>
                <a:lnTo>
                  <a:pt x="41386" y="7484"/>
                </a:lnTo>
                <a:lnTo>
                  <a:pt x="41386" y="17615"/>
                </a:lnTo>
                <a:lnTo>
                  <a:pt x="30333" y="17615"/>
                </a:lnTo>
                <a:close/>
              </a:path>
              <a:path fill="darken" w="71719" h="21600">
                <a:moveTo>
                  <a:pt x="37331" y="3985"/>
                </a:moveTo>
                <a:lnTo>
                  <a:pt x="41386" y="7484"/>
                </a:lnTo>
                <a:lnTo>
                  <a:pt x="37331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0">
            <a:hlinkClick r:id="" action="ppaction://hlinkshowjump?jump=nextslide"/>
          </p:cNvPr>
          <p:cNvSpPr/>
          <p:nvPr/>
        </p:nvSpPr>
        <p:spPr>
          <a:xfrm>
            <a:off x="6804000" y="5805360"/>
            <a:ext cx="1584360" cy="503280"/>
          </a:xfrm>
          <a:custGeom>
            <a:avLst/>
            <a:gdLst>
              <a:gd name="textAreaLeft" fmla="*/ 32400 w 1584360"/>
              <a:gd name="textAreaRight" fmla="*/ 1551960 w 15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7965" h="21600">
                <a:moveTo>
                  <a:pt x="0" y="0"/>
                </a:moveTo>
                <a:lnTo>
                  <a:pt x="67965" y="0"/>
                </a:lnTo>
                <a:lnTo>
                  <a:pt x="67965" y="21600"/>
                </a:lnTo>
                <a:lnTo>
                  <a:pt x="0" y="21600"/>
                </a:lnTo>
                <a:close/>
              </a:path>
              <a:path fill="lightenLess" w="67965" h="21600">
                <a:moveTo>
                  <a:pt x="0" y="0"/>
                </a:moveTo>
                <a:lnTo>
                  <a:pt x="67965" y="0"/>
                </a:lnTo>
                <a:lnTo>
                  <a:pt x="66565" y="1400"/>
                </a:lnTo>
                <a:lnTo>
                  <a:pt x="1400" y="1400"/>
                </a:lnTo>
                <a:close/>
              </a:path>
              <a:path fill="darken" w="67965" h="21600">
                <a:moveTo>
                  <a:pt x="67965" y="0"/>
                </a:moveTo>
                <a:lnTo>
                  <a:pt x="67965" y="21600"/>
                </a:lnTo>
                <a:lnTo>
                  <a:pt x="66565" y="20200"/>
                </a:lnTo>
                <a:lnTo>
                  <a:pt x="66565" y="1400"/>
                </a:lnTo>
                <a:close/>
              </a:path>
              <a:path fill="darkenLess" w="67965" h="21600">
                <a:moveTo>
                  <a:pt x="67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565" y="20200"/>
                </a:lnTo>
                <a:close/>
              </a:path>
              <a:path fill="lighten" w="67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965" h="21600">
                <a:moveTo>
                  <a:pt x="26976" y="3794"/>
                </a:moveTo>
                <a:lnTo>
                  <a:pt x="40989" y="10800"/>
                </a:lnTo>
                <a:lnTo>
                  <a:pt x="26976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37712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стой вопрос для малышей: кого боится кот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ыше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оба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юде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вер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0" descr="лев"/>
          <p:cNvPicPr/>
          <p:nvPr/>
        </p:nvPicPr>
        <p:blipFill>
          <a:blip r:embed="rId1"/>
          <a:stretch/>
        </p:blipFill>
        <p:spPr>
          <a:xfrm>
            <a:off x="5148360" y="2133720"/>
            <a:ext cx="2260440" cy="29685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>
            <a:hlinkClick r:id="rId2" action="ppaction://hlinksldjump"/>
          </p:cNvPr>
          <p:cNvSpPr/>
          <p:nvPr/>
        </p:nvSpPr>
        <p:spPr>
          <a:xfrm>
            <a:off x="1116000" y="1916280"/>
            <a:ext cx="1943280" cy="649080"/>
          </a:xfrm>
          <a:custGeom>
            <a:avLst/>
            <a:gdLst>
              <a:gd name="textAreaLeft" fmla="*/ 41760 w 1943280"/>
              <a:gd name="textAreaRight" fmla="*/ 1901520 w 1943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4644" h="21600">
                <a:moveTo>
                  <a:pt x="0" y="0"/>
                </a:moveTo>
                <a:lnTo>
                  <a:pt x="64644" y="0"/>
                </a:lnTo>
                <a:lnTo>
                  <a:pt x="64644" y="21600"/>
                </a:lnTo>
                <a:lnTo>
                  <a:pt x="0" y="21600"/>
                </a:lnTo>
                <a:close/>
              </a:path>
              <a:path fill="lightenLess" w="64644" h="21600">
                <a:moveTo>
                  <a:pt x="0" y="0"/>
                </a:moveTo>
                <a:lnTo>
                  <a:pt x="64644" y="0"/>
                </a:lnTo>
                <a:lnTo>
                  <a:pt x="63244" y="1400"/>
                </a:lnTo>
                <a:lnTo>
                  <a:pt x="1400" y="1400"/>
                </a:lnTo>
                <a:close/>
              </a:path>
              <a:path fill="darken" w="64644" h="21600">
                <a:moveTo>
                  <a:pt x="64644" y="0"/>
                </a:moveTo>
                <a:lnTo>
                  <a:pt x="64644" y="21600"/>
                </a:lnTo>
                <a:lnTo>
                  <a:pt x="63244" y="20200"/>
                </a:lnTo>
                <a:lnTo>
                  <a:pt x="63244" y="1400"/>
                </a:lnTo>
                <a:close/>
              </a:path>
              <a:path fill="darkenLess" w="64644" h="21600">
                <a:moveTo>
                  <a:pt x="64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4" y="20200"/>
                </a:lnTo>
                <a:close/>
              </a:path>
              <a:path fill="lighten" w="64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644" h="21600">
                <a:moveTo>
                  <a:pt x="26795" y="3985"/>
                </a:moveTo>
                <a:lnTo>
                  <a:pt x="33793" y="3985"/>
                </a:lnTo>
                <a:lnTo>
                  <a:pt x="37849" y="7484"/>
                </a:lnTo>
                <a:lnTo>
                  <a:pt x="37849" y="17615"/>
                </a:lnTo>
                <a:lnTo>
                  <a:pt x="26795" y="17615"/>
                </a:lnTo>
                <a:close/>
              </a:path>
              <a:path fill="darken" w="64644" h="21600">
                <a:moveTo>
                  <a:pt x="33793" y="3985"/>
                </a:moveTo>
                <a:lnTo>
                  <a:pt x="37849" y="7484"/>
                </a:lnTo>
                <a:lnTo>
                  <a:pt x="3379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2">
            <a:hlinkClick r:id="rId3" action="ppaction://hlinksldjump"/>
          </p:cNvPr>
          <p:cNvSpPr/>
          <p:nvPr/>
        </p:nvSpPr>
        <p:spPr>
          <a:xfrm>
            <a:off x="1116000" y="2924280"/>
            <a:ext cx="1727280" cy="433440"/>
          </a:xfrm>
          <a:custGeom>
            <a:avLst/>
            <a:gdLst>
              <a:gd name="textAreaLeft" fmla="*/ 28080 w 1727280"/>
              <a:gd name="textAreaRight" fmla="*/ 1699200 w 1727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024" h="21600">
                <a:moveTo>
                  <a:pt x="37485" y="3985"/>
                </a:moveTo>
                <a:lnTo>
                  <a:pt x="44483" y="3985"/>
                </a:lnTo>
                <a:lnTo>
                  <a:pt x="48539" y="7484"/>
                </a:lnTo>
                <a:lnTo>
                  <a:pt x="48539" y="17615"/>
                </a:lnTo>
                <a:lnTo>
                  <a:pt x="37485" y="17615"/>
                </a:lnTo>
                <a:close/>
              </a:path>
              <a:path fill="darken" w="86024" h="21600">
                <a:moveTo>
                  <a:pt x="44483" y="3985"/>
                </a:moveTo>
                <a:lnTo>
                  <a:pt x="48539" y="7484"/>
                </a:lnTo>
                <a:lnTo>
                  <a:pt x="4448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3">
            <a:hlinkClick r:id="rId4" action="ppaction://hlinksldjump"/>
          </p:cNvPr>
          <p:cNvSpPr/>
          <p:nvPr/>
        </p:nvSpPr>
        <p:spPr>
          <a:xfrm>
            <a:off x="1187280" y="3789360"/>
            <a:ext cx="2089440" cy="576360"/>
          </a:xfrm>
          <a:custGeom>
            <a:avLst/>
            <a:gdLst>
              <a:gd name="textAreaLeft" fmla="*/ 37080 w 2089440"/>
              <a:gd name="textAreaRight" fmla="*/ 2052360 w 208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8270" h="21600">
                <a:moveTo>
                  <a:pt x="0" y="0"/>
                </a:moveTo>
                <a:lnTo>
                  <a:pt x="78270" y="0"/>
                </a:lnTo>
                <a:lnTo>
                  <a:pt x="78270" y="21600"/>
                </a:lnTo>
                <a:lnTo>
                  <a:pt x="0" y="21600"/>
                </a:lnTo>
                <a:close/>
              </a:path>
              <a:path fill="lightenLess" w="78270" h="21600">
                <a:moveTo>
                  <a:pt x="0" y="0"/>
                </a:moveTo>
                <a:lnTo>
                  <a:pt x="78270" y="0"/>
                </a:lnTo>
                <a:lnTo>
                  <a:pt x="76870" y="1400"/>
                </a:lnTo>
                <a:lnTo>
                  <a:pt x="1400" y="1400"/>
                </a:lnTo>
                <a:close/>
              </a:path>
              <a:path fill="darken" w="78270" h="21600">
                <a:moveTo>
                  <a:pt x="78270" y="0"/>
                </a:moveTo>
                <a:lnTo>
                  <a:pt x="78270" y="21600"/>
                </a:lnTo>
                <a:lnTo>
                  <a:pt x="76870" y="20200"/>
                </a:lnTo>
                <a:lnTo>
                  <a:pt x="76870" y="1400"/>
                </a:lnTo>
                <a:close/>
              </a:path>
              <a:path fill="darkenLess" w="78270" h="21600">
                <a:moveTo>
                  <a:pt x="78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0" y="20200"/>
                </a:lnTo>
                <a:close/>
              </a:path>
              <a:path fill="lighten" w="78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8270" h="21600">
                <a:moveTo>
                  <a:pt x="33608" y="3985"/>
                </a:moveTo>
                <a:lnTo>
                  <a:pt x="40606" y="3985"/>
                </a:lnTo>
                <a:lnTo>
                  <a:pt x="44662" y="7484"/>
                </a:lnTo>
                <a:lnTo>
                  <a:pt x="44662" y="17615"/>
                </a:lnTo>
                <a:lnTo>
                  <a:pt x="33608" y="17615"/>
                </a:lnTo>
                <a:close/>
              </a:path>
              <a:path fill="darken" w="78270" h="21600">
                <a:moveTo>
                  <a:pt x="40606" y="3985"/>
                </a:moveTo>
                <a:lnTo>
                  <a:pt x="44662" y="7484"/>
                </a:lnTo>
                <a:lnTo>
                  <a:pt x="4060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4">
            <a:hlinkClick r:id="rId5" action="ppaction://hlinksldjump"/>
          </p:cNvPr>
          <p:cNvSpPr/>
          <p:nvPr/>
        </p:nvSpPr>
        <p:spPr>
          <a:xfrm>
            <a:off x="1116000" y="4653000"/>
            <a:ext cx="2016000" cy="57636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19" h="21600">
                <a:moveTo>
                  <a:pt x="0" y="0"/>
                </a:moveTo>
                <a:lnTo>
                  <a:pt x="75519" y="0"/>
                </a:lnTo>
                <a:lnTo>
                  <a:pt x="75519" y="21600"/>
                </a:lnTo>
                <a:lnTo>
                  <a:pt x="0" y="21600"/>
                </a:lnTo>
                <a:close/>
              </a:path>
              <a:path fill="lightenLess" w="75519" h="21600">
                <a:moveTo>
                  <a:pt x="0" y="0"/>
                </a:moveTo>
                <a:lnTo>
                  <a:pt x="75519" y="0"/>
                </a:lnTo>
                <a:lnTo>
                  <a:pt x="74119" y="1400"/>
                </a:lnTo>
                <a:lnTo>
                  <a:pt x="1400" y="1400"/>
                </a:lnTo>
                <a:close/>
              </a:path>
              <a:path fill="darken" w="75519" h="21600">
                <a:moveTo>
                  <a:pt x="75519" y="0"/>
                </a:moveTo>
                <a:lnTo>
                  <a:pt x="75519" y="21600"/>
                </a:lnTo>
                <a:lnTo>
                  <a:pt x="74119" y="20200"/>
                </a:lnTo>
                <a:lnTo>
                  <a:pt x="74119" y="1400"/>
                </a:lnTo>
                <a:close/>
              </a:path>
              <a:path fill="darkenLess" w="75519" h="21600">
                <a:moveTo>
                  <a:pt x="75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19" y="20200"/>
                </a:lnTo>
                <a:close/>
              </a:path>
              <a:path fill="lighten" w="75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5519" h="21600">
                <a:moveTo>
                  <a:pt x="32233" y="3985"/>
                </a:moveTo>
                <a:lnTo>
                  <a:pt x="39230" y="3985"/>
                </a:lnTo>
                <a:lnTo>
                  <a:pt x="43286" y="7484"/>
                </a:lnTo>
                <a:lnTo>
                  <a:pt x="43286" y="17615"/>
                </a:lnTo>
                <a:lnTo>
                  <a:pt x="32233" y="17615"/>
                </a:lnTo>
                <a:close/>
              </a:path>
              <a:path fill="darken" w="75519" h="21600">
                <a:moveTo>
                  <a:pt x="39230" y="3985"/>
                </a:moveTo>
                <a:lnTo>
                  <a:pt x="43286" y="7484"/>
                </a:lnTo>
                <a:lnTo>
                  <a:pt x="39230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5">
            <a:hlinkClick r:id="" action="ppaction://hlinkshowjump?jump=nextslide"/>
          </p:cNvPr>
          <p:cNvSpPr/>
          <p:nvPr/>
        </p:nvSpPr>
        <p:spPr>
          <a:xfrm>
            <a:off x="6732720" y="6093000"/>
            <a:ext cx="1871640" cy="57600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0156" h="21600">
                <a:moveTo>
                  <a:pt x="0" y="0"/>
                </a:moveTo>
                <a:lnTo>
                  <a:pt x="70156" y="0"/>
                </a:lnTo>
                <a:lnTo>
                  <a:pt x="70156" y="21600"/>
                </a:lnTo>
                <a:lnTo>
                  <a:pt x="0" y="21600"/>
                </a:lnTo>
                <a:close/>
              </a:path>
              <a:path fill="lightenLess" w="70156" h="21600">
                <a:moveTo>
                  <a:pt x="0" y="0"/>
                </a:moveTo>
                <a:lnTo>
                  <a:pt x="70156" y="0"/>
                </a:lnTo>
                <a:lnTo>
                  <a:pt x="68756" y="1400"/>
                </a:lnTo>
                <a:lnTo>
                  <a:pt x="1400" y="1400"/>
                </a:lnTo>
                <a:close/>
              </a:path>
              <a:path fill="darken" w="70156" h="21600">
                <a:moveTo>
                  <a:pt x="70156" y="0"/>
                </a:moveTo>
                <a:lnTo>
                  <a:pt x="70156" y="21600"/>
                </a:lnTo>
                <a:lnTo>
                  <a:pt x="68756" y="20200"/>
                </a:lnTo>
                <a:lnTo>
                  <a:pt x="68756" y="1400"/>
                </a:lnTo>
                <a:close/>
              </a:path>
              <a:path fill="darkenLess" w="70156" h="21600">
                <a:moveTo>
                  <a:pt x="70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6" y="20200"/>
                </a:lnTo>
                <a:close/>
              </a:path>
              <a:path fill="lighten" w="70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56" h="21600">
                <a:moveTo>
                  <a:pt x="28072" y="3794"/>
                </a:moveTo>
                <a:lnTo>
                  <a:pt x="42085" y="10800"/>
                </a:lnTo>
                <a:lnTo>
                  <a:pt x="28072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 пальмы вниз. На пальму снова ловко прыгает..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оро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орон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узнечи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безьян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7" descr="лягушка"/>
          <p:cNvPicPr/>
          <p:nvPr/>
        </p:nvPicPr>
        <p:blipFill>
          <a:blip r:embed="rId1"/>
          <a:stretch/>
        </p:blipFill>
        <p:spPr>
          <a:xfrm>
            <a:off x="5292720" y="2637000"/>
            <a:ext cx="2303640" cy="22986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>
            <a:hlinkClick r:id="rId2" action="ppaction://hlinksldjump"/>
          </p:cNvPr>
          <p:cNvSpPr/>
          <p:nvPr/>
        </p:nvSpPr>
        <p:spPr>
          <a:xfrm>
            <a:off x="1042920" y="4869000"/>
            <a:ext cx="2665440" cy="504720"/>
          </a:xfrm>
          <a:custGeom>
            <a:avLst/>
            <a:gdLst>
              <a:gd name="textAreaLeft" fmla="*/ 32400 w 2665440"/>
              <a:gd name="textAreaRight" fmla="*/ 2633040 w 2665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14004" h="21600">
                <a:moveTo>
                  <a:pt x="0" y="0"/>
                </a:moveTo>
                <a:lnTo>
                  <a:pt x="114004" y="0"/>
                </a:lnTo>
                <a:lnTo>
                  <a:pt x="114004" y="21600"/>
                </a:lnTo>
                <a:lnTo>
                  <a:pt x="0" y="21600"/>
                </a:lnTo>
                <a:close/>
              </a:path>
              <a:path fill="lightenLess" w="114004" h="21600">
                <a:moveTo>
                  <a:pt x="0" y="0"/>
                </a:moveTo>
                <a:lnTo>
                  <a:pt x="114004" y="0"/>
                </a:lnTo>
                <a:lnTo>
                  <a:pt x="112604" y="1400"/>
                </a:lnTo>
                <a:lnTo>
                  <a:pt x="1400" y="1400"/>
                </a:lnTo>
                <a:close/>
              </a:path>
              <a:path fill="darken" w="114004" h="21600">
                <a:moveTo>
                  <a:pt x="114004" y="0"/>
                </a:moveTo>
                <a:lnTo>
                  <a:pt x="114004" y="21600"/>
                </a:lnTo>
                <a:lnTo>
                  <a:pt x="112604" y="20200"/>
                </a:lnTo>
                <a:lnTo>
                  <a:pt x="112604" y="1400"/>
                </a:lnTo>
                <a:close/>
              </a:path>
              <a:path fill="darkenLess" w="114004" h="21600">
                <a:moveTo>
                  <a:pt x="114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604" y="20200"/>
                </a:lnTo>
                <a:close/>
              </a:path>
              <a:path fill="lighten" w="114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14004" h="21600">
                <a:moveTo>
                  <a:pt x="51475" y="3985"/>
                </a:moveTo>
                <a:lnTo>
                  <a:pt x="58473" y="3985"/>
                </a:lnTo>
                <a:lnTo>
                  <a:pt x="62529" y="7484"/>
                </a:lnTo>
                <a:lnTo>
                  <a:pt x="62529" y="17615"/>
                </a:lnTo>
                <a:lnTo>
                  <a:pt x="51475" y="17615"/>
                </a:lnTo>
                <a:close/>
              </a:path>
              <a:path fill="darken" w="114004" h="21600">
                <a:moveTo>
                  <a:pt x="58473" y="3985"/>
                </a:moveTo>
                <a:lnTo>
                  <a:pt x="62529" y="7484"/>
                </a:lnTo>
                <a:lnTo>
                  <a:pt x="5847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9">
            <a:hlinkClick r:id="rId3" action="ppaction://hlinksldjump"/>
          </p:cNvPr>
          <p:cNvSpPr/>
          <p:nvPr/>
        </p:nvSpPr>
        <p:spPr>
          <a:xfrm>
            <a:off x="1116000" y="2276640"/>
            <a:ext cx="2087640" cy="43164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4400" h="21600">
                <a:moveTo>
                  <a:pt x="0" y="0"/>
                </a:moveTo>
                <a:lnTo>
                  <a:pt x="104400" y="0"/>
                </a:lnTo>
                <a:lnTo>
                  <a:pt x="104400" y="21600"/>
                </a:lnTo>
                <a:lnTo>
                  <a:pt x="0" y="21600"/>
                </a:lnTo>
                <a:close/>
              </a:path>
              <a:path fill="lightenLess" w="104400" h="21600">
                <a:moveTo>
                  <a:pt x="0" y="0"/>
                </a:moveTo>
                <a:lnTo>
                  <a:pt x="104400" y="0"/>
                </a:lnTo>
                <a:lnTo>
                  <a:pt x="103000" y="1400"/>
                </a:lnTo>
                <a:lnTo>
                  <a:pt x="1400" y="1400"/>
                </a:lnTo>
                <a:close/>
              </a:path>
              <a:path fill="darken" w="104400" h="21600">
                <a:moveTo>
                  <a:pt x="104400" y="0"/>
                </a:moveTo>
                <a:lnTo>
                  <a:pt x="104400" y="21600"/>
                </a:lnTo>
                <a:lnTo>
                  <a:pt x="103000" y="20200"/>
                </a:lnTo>
                <a:lnTo>
                  <a:pt x="103000" y="1400"/>
                </a:lnTo>
                <a:close/>
              </a:path>
              <a:path fill="darkenLess" w="104400" h="21600">
                <a:moveTo>
                  <a:pt x="10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000" y="20200"/>
                </a:lnTo>
                <a:close/>
              </a:path>
              <a:path fill="lighten" w="10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4400" h="21600">
                <a:moveTo>
                  <a:pt x="46673" y="3985"/>
                </a:moveTo>
                <a:lnTo>
                  <a:pt x="53671" y="3985"/>
                </a:lnTo>
                <a:lnTo>
                  <a:pt x="57727" y="7484"/>
                </a:lnTo>
                <a:lnTo>
                  <a:pt x="57727" y="17615"/>
                </a:lnTo>
                <a:lnTo>
                  <a:pt x="46673" y="17615"/>
                </a:lnTo>
                <a:close/>
              </a:path>
              <a:path fill="darken" w="104400" h="21600">
                <a:moveTo>
                  <a:pt x="53671" y="3985"/>
                </a:moveTo>
                <a:lnTo>
                  <a:pt x="57727" y="7484"/>
                </a:lnTo>
                <a:lnTo>
                  <a:pt x="53671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10">
            <a:hlinkClick r:id="rId4" action="ppaction://hlinksldjump"/>
          </p:cNvPr>
          <p:cNvSpPr/>
          <p:nvPr/>
        </p:nvSpPr>
        <p:spPr>
          <a:xfrm>
            <a:off x="1042920" y="3141720"/>
            <a:ext cx="2160720" cy="5032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2684" h="21600">
                <a:moveTo>
                  <a:pt x="0" y="0"/>
                </a:moveTo>
                <a:lnTo>
                  <a:pt x="92684" y="0"/>
                </a:lnTo>
                <a:lnTo>
                  <a:pt x="92684" y="21600"/>
                </a:lnTo>
                <a:lnTo>
                  <a:pt x="0" y="21600"/>
                </a:lnTo>
                <a:close/>
              </a:path>
              <a:path fill="lightenLess" w="92684" h="21600">
                <a:moveTo>
                  <a:pt x="0" y="0"/>
                </a:moveTo>
                <a:lnTo>
                  <a:pt x="92684" y="0"/>
                </a:lnTo>
                <a:lnTo>
                  <a:pt x="91284" y="1400"/>
                </a:lnTo>
                <a:lnTo>
                  <a:pt x="1400" y="1400"/>
                </a:lnTo>
                <a:close/>
              </a:path>
              <a:path fill="darken" w="92684" h="21600">
                <a:moveTo>
                  <a:pt x="92684" y="0"/>
                </a:moveTo>
                <a:lnTo>
                  <a:pt x="92684" y="21600"/>
                </a:lnTo>
                <a:lnTo>
                  <a:pt x="91284" y="20200"/>
                </a:lnTo>
                <a:lnTo>
                  <a:pt x="91284" y="1400"/>
                </a:lnTo>
                <a:close/>
              </a:path>
              <a:path fill="darkenLess" w="92684" h="21600">
                <a:moveTo>
                  <a:pt x="9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4" y="20200"/>
                </a:lnTo>
                <a:close/>
              </a:path>
              <a:path fill="lighten" w="9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92684" h="21600">
                <a:moveTo>
                  <a:pt x="40815" y="3985"/>
                </a:moveTo>
                <a:lnTo>
                  <a:pt x="47813" y="3985"/>
                </a:lnTo>
                <a:lnTo>
                  <a:pt x="51869" y="7484"/>
                </a:lnTo>
                <a:lnTo>
                  <a:pt x="51869" y="17615"/>
                </a:lnTo>
                <a:lnTo>
                  <a:pt x="40815" y="17615"/>
                </a:lnTo>
                <a:close/>
              </a:path>
              <a:path fill="darken" w="92684" h="21600">
                <a:moveTo>
                  <a:pt x="47813" y="3985"/>
                </a:moveTo>
                <a:lnTo>
                  <a:pt x="51869" y="7484"/>
                </a:lnTo>
                <a:lnTo>
                  <a:pt x="4781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1">
            <a:hlinkClick r:id="rId5" action="ppaction://hlinksldjump"/>
          </p:cNvPr>
          <p:cNvSpPr/>
          <p:nvPr/>
        </p:nvSpPr>
        <p:spPr>
          <a:xfrm>
            <a:off x="1116000" y="400536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22418" h="21600">
                <a:moveTo>
                  <a:pt x="55682" y="3985"/>
                </a:moveTo>
                <a:lnTo>
                  <a:pt x="62680" y="3985"/>
                </a:lnTo>
                <a:lnTo>
                  <a:pt x="66736" y="7484"/>
                </a:lnTo>
                <a:lnTo>
                  <a:pt x="66736" y="17615"/>
                </a:lnTo>
                <a:lnTo>
                  <a:pt x="55682" y="17615"/>
                </a:lnTo>
                <a:close/>
              </a:path>
              <a:path fill="darken" w="122418" h="21600">
                <a:moveTo>
                  <a:pt x="62680" y="3985"/>
                </a:moveTo>
                <a:lnTo>
                  <a:pt x="66736" y="7484"/>
                </a:lnTo>
                <a:lnTo>
                  <a:pt x="62680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12">
            <a:hlinkClick r:id="" action="ppaction://hlinkshowjump?jump=nextslide"/>
          </p:cNvPr>
          <p:cNvSpPr/>
          <p:nvPr/>
        </p:nvSpPr>
        <p:spPr>
          <a:xfrm>
            <a:off x="65167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 теплой лужице своей громко квакал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ураве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ягуш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т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апл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10" descr="цапля"/>
          <p:cNvPicPr/>
          <p:nvPr/>
        </p:nvPicPr>
        <p:blipFill>
          <a:blip r:embed="rId1"/>
          <a:stretch/>
        </p:blipFill>
        <p:spPr>
          <a:xfrm>
            <a:off x="4859280" y="2492280"/>
            <a:ext cx="2274840" cy="29941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1">
            <a:hlinkClick r:id="rId2" action="ppaction://hlinksldjump"/>
          </p:cNvPr>
          <p:cNvSpPr/>
          <p:nvPr/>
        </p:nvSpPr>
        <p:spPr>
          <a:xfrm>
            <a:off x="1116000" y="206064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25982" h="21600">
                <a:moveTo>
                  <a:pt x="57464" y="3985"/>
                </a:moveTo>
                <a:lnTo>
                  <a:pt x="64462" y="3985"/>
                </a:lnTo>
                <a:lnTo>
                  <a:pt x="68518" y="7484"/>
                </a:lnTo>
                <a:lnTo>
                  <a:pt x="68518" y="17615"/>
                </a:lnTo>
                <a:lnTo>
                  <a:pt x="57464" y="17615"/>
                </a:lnTo>
                <a:close/>
              </a:path>
              <a:path fill="darken" w="125982" h="21600">
                <a:moveTo>
                  <a:pt x="64462" y="3985"/>
                </a:moveTo>
                <a:lnTo>
                  <a:pt x="68518" y="7484"/>
                </a:lnTo>
                <a:lnTo>
                  <a:pt x="64462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116000" y="2924280"/>
            <a:ext cx="2519280" cy="504720"/>
          </a:xfrm>
          <a:custGeom>
            <a:avLst/>
            <a:gdLst>
              <a:gd name="textAreaLeft" fmla="*/ 32400 w 2519280"/>
              <a:gd name="textAreaRight" fmla="*/ 2486880 w 25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7754" h="21600">
                <a:moveTo>
                  <a:pt x="0" y="0"/>
                </a:moveTo>
                <a:lnTo>
                  <a:pt x="107754" y="0"/>
                </a:lnTo>
                <a:lnTo>
                  <a:pt x="107754" y="21600"/>
                </a:lnTo>
                <a:lnTo>
                  <a:pt x="0" y="21600"/>
                </a:lnTo>
                <a:close/>
              </a:path>
              <a:path fill="lightenLess" w="107754" h="21600">
                <a:moveTo>
                  <a:pt x="0" y="0"/>
                </a:moveTo>
                <a:lnTo>
                  <a:pt x="107754" y="0"/>
                </a:lnTo>
                <a:lnTo>
                  <a:pt x="106354" y="1400"/>
                </a:lnTo>
                <a:lnTo>
                  <a:pt x="1400" y="1400"/>
                </a:lnTo>
                <a:close/>
              </a:path>
              <a:path fill="darken" w="107754" h="21600">
                <a:moveTo>
                  <a:pt x="107754" y="0"/>
                </a:moveTo>
                <a:lnTo>
                  <a:pt x="107754" y="21600"/>
                </a:lnTo>
                <a:lnTo>
                  <a:pt x="106354" y="20200"/>
                </a:lnTo>
                <a:lnTo>
                  <a:pt x="106354" y="1400"/>
                </a:lnTo>
                <a:close/>
              </a:path>
              <a:path fill="darkenLess" w="107754" h="21600">
                <a:moveTo>
                  <a:pt x="1077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54" y="20200"/>
                </a:lnTo>
                <a:close/>
              </a:path>
              <a:path fill="lighten" w="1077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7754" h="21600">
                <a:moveTo>
                  <a:pt x="48350" y="3985"/>
                </a:moveTo>
                <a:lnTo>
                  <a:pt x="55348" y="3985"/>
                </a:lnTo>
                <a:lnTo>
                  <a:pt x="59404" y="7484"/>
                </a:lnTo>
                <a:lnTo>
                  <a:pt x="59404" y="17615"/>
                </a:lnTo>
                <a:lnTo>
                  <a:pt x="48350" y="17615"/>
                </a:lnTo>
                <a:close/>
              </a:path>
              <a:path fill="darken" w="107754" h="21600">
                <a:moveTo>
                  <a:pt x="55348" y="3985"/>
                </a:moveTo>
                <a:lnTo>
                  <a:pt x="59404" y="7484"/>
                </a:lnTo>
                <a:lnTo>
                  <a:pt x="55348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1187280" y="3789360"/>
            <a:ext cx="1297080" cy="503280"/>
          </a:xfrm>
          <a:custGeom>
            <a:avLst/>
            <a:gdLst>
              <a:gd name="textAreaLeft" fmla="*/ 32400 w 1297080"/>
              <a:gd name="textAreaRight" fmla="*/ 1264680 w 1297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5644" h="21600">
                <a:moveTo>
                  <a:pt x="0" y="0"/>
                </a:moveTo>
                <a:lnTo>
                  <a:pt x="55644" y="0"/>
                </a:lnTo>
                <a:lnTo>
                  <a:pt x="55644" y="21600"/>
                </a:lnTo>
                <a:lnTo>
                  <a:pt x="0" y="21600"/>
                </a:lnTo>
                <a:close/>
              </a:path>
              <a:path fill="lightenLess" w="55644" h="21600">
                <a:moveTo>
                  <a:pt x="0" y="0"/>
                </a:moveTo>
                <a:lnTo>
                  <a:pt x="55644" y="0"/>
                </a:lnTo>
                <a:lnTo>
                  <a:pt x="54244" y="1400"/>
                </a:lnTo>
                <a:lnTo>
                  <a:pt x="1400" y="1400"/>
                </a:lnTo>
                <a:close/>
              </a:path>
              <a:path fill="darken" w="55644" h="21600">
                <a:moveTo>
                  <a:pt x="55644" y="0"/>
                </a:moveTo>
                <a:lnTo>
                  <a:pt x="55644" y="21600"/>
                </a:lnTo>
                <a:lnTo>
                  <a:pt x="54244" y="20200"/>
                </a:lnTo>
                <a:lnTo>
                  <a:pt x="54244" y="1400"/>
                </a:lnTo>
                <a:close/>
              </a:path>
              <a:path fill="darkenLess" w="55644" h="21600">
                <a:moveTo>
                  <a:pt x="55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4" y="20200"/>
                </a:lnTo>
                <a:close/>
              </a:path>
              <a:path fill="lighten" w="55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5644" h="21600">
                <a:moveTo>
                  <a:pt x="22295" y="3985"/>
                </a:moveTo>
                <a:lnTo>
                  <a:pt x="29293" y="3985"/>
                </a:lnTo>
                <a:lnTo>
                  <a:pt x="33349" y="7484"/>
                </a:lnTo>
                <a:lnTo>
                  <a:pt x="33349" y="17615"/>
                </a:lnTo>
                <a:lnTo>
                  <a:pt x="22295" y="17615"/>
                </a:lnTo>
                <a:close/>
              </a:path>
              <a:path fill="darken" w="55644" h="21600">
                <a:moveTo>
                  <a:pt x="29293" y="3985"/>
                </a:moveTo>
                <a:lnTo>
                  <a:pt x="33349" y="7484"/>
                </a:lnTo>
                <a:lnTo>
                  <a:pt x="29293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116000" y="4724280"/>
            <a:ext cx="1871640" cy="433440"/>
          </a:xfrm>
          <a:custGeom>
            <a:avLst/>
            <a:gdLst>
              <a:gd name="textAreaLeft" fmla="*/ 28080 w 1871640"/>
              <a:gd name="textAreaRight" fmla="*/ 1843560 w 1871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93212" h="21600">
                <a:moveTo>
                  <a:pt x="0" y="0"/>
                </a:moveTo>
                <a:lnTo>
                  <a:pt x="93212" y="0"/>
                </a:lnTo>
                <a:lnTo>
                  <a:pt x="93212" y="21600"/>
                </a:lnTo>
                <a:lnTo>
                  <a:pt x="0" y="21600"/>
                </a:lnTo>
                <a:close/>
              </a:path>
              <a:path fill="lightenLess" w="93212" h="21600">
                <a:moveTo>
                  <a:pt x="0" y="0"/>
                </a:moveTo>
                <a:lnTo>
                  <a:pt x="93212" y="0"/>
                </a:lnTo>
                <a:lnTo>
                  <a:pt x="91812" y="1400"/>
                </a:lnTo>
                <a:lnTo>
                  <a:pt x="1400" y="1400"/>
                </a:lnTo>
                <a:close/>
              </a:path>
              <a:path fill="darken" w="93212" h="21600">
                <a:moveTo>
                  <a:pt x="93212" y="0"/>
                </a:moveTo>
                <a:lnTo>
                  <a:pt x="93212" y="21600"/>
                </a:lnTo>
                <a:lnTo>
                  <a:pt x="91812" y="20200"/>
                </a:lnTo>
                <a:lnTo>
                  <a:pt x="91812" y="1400"/>
                </a:lnTo>
                <a:close/>
              </a:path>
              <a:path fill="darkenLess" w="93212" h="21600">
                <a:moveTo>
                  <a:pt x="93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812" y="20200"/>
                </a:lnTo>
                <a:close/>
              </a:path>
              <a:path fill="lighten" w="93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93212" h="21600">
                <a:moveTo>
                  <a:pt x="41079" y="3985"/>
                </a:moveTo>
                <a:lnTo>
                  <a:pt x="48077" y="3985"/>
                </a:lnTo>
                <a:lnTo>
                  <a:pt x="52133" y="7484"/>
                </a:lnTo>
                <a:lnTo>
                  <a:pt x="52133" y="17615"/>
                </a:lnTo>
                <a:lnTo>
                  <a:pt x="41079" y="17615"/>
                </a:lnTo>
                <a:close/>
              </a:path>
              <a:path fill="darken" w="93212" h="21600">
                <a:moveTo>
                  <a:pt x="48077" y="3985"/>
                </a:moveTo>
                <a:lnTo>
                  <a:pt x="52133" y="7484"/>
                </a:lnTo>
                <a:lnTo>
                  <a:pt x="48077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5">
            <a:hlinkClick r:id="" action="ppaction://hlinkshowjump?jump=nextslide"/>
          </p:cNvPr>
          <p:cNvSpPr/>
          <p:nvPr/>
        </p:nvSpPr>
        <p:spPr>
          <a:xfrm>
            <a:off x="6804000" y="5950080"/>
            <a:ext cx="1655640" cy="503280"/>
          </a:xfrm>
          <a:custGeom>
            <a:avLst/>
            <a:gdLst>
              <a:gd name="textAreaLeft" fmla="*/ 32400 w 1655640"/>
              <a:gd name="textAreaRight" fmla="*/ 1623240 w 16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1022" h="21600">
                <a:moveTo>
                  <a:pt x="0" y="0"/>
                </a:moveTo>
                <a:lnTo>
                  <a:pt x="71022" y="0"/>
                </a:lnTo>
                <a:lnTo>
                  <a:pt x="71022" y="21600"/>
                </a:lnTo>
                <a:lnTo>
                  <a:pt x="0" y="21600"/>
                </a:lnTo>
                <a:close/>
              </a:path>
              <a:path fill="lightenLess" w="71022" h="21600">
                <a:moveTo>
                  <a:pt x="0" y="0"/>
                </a:moveTo>
                <a:lnTo>
                  <a:pt x="71022" y="0"/>
                </a:lnTo>
                <a:lnTo>
                  <a:pt x="69622" y="1400"/>
                </a:lnTo>
                <a:lnTo>
                  <a:pt x="1400" y="1400"/>
                </a:lnTo>
                <a:close/>
              </a:path>
              <a:path fill="darken" w="71022" h="21600">
                <a:moveTo>
                  <a:pt x="71022" y="0"/>
                </a:moveTo>
                <a:lnTo>
                  <a:pt x="71022" y="21600"/>
                </a:lnTo>
                <a:lnTo>
                  <a:pt x="69622" y="20200"/>
                </a:lnTo>
                <a:lnTo>
                  <a:pt x="69622" y="1400"/>
                </a:lnTo>
                <a:close/>
              </a:path>
              <a:path fill="darkenLess" w="71022" h="21600">
                <a:moveTo>
                  <a:pt x="71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622" y="20200"/>
                </a:lnTo>
                <a:close/>
              </a:path>
              <a:path fill="lighten" w="71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022" h="21600">
                <a:moveTo>
                  <a:pt x="28505" y="3794"/>
                </a:moveTo>
                <a:lnTo>
                  <a:pt x="42518" y="10800"/>
                </a:lnTo>
                <a:lnTo>
                  <a:pt x="28505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0280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имой в берлоге видит сон лохматый, косолапый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он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лон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ёж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едвед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конь"/>
          <p:cNvPicPr/>
          <p:nvPr/>
        </p:nvPicPr>
        <p:blipFill>
          <a:blip r:embed="rId1"/>
          <a:stretch/>
        </p:blipFill>
        <p:spPr>
          <a:xfrm>
            <a:off x="5508720" y="2349360"/>
            <a:ext cx="2496960" cy="26085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/>
          <p:cNvSpPr/>
          <p:nvPr/>
        </p:nvSpPr>
        <p:spPr>
          <a:xfrm>
            <a:off x="1042920" y="2060640"/>
            <a:ext cx="1657440" cy="504720"/>
          </a:xfrm>
          <a:custGeom>
            <a:avLst/>
            <a:gdLst>
              <a:gd name="textAreaLeft" fmla="*/ 32400 w 1657440"/>
              <a:gd name="textAreaRight" fmla="*/ 1625040 w 1657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0897" h="21600">
                <a:moveTo>
                  <a:pt x="0" y="0"/>
                </a:moveTo>
                <a:lnTo>
                  <a:pt x="70897" y="0"/>
                </a:lnTo>
                <a:lnTo>
                  <a:pt x="70897" y="21600"/>
                </a:lnTo>
                <a:lnTo>
                  <a:pt x="0" y="21600"/>
                </a:lnTo>
                <a:close/>
              </a:path>
              <a:path fill="lightenLess" w="70897" h="21600">
                <a:moveTo>
                  <a:pt x="0" y="0"/>
                </a:moveTo>
                <a:lnTo>
                  <a:pt x="70897" y="0"/>
                </a:lnTo>
                <a:lnTo>
                  <a:pt x="69497" y="1400"/>
                </a:lnTo>
                <a:lnTo>
                  <a:pt x="1400" y="1400"/>
                </a:lnTo>
                <a:close/>
              </a:path>
              <a:path fill="darken" w="70897" h="21600">
                <a:moveTo>
                  <a:pt x="70897" y="0"/>
                </a:moveTo>
                <a:lnTo>
                  <a:pt x="70897" y="21600"/>
                </a:lnTo>
                <a:lnTo>
                  <a:pt x="69497" y="20200"/>
                </a:lnTo>
                <a:lnTo>
                  <a:pt x="69497" y="1400"/>
                </a:lnTo>
                <a:close/>
              </a:path>
              <a:path fill="darkenLess" w="70897" h="21600">
                <a:moveTo>
                  <a:pt x="70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97" y="20200"/>
                </a:lnTo>
                <a:close/>
              </a:path>
              <a:path fill="lighten" w="70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0897" h="21600">
                <a:moveTo>
                  <a:pt x="29921" y="3985"/>
                </a:moveTo>
                <a:lnTo>
                  <a:pt x="36919" y="3985"/>
                </a:lnTo>
                <a:lnTo>
                  <a:pt x="40975" y="7484"/>
                </a:lnTo>
                <a:lnTo>
                  <a:pt x="40975" y="17615"/>
                </a:lnTo>
                <a:lnTo>
                  <a:pt x="29921" y="17615"/>
                </a:lnTo>
                <a:close/>
              </a:path>
              <a:path fill="darken" w="70897" h="21600">
                <a:moveTo>
                  <a:pt x="36919" y="3985"/>
                </a:moveTo>
                <a:lnTo>
                  <a:pt x="40975" y="7484"/>
                </a:lnTo>
                <a:lnTo>
                  <a:pt x="36919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2924280"/>
            <a:ext cx="1511280" cy="57600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651" h="21600">
                <a:moveTo>
                  <a:pt x="0" y="0"/>
                </a:moveTo>
                <a:lnTo>
                  <a:pt x="56651" y="0"/>
                </a:lnTo>
                <a:lnTo>
                  <a:pt x="56651" y="21600"/>
                </a:lnTo>
                <a:lnTo>
                  <a:pt x="0" y="21600"/>
                </a:lnTo>
                <a:close/>
              </a:path>
              <a:path fill="lightenLess" w="56651" h="21600">
                <a:moveTo>
                  <a:pt x="0" y="0"/>
                </a:moveTo>
                <a:lnTo>
                  <a:pt x="56651" y="0"/>
                </a:lnTo>
                <a:lnTo>
                  <a:pt x="55251" y="1400"/>
                </a:lnTo>
                <a:lnTo>
                  <a:pt x="1400" y="1400"/>
                </a:lnTo>
                <a:close/>
              </a:path>
              <a:path fill="darken" w="56651" h="21600">
                <a:moveTo>
                  <a:pt x="56651" y="0"/>
                </a:moveTo>
                <a:lnTo>
                  <a:pt x="56651" y="21600"/>
                </a:lnTo>
                <a:lnTo>
                  <a:pt x="55251" y="20200"/>
                </a:lnTo>
                <a:lnTo>
                  <a:pt x="55251" y="1400"/>
                </a:lnTo>
                <a:close/>
              </a:path>
              <a:path fill="darkenLess" w="56651" h="21600">
                <a:moveTo>
                  <a:pt x="56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1" y="20200"/>
                </a:lnTo>
                <a:close/>
              </a:path>
              <a:path fill="lighten" w="56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6651" h="21600">
                <a:moveTo>
                  <a:pt x="22799" y="3985"/>
                </a:moveTo>
                <a:lnTo>
                  <a:pt x="29796" y="3985"/>
                </a:lnTo>
                <a:lnTo>
                  <a:pt x="33852" y="7484"/>
                </a:lnTo>
                <a:lnTo>
                  <a:pt x="33852" y="17615"/>
                </a:lnTo>
                <a:lnTo>
                  <a:pt x="22799" y="17615"/>
                </a:lnTo>
                <a:close/>
              </a:path>
              <a:path fill="darken" w="56651" h="21600">
                <a:moveTo>
                  <a:pt x="29796" y="3985"/>
                </a:moveTo>
                <a:lnTo>
                  <a:pt x="33852" y="7484"/>
                </a:lnTo>
                <a:lnTo>
                  <a:pt x="2979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042920" y="3716280"/>
            <a:ext cx="1152720" cy="6494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8330" h="21600">
                <a:moveTo>
                  <a:pt x="0" y="0"/>
                </a:moveTo>
                <a:lnTo>
                  <a:pt x="38330" y="0"/>
                </a:lnTo>
                <a:lnTo>
                  <a:pt x="38330" y="21600"/>
                </a:lnTo>
                <a:lnTo>
                  <a:pt x="0" y="21600"/>
                </a:lnTo>
                <a:close/>
              </a:path>
              <a:path fill="lightenLess" w="38330" h="21600">
                <a:moveTo>
                  <a:pt x="0" y="0"/>
                </a:moveTo>
                <a:lnTo>
                  <a:pt x="38330" y="0"/>
                </a:lnTo>
                <a:lnTo>
                  <a:pt x="36930" y="1400"/>
                </a:lnTo>
                <a:lnTo>
                  <a:pt x="1400" y="1400"/>
                </a:lnTo>
                <a:close/>
              </a:path>
              <a:path fill="darken" w="38330" h="21600">
                <a:moveTo>
                  <a:pt x="38330" y="0"/>
                </a:moveTo>
                <a:lnTo>
                  <a:pt x="38330" y="21600"/>
                </a:lnTo>
                <a:lnTo>
                  <a:pt x="36930" y="20200"/>
                </a:lnTo>
                <a:lnTo>
                  <a:pt x="36930" y="1400"/>
                </a:lnTo>
                <a:close/>
              </a:path>
              <a:path fill="darkenLess" w="38330" h="21600">
                <a:moveTo>
                  <a:pt x="38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30" y="20200"/>
                </a:lnTo>
                <a:close/>
              </a:path>
              <a:path fill="lighten" w="38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330" h="21600">
                <a:moveTo>
                  <a:pt x="13638" y="3985"/>
                </a:moveTo>
                <a:lnTo>
                  <a:pt x="20636" y="3985"/>
                </a:lnTo>
                <a:lnTo>
                  <a:pt x="24692" y="7484"/>
                </a:lnTo>
                <a:lnTo>
                  <a:pt x="24692" y="17615"/>
                </a:lnTo>
                <a:lnTo>
                  <a:pt x="13638" y="17615"/>
                </a:lnTo>
                <a:close/>
              </a:path>
              <a:path fill="darken" w="38330" h="21600">
                <a:moveTo>
                  <a:pt x="20636" y="3985"/>
                </a:moveTo>
                <a:lnTo>
                  <a:pt x="24692" y="7484"/>
                </a:lnTo>
                <a:lnTo>
                  <a:pt x="20636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1042920" y="4581360"/>
            <a:ext cx="2665440" cy="71928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0014" h="21600">
                <a:moveTo>
                  <a:pt x="0" y="0"/>
                </a:moveTo>
                <a:lnTo>
                  <a:pt x="80014" y="0"/>
                </a:lnTo>
                <a:lnTo>
                  <a:pt x="80014" y="21600"/>
                </a:lnTo>
                <a:lnTo>
                  <a:pt x="0" y="21600"/>
                </a:lnTo>
                <a:close/>
              </a:path>
              <a:path fill="lightenLess" w="80014" h="21600">
                <a:moveTo>
                  <a:pt x="0" y="0"/>
                </a:moveTo>
                <a:lnTo>
                  <a:pt x="80014" y="0"/>
                </a:lnTo>
                <a:lnTo>
                  <a:pt x="78614" y="1400"/>
                </a:lnTo>
                <a:lnTo>
                  <a:pt x="1400" y="1400"/>
                </a:lnTo>
                <a:close/>
              </a:path>
              <a:path fill="darken" w="80014" h="21600">
                <a:moveTo>
                  <a:pt x="80014" y="0"/>
                </a:moveTo>
                <a:lnTo>
                  <a:pt x="80014" y="21600"/>
                </a:lnTo>
                <a:lnTo>
                  <a:pt x="78614" y="20200"/>
                </a:lnTo>
                <a:lnTo>
                  <a:pt x="78614" y="1400"/>
                </a:lnTo>
                <a:close/>
              </a:path>
              <a:path fill="darkenLess" w="80014" h="21600">
                <a:moveTo>
                  <a:pt x="80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14" y="20200"/>
                </a:lnTo>
                <a:close/>
              </a:path>
              <a:path fill="lighten" w="80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0014" h="21600">
                <a:moveTo>
                  <a:pt x="34480" y="3985"/>
                </a:moveTo>
                <a:lnTo>
                  <a:pt x="41478" y="3985"/>
                </a:lnTo>
                <a:lnTo>
                  <a:pt x="45534" y="7484"/>
                </a:lnTo>
                <a:lnTo>
                  <a:pt x="45534" y="17615"/>
                </a:lnTo>
                <a:lnTo>
                  <a:pt x="34480" y="17615"/>
                </a:lnTo>
                <a:close/>
              </a:path>
              <a:path fill="darken" w="80014" h="21600">
                <a:moveTo>
                  <a:pt x="41478" y="3985"/>
                </a:moveTo>
                <a:lnTo>
                  <a:pt x="45534" y="7484"/>
                </a:lnTo>
                <a:lnTo>
                  <a:pt x="41478" y="74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2">
            <a:hlinkClick r:id="" action="ppaction://hlinkshowjump?jump=nextslide"/>
          </p:cNvPr>
          <p:cNvSpPr/>
          <p:nvPr/>
        </p:nvSpPr>
        <p:spPr>
          <a:xfrm>
            <a:off x="6804000" y="6093000"/>
            <a:ext cx="1728720" cy="431640"/>
          </a:xfrm>
          <a:custGeom>
            <a:avLst/>
            <a:gdLst>
              <a:gd name="textAreaLeft" fmla="*/ 27720 w 1728720"/>
              <a:gd name="textAreaRight" fmla="*/ 1701000 w 1728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54" h="21600">
                <a:moveTo>
                  <a:pt x="36221" y="3794"/>
                </a:moveTo>
                <a:lnTo>
                  <a:pt x="50233" y="10800"/>
                </a:lnTo>
                <a:lnTo>
                  <a:pt x="3622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340000" y="2349360"/>
            <a:ext cx="3168720" cy="309564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>
            <a:hlinkClick r:id="" action="ppaction://hlinkshowjump?jump=previousslide"/>
          </p:cNvPr>
          <p:cNvSpPr/>
          <p:nvPr/>
        </p:nvSpPr>
        <p:spPr>
          <a:xfrm>
            <a:off x="6443640" y="5877000"/>
            <a:ext cx="2305080" cy="647640"/>
          </a:xfrm>
          <a:custGeom>
            <a:avLst/>
            <a:gdLst>
              <a:gd name="textAreaLeft" fmla="*/ 41760 w 2305080"/>
              <a:gd name="textAreaRight" fmla="*/ 2263320 w 230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48" h="21600">
                <a:moveTo>
                  <a:pt x="0" y="0"/>
                </a:moveTo>
                <a:lnTo>
                  <a:pt x="76848" y="0"/>
                </a:lnTo>
                <a:lnTo>
                  <a:pt x="76848" y="21600"/>
                </a:lnTo>
                <a:lnTo>
                  <a:pt x="0" y="21600"/>
                </a:lnTo>
                <a:close/>
              </a:path>
              <a:path fill="lightenLess" w="76848" h="21600">
                <a:moveTo>
                  <a:pt x="0" y="0"/>
                </a:moveTo>
                <a:lnTo>
                  <a:pt x="76848" y="0"/>
                </a:lnTo>
                <a:lnTo>
                  <a:pt x="75448" y="1400"/>
                </a:lnTo>
                <a:lnTo>
                  <a:pt x="1400" y="1400"/>
                </a:lnTo>
                <a:close/>
              </a:path>
              <a:path fill="darken" w="76848" h="21600">
                <a:moveTo>
                  <a:pt x="76848" y="0"/>
                </a:moveTo>
                <a:lnTo>
                  <a:pt x="76848" y="21600"/>
                </a:lnTo>
                <a:lnTo>
                  <a:pt x="75448" y="20200"/>
                </a:lnTo>
                <a:lnTo>
                  <a:pt x="75448" y="1400"/>
                </a:lnTo>
                <a:close/>
              </a:path>
              <a:path fill="darkenLess" w="76848" h="21600">
                <a:moveTo>
                  <a:pt x="7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48" y="20200"/>
                </a:lnTo>
                <a:close/>
              </a:path>
              <a:path fill="lighten" w="7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48" h="21600">
                <a:moveTo>
                  <a:pt x="31418" y="7493"/>
                </a:moveTo>
                <a:lnTo>
                  <a:pt x="34925" y="7493"/>
                </a:lnTo>
                <a:lnTo>
                  <a:pt x="34925" y="12828"/>
                </a:lnTo>
                <a:cubicBezTo>
                  <a:pt x="34925" y="13751"/>
                  <a:pt x="35726" y="14482"/>
                  <a:pt x="36762" y="14482"/>
                </a:cubicBezTo>
                <a:lnTo>
                  <a:pt x="38424" y="14482"/>
                </a:lnTo>
                <a:cubicBezTo>
                  <a:pt x="39460" y="14482"/>
                  <a:pt x="40260" y="13751"/>
                  <a:pt x="40260" y="12828"/>
                </a:cubicBezTo>
                <a:lnTo>
                  <a:pt x="40260" y="7493"/>
                </a:lnTo>
                <a:lnTo>
                  <a:pt x="38424" y="7493"/>
                </a:lnTo>
                <a:lnTo>
                  <a:pt x="41932" y="3985"/>
                </a:lnTo>
                <a:lnTo>
                  <a:pt x="45605" y="7493"/>
                </a:lnTo>
                <a:lnTo>
                  <a:pt x="43768" y="7493"/>
                </a:lnTo>
                <a:lnTo>
                  <a:pt x="43768" y="12828"/>
                </a:lnTo>
                <a:cubicBezTo>
                  <a:pt x="43768" y="15596"/>
                  <a:pt x="41192" y="18155"/>
                  <a:pt x="38424" y="18155"/>
                </a:cubicBezTo>
                <a:lnTo>
                  <a:pt x="36762" y="18155"/>
                </a:lnTo>
                <a:cubicBezTo>
                  <a:pt x="33994" y="18155"/>
                  <a:pt x="31418" y="15596"/>
                  <a:pt x="31418" y="12828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Неправильно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2050920" y="2421000"/>
            <a:ext cx="3816360" cy="345744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>
            <a:hlinkClick r:id="" action="ppaction://hlinkshowjump?jump=previousslide"/>
          </p:cNvPr>
          <p:cNvSpPr/>
          <p:nvPr/>
        </p:nvSpPr>
        <p:spPr>
          <a:xfrm>
            <a:off x="6732720" y="5734080"/>
            <a:ext cx="1942920" cy="647640"/>
          </a:xfrm>
          <a:custGeom>
            <a:avLst/>
            <a:gdLst>
              <a:gd name="textAreaLeft" fmla="*/ 41760 w 1942920"/>
              <a:gd name="textAreaRight" fmla="*/ 1901160 w 19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4776" h="21600">
                <a:moveTo>
                  <a:pt x="0" y="0"/>
                </a:moveTo>
                <a:lnTo>
                  <a:pt x="64776" y="0"/>
                </a:lnTo>
                <a:lnTo>
                  <a:pt x="64776" y="21600"/>
                </a:lnTo>
                <a:lnTo>
                  <a:pt x="0" y="21600"/>
                </a:lnTo>
                <a:close/>
              </a:path>
              <a:path fill="lightenLess" w="64776" h="21600">
                <a:moveTo>
                  <a:pt x="0" y="0"/>
                </a:moveTo>
                <a:lnTo>
                  <a:pt x="64776" y="0"/>
                </a:lnTo>
                <a:lnTo>
                  <a:pt x="63376" y="1400"/>
                </a:lnTo>
                <a:lnTo>
                  <a:pt x="1400" y="1400"/>
                </a:lnTo>
                <a:close/>
              </a:path>
              <a:path fill="darken" w="64776" h="21600">
                <a:moveTo>
                  <a:pt x="64776" y="0"/>
                </a:moveTo>
                <a:lnTo>
                  <a:pt x="64776" y="21600"/>
                </a:lnTo>
                <a:lnTo>
                  <a:pt x="63376" y="20200"/>
                </a:lnTo>
                <a:lnTo>
                  <a:pt x="63376" y="1400"/>
                </a:lnTo>
                <a:close/>
              </a:path>
              <a:path fill="darkenLess" w="64776" h="21600">
                <a:moveTo>
                  <a:pt x="6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6" y="20200"/>
                </a:lnTo>
                <a:close/>
              </a:path>
              <a:path fill="lighten" w="6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76" h="21600">
                <a:moveTo>
                  <a:pt x="25382" y="7493"/>
                </a:moveTo>
                <a:lnTo>
                  <a:pt x="28889" y="7493"/>
                </a:lnTo>
                <a:lnTo>
                  <a:pt x="28889" y="12828"/>
                </a:lnTo>
                <a:cubicBezTo>
                  <a:pt x="28889" y="13751"/>
                  <a:pt x="29690" y="14482"/>
                  <a:pt x="30726" y="14482"/>
                </a:cubicBezTo>
                <a:lnTo>
                  <a:pt x="32388" y="14482"/>
                </a:lnTo>
                <a:cubicBezTo>
                  <a:pt x="33424" y="14482"/>
                  <a:pt x="34224" y="13751"/>
                  <a:pt x="34224" y="12828"/>
                </a:cubicBezTo>
                <a:lnTo>
                  <a:pt x="34224" y="7493"/>
                </a:lnTo>
                <a:lnTo>
                  <a:pt x="32388" y="7493"/>
                </a:lnTo>
                <a:lnTo>
                  <a:pt x="35896" y="3985"/>
                </a:lnTo>
                <a:lnTo>
                  <a:pt x="39569" y="7493"/>
                </a:lnTo>
                <a:lnTo>
                  <a:pt x="37732" y="7493"/>
                </a:lnTo>
                <a:lnTo>
                  <a:pt x="37732" y="12828"/>
                </a:lnTo>
                <a:cubicBezTo>
                  <a:pt x="37732" y="15596"/>
                  <a:pt x="35156" y="18155"/>
                  <a:pt x="32388" y="18155"/>
                </a:cubicBezTo>
                <a:lnTo>
                  <a:pt x="30726" y="18155"/>
                </a:lnTo>
                <a:cubicBezTo>
                  <a:pt x="27958" y="18155"/>
                  <a:pt x="25382" y="15596"/>
                  <a:pt x="25382" y="12828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7:12:46Z</dcterms:created>
  <dc:creator>Admin</dc:creator>
  <dc:description/>
  <dc:language>en-US</dc:language>
  <cp:lastModifiedBy>User</cp:lastModifiedBy>
  <dcterms:modified xsi:type="dcterms:W3CDTF">2021-05-25T14:40:49Z</dcterms:modified>
  <cp:revision>4</cp:revision>
  <dc:subject/>
  <dc:title>ЗАГАДКИ О ЖИВОТНЫХ</dc:title>
</cp:coreProperties>
</file>