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691-087B-40C8-98DC-6E6E9E64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DC4-59A4-4527-AD32-D141E349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E25-2F4D-478A-AE89-F90A88A6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9C6-C1C9-4D7E-A959-EC7471F5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F96-A225-4AB4-8EC5-A9F3E572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E84-12D6-446A-91E1-48EA8883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B7C-6600-4064-98CB-022A16BE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4C3-391C-4162-8C62-AE3A8FF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F02-E2AC-45CC-825C-B3D7290A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F59-3ED5-43C6-BDF2-CF2036D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B66-7D1C-4289-80FD-686DD9B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93C-AF1B-4657-8A7A-1304686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5137-0746-4EF7-92A9-3B986021EF83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064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Анализ и самоанализ урока как средство повышения методического мастерства учителя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6383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готовила -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читель 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ахтина Ольга Иван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28600" y="284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Основная общеобразовательная школа № 7, осуществляющая деятель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адаптированным основным образовательным программа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83808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676520" y="76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самоанализа урока в соответствии с ФГОС О УО (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465200"/>
          <a:ext cx="7508880" cy="4337280"/>
        </p:xfrm>
        <a:graphic>
          <a:graphicData uri="http://schemas.openxmlformats.org/drawingml/2006/table">
            <a:tbl>
              <a:tblPr/>
              <a:tblGrid>
                <a:gridCol w="3337200"/>
                <a:gridCol w="4171680"/>
              </a:tblGrid>
              <a:tr h="20484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О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дм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ограм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ма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ип урока по целеполаганию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Цель уро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ачи уро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спользуемые 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ичнос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тапредме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</a:t>
                      </a: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ме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жпредметные связ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87308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304920"/>
          <a:ext cx="7886880" cy="5472000"/>
        </p:xfrm>
        <a:graphic>
          <a:graphicData uri="http://schemas.openxmlformats.org/drawingml/2006/table">
            <a:tbl>
              <a:tblPr/>
              <a:tblGrid>
                <a:gridCol w="1338480"/>
                <a:gridCol w="1476360"/>
                <a:gridCol w="3522600"/>
                <a:gridCol w="1549440"/>
              </a:tblGrid>
              <a:tr h="687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Самоопределение к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мо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ется  в деловой рит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 сообщает о начале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ятся к работе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ктуализация знаний и фиксация затруднений в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яет уровень зн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типичные 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задание, требующее отдельные способности к учебной деятельности, мыслительные операции и учебные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становка учебной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ует 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проблемную ситу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ят цели, формулируют (уточняют) тему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строение проекта выхода из затруд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ует обучающихся по исследованию проблем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ют план достижения цели и определяют средства (алгоритм, мод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38080" y="914400"/>
          <a:ext cx="7886880" cy="5943240"/>
        </p:xfrm>
        <a:graphic>
          <a:graphicData uri="http://schemas.openxmlformats.org/drawingml/2006/table">
            <a:tbl>
              <a:tblPr/>
              <a:tblGrid>
                <a:gridCol w="1447920"/>
                <a:gridCol w="1828800"/>
                <a:gridCol w="2971800"/>
                <a:gridCol w="1638360"/>
              </a:tblGrid>
              <a:tr h="3256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вичное закрепл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 осознанность восприятия обучающимися учеб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ют типовые задания с проговариванием алгоритма всл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Самостоятельная работа с самопроверкой по этал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деятельность по применению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самостоятельную работу. Осуществляют самопроверку, пошагово сравнивая с этал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флексия деятельности, итог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рефлекс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самооценку собственной учебной деятельности, соотносят цель и результаты, степень их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628560" y="300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71600" y="152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3352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анализ урока дает возможность педаго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и развивать творческую сознательность, проявляющуюся в умении сформулировать и поставить цели своей деятельности и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умение четко планировать и предвидеть результаты своего педагогического тру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педагогическое самосознание учителя, когда он постепенно начинает видеть, понимать необходимую и существенную связь между способом его действий и конечным результатом уро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учиться рефлексии, умению видеть свои сильные и слабые стор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603360" y="2438280"/>
            <a:ext cx="788832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1828800" y="1266840"/>
            <a:ext cx="70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Кто на себя глядит, свой видит лик, кто видит лик сво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цену себе знает, кто знает цену, строг к себе бывает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кто строг к себе – тот истинно велик!»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Пьер Гренг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676520" y="2590920"/>
            <a:ext cx="72388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ное простран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м протекает деятельность учителя в образовательном учреждени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уро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сех его проявления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ранство урока – это сцена, на которой можно пережить минуты триумфа и горечь поражений; оно всегда заполнено деятельностью учителя и обучаю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но на уроке учитель использует все возможности для развития личности ученика, ее активного умственного роста, для формирования ее нравственных ос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Урок – это зеркало общей и педагогической культуры учител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ло его интеллектуального богатства, показатель его кругозора, эрудиц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57200" y="533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752480" y="1676520"/>
            <a:ext cx="73915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Сухомлинский писал: «Сильным, опытным становится педагог, который умеет анализировать свой труд…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 и самоанализ должны быть направлены на сопоставление выдвинутых коррекционно-образовательных, коррекционно-развивающих и коррекционно-воспитательных целей с достигнутым результат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существления всех поставленных задач не может быть раз и навсегда установленного типа урока с застывшими этапами и стандартной последовательностью их осуществления. Поэтому очень важно уделять большое внимание как анализу, так и самоанализу как отдельного урока, так и всей деятельности учителя в целом с целью эффективного управления процессом обуч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квалификации учителя во многом зависит от степени владения умениями анализировать свою деятельность и деятельность своих колле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3520" y="304920"/>
            <a:ext cx="739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76520" y="914400"/>
            <a:ext cx="70866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 любого у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мплексный подход, в котором психологический,  педагогический, содержательный, методический,  воспитательный и предметный аспекты тесно взаимосвязаны. Это разбор и оценка урока в целом или отдельных его сторо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рефлексия, позволяющая оценить свои сильные и слабые стороны, определить нереализуемые резервы, уточнить отдельные моменты индивидуального стиля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анали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ключается в выявлении понимания проведения выбранной формы урока и применения методов и приемов организации деятельности учителя и обучающихся на уро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ой задач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качество урока, понимание возможностей ребенка, поиск резервов повышения эффективности процесса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дминистрация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сутствующие на уроке педаг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828800" y="2286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анализа урока в соответствии с ФГОС О УО (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76520" y="1219320"/>
          <a:ext cx="6933960" cy="4968720"/>
        </p:xfrm>
        <a:graphic>
          <a:graphicData uri="http://schemas.openxmlformats.org/drawingml/2006/table">
            <a:tbl>
              <a:tblPr/>
              <a:tblGrid>
                <a:gridCol w="3570120"/>
                <a:gridCol w="3363840"/>
              </a:tblGrid>
              <a:tr h="2571480">
                <a:tc gridSpan="2"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осещения «______» ___________20____г.                             Класс 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учающихся по списку __________чел.                             Присутствуют ____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__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осещения урока 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учителя 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урока 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урока (объявлена, не объявлена, в начале урока, в середине уро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 gridSpan="2"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работы учителя 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(репродуктивная), рассказ, объяснение,  инструктаж, лекция, демон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ние, комментирование, объяснение, расск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(устный, письменный), с применением индивидуальных карточек, перфокарт, дифференцированный под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(письменные, устные, практичес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дидактического материала (верно, с ошибк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(логических, расчетн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самостоятельной работой обучающихся на основе обратной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0"/>
          <a:ext cx="7543800" cy="6494400"/>
        </p:xfrm>
        <a:graphic>
          <a:graphicData uri="http://schemas.openxmlformats.org/drawingml/2006/table">
            <a:tbl>
              <a:tblPr/>
              <a:tblGrid>
                <a:gridCol w="1565280"/>
                <a:gridCol w="1406520"/>
                <a:gridCol w="441360"/>
                <a:gridCol w="701640"/>
                <a:gridCol w="982800"/>
                <a:gridCol w="1305000"/>
                <a:gridCol w="1141200"/>
              </a:tblGrid>
              <a:tr h="21024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 gridSpan="3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Урок «открытия»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Урок рефлек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Урок общеметодологическ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Урок развивающего контр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 приемы работы по развитию познавательной деятель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3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2960">
                <a:tc gridSpan="3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над нов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алгоритм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овые задачи, проблемные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явлен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536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обучающихся при опр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сех обучающихся в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одход к обучаю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100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си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 слаб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3880" y="380880"/>
          <a:ext cx="7467840" cy="6749640"/>
        </p:xfrm>
        <a:graphic>
          <a:graphicData uri="http://schemas.openxmlformats.org/drawingml/2006/table">
            <a:tbl>
              <a:tblPr/>
              <a:tblGrid>
                <a:gridCol w="1600200"/>
                <a:gridCol w="728640"/>
                <a:gridCol w="425520"/>
                <a:gridCol w="1513080"/>
                <a:gridCol w="895320"/>
                <a:gridCol w="95040"/>
                <a:gridCol w="328680"/>
                <a:gridCol w="1881360"/>
              </a:tblGrid>
              <a:tr h="63540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обучающихся при опр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сех обучающихся в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одход к обучаю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си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слаб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gridSpan="8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наличия познавательной актив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откл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редоточ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леченность процессо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ление к собственному участию в обсуж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в течение всего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учителю, товарищ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160">
                <a:tc gridSpan="8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своения знаний обучающими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восприятия, осмысления, запоми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применения знаний в аналогичной или сход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обуч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развив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воспитыв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0240"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нота знаний, умений, навы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сознанность и действ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чность знаний, усвоенных на предыдущем урок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воображения – репродуктивного, творче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наглядно-действенного, образного и логического мыш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мение анализировать, сравнивать, конкретиз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равственное воздейст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фориен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культуры умственного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25680" y="127080"/>
          <a:ext cx="7467480" cy="5302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54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явлен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52480" y="5105520"/>
            <a:ext cx="739152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ходе анализа учитель получает возможность взглянуть на свой урок как бы со стороны, осознать его как явление в целом, целенаправленно осмыслить совокупность собственных теоретических знаний, способов, приемов работы в их практическом преломлении во взаимодействии с классом и конкретными обучающимис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52280"/>
          <a:ext cx="9144000" cy="4837320"/>
        </p:xfrm>
        <a:graphic>
          <a:graphicData uri="http://schemas.openxmlformats.org/drawingml/2006/table">
            <a:tbl>
              <a:tblPr/>
              <a:tblGrid>
                <a:gridCol w="5229360"/>
                <a:gridCol w="241200"/>
                <a:gridCol w="3673440"/>
              </a:tblGrid>
              <a:tr h="210240"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итог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на всех этапах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дидактических принц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 обучающихся к у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ально-психологическая обстановка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принципа педагогического сотрудни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и опрошены ______чел.    «5»______чел.   «4»______чел.   «3»______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сообразность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ложно; оптимально; упрощ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ир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ольшая; оптимальная; мал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ренировочное; твор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ля сильных; для слабых; общее для все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08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 и предлож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ценка урок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роведен на высоком методическом уровне, хороший, удовлетворительный, неудовлетво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43000" y="76320"/>
            <a:ext cx="66294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анализом урока крайне важно услыша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го оценку собственной педагогической деятельности, так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– показатель профессионализма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- это мысленное разложение проведенного урока на его составляющие с глубоким проникновением в их сущность, задачи с целью оценить конечный результат своей деятельности путем сравнения запланированного с осуществленным, учитывая успехи и продвижения обучаю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 свой собственный урок, конкретные педагогические ситуации, возникающие на нем, результаты своего труда во многом зависит от умения учителя спланировать, организовать, проконтролировать, отрегулировать свою педагогическую 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4T07:15:23Z</dcterms:created>
  <dc:creator>hp</dc:creator>
  <dc:description/>
  <dc:language>en-US</dc:language>
  <cp:lastModifiedBy>HP</cp:lastModifiedBy>
  <dcterms:modified xsi:type="dcterms:W3CDTF">2021-01-22T11:28:59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