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8C8-5B97-4A3E-B6D8-CCB22889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5B0-C246-4718-9E08-8A2F5DB7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0D1-4775-473C-9B5B-D7FBC2E7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1A1-F8C0-4C96-B2DF-F3E0AD3C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172-D6AE-4E25-9F57-BC610C4A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A08-347D-45D6-8097-6960E6D1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359-C58A-4323-9791-77A3B1F1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E01-5398-4997-A7F8-890494B6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D03-2C0B-4B13-BCD8-0791B0E7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E27-3D9B-46FA-ADE2-9A5CC401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A0B-64A3-4A91-9362-16D34789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6DA5-3040-4B31-9974-4E033F32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DD81-9E6C-4041-B37B-12E6B0F34ACA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064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Анализ и самоанализ урока как средство повышения методического мастерства учителя»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56383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дготовила -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читель высшей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Бахтина Ольга Ивано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228600" y="284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Основная общеобразовательная школа № 7, осуществляющая деятель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адаптированным основным образовательным программам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83808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676520" y="763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самоанализа урока в соответствии с ФГОС О УО (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465200"/>
          <a:ext cx="7508880" cy="4337280"/>
        </p:xfrm>
        <a:graphic>
          <a:graphicData uri="http://schemas.openxmlformats.org/drawingml/2006/table">
            <a:tbl>
              <a:tblPr/>
              <a:tblGrid>
                <a:gridCol w="3337200"/>
                <a:gridCol w="4171680"/>
              </a:tblGrid>
              <a:tr h="20484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ИО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ата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редм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рограм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ема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ип урока по целеполаганию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Цель уро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ачи уро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Используемые технолог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Личностные БУ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етапредметные БУ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ре</a:t>
                      </a: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метные БУ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ежпредметные связ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87308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304920"/>
          <a:ext cx="7886880" cy="5472000"/>
        </p:xfrm>
        <a:graphic>
          <a:graphicData uri="http://schemas.openxmlformats.org/drawingml/2006/table">
            <a:tbl>
              <a:tblPr/>
              <a:tblGrid>
                <a:gridCol w="1338480"/>
                <a:gridCol w="1476360"/>
                <a:gridCol w="3522600"/>
                <a:gridCol w="1549440"/>
              </a:tblGrid>
              <a:tr h="687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Самоопределение к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мо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ается  в деловой рит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о сообщает о начале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ятся к работе на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ктуализация знаний и фиксация затруднений в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яет уровень зна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ет типичные нед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задание, требующее отдельные способности к учебной деятельности, мыслительные операции и учебные навы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становка учебной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зирует зн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 проблемную ситу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ят цели, формулируют (уточняют) тему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строение проекта выхода из затруд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зирует обучающихся по исследованию проблемной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ют план достижения цели и определяют средства (алгоритм, модел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38080" y="914400"/>
          <a:ext cx="7886880" cy="5943240"/>
        </p:xfrm>
        <a:graphic>
          <a:graphicData uri="http://schemas.openxmlformats.org/drawingml/2006/table">
            <a:tbl>
              <a:tblPr/>
              <a:tblGrid>
                <a:gridCol w="1447920"/>
                <a:gridCol w="1828800"/>
                <a:gridCol w="2971800"/>
                <a:gridCol w="1638360"/>
              </a:tblGrid>
              <a:tr h="32569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ервичное закрепл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 осознанность восприятия обучающимися учебного материа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ют типовые задания с проговариванием алгоритма всл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Самостоятельная работа с самопроверкой по этал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ует деятельность по применению новых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самостоятельную работу. Осуществляют самопроверку, пошагово сравнивая с эталон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Рефлексия деятельности, итог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ует рефлекс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ют самооценку собственной учебной деятельности, соотносят цель и результаты, степень их соответ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628560" y="300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371600" y="1522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33520"/>
            <a:ext cx="8001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амоанализ урока дает возможность педагог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ть и развивать творческую сознательность, проявляющуюся в умении сформулировать и поставить цели своей деятельности и деятельности обучающихс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ть умение четко планировать и предвидеть результаты своего педагогического труд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ть педагогическое самосознание учителя, когда он постепенно начинает видеть, понимать необходимую и существенную связь между способом его действий и конечным результатом уро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учиться рефлексии, умению видеть свои сильные и слабые сторо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2"/>
          <a:stretch/>
        </p:blipFill>
        <p:spPr>
          <a:xfrm>
            <a:off x="603360" y="2438280"/>
            <a:ext cx="788832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1828800" y="1266840"/>
            <a:ext cx="7086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«Кто на себя глядит, свой видит лик, кто видит лик свой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цену себе знает, кто знает цену, строг к себе бывает,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кто строг к себе – тот истинно велик!»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Пьер Гренг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676520" y="2590920"/>
            <a:ext cx="723888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ное пространств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 котором протекает деятельность учителя в образовательном учреждении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уро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сех его проявления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транство урока – это сцена, на которой можно пережить минуты триумфа и горечь поражений; оно всегда заполнено деятельностью учителя и обучающих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нно на уроке учитель использует все возможности для развития личности ученика, ее активного умственного роста, для формирования ее нравственных ос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Урок – это зеркало общей и педагогической культуры учител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ило его интеллектуального богатства, показатель его кругозора, эрудиц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А. Сухомлин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57200" y="5335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752480" y="1676520"/>
            <a:ext cx="73915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А.Сухомлинский писал: «Сильным, опытным становится педагог, который умеет анализировать свой труд…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из и самоанализ должны быть направлены на сопоставление выдвинутых коррекционно-образовательных, коррекционно-развивающих и коррекционно-воспитательных целей с достигнутым результат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осуществления всех поставленных задач не может быть раз и навсегда установленного типа урока с застывшими этапами и стандартной последовательностью их осуществления. Поэтому очень важно уделять большое внимание как анализу, так и самоанализу как отдельного урока, так и всей деятельности учителя в целом с целью эффективного управления процессом обуч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квалификации учителя во многом зависит от степени владения умениями анализировать свою деятельность и деятельность своих колле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3520" y="304920"/>
            <a:ext cx="739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676520" y="914400"/>
            <a:ext cx="70866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ализ любого уро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комплексный подход, в котором психологический,  педагогический, содержательный, методический,  воспитательный и предметный аспекты тесно взаимосвязаны. Это разбор и оценка урока в целом или отдельных его сторо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рефлексия, позволяющая оценить свои сильные и слабые стороны, определить нереализуемые резервы, уточнить отдельные моменты индивидуального стиля 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 анали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ключается в выявлении понимания проведения выбранной формы урока и применения методов и приемов организации деятельности учителя и обучающихся на уро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ой задач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является качество урока, понимание возможностей ребенка, поиск резервов повышения эффективности процесса обу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администрация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исутствующие на уроке педаго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1828800" y="2286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анализа урока в соответствии с ФГОС О УО (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76520" y="1219320"/>
          <a:ext cx="6933960" cy="4968720"/>
        </p:xfrm>
        <a:graphic>
          <a:graphicData uri="http://schemas.openxmlformats.org/drawingml/2006/table">
            <a:tbl>
              <a:tblPr/>
              <a:tblGrid>
                <a:gridCol w="3570120"/>
                <a:gridCol w="3363840"/>
              </a:tblGrid>
              <a:tr h="2571480">
                <a:tc gridSpan="2"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осещения «______» ___________20____г.                             Класс 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учающихся по списку __________чел.                             Присутствуют ____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 _____________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осещения урока 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учителя _______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урока ___________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урока (объявлена, не объявлена, в начале урока, в середине уро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880">
                <a:tc gridSpan="2"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 работы учителя и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96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(репродуктивная), рассказ, объяснение,  инструктаж, лекция, демон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ние, комментирование, объяснение, расск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 (устный, письменный), с применением индивидуальных карточек, перфокарт, дифференцированный под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 (письменные, устные, практическ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дидактического материала (верно, с ошибк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задач (логических, расчетны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ство самостоятельной работой обучающихся на основе обратной свя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523880" y="0"/>
          <a:ext cx="7543800" cy="6494400"/>
        </p:xfrm>
        <a:graphic>
          <a:graphicData uri="http://schemas.openxmlformats.org/drawingml/2006/table">
            <a:tbl>
              <a:tblPr/>
              <a:tblGrid>
                <a:gridCol w="1565280"/>
                <a:gridCol w="1406520"/>
                <a:gridCol w="441360"/>
                <a:gridCol w="701640"/>
                <a:gridCol w="982800"/>
                <a:gridCol w="1305000"/>
                <a:gridCol w="1141200"/>
              </a:tblGrid>
              <a:tr h="210240">
                <a:tc gridSpan="7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 gridSpan="3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Урок «открытия» новых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Урок рефлек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Урок общеметодологической направл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Урок развивающего контро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gridSpan="7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и  приемы работы по развитию познавательной деятельности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gridSpan="3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2960">
                <a:tc gridSpan="3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 над новым материал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ы алгоритм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овые задачи, проблемные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Т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gridSpan="7">
                  <a:txBody>
                    <a:bodyPr lIns="20880" rIns="20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ыявления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536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ь обучающихся при опро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сех обучающихся в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одход к обучающим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1000"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з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силь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о  слаб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23880" y="380880"/>
          <a:ext cx="7467840" cy="6749640"/>
        </p:xfrm>
        <a:graphic>
          <a:graphicData uri="http://schemas.openxmlformats.org/drawingml/2006/table">
            <a:tbl>
              <a:tblPr/>
              <a:tblGrid>
                <a:gridCol w="1600200"/>
                <a:gridCol w="728640"/>
                <a:gridCol w="425520"/>
                <a:gridCol w="1513080"/>
                <a:gridCol w="895320"/>
                <a:gridCol w="95040"/>
                <a:gridCol w="328680"/>
                <a:gridCol w="1881360"/>
              </a:tblGrid>
              <a:tr h="635400"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ь обучающихся при опро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сех обучающихся в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одход к обучающим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920"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з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силь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о слаб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gridSpan="8">
                  <a:txBody>
                    <a:bodyPr lIns="30600" rIns="30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наличия познавательной активности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68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ый откл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04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редоточ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04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леченность процессом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68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ление к собственному участию в обсуж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04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ь в течение всего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680">
                <a:tc gridSpan="5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ы учителю, товарищ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3160">
                <a:tc gridSpan="8">
                  <a:txBody>
                    <a:bodyPr lIns="30600" rIns="30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освоения знаний обучающими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восприятия, осмысления, запомин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применения знаний в аналогичной или сходной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 gridSpan="2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обучающей цел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развивающей цел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0680" rIns="4068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воспитывающей цел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0240">
                <a:tc gridSpan="2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лнота знаний, умений, навы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сознанность и действ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чность знаний, усвоенных на предыдущем урок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тие воображения – репродуктивного, творче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тие наглядно-действенного, образного и логического мыш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мение анализировать, сравнивать, конкретизиров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0680" rIns="4068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равственное воздейств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фориен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оспитание культуры умственного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525680" y="127080"/>
          <a:ext cx="7467480" cy="53028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54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ыявления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752480" y="5105520"/>
            <a:ext cx="739152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ходе анализа учитель получает возможность взглянуть на свой урок как бы со стороны, осознать его как явление в целом, целенаправленно осмыслить совокупность собственных теоретических знаний, способов, приемов работы в их практическом преломлении во взаимодействии с классом и конкретными обучающимис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52280"/>
          <a:ext cx="9144000" cy="4837320"/>
        </p:xfrm>
        <a:graphic>
          <a:graphicData uri="http://schemas.openxmlformats.org/drawingml/2006/table">
            <a:tbl>
              <a:tblPr/>
              <a:tblGrid>
                <a:gridCol w="5229360"/>
                <a:gridCol w="241200"/>
                <a:gridCol w="3673440"/>
              </a:tblGrid>
              <a:tr h="210240">
                <a:tc gridSpan="3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итог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 на всех этапах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дидактических принци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 обучающихся к у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ально-психологическая обстановка на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принципа педагогического сотрудни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 gridSpan="3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и опрошены ______чел.    «5»______чел.   «4»______чел.   «3»______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gridSpan="3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на д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9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сообразность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ложно; оптимально; упрощ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зир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ольшая; оптимальная; мал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ренировочное; твор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9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ля сильных; для слабых; общее для все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8080">
                <a:tc gridSpan="3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 и предложе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оценка урок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проведен на высоком методическом уровне, хороший, удовлетворительный, неудовлетвор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43000" y="76320"/>
            <a:ext cx="66294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анализом урока крайне важно услыша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анализ учи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го оценку собственной педагогической деятельности, так ка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анализ – показатель профессионализма учи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оанал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- это мысленное разложение проведенного урока на его составляющие с глубоким проникновением в их сущность, задачи с целью оценить конечный результат своей деятельности путем сравнения запланированного с осуществленным, учитывая успехи и продвижения обучающих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нализировать свой собственный урок, конкретные педагогические ситуации, возникающие на нем, результаты своего труда во многом зависит от умения учителя спланировать, организовать, проконтролировать, отрегулировать свою педагогическую деятель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14T07:15:23Z</dcterms:created>
  <dc:creator>hp</dc:creator>
  <dc:description/>
  <dc:language>en-US</dc:language>
  <cp:lastModifiedBy>HP</cp:lastModifiedBy>
  <dcterms:modified xsi:type="dcterms:W3CDTF">2021-01-22T11:28:59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